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arrow.wav" ContentType="audio/x-wav"/>
  <Override PartName="/ppt/media/image18.gif" ContentType="image/gif"/>
  <Override PartName="/ppt/media/image5.jpeg" ContentType="image/jpeg"/>
  <Override PartName="/ppt/media/image15.gif" ContentType="image/gif"/>
  <Override PartName="/ppt/media/image7.jpeg" ContentType="image/jpeg"/>
  <Override PartName="/ppt/media/image6.jpeg" ContentType="image/jpeg"/>
  <Override PartName="/ppt/media/image25.jpeg" ContentType="image/jpeg"/>
  <Override PartName="/ppt/media/image4.jpeg" ContentType="image/jpeg"/>
  <Override PartName="/ppt/media/image10.wmf" ContentType="image/x-wmf"/>
  <Override PartName="/ppt/media/image19.jpeg" ContentType="image/jpeg"/>
  <Override PartName="/ppt/media/image11.png" ContentType="image/png"/>
  <Override PartName="/ppt/media/image9.jpeg" ContentType="image/jpeg"/>
  <Override PartName="/ppt/media/image8.jpeg" ContentType="image/jpeg"/>
  <Override PartName="/ppt/media/image12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1.jpeg" ContentType="image/jpeg"/>
  <Override PartName="/ppt/media/cashreg.wav" ContentType="audio/x-wav"/>
  <Override PartName="/ppt/media/image22.jpeg" ContentType="image/jpeg"/>
  <Override PartName="/ppt/media/image28.jpeg" ContentType="image/jpeg"/>
  <Override PartName="/ppt/media/image27.gif" ContentType="image/gif"/>
  <Override PartName="/ppt/media/image13.gif" ContentType="image/gif"/>
  <Override PartName="/ppt/media/image16.gif" ContentType="image/gif"/>
  <Override PartName="/ppt/media/image17.jpeg" ContentType="image/jpeg"/>
  <Override PartName="/ppt/media/image23.gif" ContentType="image/gif"/>
  <Override PartName="/ppt/media/image14.png" ContentType="image/png"/>
  <Override PartName="/ppt/media/image21.gif" ContentType="image/gif"/>
  <Override PartName="/ppt/media/image26.gif" ContentType="image/gif"/>
  <Override PartName="/ppt/media/image20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A98D-4B07-47A4-A336-FA4D65DDF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CCB9-E6D3-4B0B-A1E8-65826F0D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7883D8-B5A6-4F78-A639-A057D490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368C7B-8E4A-45FA-927A-31BEA79FE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1455CA-0003-4027-AFD7-772D67EC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025913-6DD3-4D1E-B379-B1C6E2E9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56DA12-AD02-46E2-9E46-132E8C77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0BF691-DED2-44BF-A0B8-3271C105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BBA4F4-9E3A-4DA0-80E7-1E9A257F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8F8D38-781A-452D-A660-4DED5FCA8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194599-18D0-4EF6-B94B-1B19E11D6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4D291F-125B-4E8D-98C4-AC7D085D8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3AC0-4386-48B5-BBB4-F33B76513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E7F0FC-AB42-443B-9998-85D21C2E3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0603AB-6840-490D-B52C-41F20BAC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4FF22F-886E-4ABF-B3BD-DCFE6854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F8DB4B-7BC0-4AEF-9F8F-4027C012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444E0B-E185-48D3-9473-D27F5B0C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46A6B5-6047-4D99-9816-4674877E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346A3-7D4B-4CDC-B019-B68A39A2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B0FE2F-F18B-42D8-AE26-3B6C6685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DB6CD0-4A47-441F-A54B-81792822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A5EC55-4030-430F-8BC9-F5394E372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E99C-ED96-4318-B218-1EB09E638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AA163D-10F8-4C22-95E7-4CC5D2DB1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49BB5-472B-40D3-83B4-E9FAECA04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6B4CB-0B40-4DCF-890A-53F13608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ED4E6-0B24-4D51-85CB-550CB6C8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1EAE04-C588-4182-BB86-15A65FA8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128E5-FA21-45BA-B8CE-C64A75B8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6FBE4-6931-45ED-9DAD-1BEDFD34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676454-8626-4723-AA88-5390B03D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2D458-6169-4512-8A45-43F56D65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B59A81-0C0E-4216-BA39-B89E671C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5477-E9F4-4711-829C-4E126D392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01CBD0-36C5-4C2E-BE32-06E3FAC6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DFE257-7147-4F18-8ED9-26FE37A62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1DF82-4A7B-4AEE-97C1-D3CFBE10E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C9BCBF-31D7-48AE-B92D-302F7C698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DE5042-C921-4019-AB08-05111905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934057-84D1-46E7-8453-145BDE53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2BFF7B-12AF-4D86-B007-D9E188D2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140FE2-6001-450B-BBA2-8B94F3C5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6FD6F3-1E7A-4EEF-ADB8-40ADC9C2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4624FA-B7C2-4F0A-950F-C53F9B0A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E2BD-A693-45CA-9E28-117F4F23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1B5482-658B-4F6F-B8FF-FE9BDECA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2E98DC-B2D2-4E94-AD5B-B38BF7D8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BF69F3-2062-455F-AA95-DF18AE6F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2C7383-C3E6-4FAC-B3B4-2BAF12A1A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FD6D28-7F52-4B5B-848D-4BAE4282F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8E7D-B530-47B4-8B63-76E56DDF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7691-11F2-4C34-9642-B61B2C53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8D0B-8352-489B-977B-BB698A157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A5F8-1C95-44D9-9067-FE6872FC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00BD-0900-427F-AF53-C34763C7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6329-6275-4F5D-AAD4-22779C5F1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901F-4EB5-4675-9701-48C6C89F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763F-77A1-4DF8-BA72-F7521E31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8DD08-61B1-4193-91AF-0D146D9E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0774-F50A-426A-B45D-EC3EBB2BB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96528-A735-43E8-98F9-B2C8AE419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CDF7F-5895-40FA-8EB2-16F81E2F6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31AD1-CD30-4D00-8F1C-A6CDFBA8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F12D4-C97B-449D-8FAB-300B7E52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78562-9FB3-4183-A328-9B9D85A9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26023-65BA-4BE3-9076-D6237434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818F-9DD5-4C38-A4FC-EE574495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75AAD-ABF1-40AD-854C-505724A6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1689A-F980-4B05-9A0E-634FA745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BF74C-4B01-4955-8BC1-053A4BEA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7660B-4B38-4229-BDB3-F01A6CC1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E3813-08F5-428B-94AF-25E15260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E0DF8-A070-4B07-AD54-E42990257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FB4C6-530A-4B05-95BC-E37D6D5F4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4069C-A234-4AE2-AD0E-F93A52C0E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7B3F4-C384-485D-B45C-0BD1920D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FCF04-9DD0-4B60-A5C6-3B0CE943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F459-084F-439E-9922-32ADDD15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D028F-2588-4799-877F-D2676078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C43D4-4858-4510-9951-EAB85FB8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CC45E-22A1-4439-96B1-581189BD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E6165-BF3B-41AA-9F21-7FFEEE3F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ACC54-5EE9-46E9-A592-5CE13C80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4DDEE-87FD-4BF6-85C9-1AB8C3B7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88FBF-FE85-4DC3-A59C-94119419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5C950-2F17-4D17-8B6C-A09D2D12A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02729-1988-4398-AC8E-469D939B2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CEF40-36BE-4AA1-8EB9-AA89C588E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85D7-4D20-48AD-A6E7-4E5B5ED2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664A8-E8DC-480D-AE52-B47ED480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D86CA-FC1C-49B8-A206-11CB703B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B8961-1ED3-4E9B-802C-E629BACA0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69B47-A108-4A18-9C86-FA888F80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B7579-9F4B-4D6E-A0ED-D9BF2FE5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3CB61-37F8-4831-B2A1-5E9720E2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9753F-503B-4514-AEDA-860F3E2B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C430C-7FEB-4202-9798-073A1A67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2CB2B-2162-4F04-A038-BBCEA019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03AFE-310F-414E-8017-318D1249F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9689-A697-438D-AEFE-70D82E36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85AF9-3CEB-4B98-A726-3EBE4CC77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60B9B-7EF3-4E65-B50C-96B31DB6F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C3832-DFAA-45BC-9AF6-1C1588E8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32327-1218-401D-8906-BB5F12D6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5F936-FD0A-49D6-A9BA-C2DA964A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12798-75F6-4B1B-8AEC-D30EB557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1E596-8351-4262-AD65-0AC8DD12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F2859-7D2A-4C1B-AF39-95508CB3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61F53-5B94-44AB-B73F-9144397D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9741A-D585-43DF-863C-5E508F5E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635D-C007-4F7B-A723-7BB143E2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37D15-CBA8-4C5C-95BF-9FB6F2B3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8469D-FBD4-41B6-9636-7EB5E77E4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80EEB-B40C-42B4-B844-648DC0FC5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C2807-BDC1-4091-A000-75734A709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D58210-A37B-4854-9307-F07017FC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B866D-CCC6-4353-B8D8-22AAF96A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3269A-4490-441D-B10B-26FA11EA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6A359-2E91-4521-8EAD-929F6B64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B8BCC-DA4C-4F96-932A-DF725052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D3B38-D928-4EFE-BE22-C48F0043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798A-1ADF-46D8-8EAC-237533BC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120A7-4C1D-4C65-9324-F3B3E5EC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9B3DE-C042-4C84-A639-9C3059E4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054FE-8148-4A29-9F35-81D5B213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BBA2E-4C62-43CA-82C4-60FE3BD9C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A2524-16C7-4500-9617-A49013C4D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3E1A26-2BDF-4D95-A307-C211D6A6D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ACFBFD-508F-4573-90DB-90C80AAB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01F5AB-D076-4636-A4C3-B4BCFED2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15C44D-231F-47F9-95CE-D2F4EFDE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4F2948-2F19-4175-95F3-0CEC3892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A298-B506-4A92-B844-458808F3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4B9C5D-CE67-4B43-B815-6C1A6579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D5A53F-FA15-4B9C-88D9-225C1ECA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1E4BFF-DA29-46E7-9C6C-54199AC4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0831C4-9FD2-4D10-8F6A-E0329706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2A2A7F-77C7-40A7-A6E5-D788D710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8EB270-0B8F-44D8-B5BC-58C10FA24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BC4AFD-E8BA-44C4-9D29-463843849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288EC9-B913-4101-AEA6-35AB47044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050A09-7300-4DCE-88E5-C3EF8163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BF26F5-310C-4123-A630-115C4F34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C593-717A-4557-9809-13549DCD75BC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3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3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3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dt" idx="28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29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sldNum" idx="30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857B-FD5A-421E-86EC-E4E18E7C7A60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80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626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640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654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668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682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696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710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711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712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3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3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3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910CB-F473-43B4-8A71-F87C7648F5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768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782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dt" idx="3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 type="ftr" idx="3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2D4A-4F55-45A7-AD91-5C765947CE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932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3511-611F-441B-B488-79EAAF3E1355}" type="slidenum">
              <a:rPr b="1" lang="zh-CN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6086-6639-4494-B026-B5791998A8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A313-6A26-4F1C-AE34-15BA81CA7B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76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2881-C297-4DC2-BF00-AE62A1FA4C8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dt" idx="1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79D3-979C-4E1E-822F-D28D6A6EAF6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26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26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7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AD17-B292-4D5B-9823-DAD9A9876B5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2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2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2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3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0581-60B3-4C4C-B956-F1671F9211B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AAC7-279C-4571-9938-DBC110654DC5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rrow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png"/><Relationship Id="rId3" Type="http://schemas.openxmlformats.org/officeDocument/2006/relationships/image" Target="../media/image18.gif"/><Relationship Id="rId4" Type="http://schemas.openxmlformats.org/officeDocument/2006/relationships/image" Target="../media/image19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4.png"/><Relationship Id="rId3" Type="http://schemas.openxmlformats.org/officeDocument/2006/relationships/image" Target="../media/image21.gif"/><Relationship Id="rId4" Type="http://schemas.openxmlformats.org/officeDocument/2006/relationships/image" Target="../media/image22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3.gif"/><Relationship Id="rId3" Type="http://schemas.openxmlformats.org/officeDocument/2006/relationships/image" Target="../media/image24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4.png"/><Relationship Id="rId3" Type="http://schemas.openxmlformats.org/officeDocument/2006/relationships/image" Target="../media/image26.gi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4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5.gif"/><Relationship Id="rId3" Type="http://schemas.openxmlformats.org/officeDocument/2006/relationships/image" Target="../media/image14.png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WordArt 2"/>
          <p:cNvSpPr txBox="1"/>
          <p:nvPr/>
        </p:nvSpPr>
        <p:spPr>
          <a:xfrm>
            <a:off x="2971800" y="1523880"/>
            <a:ext cx="5029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86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同学朋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2" name="Text Box 6"/>
          <p:cNvSpPr/>
          <p:nvPr/>
        </p:nvSpPr>
        <p:spPr>
          <a:xfrm>
            <a:off x="685800" y="50292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33"/>
                </a:solidFill>
                <a:latin typeface="Arial"/>
                <a:ea typeface="黑体"/>
              </a:rPr>
              <a:t>我最亲爱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371600" y="685800"/>
            <a:ext cx="5943600" cy="2552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d5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二单元　师友结伴同行 　　第三课   同侪携手共进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一框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animClr clrSpc="rgb">
                                      <p:cBhvr>
                                        <p:cTn id="14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a679"/>
                                      </p:to>
                                    </p:animClr>
                                    <p:set>
                                      <p:cBhvr>
                                        <p:cTn id="15" dur="500" autoRev="1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VREC003.WAV" descr=""/>
          <p:cNvPicPr/>
          <p:nvPr/>
        </p:nvPicPr>
        <p:blipFill>
          <a:blip r:embed="rId2"/>
          <a:stretch/>
        </p:blipFill>
        <p:spPr>
          <a:xfrm>
            <a:off x="678168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8088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一</a:t>
            </a: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：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平等互惠，体谅他人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80880" y="3049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和小宁是一对好朋友，小东的学习成绩很好，而小宁的成绩总不令人满意。小东在小宁的请求下经常帮助小宁补习功课，解答疑问，有时很晚才能回家，常常没有时间完成自己的功课。为此，小东的妈妈很着急，小东也很为难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小东为什么觉得很为难，作为小宁你应该怎样做呢？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8" name="Picture 4" descr="7"/>
          <p:cNvPicPr/>
          <p:nvPr/>
        </p:nvPicPr>
        <p:blipFill>
          <a:blip r:embed="rId3"/>
          <a:stretch/>
        </p:blipFill>
        <p:spPr>
          <a:xfrm>
            <a:off x="7162920" y="4191120"/>
            <a:ext cx="1218960" cy="118116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5" descr="01"/>
          <p:cNvPicPr/>
          <p:nvPr/>
        </p:nvPicPr>
        <p:blipFill>
          <a:blip r:embed="rId4"/>
          <a:stretch/>
        </p:blipFill>
        <p:spPr>
          <a:xfrm>
            <a:off x="6477120" y="457200"/>
            <a:ext cx="2438280" cy="365760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5" name="arrow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29523" fill="hold"/>
                                        <p:tgtEl>
                                          <p:spTgt spid="10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新可.WAV" descr=""/>
          <p:cNvPicPr/>
          <p:nvPr/>
        </p:nvPicPr>
        <p:blipFill>
          <a:blip r:embed="rId2"/>
          <a:stretch/>
        </p:blipFill>
        <p:spPr>
          <a:xfrm>
            <a:off x="6629400" y="4572000"/>
            <a:ext cx="304920" cy="53352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可和小新是班上的文艺骨干。小可文笔好，小新画的好，大家称她俩是一对好搭档。但是最近她俩的关系出现了裂痕：小可认为小新画的插图不符合自己的意图，常常改动小新的画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小新认为被改动的恰是自己的得意之处，因此很不高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663300"/>
                </a:solidFill>
                <a:latin typeface="Arial"/>
              </a:rPr>
              <a:t>是小可应该尊重小新的创意，还是小新应当允许小可的修改呢？她俩还能成为一对好搭档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2" name="Picture 4" descr="5"/>
          <p:cNvPicPr/>
          <p:nvPr/>
        </p:nvPicPr>
        <p:blipFill>
          <a:blip r:embed="rId3"/>
          <a:stretch/>
        </p:blipFill>
        <p:spPr>
          <a:xfrm>
            <a:off x="0" y="533520"/>
            <a:ext cx="1033560" cy="137160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5" descr="02"/>
          <p:cNvPicPr/>
          <p:nvPr/>
        </p:nvPicPr>
        <p:blipFill>
          <a:blip r:embed="rId4"/>
          <a:stretch/>
        </p:blipFill>
        <p:spPr>
          <a:xfrm>
            <a:off x="6477120" y="41911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1024" name="PlaceHolder 2"/>
          <p:cNvSpPr>
            <a:spLocks noGrp="1"/>
          </p:cNvSpPr>
          <p:nvPr>
            <p:ph type="title"/>
          </p:nvPr>
        </p:nvSpPr>
        <p:spPr>
          <a:xfrm>
            <a:off x="301320" y="-4351320"/>
            <a:ext cx="460440" cy="92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5" name="Rectangle 7"/>
          <p:cNvSpPr/>
          <p:nvPr/>
        </p:nvSpPr>
        <p:spPr>
          <a:xfrm>
            <a:off x="457200" y="5105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二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正确处理意见和分歧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5" name="arrow.wav"/>
      </p:stSnd>
    </p:sndAc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0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7" dur="32832" fill="hold"/>
                                        <p:tgtEl>
                                          <p:spTgt spid="10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a67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林晖.WAV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525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三：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</a:rPr>
              <a:t>友谊需要尺度，要把握好原则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的朋友小晖在校外和八年级一个经常恃强凌弱的学生打了一架，小林听说那个学生还有五个帮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林该如何帮助朋友小晖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9" name="Picture 4" descr="6"/>
          <p:cNvPicPr/>
          <p:nvPr/>
        </p:nvPicPr>
        <p:blipFill>
          <a:blip r:embed="rId2"/>
          <a:stretch/>
        </p:blipFill>
        <p:spPr>
          <a:xfrm>
            <a:off x="685800" y="4038480"/>
            <a:ext cx="952560" cy="952560"/>
          </a:xfrm>
          <a:prstGeom prst="rect">
            <a:avLst/>
          </a:prstGeom>
          <a:ln w="0">
            <a:noFill/>
          </a:ln>
        </p:spPr>
      </p:pic>
      <p:grpSp>
        <p:nvGrpSpPr>
          <p:cNvPr id="1030" name="Group 5"/>
          <p:cNvGrpSpPr/>
          <p:nvPr/>
        </p:nvGrpSpPr>
        <p:grpSpPr>
          <a:xfrm>
            <a:off x="6046920" y="2057400"/>
            <a:ext cx="3096720" cy="3124080"/>
            <a:chOff x="6046920" y="2057400"/>
            <a:chExt cx="3096720" cy="3124080"/>
          </a:xfrm>
        </p:grpSpPr>
        <p:pic>
          <p:nvPicPr>
            <p:cNvPr id="1031" name="Picture 6" descr="03"/>
            <p:cNvPicPr/>
            <p:nvPr/>
          </p:nvPicPr>
          <p:blipFill>
            <a:blip r:embed="rId3"/>
            <a:stretch/>
          </p:blipFill>
          <p:spPr>
            <a:xfrm>
              <a:off x="6046920" y="2057400"/>
              <a:ext cx="26478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2" name="Text Box 7"/>
            <p:cNvSpPr/>
            <p:nvPr/>
          </p:nvSpPr>
          <p:spPr>
            <a:xfrm>
              <a:off x="7488000" y="2174400"/>
              <a:ext cx="16556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0868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00"/>
                  </a:solidFill>
                  <a:latin typeface="Arial"/>
                  <a:ea typeface="楷体_GB2312"/>
                </a:rPr>
                <a:t>怎么办呢？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transition>
    <p:cover dir="r"/>
    <p:sndAc>
      <p:stSnd>
        <p:snd r:embed="rId4" name="arrow.wav"/>
      </p:stSnd>
    </p:sndAc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" dur="1000"/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13998" fill="hold"/>
                                        <p:tgtEl>
                                          <p:spTgt spid="10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林2.WAV" descr=""/>
          <p:cNvPicPr/>
          <p:nvPr/>
        </p:nvPicPr>
        <p:blipFill>
          <a:blip r:embed="rId2"/>
          <a:stretch/>
        </p:blipFill>
        <p:spPr>
          <a:xfrm>
            <a:off x="8839080" y="4419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228600" y="3428640"/>
            <a:ext cx="73915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交友原则四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慎重交友</a:t>
            </a:r>
            <a:br>
              <a:rPr sz="4000"/>
            </a:b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0" y="3045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小晖没有听从小林的劝说，找了一些“朋友”去报仇了。结果受到了学校的处分，小晖不但不知错，而且还谩骂老师和校长。                                                                        小林应不应该还和小晖做朋友呢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6" name="Picture 4" descr="4"/>
          <p:cNvPicPr/>
          <p:nvPr/>
        </p:nvPicPr>
        <p:blipFill>
          <a:blip r:embed="rId3"/>
          <a:stretch/>
        </p:blipFill>
        <p:spPr>
          <a:xfrm>
            <a:off x="7862760" y="2362320"/>
            <a:ext cx="1281240" cy="2209680"/>
          </a:xfrm>
          <a:prstGeom prst="rect">
            <a:avLst/>
          </a:prstGeom>
          <a:ln w="0">
            <a:noFill/>
          </a:ln>
        </p:spPr>
      </p:pic>
      <p:sp>
        <p:nvSpPr>
          <p:cNvPr id="1037" name="Text Box 5"/>
          <p:cNvSpPr/>
          <p:nvPr/>
        </p:nvSpPr>
        <p:spPr>
          <a:xfrm>
            <a:off x="304920" y="4724280"/>
            <a:ext cx="7467480" cy="581400"/>
          </a:xfrm>
          <a:prstGeom prst="rect">
            <a:avLst/>
          </a:prstGeom>
          <a:solidFill>
            <a:srgbClr val="9c9c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与善人居，如入芝兰之室，久而不闻其香，即与之化矣。与不善人居，如入鲍鱼之肆，久而不闻其臭，亦与之化矣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4762" fill="hold"/>
                                        <p:tgtEl>
                                          <p:spTgt spid="10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AutoShape 2"/>
          <p:cNvSpPr/>
          <p:nvPr/>
        </p:nvSpPr>
        <p:spPr>
          <a:xfrm>
            <a:off x="539640" y="260280"/>
            <a:ext cx="962280" cy="914400"/>
          </a:xfrm>
          <a:prstGeom prst="pi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39" name="Picture 3" descr="0002E"/>
          <p:cNvPicPr/>
          <p:nvPr/>
        </p:nvPicPr>
        <p:blipFill>
          <a:blip r:embed="rId2"/>
          <a:stretch/>
        </p:blipFill>
        <p:spPr>
          <a:xfrm>
            <a:off x="0" y="4797360"/>
            <a:ext cx="9144000" cy="1820880"/>
          </a:xfrm>
          <a:prstGeom prst="rect">
            <a:avLst/>
          </a:prstGeom>
          <a:ln w="0">
            <a:noFill/>
          </a:ln>
        </p:spPr>
      </p:pic>
      <p:sp>
        <p:nvSpPr>
          <p:cNvPr id="1040" name="Text Box 4"/>
          <p:cNvSpPr/>
          <p:nvPr/>
        </p:nvSpPr>
        <p:spPr>
          <a:xfrm>
            <a:off x="152280" y="2438280"/>
            <a:ext cx="12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与友同行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1" name="AutoShape 5"/>
          <p:cNvSpPr/>
          <p:nvPr/>
        </p:nvSpPr>
        <p:spPr>
          <a:xfrm>
            <a:off x="1066680" y="1676520"/>
            <a:ext cx="533520" cy="2514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2" name="Rectangle 6"/>
          <p:cNvSpPr/>
          <p:nvPr/>
        </p:nvSpPr>
        <p:spPr>
          <a:xfrm>
            <a:off x="1791720" y="260280"/>
            <a:ext cx="124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Arial"/>
                <a:ea typeface="华文彩云"/>
              </a:rPr>
              <a:t>小结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华文彩云"/>
              </a:rPr>
              <a:t>: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3" name="Rectangle 7"/>
          <p:cNvSpPr/>
          <p:nvPr/>
        </p:nvSpPr>
        <p:spPr>
          <a:xfrm>
            <a:off x="1935720" y="16002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什么是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4" name="Rectangle 8"/>
          <p:cNvSpPr/>
          <p:nvPr/>
        </p:nvSpPr>
        <p:spPr>
          <a:xfrm>
            <a:off x="1935720" y="37339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友谊的原则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5" name="AutoShape 10"/>
          <p:cNvSpPr/>
          <p:nvPr/>
        </p:nvSpPr>
        <p:spPr>
          <a:xfrm>
            <a:off x="3657600" y="2514600"/>
            <a:ext cx="304920" cy="3029040"/>
          </a:xfrm>
          <a:custGeom>
            <a:avLst/>
            <a:gdLst>
              <a:gd name="textAreaLeft" fmla="*/ 194760 w 304920"/>
              <a:gd name="textAreaRight" fmla="*/ 305280 w 304920"/>
              <a:gd name="textAreaTop" fmla="*/ 78840 h 3029040"/>
              <a:gd name="textAreaBottom" fmla="*/ 2950200 h 3029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6" name="Text Box 16"/>
          <p:cNvSpPr/>
          <p:nvPr/>
        </p:nvSpPr>
        <p:spPr>
          <a:xfrm>
            <a:off x="4038480" y="2362320"/>
            <a:ext cx="339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平等互惠，体谅他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7" name="Text Box 17"/>
          <p:cNvSpPr/>
          <p:nvPr/>
        </p:nvSpPr>
        <p:spPr>
          <a:xfrm>
            <a:off x="4038480" y="33526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正确处理意见和分歧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8" name="Text Box 18"/>
          <p:cNvSpPr/>
          <p:nvPr/>
        </p:nvSpPr>
        <p:spPr>
          <a:xfrm>
            <a:off x="4038480" y="41148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</a:rPr>
              <a:t>友谊需要尺度，要把握好原则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9" name="Text Box 19"/>
          <p:cNvSpPr/>
          <p:nvPr/>
        </p:nvSpPr>
        <p:spPr>
          <a:xfrm>
            <a:off x="4038480" y="51055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0" name="Text Box 20"/>
          <p:cNvSpPr/>
          <p:nvPr/>
        </p:nvSpPr>
        <p:spPr>
          <a:xfrm>
            <a:off x="4114800" y="51055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Arial"/>
              </a:rPr>
              <a:t>慎重交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2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2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2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[周华健]朋友  伴奏 cn^ Net E音-周华健.mp3" descr=""/>
          <p:cNvPicPr/>
          <p:nvPr/>
        </p:nvPicPr>
        <p:blipFill>
          <a:blip r:embed="rId2"/>
          <a:stretch/>
        </p:blipFill>
        <p:spPr>
          <a:xfrm>
            <a:off x="6324480" y="1447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5410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琥珀"/>
              </a:rPr>
              <a:t>心灵导航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53" name="Text Box 3"/>
          <p:cNvSpPr/>
          <p:nvPr/>
        </p:nvSpPr>
        <p:spPr>
          <a:xfrm>
            <a:off x="2411280" y="1341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 Black"/>
                <a:ea typeface="华文细黑"/>
              </a:rPr>
              <a:t>名   言   欣  赏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4" name="Text Box 4"/>
          <p:cNvSpPr/>
          <p:nvPr/>
        </p:nvSpPr>
        <p:spPr>
          <a:xfrm>
            <a:off x="395280" y="2276640"/>
            <a:ext cx="82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 Black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世界上最美好的东西，莫过于有几个头脑和心地都很正直的严正的朋友。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                                        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楷体_GB2312"/>
              </a:rPr>
              <a:t>爱因斯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5" name="Text Box 5"/>
          <p:cNvSpPr/>
          <p:nvPr/>
        </p:nvSpPr>
        <p:spPr>
          <a:xfrm>
            <a:off x="395280" y="4005360"/>
            <a:ext cx="80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多一个真正的朋友，就多一块陶冶情操的砺石，多一分战胜困难的力量，多一个锐意进取的伴侣。                 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                              ──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楷体_GB2312"/>
              </a:rPr>
              <a:t>（法）小仲马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3" name="arrow.wav"/>
      </p:stSnd>
    </p:sndAc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59044" fill="hold"/>
                                        <p:tgtEl>
                                          <p:spTgt spid="10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1258920" y="2781360"/>
            <a:ext cx="5943600" cy="1847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一</a:t>
            </a: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的人际圈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533520" y="685800"/>
            <a:ext cx="807696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780000" y="2349360"/>
            <a:ext cx="2286000" cy="1828800"/>
          </a:xfrm>
          <a:prstGeom prst="donut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835280" y="476280"/>
            <a:ext cx="6248160" cy="5715000"/>
          </a:xfrm>
          <a:prstGeom prst="donut">
            <a:avLst>
              <a:gd name="adj" fmla="val 25000"/>
            </a:avLst>
          </a:prstGeom>
          <a:solidFill>
            <a:srgbClr val="99ff66"/>
          </a:solidFill>
          <a:ln w="9360">
            <a:solidFill>
              <a:srgbClr val="1a55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7451640" y="76500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隶书"/>
              </a:rPr>
              <a:t>陌生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3203640" y="119700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一般的同学或熟人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3851280" y="4149720"/>
            <a:ext cx="198108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较好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924360" y="234936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知心的朋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4643280" y="299736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3" name=""/>
          <p:cNvSpPr/>
          <p:nvPr/>
        </p:nvSpPr>
        <p:spPr>
          <a:xfrm>
            <a:off x="-27720" y="1278000"/>
            <a:ext cx="1399320" cy="4437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华文琥珀"/>
              </a:rPr>
              <a:t>人际关系树轮图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50920" y="189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1" lang="zh-CN" sz="4000" spc="-1" strike="noStrike">
                <a:solidFill>
                  <a:srgbClr val="333300"/>
                </a:solidFill>
                <a:latin typeface="Arial"/>
              </a:rPr>
              <a:t>自己的人际关系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461880" y="1700280"/>
            <a:ext cx="806472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在与同学的交往中，如果封闭自己，只会使我们的“人际关系树轮”萎缩，，使自己陷入孤立，如果保持积极开放的心态，我们就会接触更多的人，分享更多的经验和快乐，同时也会被更多的人接纳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  <p:sndAc>
      <p:stSnd>
        <p:snd r:embed="rId2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7" name=""/>
          <p:cNvSpPr/>
          <p:nvPr/>
        </p:nvSpPr>
        <p:spPr>
          <a:xfrm>
            <a:off x="1828800" y="106668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　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华文新魏"/>
              </a:rPr>
              <a:t>受欢迎的优点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新魏"/>
              </a:rPr>
              <a:t>真诚、理解、值得信赖、理智、有思想、体贴、热情、友好、不自私、幽默、负责任、开朗、信任别人</a:t>
            </a:r>
            <a:r>
              <a:rPr b="1" lang="zh-CN" sz="2800" spc="-1" strike="noStrike">
                <a:solidFill>
                  <a:srgbClr val="ff3300"/>
                </a:solidFill>
                <a:latin typeface="隶书"/>
                <a:ea typeface="华文新魏"/>
              </a:rPr>
              <a:t>┉┉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80880" y="41911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不受欢迎的缺点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尖刻、多嘴多舌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  <a:ea typeface="华文新魏"/>
              </a:rPr>
              <a:t>自私、目光短浅、粗鲁、自高自大、贪婪、不真诚、恶毒、冷酷、邪恶、说谎</a:t>
            </a:r>
            <a:r>
              <a:rPr b="1" lang="zh-CN" sz="2400" spc="-1" strike="noStrike">
                <a:solidFill>
                  <a:srgbClr val="3333ff"/>
                </a:solidFill>
                <a:latin typeface="隶书"/>
                <a:ea typeface="华文新魏"/>
              </a:rPr>
              <a:t>┉┉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9" name="" descr=""/>
          <p:cNvPicPr/>
          <p:nvPr/>
        </p:nvPicPr>
        <p:blipFill>
          <a:blip r:embed="rId3"/>
          <a:stretch/>
        </p:blipFill>
        <p:spPr>
          <a:xfrm>
            <a:off x="228600" y="685800"/>
            <a:ext cx="1365120" cy="2819520"/>
          </a:xfrm>
          <a:prstGeom prst="rect">
            <a:avLst/>
          </a:prstGeom>
          <a:ln w="0">
            <a:noFill/>
          </a:ln>
        </p:spPr>
      </p:pic>
      <p:sp>
        <p:nvSpPr>
          <p:cNvPr id="1000" name=""/>
          <p:cNvSpPr/>
          <p:nvPr/>
        </p:nvSpPr>
        <p:spPr>
          <a:xfrm>
            <a:off x="1905120" y="228600"/>
            <a:ext cx="4724280" cy="685800"/>
          </a:xfrm>
          <a:prstGeom prst="cloudCallout">
            <a:avLst>
              <a:gd name="adj1" fmla="val -67472"/>
              <a:gd name="adj2" fmla="val 152777"/>
            </a:avLst>
          </a:prstGeom>
          <a:solidFill>
            <a:srgbClr val="a8c9f6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谁最受欢迎？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  <p:sndAc>
      <p:stSnd>
        <p:snd r:embed="rId4" name="arrow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WordArt 2" descr=""/>
          <p:cNvPicPr/>
          <p:nvPr/>
        </p:nvPicPr>
        <p:blipFill>
          <a:blip r:embed="rId2"/>
          <a:stretch/>
        </p:blipFill>
        <p:spPr>
          <a:xfrm>
            <a:off x="1755720" y="2292480"/>
            <a:ext cx="5626080" cy="15843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3" name="arrow.wav"/>
      </p:stSnd>
    </p:sndAc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cca0c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有两个朋友在路上边走边聊，突然一只狗熊从树丛中窜到他们面前。一个人迅速地爬上路旁的一棵大树上，躲了起来；另一个人无路可逃，只好躺在地上忍住呼吸装死，熊走到“死人”身旁，用鼻子嗅了嗅，便大摇大摆走了。熊走后，树上的人下来问装死的朋友，熊对你说了什么，这个装死的人回答道：“熊忠告我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Text Box 3"/>
          <p:cNvSpPr/>
          <p:nvPr/>
        </p:nvSpPr>
        <p:spPr>
          <a:xfrm>
            <a:off x="87840" y="476280"/>
            <a:ext cx="6678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4" name="Text Box 4"/>
          <p:cNvSpPr/>
          <p:nvPr/>
        </p:nvSpPr>
        <p:spPr>
          <a:xfrm>
            <a:off x="1371600" y="54864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对于在危险面前抛弃你的人决不可与他交朋友。”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5" name="Picture 5" descr="1"/>
          <p:cNvPicPr/>
          <p:nvPr/>
        </p:nvPicPr>
        <p:blipFill>
          <a:blip r:embed="rId2"/>
          <a:stretch/>
        </p:blipFill>
        <p:spPr>
          <a:xfrm>
            <a:off x="7620120" y="4543560"/>
            <a:ext cx="1258920" cy="2314440"/>
          </a:xfrm>
          <a:prstGeom prst="rect">
            <a:avLst/>
          </a:prstGeom>
          <a:ln w="0">
            <a:noFill/>
          </a:ln>
        </p:spPr>
      </p:pic>
      <p:pic>
        <p:nvPicPr>
          <p:cNvPr id="1006" name="" descr=""/>
          <p:cNvPicPr/>
          <p:nvPr/>
        </p:nvPicPr>
        <p:blipFill>
          <a:blip r:embed="rId3"/>
          <a:stretch/>
        </p:blipFill>
        <p:spPr>
          <a:xfrm>
            <a:off x="304920" y="1828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34560" fill="hold"/>
                                        <p:tgtEl>
                                          <p:spTgt spid="10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777060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两个朋友在沙漠中旅行，在旅途中他们吵架了，一个还打了另外一个一记耳光。被打的觉得受辱，一言不语，在沙子上写下：“今天我的好朋友打了我一巴掌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他们继续往前走，到了沃野，他们就决定停下。被打耳光的那位差点儿淹死，幸好被朋友救起。被救起后，他拿了一把小剑在石头上刻下：“今天我的好朋友救了我一命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朋友好奇地问：“为什么我打了你以后，你要写在沙子上，而现在要刻在石头上呢？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另一个笑了笑，回答说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Text Box 3"/>
          <p:cNvSpPr/>
          <p:nvPr/>
        </p:nvSpPr>
        <p:spPr>
          <a:xfrm>
            <a:off x="3600" y="1066680"/>
            <a:ext cx="66780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Arial"/>
              </a:rPr>
              <a:t>故事一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09" name="Picture 5" descr="3"/>
          <p:cNvPicPr/>
          <p:nvPr/>
        </p:nvPicPr>
        <p:blipFill>
          <a:blip r:embed="rId2"/>
          <a:stretch/>
        </p:blipFill>
        <p:spPr>
          <a:xfrm>
            <a:off x="152280" y="304920"/>
            <a:ext cx="733680" cy="533160"/>
          </a:xfrm>
          <a:prstGeom prst="rect">
            <a:avLst/>
          </a:prstGeom>
          <a:ln w="0">
            <a:noFill/>
          </a:ln>
        </p:spPr>
      </p:pic>
      <p:sp>
        <p:nvSpPr>
          <p:cNvPr id="1010" name="Text Box 6"/>
          <p:cNvSpPr/>
          <p:nvPr/>
        </p:nvSpPr>
        <p:spPr>
          <a:xfrm>
            <a:off x="533520" y="5029200"/>
            <a:ext cx="8229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Arial"/>
              </a:rPr>
              <a:t>当被一个朋友伤害时，要写在易忘的地方，风会负责抹去它；相反，如果被帮助，我们要把它刻在心里的深处，那里任何风都不能抹灭它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3"/>
          <a:stretch/>
        </p:blipFill>
        <p:spPr>
          <a:xfrm>
            <a:off x="228600" y="2362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4" name="arrow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47640" fill="hold"/>
                                        <p:tgtEl>
                                          <p:spTgt spid="10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679"/>
            </a:gs>
            <a:gs pos="100000">
              <a:srgbClr val="aaaa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Text Box 2"/>
          <p:cNvSpPr/>
          <p:nvPr/>
        </p:nvSpPr>
        <p:spPr>
          <a:xfrm>
            <a:off x="0" y="685800"/>
            <a:ext cx="91440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华文隶书"/>
                <a:ea typeface="华文隶书"/>
              </a:rPr>
              <a:t>普通的朋友与真正的朋友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　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从未看过你哭泣。一个真正的朋友有双肩让你的泪水湿尽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吵架后就认为友谊已经结束。一个真正的朋友明白当你们还没打过架就不叫真正的友谊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找你谈论你的困扰。一个真正的朋友找你解决你的困扰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在拜访时，像一个客人一样。一个真正的朋友会打开冰箱自己拿东西。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一个普通的朋友期望你永远在他身边陪他。一个真正的朋友期望他能永远陪在你身旁 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3" name="Text Box 3"/>
          <p:cNvSpPr/>
          <p:nvPr/>
        </p:nvSpPr>
        <p:spPr>
          <a:xfrm>
            <a:off x="1887480" y="55227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14" name="Picture 4" descr="8"/>
          <p:cNvPicPr/>
          <p:nvPr/>
        </p:nvPicPr>
        <p:blipFill>
          <a:blip r:embed="rId1"/>
          <a:stretch/>
        </p:blipFill>
        <p:spPr>
          <a:xfrm>
            <a:off x="3886200" y="2743200"/>
            <a:ext cx="857160" cy="2857680"/>
          </a:xfrm>
          <a:prstGeom prst="rect">
            <a:avLst/>
          </a:prstGeom>
          <a:ln w="0">
            <a:noFill/>
          </a:ln>
        </p:spPr>
      </p:pic>
    </p:spTree>
  </p:cSld>
  <p:transition>
    <p:cover dir="r"/>
    <p:sndAc>
      <p:stSnd>
        <p:snd r:embed="rId2" name="arrow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2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deardu.com</dc:creator>
  <dc:description>www.deardu.com</dc:description>
  <cp:keywords>www.deardu.com</cp:keywords>
  <dc:language>en-US</dc:language>
  <cp:lastModifiedBy>微软用户</cp:lastModifiedBy>
  <dcterms:modified xsi:type="dcterms:W3CDTF">2012-08-30T07:43:14Z</dcterms:modified>
  <cp:revision>10</cp:revision>
  <dc:subject>www.deardu.com</dc:subject>
  <dc:title>www.deardu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