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arrow.wav" ContentType="audio/x-wav"/>
  <Override PartName="/ppt/media/image18.gif" ContentType="image/gif"/>
  <Override PartName="/ppt/media/image5.jpeg" ContentType="image/jpeg"/>
  <Override PartName="/ppt/media/image15.gif" ContentType="image/gif"/>
  <Override PartName="/ppt/media/image7.jpeg" ContentType="image/jpeg"/>
  <Override PartName="/ppt/media/image6.jpeg" ContentType="image/jpeg"/>
  <Override PartName="/ppt/media/image25.jpeg" ContentType="image/jpeg"/>
  <Override PartName="/ppt/media/image4.jpeg" ContentType="image/jpeg"/>
  <Override PartName="/ppt/media/image10.wmf" ContentType="image/x-wmf"/>
  <Override PartName="/ppt/media/image19.jpeg" ContentType="image/jpeg"/>
  <Override PartName="/ppt/media/image11.png" ContentType="image/png"/>
  <Override PartName="/ppt/media/image9.jpeg" ContentType="image/jpeg"/>
  <Override PartName="/ppt/media/image8.jpeg" ContentType="image/jpeg"/>
  <Override PartName="/ppt/media/image12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1.jpeg" ContentType="image/jpeg"/>
  <Override PartName="/ppt/media/cashreg.wav" ContentType="audio/x-wav"/>
  <Override PartName="/ppt/media/image22.jpeg" ContentType="image/jpeg"/>
  <Override PartName="/ppt/media/image28.jpeg" ContentType="image/jpeg"/>
  <Override PartName="/ppt/media/image27.gif" ContentType="image/gif"/>
  <Override PartName="/ppt/media/image13.gif" ContentType="image/gif"/>
  <Override PartName="/ppt/media/image16.gif" ContentType="image/gif"/>
  <Override PartName="/ppt/media/image17.jpeg" ContentType="image/jpeg"/>
  <Override PartName="/ppt/media/image23.gif" ContentType="image/gif"/>
  <Override PartName="/ppt/media/image14.png" ContentType="image/png"/>
  <Override PartName="/ppt/media/image21.gif" ContentType="image/gif"/>
  <Override PartName="/ppt/media/image26.gif" ContentType="image/gif"/>
  <Override PartName="/ppt/media/image2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9D61-668B-4F11-B145-FF8A20C23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E252-1F25-417C-BA15-62795D81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9027E-4CFB-4F9A-BB92-4F6EA51E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25881-AE2D-4018-8725-0463AA1C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C2772-F465-4D9C-8354-A7F538BA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12A75-3823-4FFA-86C4-D5D84E5C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478DC-65F3-4E1F-BE97-92CED1B4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B77A6-DBF1-4377-85EA-8FBE28B4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043CE-9522-4380-971F-DC744F81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238ED5-D89D-4C46-A8FB-12F514099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D6AED-AB82-4F60-936B-FE7FFAEE2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77EF7-8E46-43E8-8FC5-0C37135B3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3F68-64A5-4485-8DFE-566233845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B3D75-824E-43F0-AB33-0CD78E51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890ADA-7D75-47FA-96A6-7B78FB23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3033D5-FDB9-4EA3-8437-D93E7260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4DE3E-AA23-4CB9-8BC8-9E96CE9A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6241D5-B142-42B2-8D03-F8E13031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AF81E-730E-4775-8FD2-500593C9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616EFA-9936-43EC-A712-6EB662FE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E33A1-5C9E-4016-9EA3-F96E1B36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FBCE55-7F47-4A75-8821-14984E16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B4968B-846E-4D06-ADFD-4FD76CE9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4546-6FA8-4F5E-A9C9-6E0BB6125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27DE5-2C59-4E1B-AA1C-FC2BF5B0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6D976-E51D-412B-AE67-FC527B0C8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A21F2-6E2D-4330-98CC-79547720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3E2A8-51BC-4444-A07F-DD39714B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EACA8-E5D3-4884-B9C7-84ED0660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CA9AE-5294-483D-8B00-01D382AB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C1293-8451-41A8-8608-56BA1142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9508D-99E1-40F5-9C28-854960B3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491F3-3312-4BF7-BB93-9F2C9E0A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55F0D-079F-4144-BA54-94D7092E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AAE3-A8D7-4C53-96B8-25D8BB18A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2A8D4-7E8A-4F37-9C90-786BBA17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50247-9A30-47CC-A5E0-5793CCE7E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5C73F-C0AE-4867-8EAB-E67496715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5B6738-E7A2-4CAC-AF6C-AE5260ACA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16C401-B4E2-4E31-B5FC-D0DF3579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DCAA80-7D74-4963-88EE-DE5FCD9E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3C004D-AA4E-4BCC-8D4C-A80E2F8C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569D73-241C-45C7-8B66-041E3E0F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C83B5-6A23-43E0-BB1A-DC27CB27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C458AE-0A90-4061-9B59-CC0252B2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A5B8-4A96-473F-A76F-427652DE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D1375F-7B6D-4D6D-936F-4C68284E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EF8258-D39C-4782-9754-24A228B6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EEECA4-09F1-4D33-B83C-E2FDE02B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3981C4-F532-4BD4-96CF-507FCC4FF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A9EF93-8503-40D2-9A32-42818407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0B91-D52E-41A7-B6EE-C6EAB13E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0247-5F8A-4655-8F8E-5E1D3472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F437-450F-4853-8F31-F0270CAA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7528-FE38-4D72-BCF9-0873F862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B621-38D4-482F-A8AE-E405CF78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CE09-3C18-47C7-9068-A3D494E5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3D06-1AA1-44D3-AF52-A54019BB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A80A9-015F-425A-A0B5-A3765801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0876-7051-462D-8604-71733A3B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49A0-AC87-408A-BDFD-CA0703CBA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89B0-2AA5-4A71-8F5F-A6344B7B8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A5B66-1476-4DC5-AB25-DB70AF236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76701-53A8-4667-94BC-166060A2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1C8E8-5042-4D4B-B67F-7F1E8B18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425F4-F6F0-41BB-902C-5A05EA36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EDC1E-5222-4506-BF81-504D138C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2CC8-1739-45CA-BBD5-14E6DB8F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C371D-BC8A-4BC2-ADEE-06D1D0C2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08AD2-2B63-4C46-833D-4F83E92B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F9622-1B9C-4345-BA03-787B65C6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0CBFC-87E7-486A-B57B-2681A478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34206-94DA-4A2A-A9A5-7AC33CA5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0C2FC-4EBD-422C-96DD-9620C9693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8C9E1-EA6A-4D8D-A184-E80CBF519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B8009-3CD5-4C55-BB87-C3F9D9C3F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9A280-FE6A-4562-95D9-98CA56AA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11385-4EC2-44E9-B6E6-2A1E6AEE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D1A5-D436-40D9-9E97-A9E71893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D6763-4E81-4342-94C4-C222A085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01287-455C-4CE8-A6D3-1310BC5E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F35D7-760F-4267-A0BF-B2E6A2CA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4576F-DB09-4A72-B2A1-F20BED2E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7C665-FA7D-424C-8FF3-3468FC34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E5ED7-697E-47F5-8083-3B88EB9F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683BA-3329-4813-9738-B7571EC6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17A78-9295-428C-AE9C-E41EB4601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43ECF-C26F-418A-A3E9-F5213D299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5183E-607D-4A2A-B4C2-480416048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D36F-9CFA-4CF3-8015-519752D4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E9958-A967-4469-9923-66DD609D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D1F65-076B-431A-9AEB-874C5D8D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1C162-2FE0-4A9D-B426-C8C7F85D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F13C4-1395-436A-A912-4D36316F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12864-51E0-49E2-BABB-A3D342F5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49960-8930-4C5E-A0FB-AB010CFB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6B79A-53B3-446E-A339-8A7392DA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6AE53-1BDF-4446-A785-EC6DBECC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AA5BC-25A6-49F8-9368-6874377A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F670C-5BF1-4E4E-8697-BF18BCE73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FA86-33C1-4E65-89B2-0A4EC131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1DC53-3F6E-48B3-8879-86357DAA3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85F64-AE8F-4F9B-AFFD-33D818D1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86251-FAB7-4443-BDB7-9DD79B26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A3454-589D-439F-A856-C59A07BA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079A2-9615-4379-90C0-DC2DAFF7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2FE4B-F02E-4F94-9F76-944163C5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F0E9D-35C9-4AF2-B554-91BC01D5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EF209-23D6-40E0-BFB9-930142A7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02F4C-BDBB-4070-9A06-D05E7F09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57E9E-07F1-4A7F-B57E-9F796C7D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01A6-4A6A-4E64-8159-091BA770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995B2-3BF4-4B8C-82DB-6442EB3E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4CA51-E0FE-485E-9CD2-561CC9397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0C2DE-B491-43FF-95D6-38B0D165C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C8C72-D23E-431F-9488-C698101A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07228-17BB-4985-A1FE-5F1D7C5A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0E3A2-F9AA-47E9-81D8-38D70637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333E7-465C-428A-848B-821A0021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10F74-0464-43B8-8829-8A6D0C15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F35DB-F3DF-4D93-83F9-FCA7A76D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0ACB7-9251-4671-BDF2-63CC63E5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1036-8BF7-4D0E-B962-19C23229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79364-A1B9-47FA-8568-1CA9A297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150A8-3B3F-4D3A-ACA7-DF76FCBA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960B0-1BBD-48DF-AA90-5712D39A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2AB2D-BA0C-41D5-B034-B4798A7F8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62502-C9E6-4DD3-A366-16A3ADF8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494397-9A1A-4345-8607-29D544199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5ECC2E-355D-4DFC-AA2F-DE73F659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DF642D-C9F1-46AF-959B-9A07DC9C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1C9EEB-287D-4454-8053-0A99B7F3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AB8B0A-4F0A-482B-A61B-B19974F9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E6F4-9811-4476-B95B-C8EDD610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8F2235-7637-4C8C-8903-103AC573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1D776A-1391-4E01-82A1-2B070965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7F17E7-C065-4C39-B1CC-CD9C54EA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605A8F-6772-4E57-BF84-C91897B3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310C58-0FFA-4331-84B3-E5E49343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631911-C17F-4AC0-A114-0FA51AE50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7D1AAF-B7B3-4B8C-BAF8-493BAA984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C1982-05D4-4DC7-A8B8-8CDD58CA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42A35-47FF-410F-B3A0-2B10E940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AB5A21-DE8D-43B2-B5AF-49D265CA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55AA-05B3-425B-811E-0C75CAC91CEC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3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3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2746-F7EB-46A7-94AE-4C3BEEE99844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80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626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640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654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668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682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696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710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712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3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3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3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4178-0FEA-4F23-B28A-E098A3BDE2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768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782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3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ftr" idx="3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66CF-17FB-46FE-AECB-F3D0C79C54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932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1887-415D-46A0-B9B0-3544BDD0586D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3585-339F-42AD-AD69-A53405F536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8554-DB1D-4B06-A1BA-07458693D5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76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F7B8-DF9D-4598-872E-7A5DCCE6D94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4ECF-B1BE-4110-A2DD-A42076573DA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55AE-2F55-4738-8969-4599709E2C4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2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2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2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93EC-A780-486C-907D-A21ADD7B797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9BE8-C66F-4CB3-AAEA-23E20978DDF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rrow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image" Target="../media/image18.gif"/><Relationship Id="rId4" Type="http://schemas.openxmlformats.org/officeDocument/2006/relationships/image" Target="../media/image19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4.png"/><Relationship Id="rId3" Type="http://schemas.openxmlformats.org/officeDocument/2006/relationships/image" Target="../media/image21.gif"/><Relationship Id="rId4" Type="http://schemas.openxmlformats.org/officeDocument/2006/relationships/image" Target="../media/image22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3.gif"/><Relationship Id="rId3" Type="http://schemas.openxmlformats.org/officeDocument/2006/relationships/image" Target="../media/image24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4.png"/><Relationship Id="rId3" Type="http://schemas.openxmlformats.org/officeDocument/2006/relationships/image" Target="../media/image26.gi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4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WordArt 2"/>
          <p:cNvSpPr txBox="1"/>
          <p:nvPr/>
        </p:nvSpPr>
        <p:spPr>
          <a:xfrm>
            <a:off x="2971800" y="1523880"/>
            <a:ext cx="5029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同学朋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2" name="Text Box 6"/>
          <p:cNvSpPr/>
          <p:nvPr/>
        </p:nvSpPr>
        <p:spPr>
          <a:xfrm>
            <a:off x="685800" y="5029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Arial"/>
                <a:ea typeface="黑体"/>
              </a:rPr>
              <a:t>我最亲爱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371600" y="685800"/>
            <a:ext cx="5943600" cy="25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d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单元　师友结伴同行 　　第三课   同侪携手共进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框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animClr clrSpc="rgb">
                                      <p:cBhvr>
                                        <p:cTn id="14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VREC003.WAV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一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平等互惠，体谅他人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80880" y="3049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和小宁是一对好朋友，小东的学习成绩很好，而小宁的成绩总不令人满意。小东在小宁的请求下经常帮助小宁补习功课，解答疑问，有时很晚才能回家，常常没有时间完成自己的功课。为此，小东的妈妈很着急，小东也很为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为什么觉得很为难，作为小宁你应该怎样做呢？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8" name="Picture 4" descr="7"/>
          <p:cNvPicPr/>
          <p:nvPr/>
        </p:nvPicPr>
        <p:blipFill>
          <a:blip r:embed="rId3"/>
          <a:stretch/>
        </p:blipFill>
        <p:spPr>
          <a:xfrm>
            <a:off x="7162920" y="4191120"/>
            <a:ext cx="1218960" cy="11811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5" descr="01"/>
          <p:cNvPicPr/>
          <p:nvPr/>
        </p:nvPicPr>
        <p:blipFill>
          <a:blip r:embed="rId4"/>
          <a:stretch/>
        </p:blipFill>
        <p:spPr>
          <a:xfrm>
            <a:off x="6477120" y="45720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5" name="arrow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29523" fill="hold"/>
                                        <p:tgtEl>
                                          <p:spTgt spid="10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新可.WAV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304920" cy="53352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可和小新是班上的文艺骨干。小可文笔好，小新画的好，大家称她俩是一对好搭档。但是最近她俩的关系出现了裂痕：小可认为小新画的插图不符合自己的意图，常常改动小新的画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新认为被改动的恰是自己的得意之处，因此很不高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是小可应该尊重小新的创意，还是小新应当允许小可的修改呢？她俩还能成为一对好搭档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2" name="Picture 4" descr="5"/>
          <p:cNvPicPr/>
          <p:nvPr/>
        </p:nvPicPr>
        <p:blipFill>
          <a:blip r:embed="rId3"/>
          <a:stretch/>
        </p:blipFill>
        <p:spPr>
          <a:xfrm>
            <a:off x="0" y="533520"/>
            <a:ext cx="1033560" cy="13716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5" descr="02"/>
          <p:cNvPicPr/>
          <p:nvPr/>
        </p:nvPicPr>
        <p:blipFill>
          <a:blip r:embed="rId4"/>
          <a:stretch/>
        </p:blipFill>
        <p:spPr>
          <a:xfrm>
            <a:off x="6477120" y="4191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024" name="PlaceHolder 2"/>
          <p:cNvSpPr>
            <a:spLocks noGrp="1"/>
          </p:cNvSpPr>
          <p:nvPr>
            <p:ph type="title"/>
          </p:nvPr>
        </p:nvSpPr>
        <p:spPr>
          <a:xfrm>
            <a:off x="301320" y="-4351320"/>
            <a:ext cx="46044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5" name="Rectangle 7"/>
          <p:cNvSpPr/>
          <p:nvPr/>
        </p:nvSpPr>
        <p:spPr>
          <a:xfrm>
            <a:off x="457200" y="510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二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正确处理意见和分歧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5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32832" fill="hold"/>
                                        <p:tgtEl>
                                          <p:spTgt spid="10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a67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林晖.WAV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三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友谊需要尺度，要把握好原则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的朋友小晖在校外和八年级一个经常恃强凌弱的学生打了一架，小林听说那个学生还有五个帮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该如何帮助朋友小晖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9" name="Picture 4" descr="6"/>
          <p:cNvPicPr/>
          <p:nvPr/>
        </p:nvPicPr>
        <p:blipFill>
          <a:blip r:embed="rId2"/>
          <a:stretch/>
        </p:blipFill>
        <p:spPr>
          <a:xfrm>
            <a:off x="685800" y="403848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1030" name="Group 5"/>
          <p:cNvGrpSpPr/>
          <p:nvPr/>
        </p:nvGrpSpPr>
        <p:grpSpPr>
          <a:xfrm>
            <a:off x="6046920" y="2057400"/>
            <a:ext cx="3096720" cy="3124080"/>
            <a:chOff x="6046920" y="2057400"/>
            <a:chExt cx="3096720" cy="3124080"/>
          </a:xfrm>
        </p:grpSpPr>
        <p:pic>
          <p:nvPicPr>
            <p:cNvPr id="1031" name="Picture 6" descr="03"/>
            <p:cNvPicPr/>
            <p:nvPr/>
          </p:nvPicPr>
          <p:blipFill>
            <a:blip r:embed="rId3"/>
            <a:stretch/>
          </p:blipFill>
          <p:spPr>
            <a:xfrm>
              <a:off x="6046920" y="2057400"/>
              <a:ext cx="26478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Text Box 7"/>
            <p:cNvSpPr/>
            <p:nvPr/>
          </p:nvSpPr>
          <p:spPr>
            <a:xfrm>
              <a:off x="7488000" y="2174400"/>
              <a:ext cx="1655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怎么办呢？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cover dir="r"/>
    <p:sndAc>
      <p:stSnd>
        <p:snd r:embed="rId4" name="arrow.wav"/>
      </p:stSnd>
    </p:sndAc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3998" fill="hold"/>
                                        <p:tgtEl>
                                          <p:spTgt spid="10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林2.WAV" descr=""/>
          <p:cNvPicPr/>
          <p:nvPr/>
        </p:nvPicPr>
        <p:blipFill>
          <a:blip r:embed="rId2"/>
          <a:stretch/>
        </p:blipFill>
        <p:spPr>
          <a:xfrm>
            <a:off x="8839080" y="441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四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慎重交友</a:t>
            </a: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晖没有听从小林的劝说，找了一些“朋友”去报仇了。结果受到了学校的处分，小晖不但不知错，而且还谩骂老师和校长。                                                                        小林应不应该还和小晖做朋友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6" name="Picture 4" descr="4"/>
          <p:cNvPicPr/>
          <p:nvPr/>
        </p:nvPicPr>
        <p:blipFill>
          <a:blip r:embed="rId3"/>
          <a:stretch/>
        </p:blipFill>
        <p:spPr>
          <a:xfrm>
            <a:off x="7862760" y="2362320"/>
            <a:ext cx="1281240" cy="2209680"/>
          </a:xfrm>
          <a:prstGeom prst="rect">
            <a:avLst/>
          </a:prstGeom>
          <a:ln w="0">
            <a:noFill/>
          </a:ln>
        </p:spPr>
      </p:pic>
      <p:sp>
        <p:nvSpPr>
          <p:cNvPr id="1037" name="Text Box 5"/>
          <p:cNvSpPr/>
          <p:nvPr/>
        </p:nvSpPr>
        <p:spPr>
          <a:xfrm>
            <a:off x="304920" y="4724280"/>
            <a:ext cx="7467480" cy="581400"/>
          </a:xfrm>
          <a:prstGeom prst="rect">
            <a:avLst/>
          </a:pr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与善人居，如入芝兰之室，久而不闻其香，即与之化矣。与不善人居，如入鲍鱼之肆，久而不闻其臭，亦与之化矣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4762" fill="hold"/>
                                        <p:tgtEl>
                                          <p:spTgt spid="10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AutoShape 2"/>
          <p:cNvSpPr/>
          <p:nvPr/>
        </p:nvSpPr>
        <p:spPr>
          <a:xfrm>
            <a:off x="539640" y="260280"/>
            <a:ext cx="962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9" name="Picture 3" descr="0002E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1820880"/>
          </a:xfrm>
          <a:prstGeom prst="rect">
            <a:avLst/>
          </a:prstGeom>
          <a:ln w="0">
            <a:noFill/>
          </a:ln>
        </p:spPr>
      </p:pic>
      <p:sp>
        <p:nvSpPr>
          <p:cNvPr id="1040" name="Text Box 4"/>
          <p:cNvSpPr/>
          <p:nvPr/>
        </p:nvSpPr>
        <p:spPr>
          <a:xfrm>
            <a:off x="152280" y="2438280"/>
            <a:ext cx="12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与友同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AutoShape 5"/>
          <p:cNvSpPr/>
          <p:nvPr/>
        </p:nvSpPr>
        <p:spPr>
          <a:xfrm>
            <a:off x="1066680" y="1676520"/>
            <a:ext cx="533520" cy="2514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1791720" y="260280"/>
            <a:ext cx="124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华文彩云"/>
              </a:rPr>
              <a:t>小结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华文彩云"/>
              </a:rPr>
              <a:t>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1935720" y="1600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什么是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1935720" y="3733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友谊的原则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5" name="AutoShape 10"/>
          <p:cNvSpPr/>
          <p:nvPr/>
        </p:nvSpPr>
        <p:spPr>
          <a:xfrm>
            <a:off x="3657600" y="2514600"/>
            <a:ext cx="304920" cy="30290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8840 h 3029040"/>
              <a:gd name="textAreaBottom" fmla="*/ 2950200 h 302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6" name="Text Box 16"/>
          <p:cNvSpPr/>
          <p:nvPr/>
        </p:nvSpPr>
        <p:spPr>
          <a:xfrm>
            <a:off x="4038480" y="2362320"/>
            <a:ext cx="33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平等互惠，体谅他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7" name="Text Box 17"/>
          <p:cNvSpPr/>
          <p:nvPr/>
        </p:nvSpPr>
        <p:spPr>
          <a:xfrm>
            <a:off x="4038480" y="3352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正确处理意见和分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8" name="Text Box 18"/>
          <p:cNvSpPr/>
          <p:nvPr/>
        </p:nvSpPr>
        <p:spPr>
          <a:xfrm>
            <a:off x="4038480" y="4114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友谊需要尺度，要把握好原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9" name="Text Box 19"/>
          <p:cNvSpPr/>
          <p:nvPr/>
        </p:nvSpPr>
        <p:spPr>
          <a:xfrm>
            <a:off x="4038480" y="51055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0" name="Text Box 20"/>
          <p:cNvSpPr/>
          <p:nvPr/>
        </p:nvSpPr>
        <p:spPr>
          <a:xfrm>
            <a:off x="4114800" y="51055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慎重交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2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[周华健]朋友  伴奏 cn^ Net E音-周华健.mp3" descr=""/>
          <p:cNvPicPr/>
          <p:nvPr/>
        </p:nvPicPr>
        <p:blipFill>
          <a:blip r:embed="rId2"/>
          <a:stretch/>
        </p:blipFill>
        <p:spPr>
          <a:xfrm>
            <a:off x="6324480" y="1447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5410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琥珀"/>
              </a:rPr>
              <a:t>心灵导航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3" name="Text Box 3"/>
          <p:cNvSpPr/>
          <p:nvPr/>
        </p:nvSpPr>
        <p:spPr>
          <a:xfrm>
            <a:off x="2411280" y="1341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Black"/>
                <a:ea typeface="华文细黑"/>
              </a:rPr>
              <a:t>名   言   欣  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4" name="Text Box 4"/>
          <p:cNvSpPr/>
          <p:nvPr/>
        </p:nvSpPr>
        <p:spPr>
          <a:xfrm>
            <a:off x="395280" y="2276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世界上最美好的东西，莫过于有几个头脑和心地都很正直的严正的朋友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                                   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爱因斯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5" name="Text Box 5"/>
          <p:cNvSpPr/>
          <p:nvPr/>
        </p:nvSpPr>
        <p:spPr>
          <a:xfrm>
            <a:off x="395280" y="400536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多一个真正的朋友，就多一块陶冶情操的砺石，多一分战胜困难的力量，多一个锐意进取的伴侣。       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                              ──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（法）小仲马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59044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1258920" y="2781360"/>
            <a:ext cx="5943600" cy="1847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</a:t>
            </a: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的人际圈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533520" y="685800"/>
            <a:ext cx="807696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780000" y="2349360"/>
            <a:ext cx="2286000" cy="1828800"/>
          </a:xfrm>
          <a:prstGeom prst="donut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835280" y="476280"/>
            <a:ext cx="6248160" cy="5715000"/>
          </a:xfrm>
          <a:prstGeom prst="donut">
            <a:avLst>
              <a:gd name="adj" fmla="val 25000"/>
            </a:avLst>
          </a:prstGeom>
          <a:solidFill>
            <a:srgbClr val="99ff66"/>
          </a:solidFill>
          <a:ln w="9360">
            <a:solidFill>
              <a:srgbClr val="1a55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7451640" y="765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陌生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3203640" y="119700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一般的同学或熟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3851280" y="4149720"/>
            <a:ext cx="19810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较好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924360" y="23493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知心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4643280" y="299736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3" name=""/>
          <p:cNvSpPr/>
          <p:nvPr/>
        </p:nvSpPr>
        <p:spPr>
          <a:xfrm>
            <a:off x="-27720" y="1278000"/>
            <a:ext cx="1399320" cy="4437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琥珀"/>
              </a:rPr>
              <a:t>人际关系树轮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5092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自己的人际关系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461880" y="1700280"/>
            <a:ext cx="80647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在与同学的交往中，如果封闭自己，只会使我们的“人际关系树轮”萎缩，，使自己陷入孤立，如果保持积极开放的心态，我们就会接触更多的人，分享更多的经验和快乐，同时也会被更多的人接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1828800" y="10666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新魏"/>
              </a:rPr>
              <a:t>受欢迎的优点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真诚、理解、值得信赖、理智、有思想、体贴、热情、友好、不自私、幽默、负责任、开朗、信任别人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华文新魏"/>
              </a:rPr>
              <a:t>┉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80880" y="41911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不受欢迎的缺点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尖刻、多嘴多舌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自私、目光短浅、粗鲁、自高自大、贪婪、不真诚、恶毒、冷酷、邪恶、说谎</a:t>
            </a: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华文新魏"/>
              </a:rPr>
              <a:t>┉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3"/>
          <a:stretch/>
        </p:blipFill>
        <p:spPr>
          <a:xfrm>
            <a:off x="228600" y="685800"/>
            <a:ext cx="1365120" cy="281952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1905120" y="228600"/>
            <a:ext cx="4724280" cy="685800"/>
          </a:xfrm>
          <a:prstGeom prst="cloudCallout">
            <a:avLst>
              <a:gd name="adj1" fmla="val -67472"/>
              <a:gd name="adj2" fmla="val 152777"/>
            </a:avLst>
          </a:prstGeom>
          <a:solidFill>
            <a:srgbClr val="a8c9f6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谁最受欢迎？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WordArt 2" descr=""/>
          <p:cNvPicPr/>
          <p:nvPr/>
        </p:nvPicPr>
        <p:blipFill>
          <a:blip r:embed="rId2"/>
          <a:stretch/>
        </p:blipFill>
        <p:spPr>
          <a:xfrm>
            <a:off x="1755720" y="2292480"/>
            <a:ext cx="5626080" cy="15843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3" name="arrow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ca0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有两个朋友在路上边走边聊，突然一只狗熊从树丛中窜到他们面前。一个人迅速地爬上路旁的一棵大树上，躲了起来；另一个人无路可逃，只好躺在地上忍住呼吸装死，熊走到“死人”身旁，用鼻子嗅了嗅，便大摇大摆走了。熊走后，树上的人下来问装死的朋友，熊对你说了什么，这个装死的人回答道：“熊忠告我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Text Box 3"/>
          <p:cNvSpPr/>
          <p:nvPr/>
        </p:nvSpPr>
        <p:spPr>
          <a:xfrm>
            <a:off x="87840" y="476280"/>
            <a:ext cx="667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4" name="Text Box 4"/>
          <p:cNvSpPr/>
          <p:nvPr/>
        </p:nvSpPr>
        <p:spPr>
          <a:xfrm>
            <a:off x="1371600" y="5486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对于在危险面前抛弃你的人决不可与他交朋友。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5" name="Picture 5" descr="1"/>
          <p:cNvPicPr/>
          <p:nvPr/>
        </p:nvPicPr>
        <p:blipFill>
          <a:blip r:embed="rId2"/>
          <a:stretch/>
        </p:blipFill>
        <p:spPr>
          <a:xfrm>
            <a:off x="7620120" y="4543560"/>
            <a:ext cx="1258920" cy="231444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34560" fill="hold"/>
                                        <p:tgtEl>
                                          <p:spTgt spid="1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060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两个朋友在沙漠中旅行，在旅途中他们吵架了，一个还打了另外一个一记耳光。被打的觉得受辱，一言不语，在沙子上写下：“今天我的好朋友打了我一巴掌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他们继续往前走，到了沃野，他们就决定停下。被打耳光的那位差点儿淹死，幸好被朋友救起。被救起后，他拿了一把小剑在石头上刻下：“今天我的好朋友救了我一命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朋友好奇地问：“为什么我打了你以后，你要写在沙子上，而现在要刻在石头上呢？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另一个笑了笑，回答说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3"/>
          <p:cNvSpPr/>
          <p:nvPr/>
        </p:nvSpPr>
        <p:spPr>
          <a:xfrm>
            <a:off x="3600" y="1066680"/>
            <a:ext cx="6678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9" name="Picture 5" descr="3"/>
          <p:cNvPicPr/>
          <p:nvPr/>
        </p:nvPicPr>
        <p:blipFill>
          <a:blip r:embed="rId2"/>
          <a:stretch/>
        </p:blipFill>
        <p:spPr>
          <a:xfrm>
            <a:off x="152280" y="304920"/>
            <a:ext cx="733680" cy="533160"/>
          </a:xfrm>
          <a:prstGeom prst="rect">
            <a:avLst/>
          </a:prstGeom>
          <a:ln w="0">
            <a:noFill/>
          </a:ln>
        </p:spPr>
      </p:pic>
      <p:sp>
        <p:nvSpPr>
          <p:cNvPr id="1010" name="Text Box 6"/>
          <p:cNvSpPr/>
          <p:nvPr/>
        </p:nvSpPr>
        <p:spPr>
          <a:xfrm>
            <a:off x="533520" y="502920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当被一个朋友伤害时，要写在易忘的地方，风会负责抹去它；相反，如果被帮助，我们要把它刻在心里的深处，那里任何风都不能抹灭它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7640" fill="hold"/>
                                        <p:tgtEl>
                                          <p:spTgt spid="10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79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Text Box 2"/>
          <p:cNvSpPr/>
          <p:nvPr/>
        </p:nvSpPr>
        <p:spPr>
          <a:xfrm>
            <a:off x="0" y="68580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华文隶书"/>
                <a:ea typeface="华文隶书"/>
              </a:rPr>
              <a:t>普通的朋友与真正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　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从未看过你哭泣。一个真正的朋友有双肩让你的泪水湿尽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吵架后就认为友谊已经结束。一个真正的朋友明白当你们还没打过架就不叫真正的友谊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找你谈论你的困扰。一个真正的朋友找你解决你的困扰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拜访时，像一个客人一样。一个真正的朋友会打开冰箱自己拿东西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期望你永远在他身边陪他。一个真正的朋友期望他能永远陪在你身旁 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3" name="Text Box 3"/>
          <p:cNvSpPr/>
          <p:nvPr/>
        </p:nvSpPr>
        <p:spPr>
          <a:xfrm>
            <a:off x="1887480" y="55227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4" name="Picture 4" descr="8"/>
          <p:cNvPicPr/>
          <p:nvPr/>
        </p:nvPicPr>
        <p:blipFill>
          <a:blip r:embed="rId1"/>
          <a:stretch/>
        </p:blipFill>
        <p:spPr>
          <a:xfrm>
            <a:off x="3886200" y="2743200"/>
            <a:ext cx="857160" cy="285768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arrow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du.com</dc:creator>
  <dc:description>www.deardu.com</dc:description>
  <cp:keywords>www.deardu.com</cp:keywords>
  <dc:language>en-US</dc:language>
  <cp:lastModifiedBy>微软用户</cp:lastModifiedBy>
  <dcterms:modified xsi:type="dcterms:W3CDTF">2012-08-30T07:43:14Z</dcterms:modified>
  <cp:revision>10</cp:revision>
  <dc:subject>www.deardu.com</dc:subject>
  <dc:title>www.dear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