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arrow.wav" ContentType="audio/x-wav"/>
  <Override PartName="/ppt/media/image18.gif" ContentType="image/gif"/>
  <Override PartName="/ppt/media/image5.jpeg" ContentType="image/jpeg"/>
  <Override PartName="/ppt/media/image15.gif" ContentType="image/gif"/>
  <Override PartName="/ppt/media/image7.jpeg" ContentType="image/jpeg"/>
  <Override PartName="/ppt/media/image6.jpeg" ContentType="image/jpeg"/>
  <Override PartName="/ppt/media/image25.jpeg" ContentType="image/jpeg"/>
  <Override PartName="/ppt/media/image4.jpeg" ContentType="image/jpeg"/>
  <Override PartName="/ppt/media/image10.wmf" ContentType="image/x-wmf"/>
  <Override PartName="/ppt/media/image19.jpeg" ContentType="image/jpeg"/>
  <Override PartName="/ppt/media/image11.png" ContentType="image/png"/>
  <Override PartName="/ppt/media/image9.jpeg" ContentType="image/jpeg"/>
  <Override PartName="/ppt/media/image8.jpeg" ContentType="image/jpeg"/>
  <Override PartName="/ppt/media/image12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1.jpeg" ContentType="image/jpeg"/>
  <Override PartName="/ppt/media/cashreg.wav" ContentType="audio/x-wav"/>
  <Override PartName="/ppt/media/image22.jpeg" ContentType="image/jpeg"/>
  <Override PartName="/ppt/media/image28.jpeg" ContentType="image/jpeg"/>
  <Override PartName="/ppt/media/image27.gif" ContentType="image/gif"/>
  <Override PartName="/ppt/media/image13.gif" ContentType="image/gif"/>
  <Override PartName="/ppt/media/image16.gif" ContentType="image/gif"/>
  <Override PartName="/ppt/media/image17.jpeg" ContentType="image/jpeg"/>
  <Override PartName="/ppt/media/image23.gif" ContentType="image/gif"/>
  <Override PartName="/ppt/media/image14.png" ContentType="image/png"/>
  <Override PartName="/ppt/media/image21.gif" ContentType="image/gif"/>
  <Override PartName="/ppt/media/image26.gif" ContentType="image/gif"/>
  <Override PartName="/ppt/media/image2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8FE6-30DF-419C-93B2-642777EB6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39C2-5373-47E3-A3F3-885234BC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CF1E3-925D-414A-9113-284D6521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71853-D862-4C71-9585-0696EF4D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944467-ECC5-4F71-BA64-DC8E8E6C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163F4-7D09-4A7E-81FF-BAFE9C5D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235E88-86A3-4334-BD5F-F3EAEEFC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ECFEF-09C0-4DC5-95F8-B44B67A2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B5681-033A-4C29-A766-D392B5F5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21AF5-76B6-439A-8C80-5BE7A12DD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D9D37-4BA4-4078-8750-18A7B3466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89B8E1-C9F4-40EC-B797-7EC865130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CC35-DCA1-4EF1-993B-1FFD7A3C7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3BDC4-A03A-44F5-8EE2-4535C03E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3C7558-4551-4889-8BF3-C32FBC88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147B6F-0704-4471-971A-F29353BB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93CE8E-E49A-48EE-97DA-4B61B60B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AC9E9E-E12E-4B00-B2C9-3154C1F6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3AFDE8-5414-4D2D-9394-90391A3D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C6D53D-74E4-4028-A2D6-24B61EB9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770DE-73A3-4457-98CA-CA52F838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1F652-6207-4FDE-8527-C4EF2D53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00038B-F9ED-479B-B65F-450552C94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E403-1A0D-46A8-BA0E-5702AC4EF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19E9D7-4525-4048-B375-5855028ED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12DB4-1B02-4494-8DB5-2E8780405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738DA-D1D7-40E6-A64A-E3E2CD26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C4684-BBE3-49A4-BC8E-9F6DC2E7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70031-AA01-4D6E-A17B-A776BEF1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18784F-941E-4E59-A8A4-75C14AE9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4DAF3-559D-4C38-AE16-B7367E9B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B376D-B93B-47E7-9CDD-5CF41540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F08FE-852C-4B4C-B10E-EE818E28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693EF-0B4C-4A3D-BA18-90A62E6C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68B8-256C-4850-9A6C-D01A3C61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BDF71-8D29-4464-9C8D-D1A35FA3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37C40-53B4-4B83-9955-30D311988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C99D6-35A8-4FAA-BAE8-F987AFED8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A7794C-A496-4FD9-8A13-B4113DCC6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5AF0A3-95F6-4045-BF19-EBB83C23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9A42DC-34F8-4381-923B-CA3DCD5C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E181C8-4A44-45AE-8F09-06B3B1D1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BDFD57-BC2D-4D57-A528-5A7994B7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4B2625-4AFB-478E-B4D7-0D0CFAAB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18FD21-18B2-4DA4-A81E-45FACC36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4821-1BF7-48C1-8DD5-DAD016AB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395B9D-5269-4543-94C2-EC23630E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67549D-DDDC-461B-B23E-1CFA0D92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5E1C8A-D4CA-4BDC-9935-B16474DB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123098-0319-4650-B478-63EF9AC81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C17948-8790-4074-BFAD-E4379FCE3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E77B-2E97-40A8-ADF0-C3F107A4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D7BF-2136-4C86-A602-7E207405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4037-A5DC-4C95-9A39-C1823DB0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11BF-8841-4607-B769-3548EAC4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6E65-029C-45E7-8855-F3D0A56F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8D70-3562-4A3D-B5F8-BE4EBE33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C430-8367-4C23-AE50-9F894738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0C29-BAEF-41F5-8C10-09685DAC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9004-8DA5-4F52-9099-315668D9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CE42-152E-48EB-BEE6-916BB4E0F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4859-3BF0-4BC2-A4E5-EB701DF6B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6E5FE-5427-47DA-9DB1-A7F849076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14784-EBDE-45A0-BDCE-BF07D7FE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66E08-0E01-402D-B886-5CE375FD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9C214-2CDD-43E9-A91A-9ADDF987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F8E84-147A-428F-B498-0C08BDE3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7080-B14E-4C51-B39D-49583C92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94C4A-2F3F-48D8-92A7-B435DE17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89CF7-ED45-4228-AB44-B8E2ABA9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3A694-4A8D-4F98-B4C8-66790E58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65A07-4BA8-41DB-8884-CC35B7E6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D6FCF-59C9-485D-877B-C65FF42A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657E9-3270-48D1-8411-79141F41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74C5B-CFAA-41DE-8016-0CF9FF88D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F42E8-B5D3-41AE-9CD3-BB780E584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8AB37-7E2D-465F-B2E4-02332338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54AEF-C6A7-47CB-B7A4-A28EF66B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01FD-6B24-4514-8D9B-0C93ABCD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38B6A-CBDB-4E71-95C7-395D4635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F5A6C-B100-461F-9F35-D91F288B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7D6CA-C09A-400E-BE00-EA57C43F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BD502-D08B-419F-A439-BFF299CA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F60F1-22BB-4F84-8435-66B635FE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C89FA-CF08-42E8-98E9-2E2B835C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C0C44-0405-4646-9941-60F18394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66355-5422-4AAB-A513-819E447A8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CFC10-1A87-4AFC-A3DA-DD32E4DB9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3DC59-2040-4139-8B2B-3C863DFD7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5059-CE78-40B9-AB21-CD448DD7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AFE6A-515B-4580-A5E8-33F2BA8F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0D73F-C7ED-405B-BC6A-F8B1256F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0905C-6923-4033-BDBF-377E78E9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3A8C7-640B-4880-B469-E1F989FD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A430A-68E2-4C40-96D6-75C9B4A9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C9553-60BA-4861-945A-C80BA067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4EA21-C2EA-4CB6-9CB1-4595518C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80915-BB65-48EC-83DB-D1659334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CF8C0-A74A-4D29-B505-C2BA95A7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BDDD6-C974-418E-80BB-D12333EF2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1753-BE14-485C-84D4-6A177F97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71D39-19E3-4BAE-9752-36F7FA4FF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EA1C0-D209-46B7-9BE2-7D166BA1F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0420D-F31D-4615-A78C-D3CC28A6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5C261-CBF4-4110-AACE-43347E50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B0753-3A03-43B5-A6D3-7337C0F4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DCCCF-703C-4D78-8B08-545EDBC8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57049-0AB2-47DB-A851-E56CEBB7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1AC7B-F14D-4CB1-ABCE-848832D4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EAD1E-7260-44FA-AC1E-6D7ED48C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58EC6-E9BE-44A7-96D8-875C4577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9F60-ABD4-400E-8843-687ABE04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D9AB9-6608-4D46-8F8F-87CEE685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A7303-5884-4C42-9754-C1CA80C2C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EC031-A398-4EE8-9199-B4376E2F4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7CEBE-D15C-461D-B80B-A634D760C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D661F-FAFF-4BDC-B15D-7FD53012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D3C64-A652-4946-8406-8E8CF58D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9F710-9340-4830-8DD4-AEC576C2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0455E-DE2F-4511-808A-34D7501F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84AAC-E650-4DFB-81BF-EB539946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2EF80-EFF5-4456-ACD1-0831D2B8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A089-E9ED-4118-967F-75F768A1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892E7-2F0A-4889-B9F2-55C4B9EB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5F55C-D881-4880-909B-2B177FDE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68F8C-00F3-4848-B617-A5A26905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B0FB1-D7BA-43E6-B4D2-564F79639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41BC5-5A18-4AA2-998D-5CB5E06C6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563AE2-0BA8-4CA5-839B-B46C391C1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B7324C-AD33-4FA2-9389-3A260330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8D24CC-CD70-4342-AEE3-11E19D20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FB2287-C27A-4506-83A3-1481BE4A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DA9CD7-EF55-43DE-AD35-E45356EB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7829-49D0-4C8D-B60E-A24DD729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7EE9D5-D416-4E35-8451-BE3BE537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E7D566-2971-4AFA-BECB-EB3741B9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CA80DC-ED71-4F85-A0B0-2F0A49E7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E49FB6-6502-47AF-9FAA-4E725C44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1127D8-40BD-40CD-BA4B-A2BFA400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6EF6D7-1F23-465F-B34D-9CF6D11BF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15637D-FB13-4DEE-9CAE-41F4553DE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87D35-319C-44E6-8D55-A8F6C9EE6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0F02B-968D-4897-B6DB-87F63A09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A9EDC-25C2-42A2-8643-19A80E5F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3881-BCFD-4824-8E12-5A1A803AAF31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3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3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CD4E-BCA0-4567-A854-7A7B6AF41C8F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80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626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640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654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668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682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696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710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712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3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3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3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C657-47E6-4E99-A3CA-CE83361EC7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768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782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3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ftr" idx="3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C198-B12E-4E15-88EB-87799BB5FE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932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E1E6-FBA4-4F43-A109-F6B9412AB843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86FB-6993-4AD2-AE9C-8022D3EA8D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B9DE-51DD-4DF2-9F74-3BE3284EAE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76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90C2-E4EE-4A2D-BC49-2F2A06331B7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C748-3126-4A0C-BB81-FB7FFA52C1A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9B0A-589A-4763-9771-C3EF0AEB1BB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2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2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2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BEED-3ADF-4362-B1F6-A503BAE9A37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CC88-8786-44D4-858A-7593233CE2F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rrow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image" Target="../media/image18.gif"/><Relationship Id="rId4" Type="http://schemas.openxmlformats.org/officeDocument/2006/relationships/image" Target="../media/image19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4.png"/><Relationship Id="rId3" Type="http://schemas.openxmlformats.org/officeDocument/2006/relationships/image" Target="../media/image21.gif"/><Relationship Id="rId4" Type="http://schemas.openxmlformats.org/officeDocument/2006/relationships/image" Target="../media/image22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3.gif"/><Relationship Id="rId3" Type="http://schemas.openxmlformats.org/officeDocument/2006/relationships/image" Target="../media/image24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4.png"/><Relationship Id="rId3" Type="http://schemas.openxmlformats.org/officeDocument/2006/relationships/image" Target="../media/image26.gi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4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WordArt 2"/>
          <p:cNvSpPr txBox="1"/>
          <p:nvPr/>
        </p:nvSpPr>
        <p:spPr>
          <a:xfrm>
            <a:off x="2971800" y="1523880"/>
            <a:ext cx="5029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同学朋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2" name="Text Box 6"/>
          <p:cNvSpPr/>
          <p:nvPr/>
        </p:nvSpPr>
        <p:spPr>
          <a:xfrm>
            <a:off x="685800" y="5029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Arial"/>
                <a:ea typeface="黑体"/>
              </a:rPr>
              <a:t>我最亲爱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371600" y="685800"/>
            <a:ext cx="5943600" cy="25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d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单元　师友结伴同行 　　第三课   同侪携手共进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框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animClr clrSpc="rgb">
                                      <p:cBhvr>
                                        <p:cTn id="14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VREC003.WAV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一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平等互惠，体谅他人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80880" y="3049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和小宁是一对好朋友，小东的学习成绩很好，而小宁的成绩总不令人满意。小东在小宁的请求下经常帮助小宁补习功课，解答疑问，有时很晚才能回家，常常没有时间完成自己的功课。为此，小东的妈妈很着急，小东也很为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为什么觉得很为难，作为小宁你应该怎样做呢？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8" name="Picture 4" descr="7"/>
          <p:cNvPicPr/>
          <p:nvPr/>
        </p:nvPicPr>
        <p:blipFill>
          <a:blip r:embed="rId3"/>
          <a:stretch/>
        </p:blipFill>
        <p:spPr>
          <a:xfrm>
            <a:off x="7162920" y="4191120"/>
            <a:ext cx="1218960" cy="11811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5" descr="01"/>
          <p:cNvPicPr/>
          <p:nvPr/>
        </p:nvPicPr>
        <p:blipFill>
          <a:blip r:embed="rId4"/>
          <a:stretch/>
        </p:blipFill>
        <p:spPr>
          <a:xfrm>
            <a:off x="6477120" y="45720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5" name="arrow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29523" fill="hold"/>
                                        <p:tgtEl>
                                          <p:spTgt spid="10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新可.WAV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304920" cy="53352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可和小新是班上的文艺骨干。小可文笔好，小新画的好，大家称她俩是一对好搭档。但是最近她俩的关系出现了裂痕：小可认为小新画的插图不符合自己的意图，常常改动小新的画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新认为被改动的恰是自己的得意之处，因此很不高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是小可应该尊重小新的创意，还是小新应当允许小可的修改呢？她俩还能成为一对好搭档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2" name="Picture 4" descr="5"/>
          <p:cNvPicPr/>
          <p:nvPr/>
        </p:nvPicPr>
        <p:blipFill>
          <a:blip r:embed="rId3"/>
          <a:stretch/>
        </p:blipFill>
        <p:spPr>
          <a:xfrm>
            <a:off x="0" y="533520"/>
            <a:ext cx="1033560" cy="13716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5" descr="02"/>
          <p:cNvPicPr/>
          <p:nvPr/>
        </p:nvPicPr>
        <p:blipFill>
          <a:blip r:embed="rId4"/>
          <a:stretch/>
        </p:blipFill>
        <p:spPr>
          <a:xfrm>
            <a:off x="6477120" y="4191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024" name="PlaceHolder 2"/>
          <p:cNvSpPr>
            <a:spLocks noGrp="1"/>
          </p:cNvSpPr>
          <p:nvPr>
            <p:ph type="title"/>
          </p:nvPr>
        </p:nvSpPr>
        <p:spPr>
          <a:xfrm>
            <a:off x="301320" y="-4351320"/>
            <a:ext cx="46044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5" name="Rectangle 7"/>
          <p:cNvSpPr/>
          <p:nvPr/>
        </p:nvSpPr>
        <p:spPr>
          <a:xfrm>
            <a:off x="457200" y="510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二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正确处理意见和分歧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5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32832" fill="hold"/>
                                        <p:tgtEl>
                                          <p:spTgt spid="10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a67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林晖.WAV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三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友谊需要尺度，要把握好原则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的朋友小晖在校外和八年级一个经常恃强凌弱的学生打了一架，小林听说那个学生还有五个帮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该如何帮助朋友小晖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9" name="Picture 4" descr="6"/>
          <p:cNvPicPr/>
          <p:nvPr/>
        </p:nvPicPr>
        <p:blipFill>
          <a:blip r:embed="rId2"/>
          <a:stretch/>
        </p:blipFill>
        <p:spPr>
          <a:xfrm>
            <a:off x="685800" y="403848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1030" name="Group 5"/>
          <p:cNvGrpSpPr/>
          <p:nvPr/>
        </p:nvGrpSpPr>
        <p:grpSpPr>
          <a:xfrm>
            <a:off x="6046920" y="2057400"/>
            <a:ext cx="3096720" cy="3124080"/>
            <a:chOff x="6046920" y="2057400"/>
            <a:chExt cx="3096720" cy="3124080"/>
          </a:xfrm>
        </p:grpSpPr>
        <p:pic>
          <p:nvPicPr>
            <p:cNvPr id="1031" name="Picture 6" descr="03"/>
            <p:cNvPicPr/>
            <p:nvPr/>
          </p:nvPicPr>
          <p:blipFill>
            <a:blip r:embed="rId3"/>
            <a:stretch/>
          </p:blipFill>
          <p:spPr>
            <a:xfrm>
              <a:off x="6046920" y="2057400"/>
              <a:ext cx="26478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Text Box 7"/>
            <p:cNvSpPr/>
            <p:nvPr/>
          </p:nvSpPr>
          <p:spPr>
            <a:xfrm>
              <a:off x="7488000" y="2174400"/>
              <a:ext cx="1655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怎么办呢？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cover dir="r"/>
    <p:sndAc>
      <p:stSnd>
        <p:snd r:embed="rId4" name="arrow.wav"/>
      </p:stSnd>
    </p:sndAc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3998" fill="hold"/>
                                        <p:tgtEl>
                                          <p:spTgt spid="10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林2.WAV" descr=""/>
          <p:cNvPicPr/>
          <p:nvPr/>
        </p:nvPicPr>
        <p:blipFill>
          <a:blip r:embed="rId2"/>
          <a:stretch/>
        </p:blipFill>
        <p:spPr>
          <a:xfrm>
            <a:off x="8839080" y="441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四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慎重交友</a:t>
            </a: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晖没有听从小林的劝说，找了一些“朋友”去报仇了。结果受到了学校的处分，小晖不但不知错，而且还谩骂老师和校长。                                                                        小林应不应该还和小晖做朋友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6" name="Picture 4" descr="4"/>
          <p:cNvPicPr/>
          <p:nvPr/>
        </p:nvPicPr>
        <p:blipFill>
          <a:blip r:embed="rId3"/>
          <a:stretch/>
        </p:blipFill>
        <p:spPr>
          <a:xfrm>
            <a:off x="7862760" y="2362320"/>
            <a:ext cx="1281240" cy="2209680"/>
          </a:xfrm>
          <a:prstGeom prst="rect">
            <a:avLst/>
          </a:prstGeom>
          <a:ln w="0">
            <a:noFill/>
          </a:ln>
        </p:spPr>
      </p:pic>
      <p:sp>
        <p:nvSpPr>
          <p:cNvPr id="1037" name="Text Box 5"/>
          <p:cNvSpPr/>
          <p:nvPr/>
        </p:nvSpPr>
        <p:spPr>
          <a:xfrm>
            <a:off x="304920" y="4724280"/>
            <a:ext cx="7467480" cy="581400"/>
          </a:xfrm>
          <a:prstGeom prst="rect">
            <a:avLst/>
          </a:pr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与善人居，如入芝兰之室，久而不闻其香，即与之化矣。与不善人居，如入鲍鱼之肆，久而不闻其臭，亦与之化矣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4762" fill="hold"/>
                                        <p:tgtEl>
                                          <p:spTgt spid="10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AutoShape 2"/>
          <p:cNvSpPr/>
          <p:nvPr/>
        </p:nvSpPr>
        <p:spPr>
          <a:xfrm>
            <a:off x="539640" y="260280"/>
            <a:ext cx="962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9" name="Picture 3" descr="0002E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1820880"/>
          </a:xfrm>
          <a:prstGeom prst="rect">
            <a:avLst/>
          </a:prstGeom>
          <a:ln w="0">
            <a:noFill/>
          </a:ln>
        </p:spPr>
      </p:pic>
      <p:sp>
        <p:nvSpPr>
          <p:cNvPr id="1040" name="Text Box 4"/>
          <p:cNvSpPr/>
          <p:nvPr/>
        </p:nvSpPr>
        <p:spPr>
          <a:xfrm>
            <a:off x="152280" y="2438280"/>
            <a:ext cx="12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与友同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AutoShape 5"/>
          <p:cNvSpPr/>
          <p:nvPr/>
        </p:nvSpPr>
        <p:spPr>
          <a:xfrm>
            <a:off x="1066680" y="1676520"/>
            <a:ext cx="533520" cy="2514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1791720" y="260280"/>
            <a:ext cx="124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华文彩云"/>
              </a:rPr>
              <a:t>小结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华文彩云"/>
              </a:rPr>
              <a:t>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1935720" y="1600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什么是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1935720" y="3733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友谊的原则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5" name="AutoShape 10"/>
          <p:cNvSpPr/>
          <p:nvPr/>
        </p:nvSpPr>
        <p:spPr>
          <a:xfrm>
            <a:off x="3657600" y="2514600"/>
            <a:ext cx="304920" cy="30290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8840 h 3029040"/>
              <a:gd name="textAreaBottom" fmla="*/ 2950200 h 302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6" name="Text Box 16"/>
          <p:cNvSpPr/>
          <p:nvPr/>
        </p:nvSpPr>
        <p:spPr>
          <a:xfrm>
            <a:off x="4038480" y="2362320"/>
            <a:ext cx="33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平等互惠，体谅他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7" name="Text Box 17"/>
          <p:cNvSpPr/>
          <p:nvPr/>
        </p:nvSpPr>
        <p:spPr>
          <a:xfrm>
            <a:off x="4038480" y="3352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正确处理意见和分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8" name="Text Box 18"/>
          <p:cNvSpPr/>
          <p:nvPr/>
        </p:nvSpPr>
        <p:spPr>
          <a:xfrm>
            <a:off x="4038480" y="4114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友谊需要尺度，要把握好原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9" name="Text Box 19"/>
          <p:cNvSpPr/>
          <p:nvPr/>
        </p:nvSpPr>
        <p:spPr>
          <a:xfrm>
            <a:off x="4038480" y="51055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0" name="Text Box 20"/>
          <p:cNvSpPr/>
          <p:nvPr/>
        </p:nvSpPr>
        <p:spPr>
          <a:xfrm>
            <a:off x="4114800" y="51055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慎重交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2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[周华健]朋友  伴奏 cn^ Net E音-周华健.mp3" descr=""/>
          <p:cNvPicPr/>
          <p:nvPr/>
        </p:nvPicPr>
        <p:blipFill>
          <a:blip r:embed="rId2"/>
          <a:stretch/>
        </p:blipFill>
        <p:spPr>
          <a:xfrm>
            <a:off x="6324480" y="1447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5410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琥珀"/>
              </a:rPr>
              <a:t>心灵导航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3" name="Text Box 3"/>
          <p:cNvSpPr/>
          <p:nvPr/>
        </p:nvSpPr>
        <p:spPr>
          <a:xfrm>
            <a:off x="2411280" y="1341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Black"/>
                <a:ea typeface="华文细黑"/>
              </a:rPr>
              <a:t>名   言   欣  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4" name="Text Box 4"/>
          <p:cNvSpPr/>
          <p:nvPr/>
        </p:nvSpPr>
        <p:spPr>
          <a:xfrm>
            <a:off x="395280" y="2276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世界上最美好的东西，莫过于有几个头脑和心地都很正直的严正的朋友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                                   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爱因斯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5" name="Text Box 5"/>
          <p:cNvSpPr/>
          <p:nvPr/>
        </p:nvSpPr>
        <p:spPr>
          <a:xfrm>
            <a:off x="395280" y="400536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多一个真正的朋友，就多一块陶冶情操的砺石，多一分战胜困难的力量，多一个锐意进取的伴侣。       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                              ──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（法）小仲马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59044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1258920" y="2781360"/>
            <a:ext cx="5943600" cy="1847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</a:t>
            </a: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的人际圈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533520" y="685800"/>
            <a:ext cx="807696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780000" y="2349360"/>
            <a:ext cx="2286000" cy="1828800"/>
          </a:xfrm>
          <a:prstGeom prst="donut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835280" y="476280"/>
            <a:ext cx="6248160" cy="5715000"/>
          </a:xfrm>
          <a:prstGeom prst="donut">
            <a:avLst>
              <a:gd name="adj" fmla="val 25000"/>
            </a:avLst>
          </a:prstGeom>
          <a:solidFill>
            <a:srgbClr val="99ff66"/>
          </a:solidFill>
          <a:ln w="9360">
            <a:solidFill>
              <a:srgbClr val="1a55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7451640" y="765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陌生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3203640" y="119700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一般的同学或熟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3851280" y="4149720"/>
            <a:ext cx="19810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较好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924360" y="23493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知心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4643280" y="299736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3" name=""/>
          <p:cNvSpPr/>
          <p:nvPr/>
        </p:nvSpPr>
        <p:spPr>
          <a:xfrm>
            <a:off x="-27720" y="1278000"/>
            <a:ext cx="1399320" cy="4437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琥珀"/>
              </a:rPr>
              <a:t>人际关系树轮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5092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自己的人际关系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461880" y="1700280"/>
            <a:ext cx="80647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在与同学的交往中，如果封闭自己，只会使我们的“人际关系树轮”萎缩，，使自己陷入孤立，如果保持积极开放的心态，我们就会接触更多的人，分享更多的经验和快乐，同时也会被更多的人接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1828800" y="10666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新魏"/>
              </a:rPr>
              <a:t>受欢迎的优点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真诚、理解、值得信赖、理智、有思想、体贴、热情、友好、不自私、幽默、负责任、开朗、信任别人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华文新魏"/>
              </a:rPr>
              <a:t>┉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80880" y="41911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不受欢迎的缺点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尖刻、多嘴多舌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自私、目光短浅、粗鲁、自高自大、贪婪、不真诚、恶毒、冷酷、邪恶、说谎</a:t>
            </a: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华文新魏"/>
              </a:rPr>
              <a:t>┉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3"/>
          <a:stretch/>
        </p:blipFill>
        <p:spPr>
          <a:xfrm>
            <a:off x="228600" y="685800"/>
            <a:ext cx="1365120" cy="281952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1905120" y="228600"/>
            <a:ext cx="4724280" cy="685800"/>
          </a:xfrm>
          <a:prstGeom prst="cloudCallout">
            <a:avLst>
              <a:gd name="adj1" fmla="val -67472"/>
              <a:gd name="adj2" fmla="val 152777"/>
            </a:avLst>
          </a:prstGeom>
          <a:solidFill>
            <a:srgbClr val="a8c9f6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谁最受欢迎？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WordArt 2" descr=""/>
          <p:cNvPicPr/>
          <p:nvPr/>
        </p:nvPicPr>
        <p:blipFill>
          <a:blip r:embed="rId2"/>
          <a:stretch/>
        </p:blipFill>
        <p:spPr>
          <a:xfrm>
            <a:off x="1755720" y="2292480"/>
            <a:ext cx="5626080" cy="15843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3" name="arrow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ca0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有两个朋友在路上边走边聊，突然一只狗熊从树丛中窜到他们面前。一个人迅速地爬上路旁的一棵大树上，躲了起来；另一个人无路可逃，只好躺在地上忍住呼吸装死，熊走到“死人”身旁，用鼻子嗅了嗅，便大摇大摆走了。熊走后，树上的人下来问装死的朋友，熊对你说了什么，这个装死的人回答道：“熊忠告我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Text Box 3"/>
          <p:cNvSpPr/>
          <p:nvPr/>
        </p:nvSpPr>
        <p:spPr>
          <a:xfrm>
            <a:off x="87840" y="476280"/>
            <a:ext cx="667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4" name="Text Box 4"/>
          <p:cNvSpPr/>
          <p:nvPr/>
        </p:nvSpPr>
        <p:spPr>
          <a:xfrm>
            <a:off x="1371600" y="5486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对于在危险面前抛弃你的人决不可与他交朋友。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5" name="Picture 5" descr="1"/>
          <p:cNvPicPr/>
          <p:nvPr/>
        </p:nvPicPr>
        <p:blipFill>
          <a:blip r:embed="rId2"/>
          <a:stretch/>
        </p:blipFill>
        <p:spPr>
          <a:xfrm>
            <a:off x="7620120" y="4543560"/>
            <a:ext cx="1258920" cy="231444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34560" fill="hold"/>
                                        <p:tgtEl>
                                          <p:spTgt spid="1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060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两个朋友在沙漠中旅行，在旅途中他们吵架了，一个还打了另外一个一记耳光。被打的觉得受辱，一言不语，在沙子上写下：“今天我的好朋友打了我一巴掌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他们继续往前走，到了沃野，他们就决定停下。被打耳光的那位差点儿淹死，幸好被朋友救起。被救起后，他拿了一把小剑在石头上刻下：“今天我的好朋友救了我一命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朋友好奇地问：“为什么我打了你以后，你要写在沙子上，而现在要刻在石头上呢？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另一个笑了笑，回答说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3"/>
          <p:cNvSpPr/>
          <p:nvPr/>
        </p:nvSpPr>
        <p:spPr>
          <a:xfrm>
            <a:off x="3600" y="1066680"/>
            <a:ext cx="6678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9" name="Picture 5" descr="3"/>
          <p:cNvPicPr/>
          <p:nvPr/>
        </p:nvPicPr>
        <p:blipFill>
          <a:blip r:embed="rId2"/>
          <a:stretch/>
        </p:blipFill>
        <p:spPr>
          <a:xfrm>
            <a:off x="152280" y="304920"/>
            <a:ext cx="733680" cy="533160"/>
          </a:xfrm>
          <a:prstGeom prst="rect">
            <a:avLst/>
          </a:prstGeom>
          <a:ln w="0">
            <a:noFill/>
          </a:ln>
        </p:spPr>
      </p:pic>
      <p:sp>
        <p:nvSpPr>
          <p:cNvPr id="1010" name="Text Box 6"/>
          <p:cNvSpPr/>
          <p:nvPr/>
        </p:nvSpPr>
        <p:spPr>
          <a:xfrm>
            <a:off x="533520" y="502920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当被一个朋友伤害时，要写在易忘的地方，风会负责抹去它；相反，如果被帮助，我们要把它刻在心里的深处，那里任何风都不能抹灭它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7640" fill="hold"/>
                                        <p:tgtEl>
                                          <p:spTgt spid="10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79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Text Box 2"/>
          <p:cNvSpPr/>
          <p:nvPr/>
        </p:nvSpPr>
        <p:spPr>
          <a:xfrm>
            <a:off x="0" y="68580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华文隶书"/>
                <a:ea typeface="华文隶书"/>
              </a:rPr>
              <a:t>普通的朋友与真正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　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从未看过你哭泣。一个真正的朋友有双肩让你的泪水湿尽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吵架后就认为友谊已经结束。一个真正的朋友明白当你们还没打过架就不叫真正的友谊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找你谈论你的困扰。一个真正的朋友找你解决你的困扰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拜访时，像一个客人一样。一个真正的朋友会打开冰箱自己拿东西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期望你永远在他身边陪他。一个真正的朋友期望他能永远陪在你身旁 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3" name="Text Box 3"/>
          <p:cNvSpPr/>
          <p:nvPr/>
        </p:nvSpPr>
        <p:spPr>
          <a:xfrm>
            <a:off x="1887480" y="55227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4" name="Picture 4" descr="8"/>
          <p:cNvPicPr/>
          <p:nvPr/>
        </p:nvPicPr>
        <p:blipFill>
          <a:blip r:embed="rId1"/>
          <a:stretch/>
        </p:blipFill>
        <p:spPr>
          <a:xfrm>
            <a:off x="3886200" y="2743200"/>
            <a:ext cx="857160" cy="285768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arrow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du.com</dc:creator>
  <dc:description>www.deardu.com</dc:description>
  <cp:keywords>www.deardu.com</cp:keywords>
  <dc:language>en-US</dc:language>
  <cp:lastModifiedBy>微软用户</cp:lastModifiedBy>
  <dcterms:modified xsi:type="dcterms:W3CDTF">2012-08-30T07:43:14Z</dcterms:modified>
  <cp:revision>10</cp:revision>
  <dc:subject>www.deardu.com</dc:subject>
  <dc:title>www.dear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