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F61E-D8C0-4B78-96A9-71A731569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918-4804-41DF-832B-8957BD904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破冰游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回行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D71-53A7-4DE1-A58B-FF07BD997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团队角色游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搭钉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247F-49D0-4409-8CB5-C8EDCCCCE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游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批评与表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761-6B73-476B-82CE-CB59E62D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A78-C7BB-4ABB-9EC1-4E7834E6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F9A-BBC7-4D89-B666-137CE3F4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DDA-1460-4030-A35A-884BADF3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ECF-DABC-4404-80CE-B3E4D887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E5F-ACDA-446E-8F26-0A344AA4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955-1FDC-440D-B497-A0FD328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146-C945-41EC-84D3-CBF89960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D89-0ABE-4FBA-A256-92EB4093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5B1-7B5D-4521-B480-10E72A63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D68-7B0C-4E03-A01F-E14D567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5DB-7345-4146-8140-89A1B14B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5065-B149-4204-BA6D-7306537552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8A6F-BFAC-417D-87A4-23D059C92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精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2279520" y="3429000"/>
            <a:ext cx="4583160" cy="251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0" y="333360"/>
            <a:ext cx="29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2"/>
          <p:cNvSpPr/>
          <p:nvPr/>
        </p:nvSpPr>
        <p:spPr>
          <a:xfrm>
            <a:off x="2340000" y="692280"/>
            <a:ext cx="2305080" cy="100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依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2484360" y="1773360"/>
            <a:ext cx="2305080" cy="2158920"/>
            <a:chOff x="2484360" y="1773360"/>
            <a:chExt cx="2305080" cy="2158920"/>
          </a:xfrm>
        </p:grpSpPr>
        <p:sp>
          <p:nvSpPr>
            <p:cNvPr id="70" name="Oval 4"/>
            <p:cNvSpPr/>
            <p:nvPr/>
          </p:nvSpPr>
          <p:spPr>
            <a:xfrm>
              <a:off x="2484360" y="2924280"/>
              <a:ext cx="2305080" cy="1008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>
              <a:off x="3564000" y="177336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6"/>
          <p:cNvGrpSpPr/>
          <p:nvPr/>
        </p:nvGrpSpPr>
        <p:grpSpPr>
          <a:xfrm>
            <a:off x="2484360" y="4038480"/>
            <a:ext cx="2305080" cy="1982880"/>
            <a:chOff x="2484360" y="4038480"/>
            <a:chExt cx="2305080" cy="1982880"/>
          </a:xfrm>
        </p:grpSpPr>
        <p:sp>
          <p:nvSpPr>
            <p:cNvPr id="73" name="Oval 7"/>
            <p:cNvSpPr/>
            <p:nvPr/>
          </p:nvSpPr>
          <p:spPr>
            <a:xfrm>
              <a:off x="2484360" y="5013360"/>
              <a:ext cx="2305080" cy="1008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互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581280" y="40384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9"/>
          <p:cNvSpPr/>
          <p:nvPr/>
        </p:nvSpPr>
        <p:spPr>
          <a:xfrm>
            <a:off x="2050920" y="1989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057400" y="41911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038480" y="1981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智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175932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SimHei"/>
              </a:rPr>
              <a:t>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175932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SimHei"/>
              </a:rPr>
              <a:t>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4038480" y="41911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5791320" y="990720"/>
            <a:ext cx="504720" cy="4824360"/>
          </a:xfrm>
          <a:prstGeom prst="downArrow">
            <a:avLst>
              <a:gd name="adj1" fmla="val 35852"/>
              <a:gd name="adj2" fmla="val 2321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16"/>
          <p:cNvSpPr txBox="1"/>
          <p:nvPr/>
        </p:nvSpPr>
        <p:spPr>
          <a:xfrm rot="5400000">
            <a:off x="4872240" y="3201120"/>
            <a:ext cx="46087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的成熟发展阶段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对个人心理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增强力量感，获得安全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获得归属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满足社会的需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满足自尊与成就的需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增加自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信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是因为事情难做，我们才失去自信；而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为我们失去自信，事情才难以做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放手一搏，大不了失败；不搏，绝不会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俗话说，成事在天，但谋事一定在人。胜利的眼泪再咸也咸不过悔恨的泪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成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技能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技术技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解决问题和决策的技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人际关系的技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个人成为团队成员的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良好的协作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融入团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对团队充满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勇于承担责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533520"/>
            <a:ext cx="84582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角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关键角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导者：处事冷静的领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驱策者：精力充沛、意志坚强的领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创新者：团队的智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监察者：善于监察和评核团队的表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执行者：团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办事人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协调者：关心队员的需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查探者：善于向外界求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贯彻者：确保团队赶上工作进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专业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─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专业知识、经验及技能的提供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组织规范的范畴及积极与消极规范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914400"/>
          <a:ext cx="8305920" cy="5500800"/>
        </p:xfrm>
        <a:graphic>
          <a:graphicData uri="http://schemas.openxmlformats.org/drawingml/2006/table">
            <a:tbl>
              <a:tblPr/>
              <a:tblGrid>
                <a:gridCol w="2362320"/>
                <a:gridCol w="2819160"/>
                <a:gridCol w="31244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范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例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积极规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消极规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和个人的荣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当公司受到不公平批评时，成员能挺身而出为公司辩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员们对公司的问题漠不关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绩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业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虽已不错仍精益求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满足于必要的最低水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协调合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息交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乐于听取并接受别人的意见和观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非坦诚讨论而是背后议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领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监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需要帮助时会提出请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掩饰问题，回避领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事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伴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占别人便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互补关心彼此的福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顾客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消费者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关心为顾客服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态度冷淡或怀有敌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诚实与安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关心诚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必要时才老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培养与发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真正关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议论多，认真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革新与变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常寻找改进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老一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团队运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人人都可以成为团队的一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一人可以扮演好几个角色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团队角色扮演必须是自愿性选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成员对团队的理念必须有所认识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相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成员间彼此关怀、尊重、了解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负责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团队与成员间都是平等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团队的运作是有计划的，但也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应付计划以外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团队的运作是有纪律的，但有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的自主与自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高效团队的特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效的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工作开放的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取长补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相互信任与尊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共同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高效的工作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持续地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灵活和适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SimHei"/>
              </a:rPr>
              <a:t>信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信任的重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互信任是有效团队的显著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SimHei"/>
              </a:rPr>
              <a:t>尊重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纯粹倾听，不带批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接纳差异，不作指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肯定别人独特的品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往好的方向去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关怀之心告诉别人你的真正想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团队的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是由两个或两个以上的人组成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通过人们彼此之间的相互影响、相互作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在行为上有共同规范的一种介于组织和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人之间的一种组织形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100" descr="C:\Program Files\Common Files\Microsoft Shared\Clipart\cagcat50\BD06982_.WMF"/>
          <p:cNvPicPr/>
          <p:nvPr/>
        </p:nvPicPr>
        <p:blipFill>
          <a:blip r:embed="rId1"/>
          <a:stretch/>
        </p:blipFill>
        <p:spPr>
          <a:xfrm>
            <a:off x="2057400" y="4038480"/>
            <a:ext cx="5029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3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572000" cy="2590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04920" y="304920"/>
            <a:ext cx="861048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如何领导战斗团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乐意冒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有创新精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主动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有远大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保持乐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凡事带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04920" y="380880"/>
            <a:ext cx="82296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激发追随者的四项行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使别人感到他重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推动您的远见，并说服追随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待人如待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为自己及追随者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0" descr=""/>
          <p:cNvPicPr/>
          <p:nvPr/>
        </p:nvPicPr>
        <p:blipFill>
          <a:blip r:embed="rId1"/>
          <a:stretch/>
        </p:blipFill>
        <p:spPr>
          <a:xfrm>
            <a:off x="2438280" y="3962520"/>
            <a:ext cx="4015080" cy="2590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04920" y="304920"/>
            <a:ext cx="853416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吸引追随者的三个秘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修正赞美与批评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利用竞赛将工作变成游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Oval 2"/>
          <p:cNvSpPr/>
          <p:nvPr/>
        </p:nvSpPr>
        <p:spPr>
          <a:xfrm>
            <a:off x="1447920" y="838080"/>
            <a:ext cx="5562360" cy="5410440"/>
          </a:xfrm>
          <a:prstGeom prst="ellipse">
            <a:avLst/>
          </a:prstGeom>
          <a:solidFill>
            <a:srgbClr val="cc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429000" y="1447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关 心 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3276720" y="2590920"/>
            <a:ext cx="2057400" cy="2057400"/>
          </a:xfrm>
          <a:prstGeom prst="ellipse">
            <a:avLst/>
          </a:prstGeom>
          <a:solidFill>
            <a:srgbClr val="00ffcc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581280" y="3276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影响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2208600" y="1905120"/>
            <a:ext cx="3960360" cy="3433320"/>
            <a:chOff x="2208600" y="1905120"/>
            <a:chExt cx="3960360" cy="3433320"/>
          </a:xfrm>
        </p:grpSpPr>
        <p:sp>
          <p:nvSpPr>
            <p:cNvPr id="110" name="Line 7"/>
            <p:cNvSpPr/>
            <p:nvPr/>
          </p:nvSpPr>
          <p:spPr>
            <a:xfrm flipH="1">
              <a:off x="5333400" y="1905120"/>
              <a:ext cx="762120" cy="76176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2208600" y="1981440"/>
              <a:ext cx="762840" cy="7614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 flipV="1">
              <a:off x="5412600" y="4492440"/>
              <a:ext cx="756360" cy="7678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 flipV="1">
              <a:off x="2365920" y="4566960"/>
              <a:ext cx="752760" cy="7714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6831360" y="304920"/>
            <a:ext cx="1155240" cy="556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极的人把注意力放在关心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49680" y="1523880"/>
            <a:ext cx="11552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导致影响圈越来越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2"/>
          <p:cNvSpPr/>
          <p:nvPr/>
        </p:nvSpPr>
        <p:spPr>
          <a:xfrm>
            <a:off x="1447920" y="762120"/>
            <a:ext cx="5486400" cy="5410080"/>
          </a:xfrm>
          <a:prstGeom prst="ellipse">
            <a:avLst/>
          </a:prstGeom>
          <a:solidFill>
            <a:srgbClr val="cc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1752480"/>
            <a:ext cx="3505320" cy="3429000"/>
          </a:xfrm>
          <a:prstGeom prst="ellipse">
            <a:avLst/>
          </a:prstGeom>
          <a:solidFill>
            <a:srgbClr val="00ffcc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关 心 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81280" y="3200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影响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755400" y="304920"/>
            <a:ext cx="1155240" cy="556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积极的人把注意力放在影响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-178920" y="1752480"/>
            <a:ext cx="11552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他的影响圈越来越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8"/>
          <p:cNvGrpSpPr/>
          <p:nvPr/>
        </p:nvGrpSpPr>
        <p:grpSpPr>
          <a:xfrm>
            <a:off x="2968560" y="2288880"/>
            <a:ext cx="2442960" cy="2356920"/>
            <a:chOff x="2968560" y="2288880"/>
            <a:chExt cx="2442960" cy="2356920"/>
          </a:xfrm>
        </p:grpSpPr>
        <p:sp>
          <p:nvSpPr>
            <p:cNvPr id="123" name="Line 9"/>
            <p:cNvSpPr/>
            <p:nvPr/>
          </p:nvSpPr>
          <p:spPr>
            <a:xfrm flipH="1" flipV="1">
              <a:off x="3047400" y="2362320"/>
              <a:ext cx="685080" cy="683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0"/>
            <p:cNvSpPr/>
            <p:nvPr/>
          </p:nvSpPr>
          <p:spPr>
            <a:xfrm flipV="1">
              <a:off x="4721760" y="2288880"/>
              <a:ext cx="689760" cy="6782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1"/>
            <p:cNvSpPr/>
            <p:nvPr/>
          </p:nvSpPr>
          <p:spPr>
            <a:xfrm flipH="1">
              <a:off x="2968560" y="3965040"/>
              <a:ext cx="690120" cy="6782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4647240" y="3962520"/>
              <a:ext cx="685080" cy="683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28600" y="228600"/>
            <a:ext cx="85345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如何训练一支常胜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领导、教导，如影相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将训练融入日常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态度亲和，容易亲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肯定别人的成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惩罚意在教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维持高度纪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920" y="457200"/>
            <a:ext cx="86104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问题的分析与解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公司过去只重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事业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现在也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设法满足员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个人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事业组织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员工个人目标若不相符、甚至冲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如何将两者相互结合，就是公司目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最重要的课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533520" y="4572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6094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04920" y="380880"/>
            <a:ext cx="84582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问题的分析与解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管理者面对问题的敏感度可分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团队员工问题的三大种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业绩不符要求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品质不符要求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行为不符要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09480" y="457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920" y="304920"/>
            <a:ext cx="8534160" cy="52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团队员工问题背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潜在的因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意愿也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能力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意愿但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能力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意愿但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能力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意愿也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能力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进取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用别人告诉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就能出色地完成工作，这种人总能得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最高的奖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包括荣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别人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告诉你一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就能圆满地完成任务，这种人会得到很高的荣誉，但不一定总能得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应的报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别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告诉你二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你才会去做。这些人不会得到荣誉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报偿也很微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和人群的区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团队成员是相互依赖和互动的，他们共同完成任务。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群则不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团队成员有共同的目标，共同的评价标准来评价成功与否。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群则不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团队有责任和义务，并根据他们的责任和义务对与之相关的产品和服务进行控制。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群则不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600200"/>
            <a:ext cx="723888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组织强大竞争力的根源，不在于其员工个人能力的卓越，而在于其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仿宋_GB2312"/>
              </a:rPr>
              <a:t>员工整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仿宋_GB2312"/>
              </a:rPr>
              <a:t>团队合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仿宋_GB2312"/>
              </a:rPr>
              <a:t>的强大，其中起关键作用的，是那种弥漫于其中的无处不在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仿宋_GB2312"/>
              </a:rPr>
              <a:t>团队精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仿宋_GB2312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隶书"/>
                <a:ea typeface="仿宋_GB2312"/>
              </a:rPr>
              <a:t>----</a:t>
            </a: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仿宋_GB2312"/>
              </a:rPr>
              <a:t>摘自尚水利</a:t>
            </a:r>
            <a:r>
              <a:rPr b="1" lang="en-US" sz="1600" spc="-1" strike="noStrike">
                <a:solidFill>
                  <a:srgbClr val="000000"/>
                </a:solidFill>
                <a:latin typeface="隶书"/>
                <a:ea typeface="仿宋_GB2312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仿宋_GB2312"/>
              </a:rPr>
              <a:t>团队精神</a:t>
            </a:r>
            <a:r>
              <a:rPr b="1" lang="en-US" sz="1600" spc="-1" strike="noStrike">
                <a:solidFill>
                  <a:srgbClr val="000000"/>
                </a:solidFill>
                <a:latin typeface="隶书"/>
                <a:ea typeface="仿宋_GB2312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SimHei"/>
                <a:ea typeface="SimHei"/>
              </a:rPr>
              <a:t>我们可以选择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左右天气，但我们可以改变心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改变容貌，但我们可以展现笑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控制他人，但我们可以掌控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预知明天，但我们可以利用今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样样胜利，但我们可以事事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SimHei"/>
                <a:ea typeface="SimHei"/>
              </a:rPr>
              <a:t>我们可以选择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永远不输给别人，但是我们永远不输给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改变生命的长度，但我们可以选择生命的宽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愿大家都能以主动积极的心态来面对每一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（一）形成团队的基本要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成员们有共同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目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且为之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彼此合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成员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互相依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成员具有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团队意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具有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归属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责任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04920" y="4572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85800" y="1219320"/>
            <a:ext cx="73915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（二）团队形成的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阶段：组合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新成立，队员之间彼此之间未有深切的了解，彼此的相对地位尚未确立。队员对团体的目标多不清楚，大家处事未有默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二阶段：摸索、激荡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经过组建阶段后，隐藏的问题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渐暴露，团队的内部冲突加剧，虽然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的成员接受了团队的存在，但对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队加给他们的约束，予以抵制。而且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于谁可以控制这个团队，还存在争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互不服气。热情往往让位于挫折和愤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抗拒、较劲、嫉妒是常有的现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57200" y="380880"/>
            <a:ext cx="8229600" cy="35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三阶段      共识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队员共同议定目标与守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他们遵守这些目标与守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成为群策群力的团队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队员相处自然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开始发挥表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对团队引以为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这时工作成果有显著的表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Object 3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5486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5800" y="380880"/>
            <a:ext cx="76201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第四阶段      发挥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队员认同团队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在这阶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队员互相支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全情投入达成整体目标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动作灵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以自我管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工作成果超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Object 3" descr=""/>
          <p:cNvPicPr/>
          <p:nvPr/>
        </p:nvPicPr>
        <p:blipFill>
          <a:blip r:embed="rId1"/>
          <a:stretch/>
        </p:blipFill>
        <p:spPr>
          <a:xfrm>
            <a:off x="3189240" y="3733920"/>
            <a:ext cx="27655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群体和团队的区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990720"/>
          <a:ext cx="4267080" cy="50418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群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强有力的目标，明确的领导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个人负责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群体的目的与更广的组织任务是一致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个人的工作产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通过有效的会议运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通过群体对他人的间接影响来评定其效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讨论、决策和代表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6T02:44:54Z</dcterms:created>
  <dc:creator> </dc:creator>
  <dc:description> </dc:description>
  <dc:language>en-US</dc:language>
  <cp:lastModifiedBy>USER</cp:lastModifiedBy>
  <dcterms:modified xsi:type="dcterms:W3CDTF">2009-11-02T01:33:49Z</dcterms:modified>
  <cp:revision>111</cp:revision>
  <dc:subject> </dc:subject>
  <dc:title> </dc:title>
</cp:coreProperties>
</file>