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4.png" ContentType="image/png"/>
  <Override PartName="/ppt/media/image11.jpeg" ContentType="image/jpeg"/>
  <Override PartName="/ppt/media/camera.wav" ContentType="audio/x-wav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projctor.wav" ContentType="audio/x-wav"/>
  <Override PartName="/ppt/media/image16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22.jpeg" ContentType="image/jpeg"/>
  <Override PartName="/ppt/media/image9.jpeg" ContentType="image/jpeg"/>
  <Override PartName="/ppt/media/image26.png" ContentType="image/png"/>
  <Override PartName="/ppt/media/image17.jpeg" ContentType="image/jpeg"/>
  <Override PartName="/ppt/media/clap.wav" ContentType="audio/x-wav"/>
  <Override PartName="/ppt/media/image27.png" ContentType="image/png"/>
  <Override PartName="/ppt/media/image28.jpeg" ContentType="image/jpeg"/>
  <Override PartName="/ppt/media/image38.jpeg" ContentType="image/jpeg"/>
  <Override PartName="/ppt/media/image7.jpeg" ContentType="image/jpeg"/>
  <Override PartName="/ppt/media/image30.png" ContentType="image/pn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arrow.wav" ContentType="audio/x-wav"/>
  <Override PartName="/ppt/media/image40.jpeg" ContentType="image/jpeg"/>
  <Override PartName="/ppt/media/image13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8.jpeg" ContentType="image/jpeg"/>
  <Override PartName="/ppt/media/image39.jpeg" ContentType="image/jpeg"/>
  <Override PartName="/ppt/media/image12.jpeg" ContentType="image/jpeg"/>
  <Override PartName="/ppt/media/image3.png" ContentType="image/png"/>
  <Override PartName="/ppt/media/image3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602-FF8F-420D-9105-699C7CD3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9E9-6D1F-4CAA-AE4E-9A1444C7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C93-3046-4BCC-86EB-806B5662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53E-DAD6-43C0-845B-AB0C420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BCFA7-31D5-4207-AD81-B63979E7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879B5-92B5-4236-82EB-5C7057D2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36D4B-087E-475C-8C64-BD35A2B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A0C31-E55F-4429-AC48-15AE23D1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211E-B6F4-4FE1-A15B-050C76B0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1986C-2443-4870-B52B-DB6E9077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01737-DF7F-4E45-BA3E-4E6E916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AFD-7243-42D3-89A9-093508C7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DE6A7-49DC-4601-AAC8-4AD9AB7D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CFECF-3E10-44D3-9F7F-7F87179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DCA30-D781-46FD-817F-A46B574E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69CC8-D7D2-4BC8-B5A8-E823E1FC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584E8-0756-4D12-A52D-5A3DB1D8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2E5E-9A4C-415F-B092-52B5D129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CD88-73FE-4640-982F-21D9F1D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6F01-A312-41AA-9268-46B6038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7E96-514F-45ED-8E65-0E3DC63E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BA4F-E3A0-4D65-B0B0-86FF73B6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41C-B4EB-4997-988F-4059E9EE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9E6A-D3BB-4E32-BCE0-633A281B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7039-7201-4F14-92CD-AF21AA57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18E8-FD2A-46FF-91E2-6E84EAD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693A-CE0D-493C-AEE2-5AC6C28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E707-09B1-405D-86FE-4D563AE3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0DD3-A0D8-4E5A-9C14-B9A4D250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FEC9-9448-41F3-B55A-46E86ABA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F5D8-1DDF-40C3-8C67-12C63655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77FA-BFB6-4C49-941B-A6901FC7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F3F2-111A-4F48-88DD-3C08C87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924-6D16-48A9-AA1C-D002575D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6606E-C832-42B7-912A-B19D5D62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E03D-181F-4363-983A-2F562E3D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30EF-F9E3-4D53-9FE3-AA3A586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DFD9-B873-473B-8C50-3A6E3FC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48CD-6E63-481D-9621-1605E5A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DA0F-1A6E-42F1-BD13-76FC784E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FF66-2CF5-4935-894D-B4308938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F3BC-4C3D-477B-8079-17F94A05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D212-5574-43DE-BB19-8D7F1262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AA7-673A-4B1F-9F18-7C8A1B20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C17-F028-458A-B3C3-DA6C5DB9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66E-A170-4C8E-B7D0-B0E5763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6AC-AC1D-4926-BF5A-4FCE7F7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51B-B98A-4D67-9293-D9C8346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FA5-4203-49BA-A226-9A8EFA0BB7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C189-CF9C-4816-A0AF-F2B94AE07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84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FA2E-C664-4DB5-96D2-49F332CF65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245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89E4-C070-4DE9-AB00-91E601842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baike.baidu.com/view/686201.htm" TargetMode="External"/><Relationship Id="rId2" Type="http://schemas.openxmlformats.org/officeDocument/2006/relationships/slideLayout" Target="../slideLayouts/slideLayout2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419640" y="1844640"/>
            <a:ext cx="5181120" cy="2056680"/>
            <a:chOff x="3419640" y="1844640"/>
            <a:chExt cx="5181120" cy="2056680"/>
          </a:xfrm>
        </p:grpSpPr>
        <p:sp>
          <p:nvSpPr>
            <p:cNvPr id="310" name=""/>
            <p:cNvSpPr txBox="1"/>
            <p:nvPr/>
          </p:nvSpPr>
          <p:spPr>
            <a:xfrm>
              <a:off x="3419640" y="1844640"/>
              <a:ext cx="5181120" cy="107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三 峡</a:t>
              </a:r>
              <a:endParaRPr b="1" lang="en-US" sz="6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125960" y="3313800"/>
              <a:ext cx="365004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黑体"/>
                </a:rPr>
                <a:t>郦道元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68680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  <a:ea typeface="华文新魏"/>
              </a:rPr>
              <a:t>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朗读的节奏。如停顿、重音、声调等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　 这篇文章虽短，但波澜起伏、节奏感强。写山势文气舒缓，写江水暴涨，如异峰突起，文气急促，写冬春之景，文气变得凄清、悲凉，节奏变得沉重凝滞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55640" y="333360"/>
            <a:ext cx="33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朗读指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8036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1480" y="25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189000"/>
            <a:ext cx="8497800" cy="4480920"/>
          </a:xfrm>
          <a:prstGeom prst="rect">
            <a:avLst/>
          </a:prstGeom>
          <a:solidFill>
            <a:srgbClr val="ff0000">
              <a:alpha val="53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自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三峡七百里中，两岸连山，略无阙处；重岩叠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嶂，隐天蔽日，自非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亭午夜分，不见曦月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至于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夏水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襄陵，沿溯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阻绝。或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王命急宣，有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朝发白帝，暮到江陵，其间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千二百里，虽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乘奔御风，不以疾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春冬之时，则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素湍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绿潭，回清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倒影。绝巘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多生怪柏，悬泉瀑布，飞潄其间，清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荣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峻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茂，良多趣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每至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睛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霜旦，林寒涧肃，常有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高猿长啸，属引凄异，空谷传响，哀转久绝。故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渔者歌曰：“巴东三峡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巫峡长，猿鸣三声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泪沾裳！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55640" y="177336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8800" spc="-1" strike="noStrike">
                <a:solidFill>
                  <a:srgbClr val="ffcc00"/>
                </a:solidFill>
                <a:latin typeface="黑体"/>
                <a:ea typeface="黑体"/>
              </a:rPr>
              <a:t>疏通课文，了解文章大意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8366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自三峡七百里中，两岸连山，略无阙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2096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1916280"/>
          <a:ext cx="609480" cy="53316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651640" y="1989000"/>
          <a:ext cx="1512720" cy="45540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完全没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7848720" y="22860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020000" y="1989000"/>
          <a:ext cx="1882800" cy="457200"/>
        </p:xfrm>
        <a:graphic>
          <a:graphicData uri="http://schemas.openxmlformats.org/drawingml/2006/table">
            <a:tbl>
              <a:tblPr/>
              <a:tblGrid>
                <a:gridCol w="1882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同“缺”空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762120" y="3809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翻译：在七百里长的三峡之中，  两岸群山连绵，没有一点空缺的地方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16002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16720" y="162864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10280" y="16002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48428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26920" y="4762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重岩叠嶂，隐天蔽日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1143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619280" y="1413000"/>
          <a:ext cx="4392360" cy="609480"/>
        </p:xfrm>
        <a:graphic>
          <a:graphicData uri="http://schemas.openxmlformats.org/drawingml/2006/table">
            <a:tbl>
              <a:tblPr/>
              <a:tblGrid>
                <a:gridCol w="4392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直立像屏障的山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611280" y="4076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翻译：重重叠叠的岩峰像屏嶂一样，遮盖住了蓝天和太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84360" y="105264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2421000"/>
            <a:ext cx="91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imes New Roman"/>
                <a:ea typeface="黑体"/>
              </a:rPr>
              <a:t>正常语序：重叠岩嶂，隐蔽天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87280" y="990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自非亭午夜分，不见曦月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1981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76360" y="2133720"/>
          <a:ext cx="1079640" cy="5173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如果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2771640" y="1989000"/>
          <a:ext cx="1368360" cy="5778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正午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8360" y="2060640"/>
          <a:ext cx="1439640" cy="53316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太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684360" y="4581360"/>
            <a:ext cx="74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翻译：如果不是正午，看不见太阳；如果不是半夜，看不见月亮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76360" y="170028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411280" y="169956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71640" y="170028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508720" y="162864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2924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imes New Roman"/>
                <a:ea typeface="黑体"/>
              </a:rPr>
              <a:t>正常语序：自非亭午不见曦，自非夜分不见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187280" y="1052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至于夏水襄陵， 沿溯阻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2209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050920" y="1989000"/>
          <a:ext cx="2105280" cy="517680"/>
        </p:xfrm>
        <a:graphic>
          <a:graphicData uri="http://schemas.openxmlformats.org/drawingml/2006/table">
            <a:tbl>
              <a:tblPr/>
              <a:tblGrid>
                <a:gridCol w="210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漫上山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27640" y="1989000"/>
          <a:ext cx="1728720" cy="51768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顺流而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6012000" y="1989000"/>
          <a:ext cx="2089080" cy="57816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逆流而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1187280" y="3645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c600"/>
                </a:solidFill>
                <a:latin typeface="Times New Roman"/>
                <a:ea typeface="黑体"/>
              </a:rPr>
              <a:t>翻译：到了夏天，江水暴涨，漫上两岸的山陵，上下航行的船都阻隔断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067280" y="169956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64000" y="170028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19640" y="170028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80000" y="170028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62064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  <a:ea typeface="黑体"/>
              </a:rPr>
              <a:t>或王命急宣，有时朝发白帝，暮到江陵，其间千二百里，虽乘奔御风，不以疾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30481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68360" y="189000"/>
          <a:ext cx="504720" cy="50472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716360" y="2349360"/>
          <a:ext cx="930240" cy="487440"/>
        </p:xfrm>
        <a:graphic>
          <a:graphicData uri="http://schemas.openxmlformats.org/drawingml/2006/table">
            <a:tbl>
              <a:tblPr/>
              <a:tblGrid>
                <a:gridCol w="93024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即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724360" y="2349360"/>
          <a:ext cx="1727280" cy="50472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奔驰的骏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8534160" y="2666880"/>
          <a:ext cx="228960" cy="517680"/>
        </p:xfrm>
        <a:graphic>
          <a:graphicData uri="http://schemas.openxmlformats.org/drawingml/2006/table">
            <a:tbl>
              <a:tblPr/>
              <a:tblGrid>
                <a:gridCol w="22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>
            <a:off x="539640" y="32130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翻译：（如）有皇帝的命令要紧急宣布，（则）有时 早上从白帝城出发，傍晚就到了江陵，这中间有</a:t>
            </a: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1200</a:t>
            </a:r>
            <a:r>
              <a:rPr b="1" lang="zh-CN" sz="4000" spc="-1" strike="noStrike">
                <a:solidFill>
                  <a:srgbClr val="00c600"/>
                </a:solidFill>
                <a:latin typeface="黑体"/>
                <a:ea typeface="黑体"/>
              </a:rPr>
              <a:t>里，即使是骑着奔驰的骏马，驾着长风，也不如船行得快啊</a:t>
            </a:r>
            <a:r>
              <a:rPr b="1" lang="zh-CN" sz="40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076720" y="191628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19280" y="184464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1268280"/>
            <a:ext cx="15264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6360" y="184464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72360" y="184464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7956720" y="2276640"/>
          <a:ext cx="858600" cy="487080"/>
        </p:xfrm>
        <a:graphic>
          <a:graphicData uri="http://schemas.openxmlformats.org/drawingml/2006/table">
            <a:tbl>
              <a:tblPr/>
              <a:tblGrid>
                <a:gridCol w="8586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不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539640" y="2492280"/>
            <a:ext cx="15264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076720" y="189000"/>
          <a:ext cx="5977080" cy="64764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代词，代白帝和江陵之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50920" y="549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  <a:ea typeface="黑体"/>
              </a:rPr>
              <a:t>春冬之时，则素湍绿潭，回清倒影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25146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87640" y="1484280"/>
          <a:ext cx="1816200" cy="577800"/>
        </p:xfrm>
        <a:graphic>
          <a:graphicData uri="http://schemas.openxmlformats.org/drawingml/2006/table">
            <a:tbl>
              <a:tblPr/>
              <a:tblGrid>
                <a:gridCol w="1816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急流的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5651640" y="1484280"/>
          <a:ext cx="2361960" cy="57780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回旋着清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1258920" y="328464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翻译：春冬季节，白色的急流，回旋着清波；碧绿的深潭，映出了（山石林木的）倒影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67280" y="11970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084720" y="119628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8000" y="11970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572000" y="2276640"/>
          <a:ext cx="1008000" cy="57780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深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5076720" y="11970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68360" y="1484280"/>
          <a:ext cx="1816200" cy="1065240"/>
        </p:xfrm>
        <a:graphic>
          <a:graphicData uri="http://schemas.openxmlformats.org/drawingml/2006/table">
            <a:tbl>
              <a:tblPr/>
              <a:tblGrid>
                <a:gridCol w="181620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助词，可不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1476360" y="11970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95280" y="620640"/>
            <a:ext cx="82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绝山献多生怪柏，悬泉瀑布，飞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其间，清荣峻茂，良多趣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2895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684360" y="189000"/>
          <a:ext cx="2361960" cy="57780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极高的山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7308720" y="1557360"/>
          <a:ext cx="1143000" cy="5889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冲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395280" y="3284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翻译：极高的山峰上长着许多奇形怪状的古柏，悬挂着泉水瀑布，从它们中间冲荡下来，水清，树茂，山高，草盛，实在是趣味无穷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4360" y="112536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812000" y="1341360"/>
            <a:ext cx="15264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84360" y="119628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403280" y="119628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50920" y="2421000"/>
          <a:ext cx="4500360" cy="577800"/>
        </p:xfrm>
        <a:graphic>
          <a:graphicData uri="http://schemas.openxmlformats.org/drawingml/2006/table">
            <a:tbl>
              <a:tblPr/>
              <a:tblGrid>
                <a:gridCol w="4500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代词，代怪柏之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 flipV="1">
            <a:off x="611280" y="2276640"/>
            <a:ext cx="144360" cy="142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4716360" y="2565360"/>
          <a:ext cx="1143000" cy="5778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的确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 flipV="1">
            <a:off x="4788000" y="22759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 rot="16200000">
            <a:off x="5827680" y="-9360"/>
            <a:ext cx="85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549360"/>
            <a:ext cx="62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647400">
            <a:off x="2266560" y="690480"/>
            <a:ext cx="390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rcRect l="0" t="0" r="0" b="16131"/>
          <a:stretch/>
        </p:blipFill>
        <p:spPr>
          <a:xfrm>
            <a:off x="0" y="69228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132000" y="115920"/>
            <a:ext cx="2592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三峡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11280" y="907920"/>
            <a:ext cx="80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每至晴初霜旦 ，林寒涧肃，常有高猿长啸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177336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580000" y="1844640"/>
          <a:ext cx="1871640" cy="5778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寂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380880" y="23623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916360" y="1844640"/>
          <a:ext cx="1366560" cy="647640"/>
        </p:xfrm>
        <a:graphic>
          <a:graphicData uri="http://schemas.openxmlformats.org/drawingml/2006/table">
            <a:tbl>
              <a:tblPr/>
              <a:tblGrid>
                <a:gridCol w="13665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早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611280" y="37162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翻译：每逢秋雨初晴或降霜的早晨，树林山涧里一片清冷寂静，常常有一些高处的猿猴拉长了声音在叫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19640" y="155736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84720" y="155736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84720" y="1557360"/>
            <a:ext cx="14472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5280" y="2781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10199"/>
                </a:solidFill>
                <a:latin typeface="Times New Roman"/>
                <a:ea typeface="黑体"/>
              </a:rPr>
              <a:t>林寒涧肃”正常语序为“林涧寒肃</a:t>
            </a:r>
            <a:r>
              <a:rPr b="1" lang="zh-CN" sz="4000" spc="-1" strike="noStrike">
                <a:solidFill>
                  <a:srgbClr val="010199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9640" y="836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属引凄异，空谷传响，哀转久绝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1828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95280" y="2133720"/>
          <a:ext cx="1150920" cy="577800"/>
        </p:xfrm>
        <a:graphic>
          <a:graphicData uri="http://schemas.openxmlformats.org/drawingml/2006/table">
            <a:tbl>
              <a:tblPr/>
              <a:tblGrid>
                <a:gridCol w="115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连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572000" y="2060640"/>
          <a:ext cx="1439640" cy="57780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回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755640" y="386064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翻译：叫声连续不断，音调凄凉怪异，空荡的山谷里传来了回声，悲哀婉转，很长时间才消失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6920" y="1628640"/>
            <a:ext cx="14796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03280" y="1557360"/>
            <a:ext cx="14760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51640" y="1700280"/>
            <a:ext cx="149400" cy="1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7080" y="1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延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32360" y="1628640"/>
            <a:ext cx="144360" cy="147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40016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消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50920" y="7621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故渔者歌曰：巴东三峡巫峡长，猿鸣三 声 泪沾裳！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4000" y="4076640"/>
            <a:ext cx="86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翻译：所以打渔的人唱道：“巴东三峡巫峡长，猿鸣几声泪沾裳！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1981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95280" y="260280"/>
          <a:ext cx="1081080" cy="60984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所以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684360" y="1341360"/>
            <a:ext cx="14760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1989000"/>
            <a:ext cx="14292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468360" y="2637000"/>
          <a:ext cx="2700360" cy="1064880"/>
        </p:xfrm>
        <a:graphic>
          <a:graphicData uri="http://schemas.openxmlformats.org/drawingml/2006/table">
            <a:tbl>
              <a:tblPr/>
              <a:tblGrid>
                <a:gridCol w="2700360"/>
              </a:tblGrid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这里不是确数，几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1042920" y="1989000"/>
            <a:ext cx="144360" cy="1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文言现象一：古今异义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或王命急宣 （或 古义：有时 　　今义：常用于选择复句的关联词） 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至于夏水襄陵 （至于 古义：一个动词“到”和一个介词“于”【 连词】承上启下 　　今义：常连在一起，表示另提一事） 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虽乘奔御风 （虽 古义：即使 　　今义：虽然） 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泪沾裳（裳 古义：古人的下衣 　　今义：衣服） 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以疾也 （疾 古义：快 　　今义：疾病） 　　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非亭午夜分 （自 古义：如果 　　今义：自己）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文言现象二：一词多义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①自：自三峡七百里中（在，从） 　　自非亭午夜分（如果） 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②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绝：沿溯阻绝（断绝） 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绝巘（写作“山献”）多生怪柏（极，最） 　　哀转久绝（消失） 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③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清：回清倒影（清波） 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清荣峻茂（水清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文言现象三：通假字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　①略无阙处（“阙”通“缺”，空缺 这里指中断） 　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②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哀转久绝（“转”通“啭”，声音曲折）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文言现象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四：词类活用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　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虽乘奔御风，不以疾也。（奔：动词用作名词，奔驰的快马） 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回清倒影（清：形容词用作名词，清波） 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晴初霜旦（霜：名词用作动词，降霜） 　　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④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空谷传响（空谷：名词作状语，在空荡的山谷里） 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素湍绿潭（湍：形容词用作名词，指急流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思考题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三峡的“峡”是何含义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2781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两山夹着的水道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0200" y="4149720"/>
            <a:ext cx="87138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章是按怎样的顺序描写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章描写了哪些季节的景物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371600" y="1219320"/>
            <a:ext cx="3200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85800" y="1219320"/>
          <a:ext cx="3885840" cy="760320"/>
        </p:xfrm>
        <a:graphic>
          <a:graphicData uri="http://schemas.openxmlformats.org/drawingml/2006/table">
            <a:tbl>
              <a:tblPr/>
              <a:tblGrid>
                <a:gridCol w="38858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Bookman Old Style"/>
                          <a:ea typeface="黑体"/>
                        </a:rPr>
                        <a:t>三峡两岸的山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85800" y="2362320"/>
          <a:ext cx="3962160" cy="7603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三峡的夏水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685800" y="3733920"/>
          <a:ext cx="4114800" cy="76176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三峡的春冬景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685800" y="4952880"/>
          <a:ext cx="4114800" cy="7606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0000"/>
                          </a:solidFill>
                          <a:latin typeface="Tahoma"/>
                          <a:ea typeface="黑体"/>
                        </a:rPr>
                        <a:t>三峡的秋天景象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4885560" y="1916280"/>
            <a:ext cx="18262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三峡风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18280" y="1523880"/>
            <a:ext cx="79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539640" y="1052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课文按怎样的思路行文的？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4000" y="1916280"/>
            <a:ext cx="864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文章先写三峡地貌，重点写山，然后又分别描绘了四季的景象，先写夏季三峡的江水；再写春冬三峡的景色，最后写三峡秋天的景色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066680" y="1219320"/>
            <a:ext cx="3048120" cy="4230360"/>
            <a:chOff x="1066680" y="1219320"/>
            <a:chExt cx="3048120" cy="4230360"/>
          </a:xfrm>
        </p:grpSpPr>
        <p:grpSp>
          <p:nvGrpSpPr>
            <p:cNvPr id="318" name=""/>
            <p:cNvGrpSpPr/>
            <p:nvPr/>
          </p:nvGrpSpPr>
          <p:grpSpPr>
            <a:xfrm>
              <a:off x="1068120" y="1225800"/>
              <a:ext cx="3044880" cy="4216680"/>
              <a:chOff x="1068120" y="1225800"/>
              <a:chExt cx="3044880" cy="42166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068120" y="1225800"/>
                <a:ext cx="3044880" cy="4216320"/>
                <a:chOff x="1068120" y="1225800"/>
                <a:chExt cx="3044880" cy="42163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068120" y="1225800"/>
                  <a:ext cx="2808360" cy="357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068120" y="1225800"/>
                  <a:ext cx="3044880" cy="42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                                  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1068120" y="1225800"/>
                <a:ext cx="3044880" cy="4216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6680" y="1219320"/>
              <a:ext cx="3048120" cy="423036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638600" cy="573264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5334120" y="1219320"/>
            <a:ext cx="2590560" cy="4190400"/>
            <a:chOff x="5334120" y="1219320"/>
            <a:chExt cx="2590560" cy="4190400"/>
          </a:xfrm>
        </p:grpSpPr>
        <p:grpSp>
          <p:nvGrpSpPr>
            <p:cNvPr id="326" name=""/>
            <p:cNvGrpSpPr/>
            <p:nvPr/>
          </p:nvGrpSpPr>
          <p:grpSpPr>
            <a:xfrm>
              <a:off x="5335560" y="1226520"/>
              <a:ext cx="2587680" cy="4175280"/>
              <a:chOff x="5335560" y="1226520"/>
              <a:chExt cx="2587680" cy="417528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335560" y="1226520"/>
                <a:ext cx="2587680" cy="4174920"/>
                <a:chOff x="5335560" y="1226520"/>
                <a:chExt cx="2587680" cy="41749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335560" y="1226520"/>
                  <a:ext cx="2386440" cy="39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335560" y="1226520"/>
                  <a:ext cx="2587680" cy="41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44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                             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335560" y="1226520"/>
                <a:ext cx="2587680" cy="417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334120" y="1219320"/>
              <a:ext cx="2590560" cy="41904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915080" y="1125360"/>
            <a:ext cx="4228920" cy="5732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916360" y="47628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260280"/>
            <a:ext cx="77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黑体"/>
                <a:ea typeface="黑体"/>
              </a:rPr>
              <a:t>瞿塘峡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最短  最狭  最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50920" y="1125000"/>
            <a:ext cx="5651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 Black"/>
                <a:ea typeface="黑体"/>
              </a:rPr>
              <a:t>三峡山貌的句子有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1640" y="2781000"/>
            <a:ext cx="4103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自三峡七百里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重岩叠嶂，隐天蔽日。不见曦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384720" cy="6237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5580000" y="350028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0080" y="549000"/>
            <a:ext cx="90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 Black"/>
                <a:ea typeface="黑体"/>
              </a:rPr>
              <a:t>描写夏季江水的句子？</a:t>
            </a:r>
            <a:endParaRPr b="0" lang="en-US" sz="48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15" name=""/>
          <p:cNvSpPr/>
          <p:nvPr/>
        </p:nvSpPr>
        <p:spPr>
          <a:xfrm>
            <a:off x="5508720" y="2205000"/>
            <a:ext cx="3313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至于夏水襄陵，沿溯阻绝。……不以疾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400360" cy="4824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3095640" cy="54007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3924360" y="1413000"/>
            <a:ext cx="477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 Black"/>
                <a:ea typeface="黑体"/>
              </a:rPr>
              <a:t>春冬景色的句子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80000" y="3213000"/>
            <a:ext cx="48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春冬之时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-----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清荣峻茂，良多趣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11640" cy="4753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11280" y="148428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 Black"/>
                <a:ea typeface="黑体"/>
              </a:rPr>
              <a:t>秋季景色的句子</a:t>
            </a:r>
            <a:r>
              <a:rPr b="1" lang="zh-CN" sz="4400" spc="-1" strike="noStrike">
                <a:solidFill>
                  <a:srgbClr val="800080"/>
                </a:solidFill>
                <a:latin typeface="Arial Black"/>
                <a:ea typeface="楷体_GB2312"/>
              </a:rPr>
              <a:t>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8360" y="3573360"/>
            <a:ext cx="482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每至晴初霜旦林寒涧肃……泪沾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116000" y="260280"/>
            <a:ext cx="38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说说下列句子表现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三峡的什么特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8360" y="14842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自非亭午夜分，不见曦月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" y="285264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侧面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渲染山峰的高峻、江面的狭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539640" y="4292640"/>
            <a:ext cx="46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第一句写山的长、多。“＿＿＿”可见其长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＿＿”可见其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第二、三句写山的 ＿、＿，以及江面的狭窄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为下文写夏水的迅猛作铺垫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4292640"/>
            <a:ext cx="10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七百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00360" y="51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03640" y="515772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95280" y="333360"/>
            <a:ext cx="46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虽乘奔御风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以疾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1700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用对比的方法表现夏日江水的迅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35053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580000" y="3565440"/>
            <a:ext cx="3564000" cy="32925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446840" y="2924280"/>
            <a:ext cx="313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层写三峡的夏水。顺上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山势高、江面窄，写的是最盛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夏水，表现江水凶险的词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＿＿” 、“＿＿”，表现江水迅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句子是“＿＿＿＿＿＿＿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＿＿＿＿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使人感到惊心动魄，豪气万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436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襄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11280" y="40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阻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24000" y="4437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虽乘奔御风，不以疾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84360" y="404640"/>
            <a:ext cx="354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素湍潭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回清倒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16000" y="1916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表现三峡山水的壮美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23984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3357720"/>
            <a:ext cx="47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黑体"/>
              </a:rPr>
              <a:t>第三层写三峡的春冬景色。文气由紧张变得轻松，向人们展现了一幅有动有静、色彩斑斓的山水画卷。“＿＿＿＿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黑体"/>
              </a:rPr>
              <a:t>＿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黑体"/>
              </a:rPr>
              <a:t>”是作者由衷的感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95640" y="530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良多趣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79280" y="333360"/>
            <a:ext cx="51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每至晴初霜旦，林寒涧肃，常有高猿长啸，属引凄异，空谷传响，哀转久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86064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渲染了寒秋三峡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悲寂、凄凉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的气氛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788000" y="0"/>
            <a:ext cx="4356000" cy="6857640"/>
            <a:chOff x="4788000" y="0"/>
            <a:chExt cx="4356000" cy="6857640"/>
          </a:xfrm>
        </p:grpSpPr>
        <p:pic>
          <p:nvPicPr>
            <p:cNvPr id="549" name="" descr=""/>
            <p:cNvPicPr/>
            <p:nvPr/>
          </p:nvPicPr>
          <p:blipFill>
            <a:blip r:embed="rId1"/>
            <a:stretch/>
          </p:blipFill>
          <p:spPr>
            <a:xfrm>
              <a:off x="4788000" y="0"/>
              <a:ext cx="4356000" cy="6857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2"/>
            <a:stretch/>
          </p:blipFill>
          <p:spPr>
            <a:xfrm>
              <a:off x="4914720" y="244800"/>
              <a:ext cx="4102200" cy="6368040"/>
            </a:xfrm>
            <a:prstGeom prst="rect">
              <a:avLst/>
            </a:prstGeom>
            <a:ln w="38160">
              <a:solidFill>
                <a:srgbClr val="3357bd"/>
              </a:solidFill>
              <a:miter/>
            </a:ln>
          </p:spPr>
        </p:pic>
      </p:grpSp>
    </p:spTree>
  </p:cSld>
  <p:transition>
    <p:cover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4427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5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巴东三峡巫峡长，猿鸣三声泪沾裳”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84360" y="3284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从侧面表现了三峡渔民船夫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悲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生活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324000" y="549360"/>
            <a:ext cx="8424360" cy="1367640"/>
            <a:chOff x="324000" y="549360"/>
            <a:chExt cx="8424360" cy="1367640"/>
          </a:xfrm>
        </p:grpSpPr>
        <p:sp>
          <p:nvSpPr>
            <p:cNvPr id="555" name=""/>
            <p:cNvSpPr/>
            <p:nvPr/>
          </p:nvSpPr>
          <p:spPr>
            <a:xfrm>
              <a:off x="324000" y="549360"/>
              <a:ext cx="8424360" cy="136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Arial Black"/>
                  <a:ea typeface="黑体"/>
                </a:rPr>
                <a:t>三峡地貌总体特点是什么？四季各有什么特点？请从文中概括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4000" y="549360"/>
              <a:ext cx="8424360" cy="1367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68360" y="2060640"/>
            <a:ext cx="8029440" cy="3238920"/>
            <a:chOff x="468360" y="2060640"/>
            <a:chExt cx="8029440" cy="3238920"/>
          </a:xfrm>
        </p:grpSpPr>
        <p:sp>
          <p:nvSpPr>
            <p:cNvPr id="558" name=""/>
            <p:cNvSpPr/>
            <p:nvPr/>
          </p:nvSpPr>
          <p:spPr>
            <a:xfrm>
              <a:off x="468360" y="2060640"/>
              <a:ext cx="8029440" cy="32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山特点：长，多，高峻（正面，侧面）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夏季：迅猛，凶险　　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春冬：清荣峻茂　　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秋：悲寂、凄凉。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8360" y="2060640"/>
              <a:ext cx="8029440" cy="3238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Wx09.JPG (7586 字节)"/>
          <p:cNvPicPr/>
          <p:nvPr/>
        </p:nvPicPr>
        <p:blipFill>
          <a:blip r:embed="rId2"/>
          <a:stretch/>
        </p:blipFill>
        <p:spPr>
          <a:xfrm>
            <a:off x="0" y="1268280"/>
            <a:ext cx="4737240" cy="5589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Wx22.JPG (14159 字节)"/>
          <p:cNvPicPr/>
          <p:nvPr/>
        </p:nvPicPr>
        <p:blipFill>
          <a:blip r:embed="rId3"/>
          <a:stretch/>
        </p:blipFill>
        <p:spPr>
          <a:xfrm>
            <a:off x="4951440" y="1268280"/>
            <a:ext cx="4192560" cy="5589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908000" y="33336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黑体"/>
                <a:ea typeface="黑体"/>
              </a:rPr>
              <a:t>巫峡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幽深  秀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总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三峡四季景物各有什          么特点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588000" y="1125360"/>
            <a:ext cx="24116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山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重岩叠嶂隐天蔽日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59640" y="3789360"/>
            <a:ext cx="30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雄壮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924360" y="3068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奔放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87280" y="1700280"/>
            <a:ext cx="2592720" cy="2016000"/>
          </a:xfrm>
          <a:prstGeom prst="rightArrowCallout">
            <a:avLst>
              <a:gd name="adj1" fmla="val 25002"/>
              <a:gd name="adj2" fmla="val 25000"/>
              <a:gd name="adj3" fmla="val 21435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87280" y="2421000"/>
            <a:ext cx="3384720" cy="2520720"/>
          </a:xfrm>
          <a:prstGeom prst="rightArrowCallout">
            <a:avLst>
              <a:gd name="adj1" fmla="val 25002"/>
              <a:gd name="adj2" fmla="val 25000"/>
              <a:gd name="adj3" fmla="val 22379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9640" y="2276640"/>
            <a:ext cx="3888000" cy="2808000"/>
          </a:xfrm>
          <a:prstGeom prst="rightArrowCallout">
            <a:avLst>
              <a:gd name="adj1" fmla="val 25002"/>
              <a:gd name="adj2" fmla="val 25000"/>
              <a:gd name="adj3" fmla="val 23077"/>
              <a:gd name="adj4" fmla="val 66667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夏水襄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沿溯阻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rcRect l="0" t="22310" r="0" b="0"/>
          <a:stretch/>
        </p:blipFill>
        <p:spPr>
          <a:xfrm>
            <a:off x="-228600" y="0"/>
            <a:ext cx="3168720" cy="70642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6084720" y="-243000"/>
            <a:ext cx="3059280" cy="71010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rcRect l="3125" t="0" r="0" b="0"/>
          <a:stretch/>
        </p:blipFill>
        <p:spPr>
          <a:xfrm>
            <a:off x="2916360" y="0"/>
            <a:ext cx="316836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6012000" y="2276640"/>
            <a:ext cx="4392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悬泉瀑布                 飞漱其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59280" y="5445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清幽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2565360"/>
            <a:ext cx="2843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多生怪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01840" y="1628640"/>
            <a:ext cx="25448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素湍碧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172200" y="2514600"/>
            <a:ext cx="362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林寒涧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高猿长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4572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凄婉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250920" y="4149720"/>
            <a:ext cx="362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林寒涧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高猿长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8784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618520" y="53402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黑体"/>
              </a:rPr>
              <a:t>凄婉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68360" y="1628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本文写了三峡的哪些景物？抓住了景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物的什么特点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97240" y="3376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97240" y="5032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05120" y="3213000"/>
            <a:ext cx="44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两岸连山，略无阙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76360" y="3789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重岩叠嶂，隐天蔽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5120" y="4437000"/>
            <a:ext cx="43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夏水襄陵，沿溯阻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5084640"/>
            <a:ext cx="50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素湍绿潭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清荣峻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5120" y="5734080"/>
            <a:ext cx="48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林寒涧肃，哀转久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50920" y="33577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50920" y="47242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156360" y="34290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27640" y="3429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雄奇险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88000" y="4365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奔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43640" y="501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清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59640" y="566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凄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9640" y="620640"/>
            <a:ext cx="23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332000" y="404640"/>
            <a:ext cx="302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黑体"/>
              </a:rPr>
              <a:t>总结三峡的特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黑体"/>
              <a:ea typeface="黑体"/>
            </a:endParaRPr>
          </a:p>
        </p:txBody>
      </p:sp>
    </p:spTree>
  </p:cSld>
  <p:transition>
    <p:circl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84360" y="2276640"/>
            <a:ext cx="79214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800080"/>
                </a:solidFill>
                <a:latin typeface="黑体"/>
                <a:ea typeface="黑体"/>
              </a:rPr>
              <a:t>文章为什么不按春夏秋冬四季更迭的顺序写景，而要先写夏景，并将春冬二季合为一体呢</a:t>
            </a:r>
            <a:r>
              <a:rPr b="1" lang="zh-CN" sz="4000" spc="-1" strike="noStrike">
                <a:solidFill>
                  <a:srgbClr val="80008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800080"/>
                </a:solidFill>
                <a:latin typeface="Arial Black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9640" y="907920"/>
            <a:ext cx="8064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 Black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800080"/>
                </a:solidFill>
                <a:latin typeface="Arial Black"/>
                <a:ea typeface="黑体"/>
              </a:rPr>
              <a:t>作者是如何抓住特点描写三峡的四季之景呢？</a:t>
            </a:r>
            <a:r>
              <a:rPr b="1" lang="zh-CN" sz="4000" spc="-1" strike="noStrike">
                <a:solidFill>
                  <a:srgbClr val="800080"/>
                </a:solidFill>
                <a:latin typeface="Arial Black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2276640"/>
            <a:ext cx="785016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写春冬之景从色彩的角度描写，如“素湍绿潭”，动静结合的手法，如“回清倒影”、“飞溯其间”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同时 “素湍绿潭”一句是从俯视的角度写的，“绝多生怪柏”是从仰视的角度写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55640" y="907920"/>
            <a:ext cx="7632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因为三峡的水最具特色，而水又以夏水最盛，长江在三峡段的迅疾凶险之特征亦体现得尤为突出，故作者将“夏水”置于首位。相较而言，春冬二季的长江皆有“清荣峻茂“的盎然情趣。故而合为一体描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971640" y="1557360"/>
            <a:ext cx="73454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800080"/>
                </a:solidFill>
                <a:latin typeface="黑体"/>
                <a:ea typeface="黑体"/>
              </a:rPr>
              <a:t>文中曾写道“至于夏水襄陵，沿溯阻绝”，但接下来又说“朝发白帝，暮到江陵”，这是否自相矛盾</a:t>
            </a:r>
            <a:r>
              <a:rPr b="1" lang="zh-CN" sz="4800" spc="-1" strike="noStrike">
                <a:solidFill>
                  <a:srgbClr val="800080"/>
                </a:solidFill>
                <a:latin typeface="黑体"/>
                <a:ea typeface="黑体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838080" y="1828800"/>
            <a:ext cx="3124440" cy="3733560"/>
            <a:chOff x="838080" y="1828800"/>
            <a:chExt cx="3124440" cy="3733560"/>
          </a:xfrm>
        </p:grpSpPr>
        <p:grpSp>
          <p:nvGrpSpPr>
            <p:cNvPr id="339" name=""/>
            <p:cNvGrpSpPr/>
            <p:nvPr/>
          </p:nvGrpSpPr>
          <p:grpSpPr>
            <a:xfrm>
              <a:off x="839520" y="1836000"/>
              <a:ext cx="3121200" cy="3718080"/>
              <a:chOff x="839520" y="1836000"/>
              <a:chExt cx="3121200" cy="3718080"/>
            </a:xfrm>
          </p:grpSpPr>
          <p:sp>
            <p:nvSpPr>
              <p:cNvPr id="340" name=""/>
              <p:cNvSpPr/>
              <p:nvPr/>
            </p:nvSpPr>
            <p:spPr>
              <a:xfrm>
                <a:off x="839520" y="1836000"/>
                <a:ext cx="3121200" cy="37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1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39520" y="1836000"/>
                <a:ext cx="3121200" cy="371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838080" y="1828800"/>
              <a:ext cx="3124440" cy="373356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4316400" cy="515772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4952880" y="1828800"/>
            <a:ext cx="3353040" cy="3733560"/>
            <a:chOff x="4952880" y="1828800"/>
            <a:chExt cx="3353040" cy="3733560"/>
          </a:xfrm>
        </p:grpSpPr>
        <p:grpSp>
          <p:nvGrpSpPr>
            <p:cNvPr id="345" name=""/>
            <p:cNvGrpSpPr/>
            <p:nvPr/>
          </p:nvGrpSpPr>
          <p:grpSpPr>
            <a:xfrm>
              <a:off x="4954320" y="1837080"/>
              <a:ext cx="3349800" cy="3715560"/>
              <a:chOff x="4954320" y="1837080"/>
              <a:chExt cx="3349800" cy="3715560"/>
            </a:xfrm>
          </p:grpSpPr>
          <p:sp>
            <p:nvSpPr>
              <p:cNvPr id="346" name=""/>
              <p:cNvSpPr/>
              <p:nvPr/>
            </p:nvSpPr>
            <p:spPr>
              <a:xfrm>
                <a:off x="4954320" y="1837080"/>
                <a:ext cx="3349800" cy="371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12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54320" y="1837080"/>
                <a:ext cx="3349800" cy="3715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952880" y="1828800"/>
              <a:ext cx="3353040" cy="373356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513320" y="1700280"/>
            <a:ext cx="4630680" cy="5157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4360" y="333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Times New Roman"/>
                <a:ea typeface="黑体"/>
              </a:rPr>
              <a:t>西陵峡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42440" y="5857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滩多   水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755640" y="1197000"/>
            <a:ext cx="7850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前句是概述夏季江水的凶险，在通常情况下，船只因江水流速过急，不会冒险出发，但在“王命急宣”的情况下，船只一旦启航，便可“朝发白帝，暮到江陵”。作者正是通过一般和特殊这两种情况的对比性叙述，表现夏日的长江水势大，流速快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42920" y="1844640"/>
            <a:ext cx="69836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800080"/>
                </a:solidFill>
                <a:latin typeface="黑体"/>
                <a:ea typeface="黑体"/>
              </a:rPr>
              <a:t>本文结尾引用渔歌起到怎样的作用？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00000" y="3716280"/>
            <a:ext cx="7561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结尾引用渔歌更反衬了三峡的凄凉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762120" y="1565280"/>
            <a:ext cx="7619760" cy="3727440"/>
            <a:chOff x="762120" y="1565280"/>
            <a:chExt cx="7619760" cy="3727440"/>
          </a:xfrm>
        </p:grpSpPr>
        <p:grpSp>
          <p:nvGrpSpPr>
            <p:cNvPr id="609" name=""/>
            <p:cNvGrpSpPr/>
            <p:nvPr/>
          </p:nvGrpSpPr>
          <p:grpSpPr>
            <a:xfrm>
              <a:off x="765720" y="1569960"/>
              <a:ext cx="7611840" cy="3718080"/>
              <a:chOff x="765720" y="1569960"/>
              <a:chExt cx="7611840" cy="3718080"/>
            </a:xfrm>
          </p:grpSpPr>
          <p:sp>
            <p:nvSpPr>
              <p:cNvPr id="610" name=""/>
              <p:cNvSpPr/>
              <p:nvPr/>
            </p:nvSpPr>
            <p:spPr>
              <a:xfrm>
                <a:off x="765720" y="1569960"/>
                <a:ext cx="7611840" cy="37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zh-CN" sz="21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5720" y="1569960"/>
                <a:ext cx="7611840" cy="371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62120" y="1565280"/>
              <a:ext cx="7619760" cy="37274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284720" y="692280"/>
            <a:ext cx="40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黑体"/>
                <a:ea typeface="黑体"/>
              </a:rPr>
              <a:t>著名诗人李白有诗《朝发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57bd"/>
                </a:solidFill>
                <a:latin typeface="黑体"/>
                <a:ea typeface="黑体"/>
              </a:rPr>
              <a:t>帝城》，请从文中找出能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57bd"/>
                </a:solidFill>
                <a:latin typeface="黑体"/>
                <a:ea typeface="黑体"/>
              </a:rPr>
              <a:t>达此诗每句意思的句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38120" y="587520"/>
            <a:ext cx="208260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朝辞白帝彩云间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千里江陵一日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两岸猿声啼不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轻舟已过万重山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————————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76360" y="119700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Times New Roman"/>
                <a:ea typeface="黑体"/>
              </a:rPr>
              <a:t>朝发白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32000" y="2349360"/>
            <a:ext cx="23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Times New Roman"/>
                <a:ea typeface="黑体"/>
              </a:rPr>
              <a:t>其间千二百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26920" y="3573360"/>
            <a:ext cx="324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Times New Roman"/>
                <a:ea typeface="黑体"/>
              </a:rPr>
              <a:t>高猿长啸，属引凄异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Times New Roman"/>
                <a:ea typeface="黑体"/>
              </a:rPr>
              <a:t>空谷传响，哀转久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5229360"/>
            <a:ext cx="32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7bd"/>
                </a:solidFill>
                <a:latin typeface="Times New Roman"/>
                <a:ea typeface="黑体"/>
              </a:rPr>
              <a:t>虽乘奔御风不以疾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21988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1128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你能说出有关“三峡”的诗句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71640" y="2060640"/>
            <a:ext cx="75610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更立西江石壁，截断巫山云雨，高峡出平湖。神女应无恙，当惊世界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毛泽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即从巴峡穿巫峡，便下襄阳向洛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杜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白帝高为三峡镇，瞿塘险过百牢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杜甫</a:t>
            </a:r>
            <a:r>
              <a:rPr b="1" lang="zh-CN" sz="3200" spc="-1" strike="noStrike">
                <a:solidFill>
                  <a:srgbClr val="3357bd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11280" y="26028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拓展延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624" name=""/>
          <p:cNvSpPr/>
          <p:nvPr/>
        </p:nvSpPr>
        <p:spPr>
          <a:xfrm>
            <a:off x="900000" y="4869000"/>
            <a:ext cx="648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57bd"/>
                </a:solidFill>
                <a:latin typeface="Arial Black"/>
                <a:ea typeface="黑体"/>
              </a:rPr>
              <a:t>《夜雨寄北》</a:t>
            </a:r>
            <a:br>
              <a:rPr sz="4000"/>
            </a:br>
            <a:endParaRPr b="0" lang="en-US" sz="6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-252360" y="1700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（唐）李商隐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君问归期未有期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4400" spc="-1" strike="noStrike" u="sng">
                <a:solidFill>
                  <a:srgbClr val="ff6600"/>
                </a:solidFill>
                <a:uFillTx/>
                <a:latin typeface="黑体"/>
                <a:ea typeface="黑体"/>
                <a:hlinkClick r:id="rId1"/>
              </a:rPr>
              <a:t>巴山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夜雨涨秋池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何当共剪西窗烛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却话巴山夜雨时。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闻官军收河南河北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杜甫</a:t>
            </a:r>
            <a:r>
              <a:rPr b="0" lang="zh-CN" sz="4000" spc="-1" strike="noStrike">
                <a:solidFill>
                  <a:srgbClr val="3357bd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8423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剑外忽传收蓟北，初闻涕泪满衣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却看妻子愁何在，漫卷诗书喜欲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白日放歌须纵酒，青春作伴好还乡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57bd"/>
                </a:solidFill>
                <a:latin typeface="Arial"/>
                <a:ea typeface="黑体"/>
              </a:rPr>
              <a:t>即从巴峡穿巫峡，便下襄阳向洛阳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57bd"/>
                </a:solidFill>
                <a:latin typeface="Arial Black"/>
                <a:ea typeface="黑体"/>
              </a:rPr>
              <a:t>夔州歌</a:t>
            </a: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句（其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杜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巴之东巴东山，江水开辟流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57bd"/>
                </a:solidFill>
                <a:latin typeface="黑体"/>
                <a:ea typeface="黑体"/>
              </a:rPr>
              <a:t>白帝高为三峡镇，瞿塘险过百牢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57bd"/>
                </a:solidFill>
                <a:latin typeface="Arial Black"/>
                <a:ea typeface="黑体"/>
              </a:rPr>
              <a:t>秋兴八首</a:t>
            </a:r>
            <a:br>
              <a:rPr sz="4800"/>
            </a:br>
            <a:r>
              <a:rPr b="1" lang="zh-CN" sz="4800" spc="-1" strike="noStrike">
                <a:solidFill>
                  <a:srgbClr val="3357bd"/>
                </a:solidFill>
                <a:latin typeface="Arial Black"/>
                <a:ea typeface="黑体"/>
              </a:rPr>
              <a:t>（其一）</a:t>
            </a:r>
            <a:r>
              <a:rPr b="0" lang="zh-CN" sz="4000" spc="-1" strike="noStrike">
                <a:solidFill>
                  <a:srgbClr val="3357bd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杜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玉露凋伤枫树林，巫山巫峡气萧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江间波浪兼天涌，塞上风云接地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丛菊两开他日泪，孤舟一系故园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寒在处处催刀尺，白帝城高急暮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57bd"/>
                </a:solidFill>
                <a:latin typeface="Arial Black"/>
                <a:ea typeface="黑体"/>
              </a:rPr>
              <a:t>入峡次巴东</a:t>
            </a:r>
            <a:br>
              <a:rPr sz="4400"/>
            </a:br>
            <a:r>
              <a:rPr b="1" lang="zh-CN" sz="4400" spc="-1" strike="noStrike">
                <a:solidFill>
                  <a:srgbClr val="3357bd"/>
                </a:solidFill>
                <a:latin typeface="Arial Black"/>
                <a:ea typeface="黑体"/>
              </a:rPr>
              <a:t>白居易</a:t>
            </a:r>
            <a:r>
              <a:rPr b="0" lang="zh-CN" sz="4000" spc="-1" strike="noStrike">
                <a:solidFill>
                  <a:srgbClr val="3357bd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知远郡何时到，犹喜全家此去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万里工程三峡外，百年生计一舟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巫山暮足沾花雨，陇水春多逆浪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两片红旌数声鼓，使君艛艓上巴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7399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95640" y="2700360"/>
            <a:ext cx="5148360" cy="4157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0" y="3078000"/>
            <a:ext cx="3995640" cy="3780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00720" cy="31510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晓行巴峡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白居易</a:t>
            </a:r>
            <a:r>
              <a:rPr b="0" lang="zh-CN" sz="4000" spc="-1" strike="noStrike">
                <a:solidFill>
                  <a:srgbClr val="3357bd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际晓投巴峡，馀春忆帝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晴江一女浣，朝日众鸡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水国舟中市，山桥树杪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登高万井出，眺迥二流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人作殊方语，莺为故国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赖多山水趣，稍解别离情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57bd"/>
                </a:solidFill>
                <a:latin typeface="Arial Black"/>
                <a:ea typeface="黑体"/>
              </a:rPr>
              <a:t>巫山曲</a:t>
            </a:r>
            <a:br>
              <a:rPr sz="5400"/>
            </a:br>
            <a:endParaRPr b="0" lang="en-US" sz="5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江上峡重复重，阳台碧峭十二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荆王猎时蓬暮雨，夜卧高丘梦神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轻红流烟湿艳姿，行云飞去明星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极魂断望不见，猿啼三声泪滴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 Black"/>
                <a:ea typeface="黑体"/>
              </a:rPr>
              <a:t>三峡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Arial Black"/>
                <a:ea typeface="黑体"/>
              </a:rPr>
              <a:t>陆游</a:t>
            </a:r>
            <a:r>
              <a:rPr b="0" lang="zh-CN" sz="4000" spc="-1" strike="noStrike">
                <a:solidFill>
                  <a:srgbClr val="3357bd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692360" y="1916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十二巫山见九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船头彩翠满秋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朝云暮雨浑虚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一夜猿啼明月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85800" y="2286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8360" y="404640"/>
            <a:ext cx="17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三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工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934320" cy="38592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979640" y="476280"/>
            <a:ext cx="69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57bd"/>
                </a:solidFill>
                <a:latin typeface="黑体"/>
                <a:ea typeface="黑体"/>
              </a:rPr>
              <a:t>1992</a:t>
            </a:r>
            <a:r>
              <a:rPr b="1" lang="zh-CN" sz="3200" spc="-1" strike="noStrike">
                <a:solidFill>
                  <a:srgbClr val="3357bd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3357bd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57bd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3357bd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57bd"/>
                </a:solidFill>
                <a:latin typeface="黑体"/>
                <a:ea typeface="黑体"/>
              </a:rPr>
              <a:t>日，七届全国人大五次会议通过了兴建三峡工程的决议，举世瞩目的三峡工程正式动工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094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03120" y="333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帮帮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80920" y="549360"/>
            <a:ext cx="45878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88de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例句：秦时明月汉时关</a:t>
            </a:r>
            <a:r>
              <a:rPr b="1" lang="zh-CN" sz="3200" spc="-1" strike="noStrike">
                <a:solidFill>
                  <a:srgbClr val="5888de"/>
                </a:solidFill>
                <a:latin typeface="华文楷体"/>
                <a:ea typeface="华文楷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1752480"/>
            <a:ext cx="7694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“重岩迭嶂”可理解为“重叠岩嶂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“隐天蔽日”可理解为“隐蔽天日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“林寒涧肃”可理解为“林涧寒肃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“自非亭午夜分，不见曦月”可理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为“自非亭午，不见曦；自非夜分，　　不见月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“素湍绿潭，回清倒影”可理解为“素　　湍回清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绿潭倒影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57bd"/>
                </a:solidFill>
                <a:latin typeface="Arial Black"/>
                <a:ea typeface="黑体"/>
              </a:rPr>
              <a:t>归纳本文的主旨</a:t>
            </a:r>
            <a:endParaRPr b="0" lang="en-US" sz="6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作者通过对三峡形势和四季景色的描绘，显示了祖国河山的雄伟秀丽，表现了他热爱祖国河山的深厚感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　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郦道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466-527)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北魏地理学家、文学家。字善长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北魏地理学家、散文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范阳涿鹿（今河北涿鹿）人。他好学博览，文笔深峭，在各地“访渎搜渠”留心考索水道变迁和城邑兴废等地理现象，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撰成的《水经注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是一本有文学价值的地理巨著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k5" descr=""/>
          <p:cNvPicPr/>
          <p:nvPr/>
        </p:nvPicPr>
        <p:blipFill>
          <a:blip r:embed="rId2"/>
          <a:stretch/>
        </p:blipFill>
        <p:spPr>
          <a:xfrm>
            <a:off x="1835280" y="4491000"/>
            <a:ext cx="2512800" cy="2367000"/>
          </a:xfrm>
          <a:prstGeom prst="rect">
            <a:avLst/>
          </a:prstGeom>
          <a:ln w="0">
            <a:noFill/>
          </a:ln>
        </p:spPr>
      </p:pic>
      <p:pic>
        <p:nvPicPr>
          <p:cNvPr id="359" name="k5-1" descr=""/>
          <p:cNvPicPr/>
          <p:nvPr/>
        </p:nvPicPr>
        <p:blipFill>
          <a:blip r:embed="rId3"/>
          <a:stretch/>
        </p:blipFill>
        <p:spPr>
          <a:xfrm>
            <a:off x="4932360" y="4622760"/>
            <a:ext cx="295128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关于《水经注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《水经注》：其他书名为《水经》，实则以《水经》为纲，详细记载了一千多条大小河流及有关的历史遗迹，人物掌故，神话传说等，是我国古代最全面，最系统的综合性地理著作。该书还记载了不少碑刻墨迹和渔歌民谣，文笔绚烂，语言清丽，具有较高的文化价值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6920" y="404640"/>
            <a:ext cx="295308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提醒读音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2205000"/>
            <a:ext cx="8569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阙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处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   ）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曦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沿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溯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素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绝</a:t>
            </a:r>
            <a:r>
              <a:rPr b="1" i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献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飞漱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1557360"/>
            <a:ext cx="12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quē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35733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s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40000" y="472428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yǎ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93080" y="2205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xī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7080" y="3716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Tuān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32720" y="47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sh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314172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03280" y="450864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16360" y="299736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19280" y="54450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92720" y="44370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54450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7:20:36Z</dcterms:created>
  <dc:creator>clinet</dc:creator>
  <dc:description/>
  <dc:language>en-US</dc:language>
  <cp:lastModifiedBy>lenovo</cp:lastModifiedBy>
  <dcterms:modified xsi:type="dcterms:W3CDTF">2012-11-07T00:07:54Z</dcterms:modified>
  <cp:revision>221</cp:revision>
  <dc:subject/>
  <dc:title>PowerPoint 演示文稿</dc:title>
</cp:coreProperties>
</file>