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move the slide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5A14-3A8A-4173-BA72-CE75FD0A94C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4996-3B4A-47B4-A4B0-F602272DFEAE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23F3-8B7A-4F00-BAD8-65AB1E14AC16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5D9E-2E84-4D3C-BFCB-3C74E5742C40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A3A3-BD04-420C-97C8-839174AC08EE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2C4A-84D8-41FF-BA22-B2577B90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9DD-19B3-49F3-BEC1-145127A4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B50-4159-4948-A6FF-A813AF32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A5DB-1097-4C4F-9EB9-E1EC532F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8C40-4C2C-4083-A7C8-40F1A218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63D6-8D56-451B-A53B-899FB21A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6F29-778C-49FA-BDDC-441C3B8B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B4D1-D599-460F-9828-4DE3B35B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6CC9-DC81-45BF-9FE5-362BB975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4AAB-3517-4742-8048-59418F4A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3BD7-EBFD-404F-8FEA-0930995C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ED1-4FFA-43EC-A4AC-BDF82271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61FC-395C-4865-A175-134AF7FA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F54A-467C-456A-B7B4-DD48708E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F02D-AA43-49AD-B5AB-8F5BE612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F712-5AFE-44C8-B8CA-1E22D789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AC6D-A205-4394-8575-FD6B7A25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7128B-E8C8-44A5-AD57-2F7B9D80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A9A8A-8EC4-4EE5-AFE8-1B5BB9B0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8B8FF-64F3-42C8-8A06-7F0B2995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B7D67-D26E-4E26-B764-3F3B3627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10D6D-EF14-41EF-8B65-8B3DDB81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F9C2-6C42-4FA8-A2F2-FC4DBA08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C8F6F-38C9-4FF2-A960-20C32F9C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115B9-8F12-4DBD-B8AF-3CB05EED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986B0-60F4-4B02-8441-73559955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D0B07-8933-4306-BADA-ED06FA6E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67946-5E27-4924-952C-479A512A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E86B4-CFC2-41D0-ABD8-5FF8965B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44D23-DFE2-4A31-ABDE-0854F08B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DC3-63EB-42FC-B3BA-FE338847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220-B988-4055-910E-E48E7E11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4F6-0721-47CA-91F7-A6E03F48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A4A-03CC-4BA6-98ED-1F0742BA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3F9-6C95-46ED-BF70-AC1CE71A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188F-D580-448C-8A6D-3D135598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rcRect l="0" t="52762" r="4046" b="-2715"/>
          <a:stretch/>
        </p:blipFill>
        <p:spPr>
          <a:xfrm>
            <a:off x="3924360" y="0"/>
            <a:ext cx="5281560" cy="136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E0D9-5D5B-4EC5-B7BC-71F6F60B7790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3"/>
          <a:srcRect l="0" t="53470" r="4046" b="3991"/>
          <a:stretch/>
        </p:blipFill>
        <p:spPr>
          <a:xfrm>
            <a:off x="-9360" y="0"/>
            <a:ext cx="5281560" cy="1160640"/>
          </a:xfrm>
          <a:prstGeom prst="rect">
            <a:avLst/>
          </a:prstGeom>
          <a:ln w="0">
            <a:noFill/>
          </a:ln>
        </p:spPr>
      </p:pic>
      <p:sp>
        <p:nvSpPr>
          <p:cNvPr id="6" name="矩形 9"/>
          <p:cNvSpPr/>
          <p:nvPr/>
        </p:nvSpPr>
        <p:spPr>
          <a:xfrm>
            <a:off x="-9360" y="115920"/>
            <a:ext cx="914400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7" name="图片 10" descr=""/>
          <p:cNvPicPr/>
          <p:nvPr/>
        </p:nvPicPr>
        <p:blipFill>
          <a:blip r:embed="rId4"/>
          <a:stretch/>
        </p:blipFill>
        <p:spPr>
          <a:xfrm>
            <a:off x="2479680" y="252360"/>
            <a:ext cx="363600" cy="36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1" descr=""/>
          <p:cNvPicPr/>
          <p:nvPr/>
        </p:nvPicPr>
        <p:blipFill>
          <a:blip r:embed="rId2"/>
          <a:srcRect l="6466" t="2285" r="7148" b="62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12"/>
          <p:cNvSpPr/>
          <p:nvPr/>
        </p:nvSpPr>
        <p:spPr>
          <a:xfrm>
            <a:off x="0" y="2637000"/>
            <a:ext cx="9144000" cy="19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7" name="图片 13" descr=""/>
          <p:cNvPicPr/>
          <p:nvPr/>
        </p:nvPicPr>
        <p:blipFill>
          <a:blip r:embed="rId3"/>
          <a:stretch/>
        </p:blipFill>
        <p:spPr>
          <a:xfrm>
            <a:off x="3267000" y="2997360"/>
            <a:ext cx="51300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DC35-742F-4F60-BBE7-CBF4582A8F02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1" descr=""/>
          <p:cNvPicPr/>
          <p:nvPr/>
        </p:nvPicPr>
        <p:blipFill>
          <a:blip r:embed="rId2"/>
          <a:srcRect l="-1785" t="-5391" r="-3341" b="-15064"/>
          <a:stretch/>
        </p:blipFill>
        <p:spPr>
          <a:xfrm>
            <a:off x="2457360" y="792000"/>
            <a:ext cx="5786640" cy="328464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1592280" y="2735280"/>
            <a:ext cx="5788080" cy="13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1" name="图片 13" descr=""/>
          <p:cNvPicPr/>
          <p:nvPr/>
        </p:nvPicPr>
        <p:blipFill>
          <a:blip r:embed="rId3"/>
          <a:stretch/>
        </p:blipFill>
        <p:spPr>
          <a:xfrm>
            <a:off x="1943280" y="2822400"/>
            <a:ext cx="51408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8A5D-04E3-425B-BD67-F28D6C00464D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25880" y="2944440"/>
            <a:ext cx="511344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3273d"/>
                </a:solidFill>
                <a:latin typeface="Adobe Caslon Pro"/>
              </a:rPr>
              <a:t>PowerPoint</a:t>
            </a:r>
            <a:r>
              <a:rPr b="0" lang="zh-CN" sz="4800" spc="-1" strike="noStrike">
                <a:solidFill>
                  <a:srgbClr val="83273d"/>
                </a:solidFill>
                <a:latin typeface="幼圆"/>
              </a:rPr>
              <a:t>模板</a:t>
            </a:r>
            <a:endParaRPr b="0" lang="en-US" sz="4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024080" y="3637080"/>
            <a:ext cx="51195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686868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42c45"/>
                </a:solidFill>
                <a:latin typeface="Adobe Caslon Pro"/>
              </a:rPr>
              <a:t>单击此处添加标题</a:t>
            </a:r>
            <a:endParaRPr b="0" lang="en-US" sz="25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6000" y="2893680"/>
            <a:ext cx="4752720" cy="4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2c45"/>
                </a:solidFill>
                <a:latin typeface="Adobe Caslon Pro"/>
              </a:rPr>
              <a:t>您的章节标题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58520" y="3375000"/>
            <a:ext cx="4751640" cy="3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</a:rPr>
              <a:t>您的章节副标题您的章节副标题您的章节副标题</a:t>
            </a:r>
            <a:endParaRPr b="0" lang="en-US" sz="12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十字星 6"/>
          <p:cNvSpPr/>
          <p:nvPr/>
        </p:nvSpPr>
        <p:spPr>
          <a:xfrm>
            <a:off x="2001960" y="2997360"/>
            <a:ext cx="71280" cy="71280"/>
          </a:xfrm>
          <a:custGeom>
            <a:avLst/>
            <a:gdLst>
              <a:gd name="textAreaLeft" fmla="*/ 29160 w 71280"/>
              <a:gd name="textAreaRight" fmla="*/ 42120 w 712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42c45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十字星 7"/>
          <p:cNvSpPr/>
          <p:nvPr/>
        </p:nvSpPr>
        <p:spPr>
          <a:xfrm>
            <a:off x="2017800" y="3716280"/>
            <a:ext cx="71280" cy="73080"/>
          </a:xfrm>
          <a:custGeom>
            <a:avLst/>
            <a:gdLst>
              <a:gd name="textAreaLeft" fmla="*/ 29160 w 71280"/>
              <a:gd name="textAreaRight" fmla="*/ 42120 w 7128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03:08:52Z</dcterms:created>
  <dc:creator>User</dc:creator>
  <dc:description/>
  <dc:language>en-US</dc:language>
  <cp:lastModifiedBy>Sky123.Org</cp:lastModifiedBy>
  <dcterms:modified xsi:type="dcterms:W3CDTF">2015-07-31T09:46:08Z</dcterms:modified>
  <cp:revision>11</cp:revision>
  <dc:subject/>
  <dc:title>PowerPoint 演示文稿</dc:title>
</cp:coreProperties>
</file>