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move the slide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E400-48B8-4E28-982C-4970F97ED4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A5C5-776D-4AD5-A71C-2D466D20BA8B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49F2-516B-4662-A799-9ADB3539C9CD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7C3C-30BF-4E35-BE05-5F4D817284BD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5BEC-6BE3-402F-A0EC-36CF273FA87B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9C6D-656B-4309-A987-F8ADF27E6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43E-6061-4BDC-96F8-78A4D9B3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FC15-7D4A-4C63-BAD9-27BFF27B0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918-958E-4515-8ED9-DDA8ED6A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2B07-8AF0-47A4-BB25-ACB1BF47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E85F-1D36-4D89-9EEE-F9E4FEAE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2543-E2E8-42FE-BFB0-A314036F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264C-A3DF-4A0F-8C5B-0ACF255C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FDA0-24FC-445A-B6CF-409AEBFD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839E-E194-4C20-A09E-C36E2FB3E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1C96F-3153-4C32-A3C3-2EC80D5E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0F7F-D5C0-40C6-83D1-7E253D19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EB01-49D0-45B7-88F9-3506E0F0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8A29-7336-44E3-BFDD-9D2A922F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5EA7-6A54-4070-9C51-9115FD2C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EA76-C8AB-4E55-BA05-284CA0FA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1725-41BB-4778-B762-7D943DEBA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DAA13-22C3-4588-95E7-D280A3B4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ADD00-4FE1-4225-BFC0-D77364702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C1231-C1B7-43DA-833E-60FB0E29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819A3-BF2E-4F2D-A10E-11443CB7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A23F9-72C1-4F24-B280-B7AA22B0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6802-5283-49B3-855B-6FE74E6B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28314-0C52-42EC-824B-CB6278A5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ABA84-7239-4A60-8B2B-2566A42D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51BCD-5921-4E4A-A032-4FA6EB61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1E7C3-6351-4CA3-861F-11838F89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A673E-384F-4FD5-9678-50A53992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E06D9-DE63-47D8-8FFC-987AD2E4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4C3C0-E26A-420E-A7AF-8D383720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DA6-B2E0-4110-A18A-2D210EAB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F230-2F42-4970-BCA0-A2543AAA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A421-9E57-4300-9344-C6A049E21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2ACE-5960-45C9-AF89-C442563B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40F8-CB63-4F9E-A2A3-34165BF37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19FA-85B3-4E5E-AEA5-705213CA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rcRect l="0" t="52762" r="4046" b="-2715"/>
          <a:stretch/>
        </p:blipFill>
        <p:spPr>
          <a:xfrm>
            <a:off x="3924360" y="0"/>
            <a:ext cx="5281560" cy="136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8973-BE46-4BB0-8AB4-BBB66BA23AD7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3"/>
          <a:srcRect l="0" t="53470" r="4046" b="3991"/>
          <a:stretch/>
        </p:blipFill>
        <p:spPr>
          <a:xfrm>
            <a:off x="-9360" y="0"/>
            <a:ext cx="5281560" cy="1160640"/>
          </a:xfrm>
          <a:prstGeom prst="rect">
            <a:avLst/>
          </a:prstGeom>
          <a:ln w="0">
            <a:noFill/>
          </a:ln>
        </p:spPr>
      </p:pic>
      <p:sp>
        <p:nvSpPr>
          <p:cNvPr id="6" name="矩形 9"/>
          <p:cNvSpPr/>
          <p:nvPr/>
        </p:nvSpPr>
        <p:spPr>
          <a:xfrm>
            <a:off x="-9360" y="115920"/>
            <a:ext cx="914400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7" name="图片 10" descr=""/>
          <p:cNvPicPr/>
          <p:nvPr/>
        </p:nvPicPr>
        <p:blipFill>
          <a:blip r:embed="rId4"/>
          <a:stretch/>
        </p:blipFill>
        <p:spPr>
          <a:xfrm>
            <a:off x="2479680" y="252360"/>
            <a:ext cx="363600" cy="36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1" descr=""/>
          <p:cNvPicPr/>
          <p:nvPr/>
        </p:nvPicPr>
        <p:blipFill>
          <a:blip r:embed="rId2"/>
          <a:srcRect l="6466" t="2285" r="7148" b="62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12"/>
          <p:cNvSpPr/>
          <p:nvPr/>
        </p:nvSpPr>
        <p:spPr>
          <a:xfrm>
            <a:off x="0" y="2637000"/>
            <a:ext cx="9144000" cy="19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7" name="图片 13" descr=""/>
          <p:cNvPicPr/>
          <p:nvPr/>
        </p:nvPicPr>
        <p:blipFill>
          <a:blip r:embed="rId3"/>
          <a:stretch/>
        </p:blipFill>
        <p:spPr>
          <a:xfrm>
            <a:off x="3267000" y="2997360"/>
            <a:ext cx="51300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CF99-F327-4DFA-9277-845B6FD765ED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1" descr=""/>
          <p:cNvPicPr/>
          <p:nvPr/>
        </p:nvPicPr>
        <p:blipFill>
          <a:blip r:embed="rId2"/>
          <a:srcRect l="-1785" t="-5391" r="-3341" b="-15064"/>
          <a:stretch/>
        </p:blipFill>
        <p:spPr>
          <a:xfrm>
            <a:off x="2457360" y="792000"/>
            <a:ext cx="5786640" cy="328464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1592280" y="2735280"/>
            <a:ext cx="5788080" cy="13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1" name="图片 13" descr=""/>
          <p:cNvPicPr/>
          <p:nvPr/>
        </p:nvPicPr>
        <p:blipFill>
          <a:blip r:embed="rId3"/>
          <a:stretch/>
        </p:blipFill>
        <p:spPr>
          <a:xfrm>
            <a:off x="1943280" y="2822400"/>
            <a:ext cx="51408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7DD3-8279-45C2-9D56-B42D98AC6D56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25880" y="2944440"/>
            <a:ext cx="511344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3273d"/>
                </a:solidFill>
                <a:latin typeface="Adobe Caslon Pro"/>
              </a:rPr>
              <a:t>PowerPoint</a:t>
            </a:r>
            <a:r>
              <a:rPr b="0" lang="zh-CN" sz="4800" spc="-1" strike="noStrike">
                <a:solidFill>
                  <a:srgbClr val="83273d"/>
                </a:solidFill>
                <a:latin typeface="幼圆"/>
              </a:rPr>
              <a:t>模板</a:t>
            </a:r>
            <a:endParaRPr b="0" lang="en-US" sz="4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024080" y="3637080"/>
            <a:ext cx="51195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686868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42c45"/>
                </a:solidFill>
                <a:latin typeface="Adobe Caslon Pro"/>
              </a:rPr>
              <a:t>单击此处添加标题</a:t>
            </a:r>
            <a:endParaRPr b="0" lang="en-US" sz="25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6000" y="2893680"/>
            <a:ext cx="4752720" cy="4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2c45"/>
                </a:solidFill>
                <a:latin typeface="Adobe Caslon Pro"/>
              </a:rPr>
              <a:t>您的章节标题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58520" y="3375000"/>
            <a:ext cx="4751640" cy="3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</a:rPr>
              <a:t>您的章节副标题您的章节副标题您的章节副标题</a:t>
            </a:r>
            <a:endParaRPr b="0" lang="en-US" sz="12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十字星 6"/>
          <p:cNvSpPr/>
          <p:nvPr/>
        </p:nvSpPr>
        <p:spPr>
          <a:xfrm>
            <a:off x="2001960" y="2997360"/>
            <a:ext cx="71280" cy="71280"/>
          </a:xfrm>
          <a:custGeom>
            <a:avLst/>
            <a:gdLst>
              <a:gd name="textAreaLeft" fmla="*/ 29160 w 71280"/>
              <a:gd name="textAreaRight" fmla="*/ 42120 w 712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42c45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十字星 7"/>
          <p:cNvSpPr/>
          <p:nvPr/>
        </p:nvSpPr>
        <p:spPr>
          <a:xfrm>
            <a:off x="2017800" y="3716280"/>
            <a:ext cx="71280" cy="73080"/>
          </a:xfrm>
          <a:custGeom>
            <a:avLst/>
            <a:gdLst>
              <a:gd name="textAreaLeft" fmla="*/ 29160 w 71280"/>
              <a:gd name="textAreaRight" fmla="*/ 42120 w 7128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03:08:52Z</dcterms:created>
  <dc:creator>User</dc:creator>
  <dc:description/>
  <dc:language>en-US</dc:language>
  <cp:lastModifiedBy>Sky123.Org</cp:lastModifiedBy>
  <dcterms:modified xsi:type="dcterms:W3CDTF">2015-07-31T09:46:08Z</dcterms:modified>
  <cp:revision>11</cp:revision>
  <dc:subject/>
  <dc:title>PowerPoint 演示文稿</dc:title>
</cp:coreProperties>
</file>