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2c45"/>
                </a:solidFill>
                <a:latin typeface="Adobe Caslon Pro"/>
              </a:rPr>
              <a:t>Click to move the slide</a:t>
            </a: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496BA-0290-4712-8981-B2CE97B5E8F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更多模板、视频教程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mysoeas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E14BE-D6BC-419F-9F93-F0626C1334D5}" type="slidenum">
              <a:rPr b="0" lang="zh-CN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更多模板、视频教程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mysoeas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39075-296E-480D-9C63-9E77ADCBB628}" type="slidenum">
              <a:rPr b="0" lang="zh-CN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更多模板、视频教程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mysoeas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BC677-B044-4FAE-ABC0-52227B461064}" type="slidenum">
              <a:rPr b="0" lang="zh-CN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更多模板、视频教程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mysoeas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CFE47-DDD0-4B0E-BF48-ADF20484E50C}" type="slidenum">
              <a:rPr b="0" lang="zh-CN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0BF5-3282-4CA4-A24C-FBB68FAD0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E972-79D2-4142-ADEF-0C21BDE7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CD3C-F689-4F6B-AF19-66C7693B4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0609-11A3-4BF6-9CB0-C76A6A198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1BA3A-CA6F-4748-BB6A-F24C1F4B1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72B70-BB3A-41C5-832F-3A95E903A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E2347-5394-42FD-909C-1C9DD2A6E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AC3E2-4679-475C-8E60-0D74677C2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09CDF-1369-4306-BCE4-36F3F45F1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842920" y="253800"/>
            <a:ext cx="5616360" cy="21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92D0E-5431-4FC0-981A-02A2AB3E4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DED52-670F-4689-B0FE-DEC39C51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697B-45E7-4CA7-ADF7-7F10D668F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29FAF-9ED2-40B5-8FD3-3F089FA8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23C0E-6152-476D-AC97-7D922286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87187-2730-4B1D-BAC9-3BA4682C5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F681D-774E-47AC-93B5-0E5AB7DB0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9DF81-9763-4675-AC79-D8C3A3ED0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85FB0-DCC0-4E36-9D79-A33DC9EDB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3BB93-6DFB-4207-860C-A4F9D0B13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A4E81-8A43-48F2-8B58-299D8A788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CA2E7-B914-4007-B87F-83C28C7E5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C867E-A431-4C7A-BD5B-52F3C566F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171F-C829-4099-9627-66A05CC5E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2842920" y="253800"/>
            <a:ext cx="5616360" cy="21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D0E54-E384-4500-BFCC-4E093673F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366E9-C6FA-40A3-B165-83AC5C11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6C88F-DDFF-4C33-824A-624F31DE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9CF96-41BE-4A54-AD6C-065B2729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09D0F-1F4C-4EFC-9865-15901173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EDC76-4045-4325-A2BA-279DEF7FB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EA6B4-E1D8-4000-A133-A06E97C9E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AE4F-7FD5-4966-9E9F-986C60E46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7C38-0256-4909-BBD5-D0992A220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842920" y="253800"/>
            <a:ext cx="5616360" cy="21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9E25-DC62-4CB1-9A50-DA706F633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9AE4-7647-4A23-9931-299F7F94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AF13-A82C-4191-BF5D-F07A1CAF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C618-364A-40D5-9D4B-C52D9726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7" descr=""/>
          <p:cNvPicPr/>
          <p:nvPr/>
        </p:nvPicPr>
        <p:blipFill>
          <a:blip r:embed="rId2"/>
          <a:srcRect l="0" t="52762" r="4046" b="-2715"/>
          <a:stretch/>
        </p:blipFill>
        <p:spPr>
          <a:xfrm>
            <a:off x="3924360" y="0"/>
            <a:ext cx="5281560" cy="1362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1" marL="743040" indent="-285840"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2" marL="1143000" indent="-22860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3" marL="1600200" indent="-228600"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4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5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6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1A70E-811D-4BD9-A8C6-7AE189503FC6}" type="slidenum">
              <a: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图片 8" descr=""/>
          <p:cNvPicPr/>
          <p:nvPr/>
        </p:nvPicPr>
        <p:blipFill>
          <a:blip r:embed="rId3"/>
          <a:srcRect l="0" t="53470" r="4046" b="3991"/>
          <a:stretch/>
        </p:blipFill>
        <p:spPr>
          <a:xfrm>
            <a:off x="-9360" y="0"/>
            <a:ext cx="5281560" cy="1160640"/>
          </a:xfrm>
          <a:prstGeom prst="rect">
            <a:avLst/>
          </a:prstGeom>
          <a:ln w="0">
            <a:noFill/>
          </a:ln>
        </p:spPr>
      </p:pic>
      <p:sp>
        <p:nvSpPr>
          <p:cNvPr id="6" name="矩形 9"/>
          <p:cNvSpPr/>
          <p:nvPr/>
        </p:nvSpPr>
        <p:spPr>
          <a:xfrm>
            <a:off x="-9360" y="115920"/>
            <a:ext cx="9144000" cy="64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83273d">
                <a:alpha val="19000"/>
              </a:srgbClr>
            </a:solidFill>
            <a:miter/>
          </a:ln>
          <a:effectLst>
            <a:outerShdw dist="153753" dir="2700000" blurRad="0" rotWithShape="0">
              <a:srgbClr val="000000">
                <a:alpha val="1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7" name="图片 10" descr=""/>
          <p:cNvPicPr/>
          <p:nvPr/>
        </p:nvPicPr>
        <p:blipFill>
          <a:blip r:embed="rId4"/>
          <a:stretch/>
        </p:blipFill>
        <p:spPr>
          <a:xfrm>
            <a:off x="2479680" y="252360"/>
            <a:ext cx="363600" cy="3682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842920" y="253800"/>
            <a:ext cx="56163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2c45"/>
                </a:solidFill>
                <a:latin typeface="Adobe Caslon Pro"/>
              </a:rPr>
              <a:t>Click to edit the title text format</a:t>
            </a: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1" descr=""/>
          <p:cNvPicPr/>
          <p:nvPr/>
        </p:nvPicPr>
        <p:blipFill>
          <a:blip r:embed="rId2"/>
          <a:srcRect l="6466" t="2285" r="7148" b="62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矩形 12"/>
          <p:cNvSpPr/>
          <p:nvPr/>
        </p:nvSpPr>
        <p:spPr>
          <a:xfrm>
            <a:off x="0" y="2637000"/>
            <a:ext cx="9144000" cy="1944360"/>
          </a:xfrm>
          <a:prstGeom prst="rect">
            <a:avLst/>
          </a:prstGeom>
          <a:solidFill>
            <a:srgbClr val="ffffff"/>
          </a:solidFill>
          <a:ln w="12600">
            <a:solidFill>
              <a:srgbClr val="83273d">
                <a:alpha val="19000"/>
              </a:srgbClr>
            </a:solidFill>
            <a:miter/>
          </a:ln>
          <a:effectLst>
            <a:outerShdw dist="153753" dir="2700000" blurRad="0" rotWithShape="0">
              <a:srgbClr val="000000">
                <a:alpha val="1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47" name="图片 13" descr=""/>
          <p:cNvPicPr/>
          <p:nvPr/>
        </p:nvPicPr>
        <p:blipFill>
          <a:blip r:embed="rId3"/>
          <a:stretch/>
        </p:blipFill>
        <p:spPr>
          <a:xfrm>
            <a:off x="3267000" y="2997360"/>
            <a:ext cx="513000" cy="5191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</p:pic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1" marL="743040" indent="-285840"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2" marL="1143000" indent="-22860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3" marL="1600200" indent="-228600"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4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5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6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2842920" y="253800"/>
            <a:ext cx="56163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2c45"/>
                </a:solidFill>
                <a:latin typeface="Adobe Caslon Pro"/>
              </a:rPr>
              <a:t>Click to edit the title text format</a:t>
            </a: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6DB08-D968-4C8D-86A5-4A7DF573B53C}" type="slidenum">
              <a: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11" descr=""/>
          <p:cNvPicPr/>
          <p:nvPr/>
        </p:nvPicPr>
        <p:blipFill>
          <a:blip r:embed="rId2"/>
          <a:srcRect l="-1785" t="-5391" r="-3341" b="-15064"/>
          <a:stretch/>
        </p:blipFill>
        <p:spPr>
          <a:xfrm>
            <a:off x="2457360" y="792000"/>
            <a:ext cx="5786640" cy="3284640"/>
          </a:xfrm>
          <a:prstGeom prst="rect">
            <a:avLst/>
          </a:prstGeom>
          <a:ln w="0">
            <a:noFill/>
          </a:ln>
        </p:spPr>
      </p:pic>
      <p:sp>
        <p:nvSpPr>
          <p:cNvPr id="90" name="矩形 12"/>
          <p:cNvSpPr/>
          <p:nvPr/>
        </p:nvSpPr>
        <p:spPr>
          <a:xfrm>
            <a:off x="1592280" y="2735280"/>
            <a:ext cx="5788080" cy="1341360"/>
          </a:xfrm>
          <a:prstGeom prst="rect">
            <a:avLst/>
          </a:prstGeom>
          <a:solidFill>
            <a:srgbClr val="ffffff"/>
          </a:solidFill>
          <a:ln w="12600">
            <a:solidFill>
              <a:srgbClr val="83273d">
                <a:alpha val="19000"/>
              </a:srgbClr>
            </a:solidFill>
            <a:miter/>
          </a:ln>
          <a:effectLst>
            <a:outerShdw dist="153753" dir="2700000" blurRad="0" rotWithShape="0">
              <a:srgbClr val="000000">
                <a:alpha val="1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91" name="图片 13" descr=""/>
          <p:cNvPicPr/>
          <p:nvPr/>
        </p:nvPicPr>
        <p:blipFill>
          <a:blip r:embed="rId3"/>
          <a:stretch/>
        </p:blipFill>
        <p:spPr>
          <a:xfrm>
            <a:off x="1943280" y="2822400"/>
            <a:ext cx="514080" cy="5191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</p:pic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1" marL="743040" indent="-285840"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2" marL="1143000" indent="-22860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3" marL="1600200" indent="-228600"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4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5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6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2842920" y="253800"/>
            <a:ext cx="56163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2c45"/>
                </a:solidFill>
                <a:latin typeface="Adobe Caslon Pro"/>
              </a:rPr>
              <a:t>Click to edit the title text format</a:t>
            </a: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017CD-B791-473D-9290-5C4E62D43E1B}" type="slidenum">
              <a: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25880" y="2944440"/>
            <a:ext cx="511344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3273d"/>
                </a:solidFill>
                <a:latin typeface="Adobe Caslon Pro"/>
              </a:rPr>
              <a:t>PowerPoint</a:t>
            </a:r>
            <a:r>
              <a:rPr b="0" lang="zh-CN" sz="4800" spc="-1" strike="noStrike">
                <a:solidFill>
                  <a:srgbClr val="83273d"/>
                </a:solidFill>
                <a:latin typeface="幼圆"/>
              </a:rPr>
              <a:t>模板</a:t>
            </a:r>
            <a:endParaRPr b="0" lang="en-US" sz="4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024080" y="3637080"/>
            <a:ext cx="5119560" cy="2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686868"/>
              </a:solidFill>
              <a:latin typeface="Adobe Caslon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42920" y="253800"/>
            <a:ext cx="5616360" cy="4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942c45"/>
                </a:solidFill>
                <a:latin typeface="Adobe Caslon Pro"/>
              </a:rPr>
              <a:t>单击此处添加标题</a:t>
            </a:r>
            <a:endParaRPr b="0" lang="en-US" sz="25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56000" y="2893680"/>
            <a:ext cx="4752720" cy="44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42c45"/>
                </a:solidFill>
                <a:latin typeface="Adobe Caslon Pro"/>
              </a:rPr>
              <a:t>您的章节标题</a:t>
            </a: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58520" y="3375000"/>
            <a:ext cx="4751640" cy="30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d8d8d"/>
                </a:solidFill>
                <a:latin typeface="Adobe Caslon Pro"/>
              </a:rPr>
              <a:t>您的章节副标题您的章节副标题您的章节副标题</a:t>
            </a:r>
            <a:endParaRPr b="0" lang="en-US" sz="1200" spc="-1" strike="noStrike">
              <a:solidFill>
                <a:srgbClr val="262626"/>
              </a:solidFill>
              <a:latin typeface="Adobe Caslon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十字星 6"/>
          <p:cNvSpPr/>
          <p:nvPr/>
        </p:nvSpPr>
        <p:spPr>
          <a:xfrm>
            <a:off x="2001960" y="2997360"/>
            <a:ext cx="71280" cy="71280"/>
          </a:xfrm>
          <a:custGeom>
            <a:avLst/>
            <a:gdLst>
              <a:gd name="textAreaLeft" fmla="*/ 29160 w 71280"/>
              <a:gd name="textAreaRight" fmla="*/ 42120 w 71280"/>
              <a:gd name="textAreaTop" fmla="*/ 29160 h 71280"/>
              <a:gd name="textAreaBottom" fmla="*/ 42120 h 71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42c45"/>
          </a:solidFill>
          <a:ln w="25560">
            <a:solidFill>
              <a:srgbClr val="942c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十字星 7"/>
          <p:cNvSpPr/>
          <p:nvPr/>
        </p:nvSpPr>
        <p:spPr>
          <a:xfrm>
            <a:off x="2017800" y="3716280"/>
            <a:ext cx="71280" cy="73080"/>
          </a:xfrm>
          <a:custGeom>
            <a:avLst/>
            <a:gdLst>
              <a:gd name="textAreaLeft" fmla="*/ 29160 w 71280"/>
              <a:gd name="textAreaRight" fmla="*/ 42120 w 71280"/>
              <a:gd name="textAreaTop" fmla="*/ 30240 h 73080"/>
              <a:gd name="textAreaBottom" fmla="*/ 42840 h 73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942c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942c45"/>
              </a:solidFill>
              <a:latin typeface="Adobe Caslon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2T03:08:52Z</dcterms:created>
  <dc:creator>User</dc:creator>
  <dc:description/>
  <dc:language>en-US</dc:language>
  <cp:lastModifiedBy>Sky123.Org</cp:lastModifiedBy>
  <dcterms:modified xsi:type="dcterms:W3CDTF">2015-07-31T09:46:08Z</dcterms:modified>
  <cp:revision>11</cp:revision>
  <dc:subject/>
  <dc:title>PowerPoint 演示文稿</dc:title>
</cp:coreProperties>
</file>