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move the slide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DC0C-FAD6-4109-99CD-DB0A008756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0220-90C9-4996-8645-6BBED6745F87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C6FC-9AB4-4A94-8DAB-9F942A9BDB12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2174-002C-49E2-A397-F3B5E8F58C00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D69D-6D3C-44FE-9E9B-355ED94BEEEE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FBF-8836-4660-8325-DB0BFDBC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599-B90A-4FD2-AE8F-A84FA7D6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76E-71B9-41CA-A0C7-50A97A89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67E-D0DA-4E12-91C6-1F599211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F327-8E2A-495A-AABC-12561D57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6609-30DA-46D1-9FD2-6C9FB93D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DBEC-F187-433E-B234-3A0B8B04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3429-4EC5-4361-9CE0-A50E72BA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CF5D-E137-43F2-A088-EA4E5AE4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4BE9-9D5A-42F5-8282-317B4D88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92AB-9758-43E6-8494-152D65FE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267-C401-4AE6-80DE-F27F1A69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AA73-9353-4C97-B88E-D47AA3FD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654F-7779-4CD7-82CC-DA27EA16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0496-F487-4E4B-99C1-B5338814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6F57-1981-47F2-A9DD-FBB0031C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06BE-1F78-485B-A899-36C43FF9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0215-32B7-41B6-B6AB-566896FA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3BF71-F17B-4A73-AC06-8E8F2842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021D8-C6C4-42D9-8067-904BD08A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39F0A-9A10-41F8-A42B-5329A0DD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F3CFE-E404-4051-868E-A0539A18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E8F-45FA-4F11-A3C0-217838C6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B6A2A-D72D-4226-AFF4-80A43FB2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C193-D1AB-49FF-B281-A253189D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DF394-0158-4E3D-9E2D-6D1EADF7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3FEEF-0835-4301-82FD-90B50176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A716-C205-40CC-8EFE-211F0907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B24EF-B1F7-4027-A4C4-3345B866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4F38C-4316-4856-943B-9B6384D4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50E-C33A-4019-979B-51E27726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BF4-8A98-45F7-84F2-B723BF27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970-3582-41AC-B8F7-BFEAA99E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CF1-7237-45B8-A51A-016680EB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06B-2E2A-446B-B97A-00D3CEEF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5EC-EEC0-4E1D-B728-A78DE21D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52762" r="4046" b="-2715"/>
          <a:stretch/>
        </p:blipFill>
        <p:spPr>
          <a:xfrm>
            <a:off x="3924360" y="0"/>
            <a:ext cx="5281560" cy="136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ABB1-304E-4731-8725-AA642F358CDD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3"/>
          <a:srcRect l="0" t="53470" r="4046" b="3991"/>
          <a:stretch/>
        </p:blipFill>
        <p:spPr>
          <a:xfrm>
            <a:off x="-9360" y="0"/>
            <a:ext cx="5281560" cy="116064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>
            <a:off x="-9360" y="115920"/>
            <a:ext cx="91440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" name="图片 10" descr=""/>
          <p:cNvPicPr/>
          <p:nvPr/>
        </p:nvPicPr>
        <p:blipFill>
          <a:blip r:embed="rId4"/>
          <a:stretch/>
        </p:blipFill>
        <p:spPr>
          <a:xfrm>
            <a:off x="2479680" y="252360"/>
            <a:ext cx="36360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"/>
          <p:cNvPicPr/>
          <p:nvPr/>
        </p:nvPicPr>
        <p:blipFill>
          <a:blip r:embed="rId2"/>
          <a:srcRect l="6466" t="2285" r="7148" b="62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3267000" y="2997360"/>
            <a:ext cx="51300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8114-E1B1-4CB9-9C44-A77BF510909D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rcRect l="-1785" t="-5391" r="-3341" b="-15064"/>
          <a:stretch/>
        </p:blipFill>
        <p:spPr>
          <a:xfrm>
            <a:off x="2457360" y="792000"/>
            <a:ext cx="5786640" cy="3284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1592280" y="2735280"/>
            <a:ext cx="578808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1943280" y="2822400"/>
            <a:ext cx="51408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15B8-DAEA-4029-8923-FF70D2B52E90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25880" y="2944440"/>
            <a:ext cx="51134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273d"/>
                </a:solidFill>
                <a:latin typeface="Adobe Caslon Pro"/>
              </a:rPr>
              <a:t>PowerPoint</a:t>
            </a:r>
            <a:r>
              <a:rPr b="0" lang="zh-CN" sz="4800" spc="-1" strike="noStrike">
                <a:solidFill>
                  <a:srgbClr val="83273d"/>
                </a:solidFill>
                <a:latin typeface="幼圆"/>
              </a:rPr>
              <a:t>模板</a:t>
            </a:r>
            <a:endParaRPr b="0" lang="en-US" sz="4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024080" y="3637080"/>
            <a:ext cx="5119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686868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42c45"/>
                </a:solidFill>
                <a:latin typeface="Adobe Caslon Pro"/>
              </a:rPr>
              <a:t>单击此处添加标题</a:t>
            </a:r>
            <a:endParaRPr b="0" lang="en-US" sz="25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2893680"/>
            <a:ext cx="475272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2c45"/>
                </a:solidFill>
                <a:latin typeface="Adobe Caslon Pro"/>
              </a:rPr>
              <a:t>您的章节标题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58520" y="3375000"/>
            <a:ext cx="4751640" cy="3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</a:rPr>
              <a:t>您的章节副标题您的章节副标题您的章节副标题</a:t>
            </a:r>
            <a:endParaRPr b="0" lang="en-US" sz="12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十字星 6"/>
          <p:cNvSpPr/>
          <p:nvPr/>
        </p:nvSpPr>
        <p:spPr>
          <a:xfrm>
            <a:off x="2001960" y="299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2c45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十字星 7"/>
          <p:cNvSpPr/>
          <p:nvPr/>
        </p:nvSpPr>
        <p:spPr>
          <a:xfrm>
            <a:off x="2017800" y="371628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8:52Z</dcterms:created>
  <dc:creator>User</dc:creator>
  <dc:description/>
  <dc:language>en-US</dc:language>
  <cp:lastModifiedBy>Sky123.Org</cp:lastModifiedBy>
  <dcterms:modified xsi:type="dcterms:W3CDTF">2015-07-31T09:46:08Z</dcterms:modified>
  <cp:revision>11</cp:revision>
  <dc:subject/>
  <dc:title>PowerPoint 演示文稿</dc:title>
</cp:coreProperties>
</file>