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move the slide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8AFC-6BE5-4597-86CF-56665ED6D71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F3CB-5FB5-4FBE-9DBA-E60FA6FFA61E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0F5E-DEB7-4F3E-A73D-EF2FA3BB43E6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1CF74-25DF-41E5-A61C-CD3C148A3326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多模板、视频教程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mysoeas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A130-24EE-4B01-AC05-21B950B590DC}" type="slidenum">
              <a:rPr b="0" lang="zh-CN" sz="1200" spc="-1" strike="noStrike">
                <a:solidFill>
                  <a:srgbClr val="262626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6710-1AB3-4AE9-9565-160D4540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03F-38D7-4D54-8A38-982B735B4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66AE-A508-4492-B376-4D212648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90A4-57D4-4F81-A481-3308BF80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FDAC-5D8D-4A70-85EF-BE209D46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EB01-56E2-4FAC-9985-68568F6D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5AF4-8017-4A6E-AC03-2F6C3530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79FD-E62F-485E-B2BC-FC9914BD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50EA-450D-4CDE-B171-1F34EB84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E329-4E36-4297-BEDA-23A862BE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8C0E2-F332-42B4-A21D-1157715D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8AC5-6467-4E83-B25D-7165C68D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ABF7E-56C7-44FF-B784-64B578AF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0DEF-8CD8-48BD-98F9-741C79AB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38A1-88A1-4ABB-992B-F80C28BE4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5555-8996-4317-83E3-572B5A1D5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0BB3-A451-4E09-B4AA-B9105AEAD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CD4C5-D7C0-45BC-9565-5423F251B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CDDD7-B178-4B96-BA14-773AC8FF1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70B2E-E58D-4A3D-B446-A5F90449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4C12B-97CC-477F-96C8-0345F15E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9497C-4516-411C-89F2-6DE37769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A9D2-60AC-4F3F-A59F-E54FA122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337E9-88B8-4354-8027-7591A62C4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33E56-C17D-49F5-96A3-5FA9B20C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80DAD-8EF4-4FF0-BA1D-2D2400FC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BBE18-A64B-4A6F-9EEC-570614F7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6A51C-6C78-4FA6-91E9-505E10AB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C080B-8228-4705-B741-0ECBDF39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16028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00320"/>
            <a:ext cx="264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9441B-2222-4AEF-AA52-285209B13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F66-7922-40FC-BAB0-7BA3864E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C47F-C539-4486-8022-DD1FCD17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842920" y="253800"/>
            <a:ext cx="5616360" cy="21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1720-66E2-41FE-A148-1D6A48CE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CFD9-63CA-467F-9412-3B293B2C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0032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861F-DBFF-4FE7-AFAD-05828469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60280"/>
            <a:ext cx="40158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00320"/>
            <a:ext cx="8229600" cy="25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ED9-19FC-406E-B6AB-B6EB7B6E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rcRect l="0" t="52762" r="4046" b="-2715"/>
          <a:stretch/>
        </p:blipFill>
        <p:spPr>
          <a:xfrm>
            <a:off x="3924360" y="0"/>
            <a:ext cx="5281560" cy="1362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4E0C-AF79-43A1-80F3-581C6BE022DD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3"/>
          <a:srcRect l="0" t="53470" r="4046" b="3991"/>
          <a:stretch/>
        </p:blipFill>
        <p:spPr>
          <a:xfrm>
            <a:off x="-9360" y="0"/>
            <a:ext cx="5281560" cy="1160640"/>
          </a:xfrm>
          <a:prstGeom prst="rect">
            <a:avLst/>
          </a:prstGeom>
          <a:ln w="0">
            <a:noFill/>
          </a:ln>
        </p:spPr>
      </p:pic>
      <p:sp>
        <p:nvSpPr>
          <p:cNvPr id="6" name="矩形 9"/>
          <p:cNvSpPr/>
          <p:nvPr/>
        </p:nvSpPr>
        <p:spPr>
          <a:xfrm>
            <a:off x="-9360" y="115920"/>
            <a:ext cx="9144000" cy="64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7" name="图片 10" descr=""/>
          <p:cNvPicPr/>
          <p:nvPr/>
        </p:nvPicPr>
        <p:blipFill>
          <a:blip r:embed="rId4"/>
          <a:stretch/>
        </p:blipFill>
        <p:spPr>
          <a:xfrm>
            <a:off x="2479680" y="252360"/>
            <a:ext cx="363600" cy="368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1" descr=""/>
          <p:cNvPicPr/>
          <p:nvPr/>
        </p:nvPicPr>
        <p:blipFill>
          <a:blip r:embed="rId2"/>
          <a:srcRect l="6466" t="2285" r="7148" b="62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12"/>
          <p:cNvSpPr/>
          <p:nvPr/>
        </p:nvSpPr>
        <p:spPr>
          <a:xfrm>
            <a:off x="0" y="2637000"/>
            <a:ext cx="9144000" cy="194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7" name="图片 13" descr=""/>
          <p:cNvPicPr/>
          <p:nvPr/>
        </p:nvPicPr>
        <p:blipFill>
          <a:blip r:embed="rId3"/>
          <a:stretch/>
        </p:blipFill>
        <p:spPr>
          <a:xfrm>
            <a:off x="3267000" y="2997360"/>
            <a:ext cx="51300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8B03-F360-42D6-8685-5613BE92C3DD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11" descr=""/>
          <p:cNvPicPr/>
          <p:nvPr/>
        </p:nvPicPr>
        <p:blipFill>
          <a:blip r:embed="rId2"/>
          <a:srcRect l="-1785" t="-5391" r="-3341" b="-15064"/>
          <a:stretch/>
        </p:blipFill>
        <p:spPr>
          <a:xfrm>
            <a:off x="2457360" y="792000"/>
            <a:ext cx="5786640" cy="328464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1592280" y="2735280"/>
            <a:ext cx="5788080" cy="1341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3273d">
                <a:alpha val="19000"/>
              </a:srgbClr>
            </a:solidFill>
            <a:miter/>
          </a:ln>
          <a:effectLst>
            <a:outerShdw dist="153753" dir="2700000" blurRad="0" rotWithShape="0">
              <a:srgbClr val="000000">
                <a:alpha val="1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1" name="图片 13" descr=""/>
          <p:cNvPicPr/>
          <p:nvPr/>
        </p:nvPicPr>
        <p:blipFill>
          <a:blip r:embed="rId3"/>
          <a:stretch/>
        </p:blipFill>
        <p:spPr>
          <a:xfrm>
            <a:off x="1943280" y="2822400"/>
            <a:ext cx="514080" cy="519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25000"/>
              </a:srgbClr>
            </a:outerShdw>
          </a:effectLst>
        </p:spPr>
      </p:pic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1" marL="743040" indent="-28584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2" marL="1143000" indent="-22860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3" marL="1600200" indent="-228600">
              <a:spcBef>
                <a:spcPts val="45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4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5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  <a:p>
            <a:pPr lvl="6" marL="2057400" indent="-228600">
              <a:spcBef>
                <a:spcPts val="451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dobe Caslon Pro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2c45"/>
                </a:solidFill>
                <a:latin typeface="Adobe Caslon Pro"/>
              </a:rPr>
              <a:t>Click to edit the title text format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D5F2-3089-4DA4-85B1-417C5B299851}" type="slidenum">
              <a:rPr b="0" lang="zh-CN" sz="1200" spc="-1" strike="noStrike">
                <a:solidFill>
                  <a:srgbClr val="8d8d8d"/>
                </a:solidFill>
                <a:latin typeface="Adobe Caslon Pro"/>
                <a:ea typeface="幼圆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25880" y="2944440"/>
            <a:ext cx="511344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83273d"/>
                </a:solidFill>
                <a:latin typeface="Adobe Caslon Pro"/>
              </a:rPr>
              <a:t>PowerPoint</a:t>
            </a:r>
            <a:r>
              <a:rPr b="0" lang="zh-CN" sz="4800" spc="-1" strike="noStrike">
                <a:solidFill>
                  <a:srgbClr val="83273d"/>
                </a:solidFill>
                <a:latin typeface="幼圆"/>
              </a:rPr>
              <a:t>模板</a:t>
            </a:r>
            <a:endParaRPr b="0" lang="en-US" sz="4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024080" y="3637080"/>
            <a:ext cx="511956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686868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42920" y="253800"/>
            <a:ext cx="5616360" cy="4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42c45"/>
                </a:solidFill>
                <a:latin typeface="Adobe Caslon Pro"/>
              </a:rPr>
              <a:t>单击此处添加标题</a:t>
            </a:r>
            <a:endParaRPr b="0" lang="en-US" sz="25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160280"/>
            <a:ext cx="8229600" cy="54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6000" y="2893680"/>
            <a:ext cx="4752720" cy="44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2c45"/>
                </a:solidFill>
                <a:latin typeface="Adobe Caslon Pro"/>
              </a:rPr>
              <a:t>您的章节标题</a:t>
            </a:r>
            <a:endParaRPr b="0" lang="en-US" sz="2800" spc="-1" strike="noStrike">
              <a:solidFill>
                <a:srgbClr val="942c45"/>
              </a:solidFill>
              <a:latin typeface="Adobe Caslon Pro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58520" y="3375000"/>
            <a:ext cx="4751640" cy="3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d8d8d"/>
                </a:solidFill>
                <a:latin typeface="Adobe Caslon Pro"/>
              </a:rPr>
              <a:t>您的章节副标题您的章节副标题您的章节副标题</a:t>
            </a:r>
            <a:endParaRPr b="0" lang="en-US" sz="1200" spc="-1" strike="noStrike">
              <a:solidFill>
                <a:srgbClr val="262626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十字星 6"/>
          <p:cNvSpPr/>
          <p:nvPr/>
        </p:nvSpPr>
        <p:spPr>
          <a:xfrm>
            <a:off x="2001960" y="2997360"/>
            <a:ext cx="71280" cy="71280"/>
          </a:xfrm>
          <a:custGeom>
            <a:avLst/>
            <a:gdLst>
              <a:gd name="textAreaLeft" fmla="*/ 29160 w 71280"/>
              <a:gd name="textAreaRight" fmla="*/ 42120 w 71280"/>
              <a:gd name="textAreaTop" fmla="*/ 29160 h 71280"/>
              <a:gd name="textAreaBottom" fmla="*/ 42120 h 7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42c45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十字星 7"/>
          <p:cNvSpPr/>
          <p:nvPr/>
        </p:nvSpPr>
        <p:spPr>
          <a:xfrm>
            <a:off x="2017800" y="3716280"/>
            <a:ext cx="71280" cy="73080"/>
          </a:xfrm>
          <a:custGeom>
            <a:avLst/>
            <a:gdLst>
              <a:gd name="textAreaLeft" fmla="*/ 29160 w 71280"/>
              <a:gd name="textAreaRight" fmla="*/ 42120 w 71280"/>
              <a:gd name="textAreaTop" fmla="*/ 30240 h 73080"/>
              <a:gd name="textAreaBottom" fmla="*/ 42840 h 73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25560">
            <a:solidFill>
              <a:srgbClr val="942c4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42920" y="220680"/>
            <a:ext cx="561636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942c45"/>
              </a:solidFill>
              <a:latin typeface="Adobe Caslon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2T03:08:52Z</dcterms:created>
  <dc:creator>User</dc:creator>
  <dc:description/>
  <dc:language>en-US</dc:language>
  <cp:lastModifiedBy>Sky123.Org</cp:lastModifiedBy>
  <dcterms:modified xsi:type="dcterms:W3CDTF">2015-07-31T09:46:08Z</dcterms:modified>
  <cp:revision>11</cp:revision>
  <dc:subject/>
  <dc:title>PowerPoint 演示文稿</dc:title>
</cp:coreProperties>
</file>