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move the slide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855E-45F1-4CF1-A188-C486642F6B0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84FF-1C7F-4479-BC6C-8827C54BBD9B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89EF-1EC8-4539-9385-9FBF274F8FF5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95FB-7651-4A00-AE6B-46675F280916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48EC-5B54-4533-B542-0256E3F15DFF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FB79-DF38-41F4-949D-8A4DD7D8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78A4-683F-4BFA-B810-6FAFFB0D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53F9-37ED-4096-BA49-7C1208643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0DF0-7C6E-4F7E-A6F5-1BD76F2DA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CD40-826D-4798-AD66-6713EF20F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DEC7-253A-41DC-911B-958AF13C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D549-A8B1-4184-8F4D-0046D74E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3C3E-CE19-4B12-A7EB-3B78CEFE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7CB3-96D4-4250-A999-44BFA9E5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0747-3A75-4B14-BC15-5880B63D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FA10-966E-4D24-A8C6-2B337F9E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C30F-DB2A-41C3-B900-609C92A0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8299-9E7E-44BC-8749-716340E1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D4A3-B66B-4933-9013-C4FC81DB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A5DB-6997-44E8-A8CE-DFB990E7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33D2-C4D1-41E2-92D1-DAE434CE3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129D-0747-4003-85BC-DB0C1C774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76A98-A664-4C5E-8909-E9EB89C33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4197C-07B8-48E3-8B55-C4D16F6B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F6D30-9CDA-4FE5-8FFF-7B01DDC9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BC48F-FE98-460C-B293-65D69987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EB43E-D0E0-4C00-A228-F098B369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22FA-A945-4B4E-8F95-D4A9090D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C66D9-AC87-4E79-997E-5A76879E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6AE7C-E42F-44DD-8DDA-71B2B8E7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AD96F-811B-4711-A8A1-4B66E789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255A3-6196-4D22-BD9D-93AD8E6F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D3E13-C6C2-4EAB-B69F-3885B5C3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DC64C-63BF-42E2-B354-9086D3834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ED0DC-9B0D-4315-A4DF-E1EDE478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E098-5DFE-40E6-A58A-9CCDED7E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35B0-8DAA-419B-881D-B274FC3E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31B1-6A3E-4A7C-B000-003C402B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B269-90E3-44E0-A5EB-F9BA0877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37E3-7A10-44A3-9DFF-0F9A62DC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F356-126D-40C6-83F0-6E0FCADE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rcRect l="0" t="52762" r="4046" b="-2715"/>
          <a:stretch/>
        </p:blipFill>
        <p:spPr>
          <a:xfrm>
            <a:off x="3924360" y="0"/>
            <a:ext cx="5281560" cy="1362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B384-141C-4719-95C6-3468A6CE59EA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8" descr=""/>
          <p:cNvPicPr/>
          <p:nvPr/>
        </p:nvPicPr>
        <p:blipFill>
          <a:blip r:embed="rId3"/>
          <a:srcRect l="0" t="53470" r="4046" b="3991"/>
          <a:stretch/>
        </p:blipFill>
        <p:spPr>
          <a:xfrm>
            <a:off x="-9360" y="0"/>
            <a:ext cx="5281560" cy="1160640"/>
          </a:xfrm>
          <a:prstGeom prst="rect">
            <a:avLst/>
          </a:prstGeom>
          <a:ln w="0">
            <a:noFill/>
          </a:ln>
        </p:spPr>
      </p:pic>
      <p:sp>
        <p:nvSpPr>
          <p:cNvPr id="6" name="矩形 9"/>
          <p:cNvSpPr/>
          <p:nvPr/>
        </p:nvSpPr>
        <p:spPr>
          <a:xfrm>
            <a:off x="-9360" y="115920"/>
            <a:ext cx="9144000" cy="64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7" name="图片 10" descr=""/>
          <p:cNvPicPr/>
          <p:nvPr/>
        </p:nvPicPr>
        <p:blipFill>
          <a:blip r:embed="rId4"/>
          <a:stretch/>
        </p:blipFill>
        <p:spPr>
          <a:xfrm>
            <a:off x="2479680" y="252360"/>
            <a:ext cx="363600" cy="368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1" descr=""/>
          <p:cNvPicPr/>
          <p:nvPr/>
        </p:nvPicPr>
        <p:blipFill>
          <a:blip r:embed="rId2"/>
          <a:srcRect l="6466" t="2285" r="7148" b="62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矩形 12"/>
          <p:cNvSpPr/>
          <p:nvPr/>
        </p:nvSpPr>
        <p:spPr>
          <a:xfrm>
            <a:off x="0" y="2637000"/>
            <a:ext cx="9144000" cy="194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47" name="图片 13" descr=""/>
          <p:cNvPicPr/>
          <p:nvPr/>
        </p:nvPicPr>
        <p:blipFill>
          <a:blip r:embed="rId3"/>
          <a:stretch/>
        </p:blipFill>
        <p:spPr>
          <a:xfrm>
            <a:off x="3267000" y="2997360"/>
            <a:ext cx="513000" cy="519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2381-1FA2-4ECD-A6AD-00EB71254AEF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1" descr=""/>
          <p:cNvPicPr/>
          <p:nvPr/>
        </p:nvPicPr>
        <p:blipFill>
          <a:blip r:embed="rId2"/>
          <a:srcRect l="-1785" t="-5391" r="-3341" b="-15064"/>
          <a:stretch/>
        </p:blipFill>
        <p:spPr>
          <a:xfrm>
            <a:off x="2457360" y="792000"/>
            <a:ext cx="5786640" cy="3284640"/>
          </a:xfrm>
          <a:prstGeom prst="rect">
            <a:avLst/>
          </a:prstGeom>
          <a:ln w="0">
            <a:noFill/>
          </a:ln>
        </p:spPr>
      </p:pic>
      <p:sp>
        <p:nvSpPr>
          <p:cNvPr id="90" name="矩形 12"/>
          <p:cNvSpPr/>
          <p:nvPr/>
        </p:nvSpPr>
        <p:spPr>
          <a:xfrm>
            <a:off x="1592280" y="2735280"/>
            <a:ext cx="5788080" cy="134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91" name="图片 13" descr=""/>
          <p:cNvPicPr/>
          <p:nvPr/>
        </p:nvPicPr>
        <p:blipFill>
          <a:blip r:embed="rId3"/>
          <a:stretch/>
        </p:blipFill>
        <p:spPr>
          <a:xfrm>
            <a:off x="1943280" y="2822400"/>
            <a:ext cx="514080" cy="519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9005-3F2F-41E2-ABFF-31481A273E1D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25880" y="2944440"/>
            <a:ext cx="511344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3273d"/>
                </a:solidFill>
                <a:latin typeface="Adobe Caslon Pro"/>
              </a:rPr>
              <a:t>PowerPoint</a:t>
            </a:r>
            <a:r>
              <a:rPr b="0" lang="zh-CN" sz="4800" spc="-1" strike="noStrike">
                <a:solidFill>
                  <a:srgbClr val="83273d"/>
                </a:solidFill>
                <a:latin typeface="幼圆"/>
              </a:rPr>
              <a:t>模板</a:t>
            </a:r>
            <a:endParaRPr b="0" lang="en-US" sz="4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024080" y="3637080"/>
            <a:ext cx="511956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686868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942c45"/>
                </a:solidFill>
                <a:latin typeface="Adobe Caslon Pro"/>
              </a:rPr>
              <a:t>单击此处添加标题</a:t>
            </a:r>
            <a:endParaRPr b="0" lang="en-US" sz="25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56000" y="2893680"/>
            <a:ext cx="4752720" cy="44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42c45"/>
                </a:solidFill>
                <a:latin typeface="Adobe Caslon Pro"/>
              </a:rPr>
              <a:t>您的章节标题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58520" y="3375000"/>
            <a:ext cx="4751640" cy="30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</a:rPr>
              <a:t>您的章节副标题您的章节副标题您的章节副标题</a:t>
            </a:r>
            <a:endParaRPr b="0" lang="en-US" sz="1200" spc="-1" strike="noStrike">
              <a:solidFill>
                <a:srgbClr val="262626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十字星 6"/>
          <p:cNvSpPr/>
          <p:nvPr/>
        </p:nvSpPr>
        <p:spPr>
          <a:xfrm>
            <a:off x="2001960" y="2997360"/>
            <a:ext cx="71280" cy="71280"/>
          </a:xfrm>
          <a:custGeom>
            <a:avLst/>
            <a:gdLst>
              <a:gd name="textAreaLeft" fmla="*/ 29160 w 71280"/>
              <a:gd name="textAreaRight" fmla="*/ 42120 w 71280"/>
              <a:gd name="textAreaTop" fmla="*/ 29160 h 71280"/>
              <a:gd name="textAreaBottom" fmla="*/ 42120 h 7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42c45"/>
          </a:solidFill>
          <a:ln w="25560">
            <a:solidFill>
              <a:srgbClr val="942c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十字星 7"/>
          <p:cNvSpPr/>
          <p:nvPr/>
        </p:nvSpPr>
        <p:spPr>
          <a:xfrm>
            <a:off x="2017800" y="3716280"/>
            <a:ext cx="71280" cy="73080"/>
          </a:xfrm>
          <a:custGeom>
            <a:avLst/>
            <a:gdLst>
              <a:gd name="textAreaLeft" fmla="*/ 29160 w 71280"/>
              <a:gd name="textAreaRight" fmla="*/ 42120 w 71280"/>
              <a:gd name="textAreaTop" fmla="*/ 30240 h 73080"/>
              <a:gd name="textAreaBottom" fmla="*/ 42840 h 7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942c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942c45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03:08:52Z</dcterms:created>
  <dc:creator>User</dc:creator>
  <dc:description/>
  <dc:language>en-US</dc:language>
  <cp:lastModifiedBy>Sky123.Org</cp:lastModifiedBy>
  <dcterms:modified xsi:type="dcterms:W3CDTF">2015-07-31T09:46:08Z</dcterms:modified>
  <cp:revision>11</cp:revision>
  <dc:subject/>
  <dc:title>PowerPoint 演示文稿</dc:title>
</cp:coreProperties>
</file>