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42c45"/>
                </a:solidFill>
                <a:latin typeface="Adobe Caslon Pro"/>
              </a:rPr>
              <a:t>Click to move the slide</a:t>
            </a: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FE671-A5DF-48D3-8FD8-C02B2DDC4D41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更多模板、视频教程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mysoeasy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96816-6651-4F71-A51A-4ACA2532351B}" type="slidenum">
              <a:rPr b="0" lang="zh-CN" sz="1200" spc="-1" strike="noStrike">
                <a:solidFill>
                  <a:srgbClr val="26262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更多模板、视频教程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mysoeasy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396B8-C050-4C88-B3D9-229731194FC6}" type="slidenum">
              <a:rPr b="0" lang="zh-CN" sz="1200" spc="-1" strike="noStrike">
                <a:solidFill>
                  <a:srgbClr val="26262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更多模板、视频教程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mysoeasy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3DAC4-A4ED-462C-99A5-722FC4990BB8}" type="slidenum">
              <a:rPr b="0" lang="zh-CN" sz="1200" spc="-1" strike="noStrike">
                <a:solidFill>
                  <a:srgbClr val="26262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更多模板、视频教程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mysoeasy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7035C-DF24-40A0-B5B6-18404105FE59}" type="slidenum">
              <a:rPr b="0" lang="zh-CN" sz="1200" spc="-1" strike="noStrike">
                <a:solidFill>
                  <a:srgbClr val="26262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484A-5302-4E0B-8C44-FA12EA5D5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822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4000320"/>
            <a:ext cx="822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F09D-153D-4BCB-8D91-607B6A0B1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0032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400032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ED44-990D-4275-8DAE-D9C5A14D4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16028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16028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400032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400032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400032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8643-0DBE-4FEF-968F-A0636A81F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4C05E-1A7F-4206-8324-38EE26AE4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160280"/>
            <a:ext cx="8229600" cy="54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07FCD-D1E6-40E6-87BE-08FCBC9CD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82296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9FBAF-FB9E-405C-B3BD-DF64D560F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FDEFA-B530-45B5-85A0-35BF8E847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F7302-25B0-493C-A79E-3364BBC58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2842920" y="253800"/>
            <a:ext cx="5616360" cy="21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5A282-1CF3-4179-8AED-6A0041847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0032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9026C-4DD3-442E-995C-016BD29AA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160280"/>
            <a:ext cx="8229600" cy="54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5515-F416-4EF6-BD3D-D6EAE640C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00032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BBE96-3EA0-4823-9FAA-BC7F6DA07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00320"/>
            <a:ext cx="822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82EDD-336B-4FDC-8769-396FB72A9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822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000320"/>
            <a:ext cx="822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E761B-A940-4EB7-98EC-F8B14F498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0032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00032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295D1-4885-4042-B940-895D1552E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16028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16028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00032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00032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00032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79A9A-775B-40C4-832D-41A135641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C68C33-3DE5-447D-8860-356401576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160280"/>
            <a:ext cx="8229600" cy="54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5E73D2-F899-4A90-881B-7DA952B90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82296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F5734F-59F4-4D6A-BB53-5ED38D051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DA226B-9ACC-4999-ACCD-20BDE95BD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CBC390-B061-42D0-8293-A9C981721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82296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53C3-0098-4CB2-96C4-6EDF993EC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2842920" y="253800"/>
            <a:ext cx="5616360" cy="21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473EBF-82C7-4558-B640-AF582B69D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0032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BE3A73-C147-40E3-A311-EF2EB9910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0032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C59BB4-61A9-42E5-BBE4-74B6DB108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00320"/>
            <a:ext cx="822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622A7E-0235-4140-811A-AE067C2F8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822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00320"/>
            <a:ext cx="822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97D7F1-D4AE-4B53-BDDF-5959E9BEA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0032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0032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59340A-AA98-4B1A-AF7B-42D5C9219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16028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16028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0032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0032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0032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AC5710-97F4-4BA0-A70C-581AAFC1C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0061-D20A-4E99-B135-DD31174B9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3C61-F449-422E-B8C0-3F398393E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842920" y="253800"/>
            <a:ext cx="5616360" cy="21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8264-39CB-4A90-A858-005A63B43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400032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BFF5-6710-42D8-847B-CB1C091AF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400032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13A8-8F6E-4631-9A20-56154CDEF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00320"/>
            <a:ext cx="822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4E55-0503-4663-8ACB-0EAFF7F8E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7" descr=""/>
          <p:cNvPicPr/>
          <p:nvPr/>
        </p:nvPicPr>
        <p:blipFill>
          <a:blip r:embed="rId2"/>
          <a:srcRect l="0" t="52762" r="4046" b="-2715"/>
          <a:stretch/>
        </p:blipFill>
        <p:spPr>
          <a:xfrm>
            <a:off x="3924360" y="0"/>
            <a:ext cx="5281560" cy="1362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160280"/>
            <a:ext cx="82296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Click to edit the outline text format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1" marL="743040" indent="-285840">
              <a:spcBef>
                <a:spcPts val="45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Second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2" marL="1143000" indent="-228600">
              <a:spcBef>
                <a:spcPts val="45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Third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3" marL="1600200" indent="-228600">
              <a:spcBef>
                <a:spcPts val="45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Fourth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4" marL="2057400" indent="-228600">
              <a:spcBef>
                <a:spcPts val="451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Fifth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5" marL="2057400" indent="-228600">
              <a:spcBef>
                <a:spcPts val="451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Sixth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6" marL="2057400" indent="-228600">
              <a:spcBef>
                <a:spcPts val="451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Seventh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d8d8d"/>
                </a:solidFill>
                <a:latin typeface="Adobe Caslon Pro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d8d8d"/>
                </a:solidFill>
                <a:latin typeface="Adobe Caslon Pro"/>
                <a:ea typeface="幼圆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d8d8d"/>
                </a:solidFill>
                <a:latin typeface="Adobe Caslon Pro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DE9B9-DDAF-49D6-9BD8-B45CF4E9F5B8}" type="slidenum">
              <a:rPr b="0" lang="zh-CN" sz="1200" spc="-1" strike="noStrike">
                <a:solidFill>
                  <a:srgbClr val="8d8d8d"/>
                </a:solidFill>
                <a:latin typeface="Adobe Caslon Pro"/>
                <a:ea typeface="幼圆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图片 8" descr=""/>
          <p:cNvPicPr/>
          <p:nvPr/>
        </p:nvPicPr>
        <p:blipFill>
          <a:blip r:embed="rId3"/>
          <a:srcRect l="0" t="53470" r="4046" b="3991"/>
          <a:stretch/>
        </p:blipFill>
        <p:spPr>
          <a:xfrm>
            <a:off x="-9360" y="0"/>
            <a:ext cx="5281560" cy="1160640"/>
          </a:xfrm>
          <a:prstGeom prst="rect">
            <a:avLst/>
          </a:prstGeom>
          <a:ln w="0">
            <a:noFill/>
          </a:ln>
        </p:spPr>
      </p:pic>
      <p:sp>
        <p:nvSpPr>
          <p:cNvPr id="6" name="矩形 9"/>
          <p:cNvSpPr/>
          <p:nvPr/>
        </p:nvSpPr>
        <p:spPr>
          <a:xfrm>
            <a:off x="-9360" y="115920"/>
            <a:ext cx="9144000" cy="64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83273d">
                <a:alpha val="19000"/>
              </a:srgbClr>
            </a:solidFill>
            <a:miter/>
          </a:ln>
          <a:effectLst>
            <a:outerShdw dist="153753" dir="2700000" blurRad="0" rotWithShape="0">
              <a:srgbClr val="000000">
                <a:alpha val="1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pic>
        <p:nvPicPr>
          <p:cNvPr id="7" name="图片 10" descr=""/>
          <p:cNvPicPr/>
          <p:nvPr/>
        </p:nvPicPr>
        <p:blipFill>
          <a:blip r:embed="rId4"/>
          <a:stretch/>
        </p:blipFill>
        <p:spPr>
          <a:xfrm>
            <a:off x="2479680" y="252360"/>
            <a:ext cx="363600" cy="36828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25000"/>
              </a:srgbClr>
            </a:outerShdw>
          </a:effectLst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842920" y="253800"/>
            <a:ext cx="56163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42c45"/>
                </a:solidFill>
                <a:latin typeface="Adobe Caslon Pro"/>
              </a:rPr>
              <a:t>Click to edit the title text format</a:t>
            </a: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图片 11" descr=""/>
          <p:cNvPicPr/>
          <p:nvPr/>
        </p:nvPicPr>
        <p:blipFill>
          <a:blip r:embed="rId2"/>
          <a:srcRect l="6466" t="2285" r="7148" b="621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矩形 12"/>
          <p:cNvSpPr/>
          <p:nvPr/>
        </p:nvSpPr>
        <p:spPr>
          <a:xfrm>
            <a:off x="0" y="2637000"/>
            <a:ext cx="9144000" cy="1944360"/>
          </a:xfrm>
          <a:prstGeom prst="rect">
            <a:avLst/>
          </a:prstGeom>
          <a:solidFill>
            <a:srgbClr val="ffffff"/>
          </a:solidFill>
          <a:ln w="12600">
            <a:solidFill>
              <a:srgbClr val="83273d">
                <a:alpha val="19000"/>
              </a:srgbClr>
            </a:solidFill>
            <a:miter/>
          </a:ln>
          <a:effectLst>
            <a:outerShdw dist="153753" dir="2700000" blurRad="0" rotWithShape="0">
              <a:srgbClr val="000000">
                <a:alpha val="1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pic>
        <p:nvPicPr>
          <p:cNvPr id="47" name="图片 13" descr=""/>
          <p:cNvPicPr/>
          <p:nvPr/>
        </p:nvPicPr>
        <p:blipFill>
          <a:blip r:embed="rId3"/>
          <a:stretch/>
        </p:blipFill>
        <p:spPr>
          <a:xfrm>
            <a:off x="3267000" y="2997360"/>
            <a:ext cx="513000" cy="5191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25000"/>
              </a:srgbClr>
            </a:outerShdw>
          </a:effectLst>
        </p:spPr>
      </p:pic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457200" y="1160280"/>
            <a:ext cx="82296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Click to edit the outline text format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1" marL="743040" indent="-285840">
              <a:spcBef>
                <a:spcPts val="45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Second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2" marL="1143000" indent="-228600">
              <a:spcBef>
                <a:spcPts val="45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Third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3" marL="1600200" indent="-228600">
              <a:spcBef>
                <a:spcPts val="45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Fourth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4" marL="2057400" indent="-228600">
              <a:spcBef>
                <a:spcPts val="451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Fifth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5" marL="2057400" indent="-228600">
              <a:spcBef>
                <a:spcPts val="451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Sixth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6" marL="2057400" indent="-228600">
              <a:spcBef>
                <a:spcPts val="451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Seventh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2842920" y="253800"/>
            <a:ext cx="56163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42c45"/>
                </a:solidFill>
                <a:latin typeface="Adobe Caslon Pro"/>
              </a:rPr>
              <a:t>Click to edit the title text format</a:t>
            </a: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d8d8d"/>
                </a:solidFill>
                <a:latin typeface="Adobe Caslon Pro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d8d8d"/>
                </a:solidFill>
                <a:latin typeface="Adobe Caslon Pro"/>
                <a:ea typeface="幼圆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d8d8d"/>
                </a:solidFill>
                <a:latin typeface="Adobe Caslon Pro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2D7BC-3CAB-43A0-8873-B64F861991AA}" type="slidenum">
              <a:rPr b="0" lang="zh-CN" sz="1200" spc="-1" strike="noStrike">
                <a:solidFill>
                  <a:srgbClr val="8d8d8d"/>
                </a:solidFill>
                <a:latin typeface="Adobe Caslon Pro"/>
                <a:ea typeface="幼圆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图片 11" descr=""/>
          <p:cNvPicPr/>
          <p:nvPr/>
        </p:nvPicPr>
        <p:blipFill>
          <a:blip r:embed="rId2"/>
          <a:srcRect l="-1785" t="-5391" r="-3341" b="-15064"/>
          <a:stretch/>
        </p:blipFill>
        <p:spPr>
          <a:xfrm>
            <a:off x="2457360" y="792000"/>
            <a:ext cx="5786640" cy="3284640"/>
          </a:xfrm>
          <a:prstGeom prst="rect">
            <a:avLst/>
          </a:prstGeom>
          <a:ln w="0">
            <a:noFill/>
          </a:ln>
        </p:spPr>
      </p:pic>
      <p:sp>
        <p:nvSpPr>
          <p:cNvPr id="90" name="矩形 12"/>
          <p:cNvSpPr/>
          <p:nvPr/>
        </p:nvSpPr>
        <p:spPr>
          <a:xfrm>
            <a:off x="1592280" y="2735280"/>
            <a:ext cx="5788080" cy="1341360"/>
          </a:xfrm>
          <a:prstGeom prst="rect">
            <a:avLst/>
          </a:prstGeom>
          <a:solidFill>
            <a:srgbClr val="ffffff"/>
          </a:solidFill>
          <a:ln w="12600">
            <a:solidFill>
              <a:srgbClr val="83273d">
                <a:alpha val="19000"/>
              </a:srgbClr>
            </a:solidFill>
            <a:miter/>
          </a:ln>
          <a:effectLst>
            <a:outerShdw dist="153753" dir="2700000" blurRad="0" rotWithShape="0">
              <a:srgbClr val="000000">
                <a:alpha val="1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pic>
        <p:nvPicPr>
          <p:cNvPr id="91" name="图片 13" descr=""/>
          <p:cNvPicPr/>
          <p:nvPr/>
        </p:nvPicPr>
        <p:blipFill>
          <a:blip r:embed="rId3"/>
          <a:stretch/>
        </p:blipFill>
        <p:spPr>
          <a:xfrm>
            <a:off x="1943280" y="2822400"/>
            <a:ext cx="514080" cy="5191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25000"/>
              </a:srgbClr>
            </a:outerShdw>
          </a:effectLst>
        </p:spPr>
      </p:pic>
      <p:sp>
        <p:nvSpPr>
          <p:cNvPr id="92" name="PlaceHolder 1"/>
          <p:cNvSpPr>
            <a:spLocks noGrp="1"/>
          </p:cNvSpPr>
          <p:nvPr>
            <p:ph type="body"/>
          </p:nvPr>
        </p:nvSpPr>
        <p:spPr>
          <a:xfrm>
            <a:off x="457200" y="1160280"/>
            <a:ext cx="82296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Click to edit the outline text format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1" marL="743040" indent="-285840">
              <a:spcBef>
                <a:spcPts val="45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Second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2" marL="1143000" indent="-228600">
              <a:spcBef>
                <a:spcPts val="45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Third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3" marL="1600200" indent="-228600">
              <a:spcBef>
                <a:spcPts val="45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Fourth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4" marL="2057400" indent="-228600">
              <a:spcBef>
                <a:spcPts val="451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Fifth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5" marL="2057400" indent="-228600">
              <a:spcBef>
                <a:spcPts val="451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Sixth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6" marL="2057400" indent="-228600">
              <a:spcBef>
                <a:spcPts val="451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Seventh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2842920" y="253800"/>
            <a:ext cx="56163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42c45"/>
                </a:solidFill>
                <a:latin typeface="Adobe Caslon Pro"/>
              </a:rPr>
              <a:t>Click to edit the title text format</a:t>
            </a: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d8d8d"/>
                </a:solidFill>
                <a:latin typeface="Adobe Caslon Pro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d8d8d"/>
                </a:solidFill>
                <a:latin typeface="Adobe Caslon Pro"/>
                <a:ea typeface="幼圆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d8d8d"/>
                </a:solidFill>
                <a:latin typeface="Adobe Caslon Pro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A29F4-1254-4EDB-B383-80F91F64C4E8}" type="slidenum">
              <a:rPr b="0" lang="zh-CN" sz="1200" spc="-1" strike="noStrike">
                <a:solidFill>
                  <a:srgbClr val="8d8d8d"/>
                </a:solidFill>
                <a:latin typeface="Adobe Caslon Pro"/>
                <a:ea typeface="幼圆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25880" y="2944440"/>
            <a:ext cx="5113440" cy="66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83273d"/>
                </a:solidFill>
                <a:latin typeface="Adobe Caslon Pro"/>
              </a:rPr>
              <a:t>PowerPoint</a:t>
            </a:r>
            <a:r>
              <a:rPr b="0" lang="zh-CN" sz="4800" spc="-1" strike="noStrike">
                <a:solidFill>
                  <a:srgbClr val="83273d"/>
                </a:solidFill>
                <a:latin typeface="幼圆"/>
              </a:rPr>
              <a:t>模板</a:t>
            </a:r>
            <a:endParaRPr b="0" lang="en-US" sz="4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024080" y="3637080"/>
            <a:ext cx="5119560" cy="2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686868"/>
              </a:solidFill>
              <a:latin typeface="Adobe Caslon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842920" y="253800"/>
            <a:ext cx="5616360" cy="4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942c45"/>
                </a:solidFill>
                <a:latin typeface="Adobe Caslon Pro"/>
              </a:rPr>
              <a:t>单击此处添加标题</a:t>
            </a:r>
            <a:endParaRPr b="0" lang="en-US" sz="25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160280"/>
            <a:ext cx="822960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556000" y="2893680"/>
            <a:ext cx="4752720" cy="44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42c45"/>
                </a:solidFill>
                <a:latin typeface="Adobe Caslon Pro"/>
              </a:rPr>
              <a:t>您的章节标题</a:t>
            </a: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558520" y="3375000"/>
            <a:ext cx="4751640" cy="303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d8d8d"/>
                </a:solidFill>
                <a:latin typeface="Adobe Caslon Pro"/>
              </a:rPr>
              <a:t>您的章节副标题您的章节副标题您的章节副标题</a:t>
            </a:r>
            <a:endParaRPr b="0" lang="en-US" sz="1200" spc="-1" strike="noStrike">
              <a:solidFill>
                <a:srgbClr val="262626"/>
              </a:solidFill>
              <a:latin typeface="Adobe Caslon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十字星 6"/>
          <p:cNvSpPr/>
          <p:nvPr/>
        </p:nvSpPr>
        <p:spPr>
          <a:xfrm>
            <a:off x="2001960" y="2997360"/>
            <a:ext cx="71280" cy="71280"/>
          </a:xfrm>
          <a:custGeom>
            <a:avLst/>
            <a:gdLst>
              <a:gd name="textAreaLeft" fmla="*/ 29160 w 71280"/>
              <a:gd name="textAreaRight" fmla="*/ 42120 w 71280"/>
              <a:gd name="textAreaTop" fmla="*/ 29160 h 71280"/>
              <a:gd name="textAreaBottom" fmla="*/ 42120 h 71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942c45"/>
          </a:solidFill>
          <a:ln w="25560">
            <a:solidFill>
              <a:srgbClr val="942c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十字星 7"/>
          <p:cNvSpPr/>
          <p:nvPr/>
        </p:nvSpPr>
        <p:spPr>
          <a:xfrm>
            <a:off x="2017800" y="3716280"/>
            <a:ext cx="71280" cy="73080"/>
          </a:xfrm>
          <a:custGeom>
            <a:avLst/>
            <a:gdLst>
              <a:gd name="textAreaLeft" fmla="*/ 29160 w 71280"/>
              <a:gd name="textAreaRight" fmla="*/ 42120 w 71280"/>
              <a:gd name="textAreaTop" fmla="*/ 30240 h 73080"/>
              <a:gd name="textAreaBottom" fmla="*/ 42840 h 73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942c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942c45"/>
              </a:solidFill>
              <a:latin typeface="Adobe Caslon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2T03:08:52Z</dcterms:created>
  <dc:creator>User</dc:creator>
  <dc:description/>
  <dc:language>en-US</dc:language>
  <cp:lastModifiedBy>Sky123.Org</cp:lastModifiedBy>
  <dcterms:modified xsi:type="dcterms:W3CDTF">2015-07-31T09:46:08Z</dcterms:modified>
  <cp:revision>11</cp:revision>
  <dc:subject/>
  <dc:title>PowerPoint 演示文稿</dc:title>
</cp:coreProperties>
</file>