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move the slide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2C62-4529-40E9-94A1-E87E2F20677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3B73-6178-45F1-8D71-D79CCCA5BE30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45C2-FB41-4E6F-8149-7D6DAAF3018C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7F64-42DF-49E1-86B0-D761974F11CF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902E-5114-40F7-AC07-FC99033BFA38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B80-A9BF-463B-82F4-671B8211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52C-6EF1-4D00-BFF3-DE5CCE7B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850-2830-4102-BEF9-107A78C3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EB9-18DF-4F74-8D6E-5382B377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3E5B-EE91-4784-916E-F7D472B0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7A37-2116-4912-A732-E403C9A1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9D81-60AF-4102-AA51-998EA9B8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324B-11FB-41F5-BEC7-FB734339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6A91-58A5-4970-BC82-7F9606AF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9CB8-8871-4772-AFC8-72031AD8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520A-3A11-490D-A709-6B277FED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06F-8850-4662-B2A0-2FDC2A38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C125-46B5-4567-8F57-2C9E0AA8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06D7-D0DB-4F1A-86FE-3E421B1C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7E81-4A29-4C7D-97F8-C5C8D953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CDED-F1BB-466B-8412-481B85C6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CEAC-0969-4A10-B8F9-30F57ED9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F6A4C-3914-4137-B5CE-C0D861A8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8FA87-C2D1-4DB6-B508-430D7128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8492A-1F91-4AFB-80B6-6A118D8B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E4D7-79F8-48D8-B0CD-AE83CCA8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D053F-FFF6-4101-92D6-6C262AB2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F37-CB26-41EA-ADCC-83877406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78264-8AD1-41DF-8F36-8B17996E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2083B-1A37-4654-B930-EB862090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6D9F-950C-4053-A375-6E9630AD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21E49-A78F-4581-B987-FC61DB02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2BDDB-EEC4-4DB2-B845-BFE899CF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3D187-C663-448C-B2DC-E3440A39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BA805-88B7-4158-85FC-283BCD7C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838A-BE70-44FF-866A-A57FB1D1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B93B-3B2F-4E8C-91E4-0859A384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92F-9C8C-4F82-8210-B144948A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257-A8E1-479D-954E-9A4EE95D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9CF-DF31-418B-94E5-F6139CC6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11A-18EA-48AD-BBCB-501805DC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0" t="52762" r="4046" b="-2715"/>
          <a:stretch/>
        </p:blipFill>
        <p:spPr>
          <a:xfrm>
            <a:off x="3924360" y="0"/>
            <a:ext cx="5281560" cy="136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743B-3949-422B-8286-6B8FED71C5DF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3"/>
          <a:srcRect l="0" t="53470" r="4046" b="3991"/>
          <a:stretch/>
        </p:blipFill>
        <p:spPr>
          <a:xfrm>
            <a:off x="-9360" y="0"/>
            <a:ext cx="5281560" cy="1160640"/>
          </a:xfrm>
          <a:prstGeom prst="rect">
            <a:avLst/>
          </a:prstGeom>
          <a:ln w="0">
            <a:noFill/>
          </a:ln>
        </p:spPr>
      </p:pic>
      <p:sp>
        <p:nvSpPr>
          <p:cNvPr id="6" name="矩形 9"/>
          <p:cNvSpPr/>
          <p:nvPr/>
        </p:nvSpPr>
        <p:spPr>
          <a:xfrm>
            <a:off x="-9360" y="115920"/>
            <a:ext cx="914400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7" name="图片 10" descr=""/>
          <p:cNvPicPr/>
          <p:nvPr/>
        </p:nvPicPr>
        <p:blipFill>
          <a:blip r:embed="rId4"/>
          <a:stretch/>
        </p:blipFill>
        <p:spPr>
          <a:xfrm>
            <a:off x="2479680" y="252360"/>
            <a:ext cx="363600" cy="36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1" descr=""/>
          <p:cNvPicPr/>
          <p:nvPr/>
        </p:nvPicPr>
        <p:blipFill>
          <a:blip r:embed="rId2"/>
          <a:srcRect l="6466" t="2285" r="7148" b="62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12"/>
          <p:cNvSpPr/>
          <p:nvPr/>
        </p:nvSpPr>
        <p:spPr>
          <a:xfrm>
            <a:off x="0" y="2637000"/>
            <a:ext cx="9144000" cy="19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7" name="图片 13" descr=""/>
          <p:cNvPicPr/>
          <p:nvPr/>
        </p:nvPicPr>
        <p:blipFill>
          <a:blip r:embed="rId3"/>
          <a:stretch/>
        </p:blipFill>
        <p:spPr>
          <a:xfrm>
            <a:off x="3267000" y="2997360"/>
            <a:ext cx="51300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1567-07AD-4A9D-B012-3CB780D2E657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1" descr=""/>
          <p:cNvPicPr/>
          <p:nvPr/>
        </p:nvPicPr>
        <p:blipFill>
          <a:blip r:embed="rId2"/>
          <a:srcRect l="-1785" t="-5391" r="-3341" b="-15064"/>
          <a:stretch/>
        </p:blipFill>
        <p:spPr>
          <a:xfrm>
            <a:off x="2457360" y="792000"/>
            <a:ext cx="5786640" cy="32846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1592280" y="2735280"/>
            <a:ext cx="5788080" cy="13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1" name="图片 13" descr=""/>
          <p:cNvPicPr/>
          <p:nvPr/>
        </p:nvPicPr>
        <p:blipFill>
          <a:blip r:embed="rId3"/>
          <a:stretch/>
        </p:blipFill>
        <p:spPr>
          <a:xfrm>
            <a:off x="1943280" y="2822400"/>
            <a:ext cx="51408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C8D6-1232-4BA1-81F0-99B393A4EC3E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25880" y="2944440"/>
            <a:ext cx="51134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3273d"/>
                </a:solidFill>
                <a:latin typeface="Adobe Caslon Pro"/>
              </a:rPr>
              <a:t>PowerPoint</a:t>
            </a:r>
            <a:r>
              <a:rPr b="0" lang="zh-CN" sz="4800" spc="-1" strike="noStrike">
                <a:solidFill>
                  <a:srgbClr val="83273d"/>
                </a:solidFill>
                <a:latin typeface="幼圆"/>
              </a:rPr>
              <a:t>模板</a:t>
            </a:r>
            <a:endParaRPr b="0" lang="en-US" sz="4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024080" y="3637080"/>
            <a:ext cx="51195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686868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42c45"/>
                </a:solidFill>
                <a:latin typeface="Adobe Caslon Pro"/>
              </a:rPr>
              <a:t>单击此处添加标题</a:t>
            </a:r>
            <a:endParaRPr b="0" lang="en-US" sz="25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6000" y="2893680"/>
            <a:ext cx="4752720" cy="4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2c45"/>
                </a:solidFill>
                <a:latin typeface="Adobe Caslon Pro"/>
              </a:rPr>
              <a:t>您的章节标题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58520" y="3375000"/>
            <a:ext cx="4751640" cy="3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</a:rPr>
              <a:t>您的章节副标题您的章节副标题您的章节副标题</a:t>
            </a:r>
            <a:endParaRPr b="0" lang="en-US" sz="12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十字星 6"/>
          <p:cNvSpPr/>
          <p:nvPr/>
        </p:nvSpPr>
        <p:spPr>
          <a:xfrm>
            <a:off x="2001960" y="29973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2c45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十字星 7"/>
          <p:cNvSpPr/>
          <p:nvPr/>
        </p:nvSpPr>
        <p:spPr>
          <a:xfrm>
            <a:off x="2017800" y="3716280"/>
            <a:ext cx="71280" cy="73080"/>
          </a:xfrm>
          <a:custGeom>
            <a:avLst/>
            <a:gdLst>
              <a:gd name="textAreaLeft" fmla="*/ 29160 w 71280"/>
              <a:gd name="textAreaRight" fmla="*/ 42120 w 7128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08:52Z</dcterms:created>
  <dc:creator>User</dc:creator>
  <dc:description/>
  <dc:language>en-US</dc:language>
  <cp:lastModifiedBy>Sky123.Org</cp:lastModifiedBy>
  <dcterms:modified xsi:type="dcterms:W3CDTF">2015-07-31T09:46:08Z</dcterms:modified>
  <cp:revision>11</cp:revision>
  <dc:subject/>
  <dc:title>PowerPoint 演示文稿</dc:title>
</cp:coreProperties>
</file>