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applause.wav" ContentType="audio/x-wav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36F-8642-4571-A72D-EB642CB2C6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——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不同特点的桥，让学生说出特点，不必求全，大致说出即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——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每张右下角都有箭头链接下课幻灯片（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——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每张右下角都有箭头链接下课幻灯片（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——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每张右下角都有箭头链接下课幻灯片（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张），随时可以下课，不一定        每张都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451-8507-4EB4-8893-BD3A3ABA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5E0-8EAB-40D7-84B7-EB510A11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480-5C53-469E-8938-9E99E20D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265-8F06-423E-AFA1-3F27E209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A46-CF27-4D3C-A80A-603BE45D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FCF-6AFD-4B56-B170-9B581852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8A8-BD97-4F33-AB71-7421D072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7B7-2466-4C23-8310-D61DCCB9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9E8-81C5-4745-A3AE-72619B45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665-C096-4E2C-A042-7224A33B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A36-51A3-462E-A69B-F1AA4CB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17B-A57C-4542-845A-BED3979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E953-BB16-4CE3-97ED-DA0B2749A4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&#38899;&#20048;/4637%20%20.m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" Target="slide29.xml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9.png"/><Relationship Id="rId3" Type="http://schemas.openxmlformats.org/officeDocument/2006/relationships/image" Target="../media/image21.jpe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27080" y="117360"/>
            <a:ext cx="8864640" cy="6588360"/>
            <a:chOff x="127080" y="117360"/>
            <a:chExt cx="8864640" cy="65883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27080" y="117360"/>
              <a:ext cx="4432320" cy="35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4559400" y="117360"/>
              <a:ext cx="4432320" cy="34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52280" y="3581280"/>
              <a:ext cx="4802400" cy="31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4876920" y="3581280"/>
              <a:ext cx="411480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417760" y="2984400"/>
              <a:ext cx="413532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 u="sng">
                  <a:solidFill>
                    <a:srgbClr val="009999"/>
                  </a:solidFill>
                  <a:uFillTx/>
                  <a:latin typeface="Times New Roman"/>
                  <a:ea typeface="华文彩云"/>
                  <a:hlinkClick r:id="rId5"/>
                </a:rPr>
                <a:t>乌镇</a:t>
              </a:r>
              <a:r>
                <a:rPr b="1" lang="zh-CN" sz="6000" spc="-1" strike="noStrike">
                  <a:solidFill>
                    <a:srgbClr val="ff0066"/>
                  </a:solidFill>
                  <a:latin typeface="Times New Roman"/>
                  <a:ea typeface="华文彩云"/>
                </a:rPr>
                <a:t>石拱桥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91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464832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91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0200" y="60948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隶书"/>
              </a:rPr>
              <a:t>桥  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42670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吴冠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304920"/>
            <a:ext cx="25905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美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104760"/>
            <a:ext cx="8839440" cy="6600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3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371600"/>
            <a:ext cx="8686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快速阅读课文，在文中写桥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的地方做上记号。小组交流，准备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桥之美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美在</a:t>
            </a:r>
            <a:r>
              <a:rPr b="1" lang="zh-CN" sz="4000" spc="-1" strike="noStrike" u="sng">
                <a:solidFill>
                  <a:srgbClr val="00ff00"/>
                </a:solidFill>
                <a:uFillTx/>
                <a:latin typeface="Arial"/>
              </a:rPr>
              <a:t>＿＿＿＿＿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”的句式说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222200" y="-3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790640" y="-3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114800" y="2133720"/>
            <a:ext cx="99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桥之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1066680" y="1600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乌镇石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10666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江南石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90720" y="3352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苏州宝带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907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风雨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990720" y="5105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清明上河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7" action="ppaction://hlinksldjump"/>
          </p:cNvPr>
          <p:cNvSpPr/>
          <p:nvPr/>
        </p:nvSpPr>
        <p:spPr>
          <a:xfrm>
            <a:off x="1066680" y="5867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乡间小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6019920" y="1752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索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9" action="ppaction://hlinksldjump"/>
          </p:cNvPr>
          <p:cNvSpPr/>
          <p:nvPr/>
        </p:nvSpPr>
        <p:spPr>
          <a:xfrm>
            <a:off x="6095880" y="2514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各式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0" action="ppaction://hlinksldjump"/>
          </p:cNvPr>
          <p:cNvSpPr/>
          <p:nvPr/>
        </p:nvSpPr>
        <p:spPr>
          <a:xfrm>
            <a:off x="6095880" y="3276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鹊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1" action="ppaction://hlinksldjump"/>
          </p:cNvPr>
          <p:cNvSpPr/>
          <p:nvPr/>
        </p:nvSpPr>
        <p:spPr>
          <a:xfrm>
            <a:off x="6095880" y="4114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概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2" action="ppaction://hlinksldjump"/>
          </p:cNvPr>
          <p:cNvSpPr/>
          <p:nvPr/>
        </p:nvSpPr>
        <p:spPr>
          <a:xfrm>
            <a:off x="6095880" y="5029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5715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166520" y="-723600"/>
            <a:ext cx="109476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文鼎圆立体"/>
              </a:rPr>
              <a:t>乌镇苇丛上的石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640" y="-1413360"/>
            <a:ext cx="1642680" cy="9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美在</a:t>
            </a:r>
            <a:r>
              <a:rPr b="0" lang="zh-CN" sz="4800" spc="-1" strike="noStrike">
                <a:solidFill>
                  <a:srgbClr val="99ff33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与        配合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感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383000" cy="6248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14440" cy="65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568800" y="1828800"/>
            <a:ext cx="164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33"/>
                </a:solidFill>
                <a:latin typeface="Arial"/>
                <a:ea typeface="楷体_GB2312"/>
              </a:rPr>
              <a:t>石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2480" y="3733920"/>
            <a:ext cx="1642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33"/>
                </a:solidFill>
                <a:latin typeface="Arial"/>
                <a:ea typeface="楷体_GB2312"/>
              </a:rPr>
              <a:t>苇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636120" y="1981080"/>
            <a:ext cx="2009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ff33"/>
                </a:solidFill>
                <a:latin typeface="Arial"/>
                <a:ea typeface="楷体_GB2312"/>
              </a:rPr>
              <a:t>舒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8153280" y="6172200"/>
            <a:ext cx="6858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974000" y="348840"/>
            <a:ext cx="100332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江南乡间的石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457200"/>
            <a:ext cx="514440" cy="6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"/>
          <p:cNvSpPr/>
          <p:nvPr/>
        </p:nvSpPr>
        <p:spPr>
          <a:xfrm>
            <a:off x="-548280" y="-108000"/>
            <a:ext cx="93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美在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与       配合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令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7145280" cy="4733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09680" y="-1522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ff33"/>
                </a:solidFill>
                <a:latin typeface="Arial"/>
                <a:ea typeface="楷体_GB2312"/>
              </a:rPr>
              <a:t>石桥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-15228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ff33"/>
                </a:solidFill>
                <a:latin typeface="Arial"/>
                <a:ea typeface="楷体_GB2312"/>
              </a:rPr>
              <a:t>细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8380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ff33"/>
                </a:solidFill>
                <a:latin typeface="Arial"/>
                <a:ea typeface="楷体_GB2312"/>
              </a:rPr>
              <a:t>销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8153280" y="6172200"/>
            <a:ext cx="6858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907920"/>
            <a:ext cx="8077320" cy="427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1967760" y="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苏州的宝带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1600" y="5335560"/>
            <a:ext cx="786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美在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与        配合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打破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95280" y="5486400"/>
            <a:ext cx="514440" cy="6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"/>
          <p:cNvSpPr/>
          <p:nvPr/>
        </p:nvSpPr>
        <p:spPr>
          <a:xfrm>
            <a:off x="3352680" y="52578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33"/>
                </a:solidFill>
                <a:latin typeface="Arial"/>
                <a:ea typeface="楷体_GB2312"/>
              </a:rPr>
              <a:t>长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5334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33"/>
                </a:solidFill>
                <a:latin typeface="Arial"/>
                <a:ea typeface="楷体_GB2312"/>
              </a:rPr>
              <a:t>水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60339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33"/>
                </a:solidFill>
                <a:latin typeface="Arial"/>
                <a:ea typeface="楷体_GB2312"/>
              </a:rPr>
              <a:t>单调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153280" y="617220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8077320" y="5334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3975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09280" y="30492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形式独特的广西、云南、贵州山区的风雨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18796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美在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与       配合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引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867280" y="6019920"/>
            <a:ext cx="514440" cy="65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1905120" y="518148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33"/>
                </a:solidFill>
                <a:latin typeface="Arial"/>
                <a:ea typeface="楷体_GB2312"/>
              </a:rPr>
              <a:t>风雨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51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33"/>
                </a:solidFill>
                <a:latin typeface="Arial"/>
                <a:ea typeface="楷体_GB2312"/>
              </a:rPr>
              <a:t>苇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3396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ff33"/>
                </a:solidFill>
                <a:latin typeface="Arial"/>
                <a:ea typeface="楷体_GB2312"/>
              </a:rPr>
              <a:t>驻足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153280" y="6019920"/>
            <a:ext cx="685800" cy="54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28600" y="152280"/>
            <a:ext cx="8763120" cy="6553440"/>
            <a:chOff x="228600" y="152280"/>
            <a:chExt cx="8763120" cy="655344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8763120" cy="65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124080" y="1066680"/>
              <a:ext cx="251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6666ff"/>
                  </a:solidFill>
                  <a:latin typeface="Arial"/>
                </a:rPr>
                <a:t>赵州桥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6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920" y="51055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清明上河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867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形象的重叠与交错构成丰富的画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5950080"/>
            <a:ext cx="514080" cy="65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5546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无论是木桥还是石桥，其身段的纵横与桥下的水波协同谱出形与色的乐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562720"/>
            <a:ext cx="514440" cy="65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51440" y="3200400"/>
            <a:ext cx="202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66ff"/>
                </a:solidFill>
                <a:latin typeface="Arial"/>
              </a:rPr>
              <a:t>索　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12136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画家眼里的索桥却是一条线，一道富有弹性的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514080" cy="65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摄影师和画家继续在探寻桥之美，大桥、小桥，各有其美。有人画鹊桥，喜鹊构成的桥不仅意义好，形式也自由，生动活泼。凡是起到构成及联系之关键作用的形象，其实也就具备了桥之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8600" y="152280"/>
            <a:ext cx="8686440" cy="5333760"/>
            <a:chOff x="228600" y="152280"/>
            <a:chExt cx="8686440" cy="533376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4933800" y="152280"/>
              <a:ext cx="398124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4861440" y="2819160"/>
              <a:ext cx="40536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228600" y="2819160"/>
              <a:ext cx="470520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228600" y="152280"/>
              <a:ext cx="4705200" cy="26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52280" y="5334120"/>
            <a:ext cx="514440" cy="65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76720" y="3214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桥之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752480"/>
            <a:ext cx="7620120" cy="7086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108160"/>
            <a:ext cx="792468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小桥              流水、人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              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乌镇石桥                  密密的苇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          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江南石桥                        细柳拂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长桥卧龙                                 湖水苍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风雨桥                                               飞瀑流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画中桥                                                        街头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索桥                                                                 高山峡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8e7e72"/>
                </a:solidFill>
                <a:latin typeface="Times New Roman"/>
                <a:ea typeface="黑体"/>
              </a:rPr>
              <a:t>桥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黑体"/>
              </a:rPr>
              <a:t>                                                          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黑体"/>
              </a:rPr>
              <a:t>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4743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8600" y="380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选读自己喜爱的描写“桥之美”的句段，你能理解画家为什么说它美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514080" cy="65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152280"/>
            <a:ext cx="8991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</a:t>
            </a:r>
            <a:r>
              <a:rPr b="1" lang="zh-CN" sz="5500" spc="-1" strike="noStrike">
                <a:solidFill>
                  <a:srgbClr val="ffffff"/>
                </a:solidFill>
                <a:latin typeface="华文楷体"/>
                <a:ea typeface="华文楷体"/>
              </a:rPr>
              <a:t>总之，桥之美，美在与周围景色的融和、映衬、呼应，注意到点、线、面的搭配；和周围景物既形成对照又不失和谐；桥之美，美在不同环境中具有不同的美学效果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514080" cy="65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33720" y="914400"/>
            <a:ext cx="3886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ff"/>
                </a:solidFill>
                <a:latin typeface="Arial"/>
                <a:ea typeface="华文彩云"/>
              </a:rPr>
              <a:t>学生作品展示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0" r="0" b="-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87640" y="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280" y="228600"/>
          <a:ext cx="8610840" cy="6488280"/>
        </p:xfrm>
        <a:graphic>
          <a:graphicData uri="http://schemas.openxmlformats.org/drawingml/2006/table">
            <a:tbl>
              <a:tblPr/>
              <a:tblGrid>
                <a:gridCol w="1295640"/>
                <a:gridCol w="3423960"/>
                <a:gridCol w="3891240"/>
              </a:tblGrid>
              <a:tr h="703440"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《中国石拱桥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《桥之美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960">
                <a:tc>
                  <a:txBody>
                    <a:bodyPr lIns="0" rIns="0" tIns="46800" bIns="46800" anchor="t" anchorCtr="1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内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08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1989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1143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介绍石拱桥形式优美、结构坚固、历史悠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443700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121932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从美学角度发掘桥在不同环境中所产生的美学效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4038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较为规范的说明文，用科学、平实的语言向读者解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396252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带说明性质的小品文，在举例时，或描写景物或抒发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848720" y="5943600"/>
            <a:ext cx="514080" cy="6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280" y="152280"/>
            <a:ext cx="8839440" cy="6553080"/>
            <a:chOff x="152280" y="152280"/>
            <a:chExt cx="8839440" cy="65530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883944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733920" y="308160"/>
              <a:ext cx="251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Arial"/>
                </a:rPr>
                <a:t>卢沟桥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295280" y="2362320"/>
            <a:ext cx="24386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再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362320"/>
            <a:ext cx="2438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见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165400" y="2606760"/>
            <a:ext cx="4813200" cy="1646280"/>
            <a:chOff x="2165400" y="2606760"/>
            <a:chExt cx="4813200" cy="1646280"/>
          </a:xfrm>
        </p:grpSpPr>
        <p:sp>
          <p:nvSpPr>
            <p:cNvPr id="61" name=""/>
            <p:cNvSpPr/>
            <p:nvPr/>
          </p:nvSpPr>
          <p:spPr>
            <a:xfrm>
              <a:off x="2165400" y="2606760"/>
              <a:ext cx="4813200" cy="16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2165400" y="2606760"/>
              <a:ext cx="4813200" cy="1646280"/>
              <a:chOff x="2165400" y="2606760"/>
              <a:chExt cx="4813200" cy="1646280"/>
            </a:xfrm>
          </p:grpSpPr>
          <p:sp>
            <p:nvSpPr>
              <p:cNvPr id="63" name=""/>
              <p:cNvSpPr/>
              <p:nvPr/>
            </p:nvSpPr>
            <p:spPr>
              <a:xfrm>
                <a:off x="2165400" y="2606760"/>
                <a:ext cx="48132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165400" y="2606760"/>
                <a:ext cx="4813200" cy="164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zh-CN" sz="9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60948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Arial"/>
              </a:rPr>
              <a:t>古浮桥之东津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1000" y="1143000"/>
            <a:ext cx="11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500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钱塘江桥，中国第一座公路、铁路两用梁桥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1430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钱塘江桥，中国第一座公路、铁路两用梁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-120600" y="152280"/>
            <a:ext cx="9144000" cy="6477120"/>
            <a:chOff x="-120600" y="152280"/>
            <a:chExt cx="9144000" cy="6477120"/>
          </a:xfrm>
        </p:grpSpPr>
        <p:sp>
          <p:nvSpPr>
            <p:cNvPr id="73" name=""/>
            <p:cNvSpPr/>
            <p:nvPr/>
          </p:nvSpPr>
          <p:spPr>
            <a:xfrm>
              <a:off x="-120600" y="1643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广安门立交桥.jpg (26458 字节)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876312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733920" y="533520"/>
              <a:ext cx="4419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66ff"/>
                  </a:solidFill>
                  <a:latin typeface="Arial"/>
                </a:rPr>
                <a:t>广安门立交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0440"/>
            <a:ext cx="8763120" cy="649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3049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66ff"/>
                </a:solidFill>
                <a:latin typeface="Arial"/>
              </a:rPr>
              <a:t>四川岷江吊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gxyhy</dc:creator>
  <dc:description>淘课件网 http://www.taokejian.com</dc:description>
  <dc:language>en-US</dc:language>
  <cp:lastModifiedBy>微软用户</cp:lastModifiedBy>
  <dcterms:modified xsi:type="dcterms:W3CDTF">2011-10-27T00:05:39Z</dcterms:modified>
  <cp:revision>34</cp:revision>
  <dc:subject/>
  <dc:title>淘课件网 http://www.tao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