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5DED-CEF0-4158-B4A3-75B81BB8F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D3CB-F271-443E-98A6-884ABD371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75BD-C7C3-405A-A8B7-92E6CF198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F18A-FFD6-4D63-940E-0DE30C795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9D97-33B8-4792-9CC9-27BF6799F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54C4-3F03-4FB4-8165-2523137C3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D0FD-AE7A-488E-AFE8-22C653780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AD3C-DD4C-44C6-9B68-2FC154885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AB04-6F74-4C6D-A24D-7AD799F03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BEA4-2FBB-4B33-9BE2-D0E9A0F58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8A87-A49D-460B-9DFE-49E63606F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6838-2603-441C-8D84-395A33179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A5B4D-0501-43AE-91B9-988D01B5B2C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gsrc.baidu.com/baike/pic/item/aa251d4fd13dcf25aec3ab46.jpg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755640" y="4076640"/>
            <a:ext cx="525636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猫的天堂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6264360" cy="46864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1979640" y="5084640"/>
            <a:ext cx="44640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逃走</a:t>
            </a:r>
            <a:endParaRPr b="0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067280" cy="4572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968720" y="0"/>
            <a:ext cx="4175280" cy="4572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945800" y="4888080"/>
            <a:ext cx="4497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自由带给自己的乐趣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烂泥的温和与柔润，像走在天鹅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上，遇到了老雄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·········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水槽的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美味是调糖的牛奶比不上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·····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3933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427640" y="0"/>
            <a:ext cx="4716360" cy="39337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588760" y="4076640"/>
            <a:ext cx="376812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开始按饥受冷的生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看到很好的肋条肉，但挨了做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女人的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········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老雄猫告诉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要等到晚上到垃圾堆里找吃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·····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92720" cy="35067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3429000"/>
            <a:ext cx="5292720" cy="3429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657040" y="333360"/>
            <a:ext cx="2861640" cy="82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饥冷让“我”怀念舒适的生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雾下雨的夜，没有白色的屋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阳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··········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我想念枕头，被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·····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躲避拿着筐子和铁钩的人，怕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油炸了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······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95640" cy="3789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995640" y="0"/>
            <a:ext cx="5148360" cy="38512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619280" y="4581360"/>
            <a:ext cx="568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该死的街道！该死的自由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多么想回我那牢狱啊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03640" cy="3645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632560" y="193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645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677600" y="4365720"/>
            <a:ext cx="5728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老雄猫带我回家，并说：“你那种丰腴的生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只有贱猫觉的好，自由的猫绝不用牢狱的代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来购买你所吃的肉和你那羽毛的枕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·······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再会吧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83236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736320" y="-1035360"/>
            <a:ext cx="1642680" cy="87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贪图安逸，牺牲自由，重返“安乐窝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领略了一番温暖而挨打的欢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6769080" cy="45356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935800" y="5013360"/>
            <a:ext cx="405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”的理解，真正的幸福与天堂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就是关闭在一间有肉吃的屋子里挨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95280" y="260280"/>
            <a:ext cx="3384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讨论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4" name=""/>
          <p:cNvSpPr/>
          <p:nvPr/>
        </p:nvSpPr>
        <p:spPr>
          <a:xfrm>
            <a:off x="2196720" y="2133720"/>
            <a:ext cx="524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作者通过猫的自述想要表达怎样的价值观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349520" y="2781360"/>
            <a:ext cx="354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害怕艰辛，贪图安逸，乞讨施舍，必丧失自由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尊严和人格，这样的人生是可悲的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056320" y="4149720"/>
            <a:ext cx="5493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通过这篇故事，你自己是否赞成猫的价值观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果你是它，你会有什么样的想法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79280" y="476280"/>
            <a:ext cx="91440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左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法国作家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世纪后半期法国重要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9999"/>
                </a:solidFill>
                <a:uFillTx/>
                <a:latin typeface="Arial"/>
              </a:rPr>
              <a:t>批判现实主义作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也是自然主义文学流派的领袖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840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日生于巴黎，一生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成数十部长篇小说，代表作为</a:t>
            </a:r>
            <a:r>
              <a:rPr b="1" lang="zh-CN" sz="3200" spc="-1" strike="noStrike" u="sng">
                <a:solidFill>
                  <a:srgbClr val="009999"/>
                </a:solidFill>
                <a:uFillTx/>
                <a:latin typeface="Arial"/>
              </a:rPr>
              <a:t>《萌芽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期作品有短篇小说集《妮侬的故事》，长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说《克洛德的忏悔》。因煤气中毒而逝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90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日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90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，法兰西共和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政府因为左拉生前对法国文学的卓越贡献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他补行国葬，并使之进入伟人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00000" y="0"/>
            <a:ext cx="712944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463400" y="476280"/>
            <a:ext cx="6290280" cy="44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教学任务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识记文中生字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体会猫的形象意义，把握文章主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理解作者在人生哲理，立世人格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面的重大思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02280" y="1890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Arial"/>
              </a:rPr>
              <a:t>生字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98480" y="1203480"/>
            <a:ext cx="7902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颟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腻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讪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诅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瑟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丰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掸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肋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38440" y="1197000"/>
            <a:ext cx="2268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mān hā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nì fá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shà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zǔ  zhò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s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y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dǎn zhǒ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lè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83520" y="6206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03640" y="47628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099040" y="476280"/>
            <a:ext cx="173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hè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相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hēn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号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6440" y="16686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76720" y="162864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13960" y="1557360"/>
            <a:ext cx="130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xuě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血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xì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血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440" y="2781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148360" y="263700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66960" y="2637000"/>
            <a:ext cx="100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t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踏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t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踏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54800" y="38606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37162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96400" y="3716280"/>
            <a:ext cx="142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diào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调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tiáo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调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54800" y="5013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48360" y="486900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5680" y="4869000"/>
            <a:ext cx="118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h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恐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xi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吓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010640" y="10922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451640" y="98100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28040" y="907920"/>
            <a:ext cx="128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zh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油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zh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爆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31520" y="2708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380360" y="256536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628400" y="2565360"/>
            <a:ext cx="122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fē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fè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过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10640" y="43322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451640" y="422100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698960" y="4221000"/>
            <a:ext cx="99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āi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挨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ái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挨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1344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63480" y="482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457680" y="0"/>
            <a:ext cx="23752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</a:rPr>
              <a:t>安戈兰出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</a:rPr>
              <a:t>的猫，冬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</a:rPr>
              <a:t>的晚上，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</a:rPr>
              <a:t>坐在火炉旁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</a:rPr>
              <a:t>给我讲故事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427640" y="4365720"/>
            <a:ext cx="3529080" cy="1727280"/>
          </a:xfrm>
          <a:prstGeom prst="wedgeEllipseCallout">
            <a:avLst>
              <a:gd name="adj1" fmla="val -85717"/>
              <a:gd name="adj2" fmla="val -824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的愿望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的梦想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···········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594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737240" y="1628640"/>
            <a:ext cx="4406760" cy="52293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5651640" y="260280"/>
            <a:ext cx="2376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自负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00000" y="4941720"/>
            <a:ext cx="3024360" cy="11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臃肿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00720" cy="33670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500720" y="3284640"/>
            <a:ext cx="4643280" cy="33573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427640" y="260280"/>
            <a:ext cx="1873080" cy="2592360"/>
          </a:xfrm>
          <a:prstGeom prst="leftArrowCallout">
            <a:avLst>
              <a:gd name="adj1" fmla="val 34603"/>
              <a:gd name="adj2" fmla="val 34600"/>
              <a:gd name="adj3" fmla="val 16667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916360" y="3933720"/>
            <a:ext cx="1800000" cy="2087640"/>
          </a:xfrm>
          <a:prstGeom prst="rightArrowCallout">
            <a:avLst>
              <a:gd name="adj1" fmla="val 28998"/>
              <a:gd name="adj2" fmla="val 28995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588000" y="836640"/>
            <a:ext cx="25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弱小的年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0240" y="4149720"/>
            <a:ext cx="167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煮的半熟，带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鲜血肉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88000" cy="33624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643280" y="0"/>
            <a:ext cx="4500720" cy="1871640"/>
          </a:xfrm>
          <a:prstGeom prst="wedgeRoundRectCallout">
            <a:avLst>
              <a:gd name="adj1" fmla="val -63370"/>
              <a:gd name="adj2" fmla="val 6280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抚摸叫我讨厌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舒适叫我腻烦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胖的闹出病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整天愁闷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·······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788000" y="3357720"/>
            <a:ext cx="4356000" cy="35002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187280" y="3716280"/>
            <a:ext cx="3240360" cy="1728720"/>
          </a:xfrm>
          <a:prstGeom prst="wedgeRectCallout">
            <a:avLst>
              <a:gd name="adj1" fmla="val 94046"/>
              <a:gd name="adj2" fmla="val -96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伸长脖颈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向窗外，四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猫在打架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··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·················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4T12:14:34Z</dcterms:created>
  <dc:creator>雨林木风</dc:creator>
  <dc:description/>
  <dc:language>en-US</dc:language>
  <cp:lastModifiedBy>User</cp:lastModifiedBy>
  <dcterms:modified xsi:type="dcterms:W3CDTF">2012-06-13T02:12:58Z</dcterms:modified>
  <cp:revision>34</cp:revision>
  <dc:subject/>
  <dc:title>幻灯片 1</dc:title>
</cp:coreProperties>
</file>