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1BE-B3C5-4632-ACDE-01E00F1A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7AC-A50B-4925-B772-63EF620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D1E-F516-452F-B1D4-00F67565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D85-86D1-4353-A2F7-0CCBCB0C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B1E-4B03-4B0E-ACC5-634F27E9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F56-A8EF-4495-925A-52400346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5FF-F695-4BBB-823B-784BF850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EE5-5DFF-4477-9DB5-859D7910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EB6-6AB3-4450-A080-ADCB43AD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429-C460-43F5-BE89-C758A2EE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340-F5EC-4E87-85F0-D004878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102-06D8-4C95-9F83-A03D666F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5730-10BF-4BA3-9028-1D0ECCDACA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aa251d4fd13dcf25aec3ab46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4076640"/>
            <a:ext cx="52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猫的天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4686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79640" y="508464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逃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68720" y="0"/>
            <a:ext cx="4175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45800" y="4888080"/>
            <a:ext cx="449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带给自己的乐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烂泥的温和与柔润，像走在天鹅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遇到了老雄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槽的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味是调糖的牛奶比不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88760" y="4076640"/>
            <a:ext cx="376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按饥受冷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很好的肋条肉，但挨了做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女人的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告诉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等到晚上到垃圾堆里找吃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7040" y="333360"/>
            <a:ext cx="2861640" cy="82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饥冷让“我”怀念舒适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雾下雨的夜，没有白色的屋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念枕头，被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拿着筐子和铁钩的人，怕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了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458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死的街道！该死的自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么想回我那牢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7600" y="436572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带我回家，并说：“你那种丰腴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贱猫觉的好，自由的猫绝不用牢狱的代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购买你所吃的肉和你那羽毛的枕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6320" y="-1035360"/>
            <a:ext cx="1642680" cy="87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图安逸，牺牲自由，重返“安乐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略了一番温暖而挨打的欢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35800" y="5013360"/>
            <a:ext cx="40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理解，真正的幸福与天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关闭在一间有肉吃的屋子里挨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6028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196720" y="213372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通过猫的自述想要表达怎样的价值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9520" y="278136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害怕艰辛，贪图安逸，乞讨施舍，必丧失自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严和人格，这样的人生是可悲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6320" y="41497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篇故事，你自己是否赞成猫的价值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它，你会有什么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左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后半期法国重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批判现实主义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是自然主义文学流派的领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生于巴黎，一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数十部长篇小说，代表作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《萌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作品有短篇小说集《妮侬的故事》，长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《克洛德的忏悔》。因煤气中毒而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法兰西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因为左拉生前对法国文学的卓越贡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他补行国葬，并使之进入伟人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400" y="476280"/>
            <a:ext cx="629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任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识记文中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会猫的形象意义，把握文章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作者在人生哲理，立世人格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的重大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228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8480" y="12034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颟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腻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讪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诅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瑟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掸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肋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8440" y="1197000"/>
            <a:ext cx="22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ān 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ì f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ǔ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ǎn z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83520" y="62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76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47628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440" y="166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3960" y="155736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u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6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6960" y="2637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8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0" y="371628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5480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86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5680" y="4869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吓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640" y="109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98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040" y="90792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15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56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0" y="2565360"/>
            <a:ext cx="12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ē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42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8960" y="4221000"/>
            <a:ext cx="9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ā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348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57680" y="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安戈兰出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猫，冬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晚上，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坐在火炉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给我讲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365720"/>
            <a:ext cx="3529080" cy="1727280"/>
          </a:xfrm>
          <a:prstGeom prst="wedgeEllipseCallout">
            <a:avLst>
              <a:gd name="adj1" fmla="val -85717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愿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梦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9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37240" y="1628640"/>
            <a:ext cx="440676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651640" y="26028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00000" y="4941720"/>
            <a:ext cx="3024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臃肿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27640" y="260280"/>
            <a:ext cx="1873080" cy="2592360"/>
          </a:xfrm>
          <a:prstGeom prst="leftArrowCallout">
            <a:avLst>
              <a:gd name="adj1" fmla="val 34603"/>
              <a:gd name="adj2" fmla="val 34600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933720"/>
            <a:ext cx="1800000" cy="2087640"/>
          </a:xfrm>
          <a:prstGeom prst="rightArrowCallout">
            <a:avLst>
              <a:gd name="adj1" fmla="val 28998"/>
              <a:gd name="adj2" fmla="val 2899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小的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0240" y="4149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煮的半熟，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鲜血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6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3280" y="0"/>
            <a:ext cx="4500720" cy="1871640"/>
          </a:xfrm>
          <a:prstGeom prst="wedgeRoundRectCallout">
            <a:avLst>
              <a:gd name="adj1" fmla="val -63370"/>
              <a:gd name="adj2" fmla="val 62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抚摸叫我讨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舒适叫我腻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胖的闹出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天愁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3716280"/>
            <a:ext cx="3240360" cy="1728720"/>
          </a:xfrm>
          <a:prstGeom prst="wedgeRectCallout">
            <a:avLst>
              <a:gd name="adj1" fmla="val 94046"/>
              <a:gd name="adj2" fmla="val -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长脖颈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窗外，四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猫在打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14:34Z</dcterms:created>
  <dc:creator>雨林木风</dc:creator>
  <dc:description/>
  <dc:language>en-US</dc:language>
  <cp:lastModifiedBy>User</cp:lastModifiedBy>
  <dcterms:modified xsi:type="dcterms:W3CDTF">2012-06-13T02:12:58Z</dcterms:modified>
  <cp:revision>34</cp:revision>
  <dc:subject/>
  <dc:title>幻灯片 1</dc:title>
</cp:coreProperties>
</file>