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9F23-140C-40EE-96A3-D18C2CB5D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A6D-656B-4AED-9158-77647F4B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D79E-F4D0-4B4D-8933-6AD2FA05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C170-196E-487A-8820-ACF4BE42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BAA-92DE-48A1-93AB-30F27E5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1A5C-3526-468E-A9FC-276DF984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FC7-66E7-4ECC-99DE-C04FCE15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470C-7EE9-488D-9526-ADE4A857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0C2-0502-4D5D-BADA-ECC79300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7F8-4C16-495B-B2DF-BE225745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9C0-ED5F-4EB4-85A2-18BB25E4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AF61-3CB7-430E-AD6E-31E5E885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B723-AF7A-4CEC-8CAA-8ADF5F39B1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src.baidu.com/baike/pic/item/aa251d4fd13dcf25aec3ab46.jp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55640" y="4076640"/>
            <a:ext cx="52563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猫的天堂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264360" cy="4686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79640" y="5084640"/>
            <a:ext cx="446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逃走</a:t>
            </a:r>
            <a:endParaRPr b="0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67280" cy="457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68720" y="0"/>
            <a:ext cx="4175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45800" y="4888080"/>
            <a:ext cx="449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由带给自己的乐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烂泥的温和与柔润，像走在天鹅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，遇到了老雄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水槽的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味是调糖的牛奶比不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39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933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88760" y="4076640"/>
            <a:ext cx="37681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始按饥受冷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很好的肋条肉，但挨了做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女人的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告诉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等到晚上到垃圾堆里找吃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506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29272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7040" y="333360"/>
            <a:ext cx="2861640" cy="82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饥冷让“我”怀念舒适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雾下雨的夜，没有白色的屋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阳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想念枕头，被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躲避拿着筐子和铁钩的人，怕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了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378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8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619280" y="4581360"/>
            <a:ext cx="56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该死的街道！该死的自由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多么想回我那牢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03640" cy="3645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63256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77600" y="4365720"/>
            <a:ext cx="572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雄猫带我回家，并说：“你那种丰腴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有贱猫觉的好，自由的猫绝不用牢狱的代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购买你所吃的肉和你那羽毛的枕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再会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736320" y="-1035360"/>
            <a:ext cx="1642680" cy="87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图安逸，牺牲自由，重返“安乐窝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领略了一番温暖而挨打的欢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6769080" cy="4535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35800" y="5013360"/>
            <a:ext cx="40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”的理解，真正的幸福与天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关闭在一间有肉吃的屋子里挨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260280"/>
            <a:ext cx="338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讨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/>
          <p:nvPr/>
        </p:nvSpPr>
        <p:spPr>
          <a:xfrm>
            <a:off x="2196720" y="2133720"/>
            <a:ext cx="52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通过猫的自述想要表达怎样的价值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9520" y="2781360"/>
            <a:ext cx="3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害怕艰辛，贪图安逸，乞讨施舍，必丧失自由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尊严和人格，这样的人生是可悲的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6320" y="41497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这篇故事，你自己是否赞成猫的价值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是它，你会有什么样的想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476280"/>
            <a:ext cx="9144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左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法国作家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纪后半期法国重要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批判现实主义作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也是自然主义文学流派的领袖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4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生于巴黎，一生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数十部长篇小说，代表作为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《萌芽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期作品有短篇小说集《妮侬的故事》，长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说《克洛德的忏悔》。因煤气中毒而逝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法兰西共和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政府因为左拉生前对法国文学的卓越贡献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他补行国葬，并使之进入伟人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1294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63400" y="476280"/>
            <a:ext cx="62902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任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识记文中生字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体会猫的形象意义，把握文章主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作者在人生哲理，立世人格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面的重大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2280" y="1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</a:rPr>
              <a:t>生字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98480" y="1203480"/>
            <a:ext cx="790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颟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腻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讪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诅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瑟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掸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肋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38440" y="1197000"/>
            <a:ext cx="226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mān h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ì f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hà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ǔ  zh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s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y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dǎn zhǒ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l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83520" y="62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7628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47628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hē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6440" y="166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6720" y="1628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13960" y="1557360"/>
            <a:ext cx="13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u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ì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440" y="2781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2637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66960" y="263700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踏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54800" y="3860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0" y="3716280"/>
            <a:ext cx="14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ià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iá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54800" y="5013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4869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5680" y="4869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恐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xi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吓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640" y="109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98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8040" y="907920"/>
            <a:ext cx="128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油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zh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爆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1520" y="2708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380360" y="2565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28400" y="2565360"/>
            <a:ext cx="122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ē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è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10640" y="4332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42210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98960" y="4221000"/>
            <a:ext cx="99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ā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á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挨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1344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348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57680" y="0"/>
            <a:ext cx="2375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安戈兰出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猫，冬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的晚上，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坐在火炉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给我讲故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27640" y="4365720"/>
            <a:ext cx="3529080" cy="1727280"/>
          </a:xfrm>
          <a:prstGeom prst="wedgeEllipseCallout">
            <a:avLst>
              <a:gd name="adj1" fmla="val -85717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愿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梦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94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37240" y="1628640"/>
            <a:ext cx="4406760" cy="522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651640" y="260280"/>
            <a:ext cx="2376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自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00000" y="4941720"/>
            <a:ext cx="302436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臃肿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67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643280" cy="3357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427640" y="260280"/>
            <a:ext cx="1873080" cy="2592360"/>
          </a:xfrm>
          <a:prstGeom prst="leftArrowCallout">
            <a:avLst>
              <a:gd name="adj1" fmla="val 34603"/>
              <a:gd name="adj2" fmla="val 34600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16360" y="3933720"/>
            <a:ext cx="1800000" cy="2087640"/>
          </a:xfrm>
          <a:prstGeom prst="rightArrowCallout">
            <a:avLst>
              <a:gd name="adj1" fmla="val 28998"/>
              <a:gd name="adj2" fmla="val 28995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836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弱小的年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0240" y="41497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煮的半熟，带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鲜血肉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8000" cy="3362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643280" y="0"/>
            <a:ext cx="4500720" cy="1871640"/>
          </a:xfrm>
          <a:prstGeom prst="wedgeRoundRectCallout">
            <a:avLst>
              <a:gd name="adj1" fmla="val -63370"/>
              <a:gd name="adj2" fmla="val 62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抚摸叫我讨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舒适叫我腻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胖的闹出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天愁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4356000" cy="350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187280" y="3716280"/>
            <a:ext cx="3240360" cy="1728720"/>
          </a:xfrm>
          <a:prstGeom prst="wedgeRectCallout">
            <a:avLst>
              <a:gd name="adj1" fmla="val 94046"/>
              <a:gd name="adj2" fmla="val -9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伸长脖颈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窗外，四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猫在打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··········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2:14:34Z</dcterms:created>
  <dc:creator>雨林木风</dc:creator>
  <dc:description/>
  <dc:language>en-US</dc:language>
  <cp:lastModifiedBy>User</cp:lastModifiedBy>
  <dcterms:modified xsi:type="dcterms:W3CDTF">2012-06-13T02:12:58Z</dcterms:modified>
  <cp:revision>34</cp:revision>
  <dc:subject/>
  <dc:title>幻灯片 1</dc:title>
</cp:coreProperties>
</file>