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37AE-4170-48D8-897F-B39B42DB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8125-F3AF-4E27-8F38-4B6A8DB9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226F-0571-44EC-BB7F-B39A489D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AEE-EB73-476E-BA2A-A336C15D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AF0-B462-486D-8D8B-E93509E7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1FA4-D8C8-4002-8A7A-2EF81D2D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0919-A68C-4165-A4EC-7BF1C0B2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93BB-B78E-42FF-AE59-4579F0D1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E2D-B57A-4D63-A4B7-A9BDF326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157A-37A9-49D6-9200-92F4BA71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9731-E31B-43A4-ACB5-94BAD95C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AF15-D65B-40FC-8838-66E6BA68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5748-C0F6-45DA-890B-AC80F43CB2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src.baidu.com/baike/pic/item/aa251d4fd13dcf25aec3ab46.jpg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55640" y="4076640"/>
            <a:ext cx="5256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猫的天堂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264360" cy="4686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979640" y="5084640"/>
            <a:ext cx="446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逃走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457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968720" y="0"/>
            <a:ext cx="4175280" cy="4572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45800" y="4888080"/>
            <a:ext cx="4497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由带给自己的乐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烂泥的温和与柔润，像走在天鹅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，遇到了老雄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水槽的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味是调糖的牛奶比不上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3933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933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88760" y="4076640"/>
            <a:ext cx="37681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按饥受冷的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到很好的肋条肉，但挨了做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女人的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雄猫告诉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等到晚上到垃圾堆里找吃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3506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5292720" cy="3429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657040" y="333360"/>
            <a:ext cx="2861640" cy="82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饥冷让“我”怀念舒适的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雾下雨的夜，没有白色的屋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阳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我想念枕头，被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躲避拿着筐子和铁钩的人，怕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油炸了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3789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95640" y="0"/>
            <a:ext cx="5148360" cy="3851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19280" y="4581360"/>
            <a:ext cx="56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该死的街道！该死的自由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多么想回我那牢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3645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632560" y="19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645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77600" y="4365720"/>
            <a:ext cx="572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雄猫带我回家，并说：“你那种丰腴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有贱猫觉的好，自由的猫绝不用牢狱的代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购买你所吃的肉和你那羽毛的枕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会吧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323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736320" y="-1035360"/>
            <a:ext cx="1642680" cy="87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贪图安逸，牺牲自由，重返“安乐窝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领略了一番温暖而挨打的欢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769080" cy="4535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35800" y="5013360"/>
            <a:ext cx="405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理解，真正的幸福与天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是关闭在一间有肉吃的屋子里挨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5280" y="260280"/>
            <a:ext cx="338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讨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"/>
          <p:cNvSpPr/>
          <p:nvPr/>
        </p:nvSpPr>
        <p:spPr>
          <a:xfrm>
            <a:off x="2196720" y="2133720"/>
            <a:ext cx="52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通过猫的自述想要表达怎样的价值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9520" y="2781360"/>
            <a:ext cx="35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害怕艰辛，贪图安逸，乞讨施舍，必丧失自由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尊严和人格，这样的人生是可悲的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6320" y="4149720"/>
            <a:ext cx="549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这篇故事，你自己是否赞成猫的价值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你是它，你会有什么样的想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476280"/>
            <a:ext cx="9144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左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法国作家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后半期法国重要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批判现实主义作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也是自然主义文学流派的领袖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40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生于巴黎，一生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数十部长篇小说，代表作为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《萌芽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期作品有短篇小说集《妮侬的故事》，长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说《克洛德的忏悔》。因煤气中毒而逝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0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0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法兰西共和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政府因为左拉生前对法国文学的卓越贡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他补行国葬，并使之进入伟人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1294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63400" y="476280"/>
            <a:ext cx="629028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任务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识记文中生字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体会猫的形象意义，把握文章主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理解作者在人生哲理，立世人格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面的重大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2280" y="1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生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8480" y="1203480"/>
            <a:ext cx="790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颟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腻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讪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诅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瑟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丰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掸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肋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38440" y="1197000"/>
            <a:ext cx="2268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mān h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nì f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h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zǔ  zhò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y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dǎn zhǒ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lè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83520" y="620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7628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99040" y="476280"/>
            <a:ext cx="173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hè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hē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6440" y="1668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13960" y="1557360"/>
            <a:ext cx="13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u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ì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44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2637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66960" y="2637000"/>
            <a:ext cx="100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踏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踏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54800" y="3860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37162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0" y="3716280"/>
            <a:ext cx="142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ià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iá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54800" y="5013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4869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5680" y="4869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恐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i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吓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640" y="1092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51640" y="981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8040" y="907920"/>
            <a:ext cx="128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h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油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h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爆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31520" y="270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80360" y="25653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8400" y="2565360"/>
            <a:ext cx="122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ē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è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10640" y="4332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4221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98960" y="4221000"/>
            <a:ext cx="99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ā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挨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á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挨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134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6348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57680" y="0"/>
            <a:ext cx="2375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安戈兰出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的猫，冬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的晚上，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坐在火炉旁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给我讲故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27640" y="4365720"/>
            <a:ext cx="3529080" cy="1727280"/>
          </a:xfrm>
          <a:prstGeom prst="wedgeEllipseCallout">
            <a:avLst>
              <a:gd name="adj1" fmla="val -85717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愿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梦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··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594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737240" y="1628640"/>
            <a:ext cx="4406760" cy="5229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5651640" y="260280"/>
            <a:ext cx="237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自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00000" y="4941720"/>
            <a:ext cx="302436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臃肿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367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4643280" cy="3357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27640" y="260280"/>
            <a:ext cx="1873080" cy="2592360"/>
          </a:xfrm>
          <a:prstGeom prst="leftArrowCallout">
            <a:avLst>
              <a:gd name="adj1" fmla="val 34603"/>
              <a:gd name="adj2" fmla="val 34600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16360" y="3933720"/>
            <a:ext cx="1800000" cy="2087640"/>
          </a:xfrm>
          <a:prstGeom prst="rightArrowCallout">
            <a:avLst>
              <a:gd name="adj1" fmla="val 28998"/>
              <a:gd name="adj2" fmla="val 28995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836640"/>
            <a:ext cx="2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弱小的年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0240" y="414972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煮的半熟，带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鲜血肉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362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43280" y="0"/>
            <a:ext cx="4500720" cy="1871640"/>
          </a:xfrm>
          <a:prstGeom prst="wedgeRoundRectCallout">
            <a:avLst>
              <a:gd name="adj1" fmla="val -63370"/>
              <a:gd name="adj2" fmla="val 628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抚摸叫我讨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舒适叫我腻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胖的闹出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天愁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4356000" cy="3500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187280" y="3716280"/>
            <a:ext cx="3240360" cy="1728720"/>
          </a:xfrm>
          <a:prstGeom prst="wedgeRectCallout">
            <a:avLst>
              <a:gd name="adj1" fmla="val 94046"/>
              <a:gd name="adj2" fmla="val -9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伸长脖颈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向窗外，四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猫在打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········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2:14:34Z</dcterms:created>
  <dc:creator>雨林木风</dc:creator>
  <dc:description/>
  <dc:language>en-US</dc:language>
  <cp:lastModifiedBy>User</cp:lastModifiedBy>
  <dcterms:modified xsi:type="dcterms:W3CDTF">2012-06-13T02:12:58Z</dcterms:modified>
  <cp:revision>34</cp:revision>
  <dc:subject/>
  <dc:title>幻灯片 1</dc:title>
</cp:coreProperties>
</file>