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4.gif" ContentType="image/gif"/>
  <Override PartName="/ppt/media/image1.jpeg" ContentType="image/jpeg"/>
  <Override PartName="/ppt/media/image9.png" ContentType="image/png"/>
  <Override PartName="/ppt/media/image5.gif" ContentType="image/gif"/>
  <Override PartName="/ppt/media/image14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1.png" ContentType="image/png"/>
  <Override PartName="/ppt/media/image16.gif" ContentType="image/gif"/>
  <Override PartName="/ppt/media/image15.png" ContentType="image/png"/>
  <Override PartName="/ppt/media/image2.png" ContentType="image/png"/>
  <Override PartName="/ppt/media/image22.gif" ContentType="image/gif"/>
  <Override PartName="/ppt/media/image17.jpeg" ContentType="image/jpeg"/>
  <Override PartName="/ppt/media/image3.png" ContentType="image/png"/>
  <Override PartName="/ppt/media/image10.png" ContentType="image/png"/>
  <Override PartName="/ppt/media/image6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华文新魏"/>
              </a:defRPr>
            </a:lvl1pPr>
          </a:lstStyle>
          <a:p>
            <a: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华文新魏"/>
              </a:defRPr>
            </a:lvl1pPr>
          </a:lstStyle>
          <a:p>
            <a: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0D46-1969-47C4-90A8-13E3F3CE84C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5613-2E7A-41FB-A6F8-EA52CA82E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7161-DB94-4FE0-BC06-0E73B9E1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8820-BB32-4D7F-A5C3-5961DF953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E5A1-A079-4FAF-82E9-E9507AE1C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BA86-89F9-4E8B-A408-47513C41C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E859-ACC8-41C2-9AF7-6DC253E8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600F-AC08-491C-893C-FE8475AE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6697-10E1-4B41-9501-3A1D6C81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9BB5-8029-4150-8FBC-88187893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102D-4C1F-4F40-BB21-F6BFD3AE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28BA-AB07-4A2D-90C7-751695AD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4848-C5D1-430B-B1CE-818781C2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7718-28B6-4C29-859B-62F8D0D1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7FCCC-1468-43C2-B548-B83773F5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57E1-C635-4A65-BBED-D86C39DD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A533-0FEA-45F1-A701-F5C0C6250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B8165-2509-4837-9C2B-703A9B52B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742B-60E0-45F9-A605-17237849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F832-3082-4B27-9E06-4C16D438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3779-EBBD-48DC-9788-E58AC0EC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E2AB-788C-447E-8793-198A8623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85F1-86A9-47FF-A932-06D6378F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828B-D74B-47DF-A4D2-AA945956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086B-CE70-4FFE-9075-AC332E3D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0DC2-A316-479D-AA5C-CF83C3E5FCAC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1412-E176-456D-8752-41984A19969D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ydt.com/video/n_show/Nav_178/8F855179_1.htm" TargetMode="External"/><Relationship Id="rId2" Type="http://schemas.openxmlformats.org/officeDocument/2006/relationships/hyperlink" Target="http://www.1ydt.com/video/n_show/Nav_178/8F855179_1.htm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15.png"/><Relationship Id="rId3" Type="http://schemas.openxmlformats.org/officeDocument/2006/relationships/hyperlink" Target="http://www.1ydt.com/video/n_show/Nav_178/8F855179_1.htm" TargetMode="External"/><Relationship Id="rId4" Type="http://schemas.openxmlformats.org/officeDocument/2006/relationships/hyperlink" Target="http://www.1ydt.com/video/n_show/Nav_178/8F855179_1.htm" TargetMode="Externa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hyperlink" Target="http://www.1ydt.com/video/n_show/Nav_178/8F855179_1.htm" TargetMode="External"/><Relationship Id="rId4" Type="http://schemas.openxmlformats.org/officeDocument/2006/relationships/hyperlink" Target="http://www.1ydt.com/video/n_show/Nav_178/8F855179_1.htm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1ydt.com/video/n_show/Nav_178/8F855179_1.htm" TargetMode="External"/><Relationship Id="rId3" Type="http://schemas.openxmlformats.org/officeDocument/2006/relationships/hyperlink" Target="http://www.1ydt.com/video/n_show/Nav_178/8F855179_1.htm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1ydt.com/video/n_show/Nav_178/8F855179_1.htm" TargetMode="External"/><Relationship Id="rId2" Type="http://schemas.openxmlformats.org/officeDocument/2006/relationships/hyperlink" Target="http://www.1ydt.com/video/n_show/Nav_178/8F855179_1.htm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1.xml"/><Relationship Id="rId3" Type="http://schemas.openxmlformats.org/officeDocument/2006/relationships/image" Target="../media/image21.png"/><Relationship Id="rId4" Type="http://schemas.openxmlformats.org/officeDocument/2006/relationships/slide" Target="slide20.xml"/><Relationship Id="rId5" Type="http://schemas.openxmlformats.org/officeDocument/2006/relationships/slide" Target="slide22.xml"/><Relationship Id="rId6" Type="http://schemas.openxmlformats.org/officeDocument/2006/relationships/image" Target="../media/image4.gif"/><Relationship Id="rId7" Type="http://schemas.openxmlformats.org/officeDocument/2006/relationships/hyperlink" Target="http://www.1ydt.com/video/n_show/Nav_178/8F855179_1.htm" TargetMode="External"/><Relationship Id="rId8" Type="http://schemas.openxmlformats.org/officeDocument/2006/relationships/hyperlink" Target="http://www.1ydt.com/video/n_show/Nav_178/8F855179_1.htm" TargetMode="External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4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ydt.com/video/n_show/Nav_178/8F855179_1.htm" TargetMode="External"/><Relationship Id="rId2" Type="http://schemas.openxmlformats.org/officeDocument/2006/relationships/hyperlink" Target="http://www.1ydt.com/video/n_show/Nav_178/8F855179_1.htm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7.xm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" Target="slide4.xml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1.xm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952812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理智面对学习压力主题班会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高三二班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15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月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3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日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3743280" y="6129360"/>
            <a:ext cx="1873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66ffff"/>
                </a:solidFill>
                <a:uFillTx/>
                <a:latin typeface="Times New Roman"/>
                <a:ea typeface="宋体"/>
                <a:hlinkClick r:id="rId1"/>
              </a:rPr>
              <a:t>点此播放教学视频</a:t>
            </a:r>
            <a:r>
              <a:rPr b="1" lang="zh-CN" sz="1800" spc="-1" strike="noStrike" u="sng">
                <a:solidFill>
                  <a:srgbClr val="66ffff"/>
                </a:solidFill>
                <a:uFillTx/>
                <a:latin typeface="Times New Roman"/>
                <a:ea typeface="宋体"/>
                <a:hlinkClick r:id="rId2"/>
              </a:rPr>
              <a:t>            </a:t>
            </a: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35053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黑体"/>
                <a:ea typeface="黑体"/>
              </a:rPr>
              <a:t>议一议：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在学习生活中，同样的课程，同样的老师教，有的同学越学</a:t>
            </a:r>
            <a:r>
              <a:rPr b="1" lang="zh-CN" sz="4000" spc="-1" strike="noStrike">
                <a:solidFill>
                  <a:srgbClr val="c00000"/>
                </a:solidFill>
                <a:latin typeface="黑体"/>
                <a:ea typeface="黑体"/>
              </a:rPr>
              <a:t>越有趣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越学</a:t>
            </a:r>
            <a:r>
              <a:rPr b="1" lang="zh-CN" sz="4000" spc="-1" strike="noStrike">
                <a:solidFill>
                  <a:srgbClr val="c00000"/>
                </a:solidFill>
                <a:latin typeface="黑体"/>
                <a:ea typeface="黑体"/>
              </a:rPr>
              <a:t>越轻松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；有的同学则越学越觉得是一种</a:t>
            </a:r>
            <a:r>
              <a:rPr b="1" lang="zh-CN" sz="4000" spc="-1" strike="noStrike">
                <a:solidFill>
                  <a:srgbClr val="c00000"/>
                </a:solidFill>
                <a:latin typeface="黑体"/>
                <a:ea typeface="黑体"/>
              </a:rPr>
              <a:t>负担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；有的同学可以连续几个小时看电视或玩游戏仍然</a:t>
            </a:r>
            <a:r>
              <a:rPr b="1" lang="zh-CN" sz="4000" spc="-1" strike="noStrike">
                <a:solidFill>
                  <a:srgbClr val="c00000"/>
                </a:solidFill>
                <a:latin typeface="黑体"/>
                <a:ea typeface="黑体"/>
              </a:rPr>
              <a:t>余兴未尽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而上课却觉得</a:t>
            </a:r>
            <a:r>
              <a:rPr b="1" lang="zh-CN" sz="4000" spc="-1" strike="noStrike">
                <a:solidFill>
                  <a:srgbClr val="c00000"/>
                </a:solidFill>
                <a:latin typeface="黑体"/>
                <a:ea typeface="黑体"/>
              </a:rPr>
              <a:t>又累又困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457200" y="54864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黑体"/>
                <a:ea typeface="黑体"/>
              </a:rPr>
              <a:t>请问：这是为什么？</a:t>
            </a:r>
            <a:endParaRPr b="1" lang="en-US" sz="5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55" name="Picture 6" descr="200556181616425"/>
          <p:cNvPicPr/>
          <p:nvPr/>
        </p:nvPicPr>
        <p:blipFill>
          <a:blip r:embed="rId1"/>
          <a:stretch/>
        </p:blipFill>
        <p:spPr>
          <a:xfrm>
            <a:off x="7620120" y="5105520"/>
            <a:ext cx="1523880" cy="17524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blinds dir="ver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、缓解学习压力的有效方法：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43000" y="16761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明确学习</a:t>
            </a:r>
            <a:r>
              <a:rPr b="1" lang="zh-CN" sz="4000" spc="-1" strike="noStrike">
                <a:solidFill>
                  <a:srgbClr val="c00000"/>
                </a:solidFill>
                <a:latin typeface="黑体"/>
                <a:ea typeface="黑体"/>
              </a:rPr>
              <a:t>意义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培养学习</a:t>
            </a:r>
            <a:r>
              <a:rPr b="1" lang="zh-CN" sz="4000" spc="-1" strike="noStrike">
                <a:solidFill>
                  <a:srgbClr val="c00000"/>
                </a:solidFill>
                <a:latin typeface="黑体"/>
                <a:ea typeface="黑体"/>
              </a:rPr>
              <a:t>兴趣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学会正确对待压力，学会将</a:t>
            </a:r>
            <a:r>
              <a:rPr b="1" lang="zh-CN" sz="4000" spc="-1" strike="noStrike">
                <a:solidFill>
                  <a:srgbClr val="c00000"/>
                </a:solidFill>
                <a:latin typeface="黑体"/>
                <a:ea typeface="黑体"/>
              </a:rPr>
              <a:t>压力化为动力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5">
            <a:hlinkClick r:id="rId1" action="ppaction://hlinksldjump"/>
          </p:cNvPr>
          <p:cNvSpPr/>
          <p:nvPr/>
        </p:nvSpPr>
        <p:spPr>
          <a:xfrm>
            <a:off x="8458200" y="914400"/>
            <a:ext cx="442800" cy="485640"/>
          </a:xfrm>
          <a:prstGeom prst="rightArrow">
            <a:avLst>
              <a:gd name="adj1" fmla="val 50000"/>
              <a:gd name="adj2" fmla="val 25000"/>
            </a:avLst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59" name="Picture 6" descr="20040511783263939"/>
          <p:cNvPicPr/>
          <p:nvPr/>
        </p:nvPicPr>
        <p:blipFill>
          <a:blip r:embed="rId2"/>
          <a:stretch/>
        </p:blipFill>
        <p:spPr>
          <a:xfrm>
            <a:off x="5334120" y="4572000"/>
            <a:ext cx="3809880" cy="22860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7"/>
          <p:cNvSpPr/>
          <p:nvPr/>
        </p:nvSpPr>
        <p:spPr>
          <a:xfrm>
            <a:off x="1371600" y="4495680"/>
            <a:ext cx="4495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）深呼吸，做体育运动；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）听音乐，放松自己；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）找朋友聊天；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）对照镜子喊“加油”等。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5867280" y="4114800"/>
            <a:ext cx="1873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66ffff"/>
                </a:solidFill>
                <a:uFillTx/>
                <a:latin typeface="Times New Roman"/>
                <a:ea typeface="宋体"/>
                <a:hlinkClick r:id="rId3"/>
              </a:rPr>
              <a:t>点此播放教学视频</a:t>
            </a:r>
            <a:r>
              <a:rPr b="1" lang="zh-CN" sz="1800" spc="-1" strike="noStrike" u="sng">
                <a:solidFill>
                  <a:srgbClr val="66ffff"/>
                </a:solidFill>
                <a:uFillTx/>
                <a:latin typeface="Times New Roman"/>
                <a:ea typeface="宋体"/>
                <a:hlinkClick r:id="rId4"/>
              </a:rPr>
              <a:t>            </a:t>
            </a: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80880" y="152280"/>
            <a:ext cx="8382240" cy="990720"/>
          </a:xfrm>
          <a:prstGeom prst="rect">
            <a:avLst/>
          </a:prstGeom>
          <a:noFill/>
          <a:ln w="38160">
            <a:solidFill>
              <a:srgbClr val="ffff66"/>
            </a:solidFill>
            <a:miter/>
          </a:ln>
        </p:spPr>
        <p:txBody>
          <a:bodyPr anchor="ctr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小清的故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0" y="6095880"/>
            <a:ext cx="98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、小清是否面临过大的压力？压力来自哪里？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64" name="Picture 5" descr="0067"/>
          <p:cNvPicPr/>
          <p:nvPr/>
        </p:nvPicPr>
        <p:blipFill>
          <a:blip r:embed="rId1"/>
          <a:stretch/>
        </p:blipFill>
        <p:spPr>
          <a:xfrm>
            <a:off x="0" y="1219320"/>
            <a:ext cx="2819520" cy="43434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2971800" y="129528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黑体"/>
              </a:rPr>
              <a:t>凌晨三点，小清看着没有复习好的课文，急得想哭。想到即将到来的中考，她心里就更加慌乱。第二天早上，小清拖着疲乏的身体到了学校，觉得头脑中一片空白。</a:t>
            </a:r>
            <a:endParaRPr b="1" lang="en-US" sz="4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7350480" y="502596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黑体"/>
              </a:rPr>
              <a:t>考试</a:t>
            </a:r>
            <a:endParaRPr b="1" lang="en-US" sz="66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7">
                                  <p:stCondLst>
                                    <p:cond delay="100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20056821739246"/>
          <p:cNvPicPr/>
          <p:nvPr/>
        </p:nvPicPr>
        <p:blipFill>
          <a:blip r:embed="rId1"/>
          <a:stretch/>
        </p:blipFill>
        <p:spPr>
          <a:xfrm>
            <a:off x="4724280" y="1219320"/>
            <a:ext cx="3810240" cy="28954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304920" y="4876920"/>
            <a:ext cx="8762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黑体"/>
              </a:rPr>
              <a:t>俗话说：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黑体"/>
              </a:rPr>
              <a:t>分分分，学生的命根；</a:t>
            </a:r>
            <a:br>
              <a:rPr sz="4400"/>
            </a:b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黑体"/>
              </a:rPr>
              <a:t>                     考考考，老师的法宝。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4291560" y="434340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我们所感受到的学习压力，常常与考试联系在一起。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533520" y="30492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二、从容面对考试</a:t>
            </a:r>
            <a:endParaRPr b="1" lang="en-US" sz="48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71" name="Picture 8" descr="2004111895517278"/>
          <p:cNvPicPr/>
          <p:nvPr/>
        </p:nvPicPr>
        <p:blipFill>
          <a:blip r:embed="rId2"/>
          <a:stretch/>
        </p:blipFill>
        <p:spPr>
          <a:xfrm>
            <a:off x="762120" y="1219320"/>
            <a:ext cx="3809880" cy="28954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"/>
          <p:cNvSpPr/>
          <p:nvPr/>
        </p:nvSpPr>
        <p:spPr>
          <a:xfrm>
            <a:off x="3743280" y="6129360"/>
            <a:ext cx="1873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66ffff"/>
                </a:solidFill>
                <a:uFillTx/>
                <a:latin typeface="Times New Roman"/>
                <a:ea typeface="宋体"/>
                <a:hlinkClick r:id="rId3"/>
              </a:rPr>
              <a:t>点此播放教学视频</a:t>
            </a:r>
            <a:r>
              <a:rPr b="1" lang="zh-CN" sz="1800" spc="-1" strike="noStrike" u="sng">
                <a:solidFill>
                  <a:srgbClr val="66ffff"/>
                </a:solidFill>
                <a:uFillTx/>
                <a:latin typeface="Times New Roman"/>
                <a:ea typeface="宋体"/>
                <a:hlinkClick r:id="rId4"/>
              </a:rPr>
              <a:t>            </a:t>
            </a: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20056821739246"/>
          <p:cNvPicPr/>
          <p:nvPr/>
        </p:nvPicPr>
        <p:blipFill>
          <a:blip r:embed="rId1"/>
          <a:stretch/>
        </p:blipFill>
        <p:spPr>
          <a:xfrm>
            <a:off x="4724280" y="45720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"/>
          <p:cNvSpPr/>
          <p:nvPr/>
        </p:nvSpPr>
        <p:spPr>
          <a:xfrm>
            <a:off x="228600" y="373392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如果面临的考试很重要，或者考试的难度过大；他人、自己的过高要求超过了个人的实际能力；对考试分数要求过高；仅以考试成绩来判断个人的价值等，都容易导致我们陷入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4890240" y="586728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考试焦虑。</a:t>
            </a:r>
            <a:endParaRPr b="1" lang="en-US" sz="48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76" name="Picture 7" descr="2004111895517278"/>
          <p:cNvPicPr/>
          <p:nvPr/>
        </p:nvPicPr>
        <p:blipFill>
          <a:blip r:embed="rId2"/>
          <a:stretch/>
        </p:blipFill>
        <p:spPr>
          <a:xfrm>
            <a:off x="685800" y="457200"/>
            <a:ext cx="3809880" cy="2895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、考试焦虑形成的原因：</a:t>
            </a:r>
            <a:br>
              <a:rPr sz="4800"/>
            </a:b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28600" y="13712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(1)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面临的考试很重要，或者考试难度过大；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(2)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他人、自己的过高要求超过了个人的实际能力；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   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（</a:t>
            </a: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）仅以考试成绩来判断个人的价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5" descr="1088807429__DaWuu"/>
          <p:cNvPicPr/>
          <p:nvPr/>
        </p:nvPicPr>
        <p:blipFill>
          <a:blip r:embed="rId1"/>
          <a:stretch/>
        </p:blipFill>
        <p:spPr>
          <a:xfrm>
            <a:off x="6095880" y="5394240"/>
            <a:ext cx="3048120" cy="14637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6"/>
          <p:cNvSpPr/>
          <p:nvPr/>
        </p:nvSpPr>
        <p:spPr>
          <a:xfrm>
            <a:off x="3743280" y="6129360"/>
            <a:ext cx="1873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66ffff"/>
                </a:solidFill>
                <a:uFillTx/>
                <a:latin typeface="Times New Roman"/>
                <a:ea typeface="宋体"/>
                <a:hlinkClick r:id="rId2"/>
              </a:rPr>
              <a:t>点此播放教学视频</a:t>
            </a:r>
            <a:r>
              <a:rPr b="1" lang="zh-CN" sz="1800" spc="-1" strike="noStrike" u="sng">
                <a:solidFill>
                  <a:srgbClr val="66ffff"/>
                </a:solidFill>
                <a:uFillTx/>
                <a:latin typeface="Times New Roman"/>
                <a:ea typeface="宋体"/>
                <a:hlinkClick r:id="rId3"/>
              </a:rPr>
              <a:t>            </a:t>
            </a: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、如何客观评价考试焦虑？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   </a:t>
            </a: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(1)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适度的考试焦虑，体现了我们对考试积极认真的态度；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   </a:t>
            </a: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(2)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过度的考试焦虑，则会干扰我们的学习、对身心健康造成不利影响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   </a:t>
            </a: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(3)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要克服过度焦虑，从容面对考试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743280" y="6129360"/>
            <a:ext cx="1873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66ffff"/>
                </a:solidFill>
                <a:uFillTx/>
                <a:latin typeface="Times New Roman"/>
                <a:ea typeface="宋体"/>
                <a:hlinkClick r:id="rId1"/>
              </a:rPr>
              <a:t>点此播放教学视频</a:t>
            </a:r>
            <a:r>
              <a:rPr b="1" lang="zh-CN" sz="1800" spc="-1" strike="noStrike" u="sng">
                <a:solidFill>
                  <a:srgbClr val="66ffff"/>
                </a:solidFill>
                <a:uFillTx/>
                <a:latin typeface="Times New Roman"/>
                <a:ea typeface="宋体"/>
                <a:hlinkClick r:id="rId2"/>
              </a:rPr>
              <a:t>            </a:t>
            </a: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1104885724_Iwaq4v"/>
          <p:cNvPicPr/>
          <p:nvPr/>
        </p:nvPicPr>
        <p:blipFill>
          <a:blip r:embed="rId1"/>
          <a:stretch/>
        </p:blipFill>
        <p:spPr>
          <a:xfrm>
            <a:off x="0" y="0"/>
            <a:ext cx="9144000" cy="358128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3"/>
          <p:cNvSpPr/>
          <p:nvPr/>
        </p:nvSpPr>
        <p:spPr>
          <a:xfrm>
            <a:off x="0" y="3809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每回大规模考试，大约有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％－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15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％的学生进了考场后，会出现烦躁、不能集中精力等症状，严重者还会产生失眠、神经衰弱、腹泻等不适反应。过分紧张会使学生发挥失常，多次应试状态不佳会对心理产生巨大压力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影响身心健康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形成“考试焦虑症”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。一些患有“考试焦虑症”的学生，即使到了成年，也时常被考试的噩梦惊醒。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如何克服过度的考试焦虑，从容地面对考试？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0" y="2666880"/>
            <a:ext cx="95248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(1)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要树立正确的考试观念；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  </a:t>
            </a: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(2)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要实事求是地调整自我期望；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  </a:t>
            </a: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(3)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要增强自身实力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5">
            <a:hlinkClick r:id="rId1" action="ppaction://hlinksldjump"/>
          </p:cNvPr>
          <p:cNvSpPr/>
          <p:nvPr/>
        </p:nvSpPr>
        <p:spPr>
          <a:xfrm>
            <a:off x="7620120" y="28954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9" name="AutoShape 6">
            <a:hlinkClick r:id="rId2" action="ppaction://hlinksldjump"/>
          </p:cNvPr>
          <p:cNvSpPr/>
          <p:nvPr/>
        </p:nvSpPr>
        <p:spPr>
          <a:xfrm>
            <a:off x="5715000" y="4572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90" name="Picture 5" descr="rw1-1"/>
          <p:cNvPicPr/>
          <p:nvPr/>
        </p:nvPicPr>
        <p:blipFill>
          <a:blip r:embed="rId3"/>
          <a:stretch/>
        </p:blipFill>
        <p:spPr>
          <a:xfrm>
            <a:off x="5562720" y="5638680"/>
            <a:ext cx="3581280" cy="121932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8">
            <a:hlinkClick r:id="rId4" action="ppaction://hlinksldjump"/>
          </p:cNvPr>
          <p:cNvSpPr/>
          <p:nvPr/>
        </p:nvSpPr>
        <p:spPr>
          <a:xfrm>
            <a:off x="8610480" y="3733920"/>
            <a:ext cx="533520" cy="485640"/>
          </a:xfrm>
          <a:prstGeom prst="rightArrow">
            <a:avLst>
              <a:gd name="adj1" fmla="val 50000"/>
              <a:gd name="adj2" fmla="val 27465"/>
            </a:avLst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92" name="Picture 9" descr="W_04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286840" y="6172200"/>
            <a:ext cx="85716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0"/>
          <p:cNvSpPr/>
          <p:nvPr/>
        </p:nvSpPr>
        <p:spPr>
          <a:xfrm>
            <a:off x="3743280" y="6129360"/>
            <a:ext cx="1873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66ffff"/>
                </a:solidFill>
                <a:uFillTx/>
                <a:latin typeface="Times New Roman"/>
                <a:ea typeface="宋体"/>
                <a:hlinkClick r:id="rId7"/>
              </a:rPr>
              <a:t>点此播放教学视频</a:t>
            </a:r>
            <a:r>
              <a:rPr b="1" lang="zh-CN" sz="1800" spc="-1" strike="noStrike" u="sng">
                <a:solidFill>
                  <a:srgbClr val="66ffff"/>
                </a:solidFill>
                <a:uFillTx/>
                <a:latin typeface="Times New Roman"/>
                <a:ea typeface="宋体"/>
                <a:hlinkClick r:id="rId8"/>
              </a:rPr>
              <a:t>            </a:t>
            </a: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正确考试观念有</a:t>
            </a:r>
            <a:r>
              <a:rPr b="1" lang="en-US" sz="60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0" y="1599840"/>
            <a:ext cx="914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考试是学习过程的</a:t>
            </a:r>
            <a:r>
              <a:rPr b="1" lang="zh-CN" sz="3600" spc="-1" strike="noStrike">
                <a:solidFill>
                  <a:srgbClr val="c00000"/>
                </a:solidFill>
                <a:latin typeface="黑体"/>
                <a:ea typeface="黑体"/>
              </a:rPr>
              <a:t>重要环节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考试是督促我们总结学习收获的</a:t>
            </a:r>
            <a:r>
              <a:rPr b="1" lang="zh-CN" sz="3600" spc="-1" strike="noStrike">
                <a:solidFill>
                  <a:srgbClr val="c00000"/>
                </a:solidFill>
                <a:latin typeface="黑体"/>
                <a:ea typeface="黑体"/>
              </a:rPr>
              <a:t>手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考试是检查已有学习效果的</a:t>
            </a:r>
            <a:r>
              <a:rPr b="1" lang="zh-CN" sz="3600" spc="-1" strike="noStrike">
                <a:solidFill>
                  <a:srgbClr val="c00000"/>
                </a:solidFill>
                <a:latin typeface="黑体"/>
                <a:ea typeface="黑体"/>
              </a:rPr>
              <a:t>尺子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考试是选拔学生较公平的</a:t>
            </a:r>
            <a:r>
              <a:rPr b="1" lang="zh-CN" sz="3600" spc="-1" strike="noStrike">
                <a:solidFill>
                  <a:srgbClr val="c00000"/>
                </a:solidFill>
                <a:latin typeface="黑体"/>
                <a:ea typeface="黑体"/>
              </a:rPr>
              <a:t>标准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考试具有</a:t>
            </a:r>
            <a:r>
              <a:rPr b="1" lang="zh-CN" sz="3600" spc="-1" strike="noStrike">
                <a:solidFill>
                  <a:srgbClr val="c00000"/>
                </a:solidFill>
                <a:latin typeface="黑体"/>
                <a:ea typeface="黑体"/>
              </a:rPr>
              <a:t>偶然性、局限性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一次考试并不能得出对学业的完整评价，更不应决定一个人的命运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5" descr="W_04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86840" y="6172200"/>
            <a:ext cx="857160" cy="685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Ar_021"/>
          <p:cNvPicPr/>
          <p:nvPr/>
        </p:nvPicPr>
        <p:blipFill>
          <a:blip r:embed="rId3"/>
          <a:stretch/>
        </p:blipFill>
        <p:spPr>
          <a:xfrm>
            <a:off x="990720" y="6288120"/>
            <a:ext cx="1904760" cy="56988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7"/>
          <p:cNvSpPr/>
          <p:nvPr/>
        </p:nvSpPr>
        <p:spPr>
          <a:xfrm>
            <a:off x="3276720" y="6095880"/>
            <a:ext cx="4959360" cy="762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要以平常心对待考试</a:t>
            </a:r>
            <a:endParaRPr b="1" lang="en-US" sz="4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023840" y="4581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0" y="990720"/>
            <a:ext cx="9144000" cy="39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◆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00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月，七年级女生刘丽只因一次考试成绩不好，被家人数落几句，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竟跳河自杀了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◆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00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日，广东外语艺术职业学院的一名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岁女生从宿舍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楼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跳楼自杀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留有遗书称怕考试不过关，不能毕业，愧对父母。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◆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贵州一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岁的孪生姐妹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用老鼠药毒死了父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原因是中考成绩不理想怕被父母责骂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0" y="22860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  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造成悲剧的原因是什么？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3962520" y="6127920"/>
            <a:ext cx="4952880" cy="703440"/>
          </a:xfrm>
          <a:prstGeom prst="rect">
            <a:avLst/>
          </a:prstGeom>
          <a:solidFill>
            <a:srgbClr val="ffffcc"/>
          </a:solidFill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珍惜青春  珍爱生命</a:t>
            </a:r>
            <a:endParaRPr b="1" lang="en-US" sz="40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95" name="Picture 9" descr="Ar_021"/>
          <p:cNvPicPr/>
          <p:nvPr/>
        </p:nvPicPr>
        <p:blipFill>
          <a:blip r:embed="rId1"/>
          <a:stretch/>
        </p:blipFill>
        <p:spPr>
          <a:xfrm>
            <a:off x="1066680" y="6288120"/>
            <a:ext cx="2438640" cy="569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8"/>
          <p:cNvSpPr/>
          <p:nvPr/>
        </p:nvSpPr>
        <p:spPr>
          <a:xfrm>
            <a:off x="2133720" y="5029200"/>
            <a:ext cx="510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学习压力过大</a:t>
            </a:r>
            <a:endParaRPr b="1" lang="en-US" sz="60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97" name="Group 28"/>
          <p:cNvGrpSpPr/>
          <p:nvPr/>
        </p:nvGrpSpPr>
        <p:grpSpPr>
          <a:xfrm>
            <a:off x="6248520" y="304920"/>
            <a:ext cx="2895120" cy="666720"/>
            <a:chOff x="6248520" y="304920"/>
            <a:chExt cx="2895120" cy="666720"/>
          </a:xfrm>
        </p:grpSpPr>
        <p:pic>
          <p:nvPicPr>
            <p:cNvPr id="98" name="Picture 29" descr="Untitled-1"/>
            <p:cNvPicPr/>
            <p:nvPr/>
          </p:nvPicPr>
          <p:blipFill>
            <a:blip r:embed="rId2"/>
            <a:srcRect l="0" t="19469" r="11732" b="17038"/>
            <a:stretch/>
          </p:blipFill>
          <p:spPr>
            <a:xfrm>
              <a:off x="6248520" y="304920"/>
              <a:ext cx="25441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30"/>
            <p:cNvSpPr/>
            <p:nvPr/>
          </p:nvSpPr>
          <p:spPr>
            <a:xfrm>
              <a:off x="7138440" y="373320"/>
              <a:ext cx="200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互  动 探  究</a:t>
              </a:r>
              <a:endParaRPr b="1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3"/>
          <p:cNvSpPr txBox="1"/>
          <p:nvPr/>
        </p:nvSpPr>
        <p:spPr>
          <a:xfrm>
            <a:off x="2819520" y="304920"/>
            <a:ext cx="41148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829"/>
              </a:avLst>
            </a:prstTxWarp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12600">
                  <a:solidFill>
                    <a:srgbClr val="ffff99"/>
                  </a:solidFill>
                  <a:miter/>
                </a:ln>
                <a:gradFill rotWithShape="0">
                  <a:gsLst>
                    <a:gs pos="0">
                      <a:srgbClr val="520402">
                        <a:alpha val="80000"/>
                      </a:srgbClr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自我评价</a:t>
            </a:r>
            <a:endParaRPr b="1" lang="en-US" sz="3600" spc="1" strike="noStrike">
              <a:ln w="12600">
                <a:solidFill>
                  <a:srgbClr val="ffff99"/>
                </a:solidFill>
                <a:miter/>
              </a:ln>
              <a:gradFill rotWithShape="0">
                <a:gsLst>
                  <a:gs pos="0">
                    <a:srgbClr val="520402">
                      <a:alpha val="80000"/>
                    </a:srgbClr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5181480" y="2362320"/>
            <a:ext cx="2971800" cy="11912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我的学习目标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是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__________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1447920" y="2362320"/>
            <a:ext cx="2971800" cy="17398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我的现实水平是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_________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       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202" name="Picture 6" descr="t2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96080" y="54100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t21"/>
          <p:cNvPicPr/>
          <p:nvPr/>
        </p:nvPicPr>
        <p:blipFill>
          <a:blip r:embed="rId3"/>
          <a:stretch/>
        </p:blipFill>
        <p:spPr>
          <a:xfrm>
            <a:off x="304920" y="5410080"/>
            <a:ext cx="1447560" cy="144792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8"/>
          <p:cNvSpPr/>
          <p:nvPr/>
        </p:nvSpPr>
        <p:spPr>
          <a:xfrm>
            <a:off x="1523880" y="4267080"/>
            <a:ext cx="6400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c00000"/>
                </a:solidFill>
                <a:latin typeface="黑体"/>
                <a:ea typeface="黑体"/>
              </a:rPr>
              <a:t>家人对我的期望是 </a:t>
            </a:r>
            <a:r>
              <a:rPr b="1" lang="en-US" sz="4200" spc="-1" strike="noStrike">
                <a:solidFill>
                  <a:srgbClr val="c00000"/>
                </a:solidFill>
                <a:latin typeface="黑体"/>
                <a:ea typeface="黑体"/>
              </a:rPr>
              <a:t>______</a:t>
            </a:r>
            <a:endParaRPr b="1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205" name="Picture 9" descr="W_042"/>
          <p:cNvPicPr/>
          <p:nvPr/>
        </p:nvPicPr>
        <p:blipFill>
          <a:blip r:embed="rId4"/>
          <a:stretch/>
        </p:blipFill>
        <p:spPr>
          <a:xfrm>
            <a:off x="8286840" y="6172200"/>
            <a:ext cx="857160" cy="68580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10"/>
          <p:cNvSpPr/>
          <p:nvPr/>
        </p:nvSpPr>
        <p:spPr>
          <a:xfrm>
            <a:off x="3743280" y="6129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点此播放教学视频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 </a:t>
            </a: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为增强自身实力你应该：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6840" y="1676160"/>
            <a:ext cx="83818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、拟定具体复习计划；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、不轻言放弃任何一科、也不专攻某一科；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、养成有规律的作息习惯，保持良好的体力和充沛的精力；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4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、掌握一些放松情绪的方法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5" descr="W_042"/>
          <p:cNvPicPr/>
          <p:nvPr/>
        </p:nvPicPr>
        <p:blipFill>
          <a:blip r:embed="rId1"/>
          <a:stretch/>
        </p:blipFill>
        <p:spPr>
          <a:xfrm>
            <a:off x="8286840" y="6172200"/>
            <a:ext cx="857160" cy="6858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6"/>
          <p:cNvSpPr/>
          <p:nvPr/>
        </p:nvSpPr>
        <p:spPr>
          <a:xfrm>
            <a:off x="3743280" y="6129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点此播放教学视频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 </a:t>
            </a: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5"/>
          <p:cNvSpPr/>
          <p:nvPr/>
        </p:nvSpPr>
        <p:spPr>
          <a:xfrm>
            <a:off x="762120" y="1447920"/>
            <a:ext cx="8153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一、学习压力新思维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1</a:t>
            </a:r>
            <a:r>
              <a:rPr b="0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．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感到学习压力是正常的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．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学习压力的积极和消极影响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．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学习需要适度的压力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4</a:t>
            </a:r>
            <a:r>
              <a:rPr b="0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．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缓解学习压力的方法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二、从容面对考试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1</a:t>
            </a:r>
            <a:r>
              <a:rPr b="0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．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考试焦虑形成的原因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正确认识考试焦虑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．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克服过度考试焦虑的办法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2" name="Oval 13"/>
          <p:cNvSpPr/>
          <p:nvPr/>
        </p:nvSpPr>
        <p:spPr>
          <a:xfrm>
            <a:off x="2133720" y="304920"/>
            <a:ext cx="5072040" cy="990360"/>
          </a:xfrm>
          <a:prstGeom prst="ellipse">
            <a:avLst/>
          </a:prstGeom>
          <a:gradFill rotWithShape="0">
            <a:gsLst>
              <a:gs pos="0">
                <a:srgbClr val="ffbf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课堂小结</a:t>
            </a:r>
            <a:endParaRPr b="1" lang="en-US" sz="4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4"/>
          <p:cNvSpPr/>
          <p:nvPr/>
        </p:nvSpPr>
        <p:spPr>
          <a:xfrm>
            <a:off x="0" y="127332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、俗话说：“井无压力不出油，人无压力轻飘飘”对这句话理解正确的是（     ）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．井需要压力，人不需要压力。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B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．人生需要适度的压力，学习也一样。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C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．做任何事情都不需要压力。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D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．只有过度加压，井才能出油，人也一样。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2971800" y="22860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课堂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练习</a:t>
            </a:r>
            <a:endParaRPr b="1" lang="en-US" sz="4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7176960" y="1600200"/>
            <a:ext cx="692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endParaRPr b="1" lang="en-US" sz="6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743280" y="6129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点此播放教学视频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 </a:t>
            </a: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、对于学习压力，下列说法正确的是（     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．学习压力使我们精神紧张，失去动力，停滞不前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193680">
              <a:lnSpc>
                <a:spcPct val="100000"/>
              </a:lnSpc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．学习压力可以激发我们的干劲和潜能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193680">
              <a:lnSpc>
                <a:spcPct val="100000"/>
              </a:lnSpc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．适度的学习压力对我们的学习起促进作用，过度的学习压力影响学习效果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193680">
              <a:lnSpc>
                <a:spcPct val="100000"/>
              </a:lnSpc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D.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有没有学习压力无所谓，只要刻苦学习，没什么影响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1246320" y="914400"/>
            <a:ext cx="6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endParaRPr b="1" lang="en-US" sz="6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3743280" y="6129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点此播放教学视频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 </a:t>
            </a: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4"/>
          <p:cNvSpPr/>
          <p:nvPr/>
        </p:nvSpPr>
        <p:spPr>
          <a:xfrm>
            <a:off x="0" y="0"/>
            <a:ext cx="91440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、中学生当前的主要任务是学习，为理想的实现打基础，而学习生活中总会有大大小小的考试。面对考试，范芳芳同学因为紧张，不知道该怎么复习。如果请你帮助她，下列劝解你不能采用的是（     ）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      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A.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考试时，焦虑是是能够克服的。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     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．有烦恼时，我们不必寻求老师和家长的帮助，以免被别人误解或嘲笑。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     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．考试前，可以进行深呼吸或积极的自我暗示来调节自己的紧张情绪。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    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．我们要端正对考试的认识，平日里努力学习。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5257800" y="18288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endParaRPr b="1" lang="en-US" sz="6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"/>
          <p:cNvSpPr/>
          <p:nvPr/>
        </p:nvSpPr>
        <p:spPr>
          <a:xfrm>
            <a:off x="0" y="304920"/>
            <a:ext cx="9144000" cy="53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、我们的学习压力常与考试联系在一起。通常考试给我们带来压力的有（    ）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    ①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面临的考试很重要        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    ②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考试难度过大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    ③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他人、自己的过度要求超过了个人的实际能力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    ④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仅以考试的成绩来判断个人的价值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、①②③ 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、②③④ 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、①③④  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、①②③④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4627080" y="990720"/>
            <a:ext cx="801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黑体"/>
                <a:ea typeface="黑体"/>
              </a:rPr>
              <a:t>D</a:t>
            </a:r>
            <a:endParaRPr b="1" lang="en-US" sz="6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3886200" y="533412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点此播放教学视频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 </a:t>
            </a: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8"/>
          <p:cNvSpPr txBox="1"/>
          <p:nvPr/>
        </p:nvSpPr>
        <p:spPr>
          <a:xfrm>
            <a:off x="914400" y="3429000"/>
            <a:ext cx="7315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彩云"/>
              </a:rPr>
              <a:t>理智面对学习压力</a:t>
            </a:r>
            <a:endParaRPr b="1" lang="en-US" sz="72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2514600" y="1600200"/>
            <a:ext cx="350532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黑体"/>
                <a:ea typeface="黑体"/>
              </a:rPr>
              <a:t>第二框</a:t>
            </a:r>
            <a:endParaRPr b="1" lang="en-US" sz="6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743280" y="6129360"/>
            <a:ext cx="1873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66ffff"/>
                </a:solidFill>
                <a:uFillTx/>
                <a:latin typeface="Times New Roman"/>
                <a:ea typeface="宋体"/>
                <a:hlinkClick r:id="rId1"/>
              </a:rPr>
              <a:t>点此播放教学视频</a:t>
            </a:r>
            <a:r>
              <a:rPr b="1" lang="zh-CN" sz="1800" spc="-1" strike="noStrike" u="sng">
                <a:solidFill>
                  <a:srgbClr val="66ffff"/>
                </a:solidFill>
                <a:uFillTx/>
                <a:latin typeface="Times New Roman"/>
                <a:ea typeface="宋体"/>
                <a:hlinkClick r:id="rId2"/>
              </a:rPr>
              <a:t>            </a:t>
            </a: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8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彩云"/>
              </a:rPr>
              <a:t>理 智 面 对 学 习 压 力</a:t>
            </a:r>
            <a:endParaRPr b="1" lang="en-US" sz="5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1371600" y="1219320"/>
            <a:ext cx="609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一、学习压力新思维</a:t>
            </a:r>
            <a:endParaRPr b="1" lang="en-US" sz="4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1981080" y="22096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学习与压力的关系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0" y="3048120"/>
            <a:ext cx="9372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学习生活中总会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有压力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存在，感受到压力是</a:t>
            </a:r>
            <a:r>
              <a:rPr b="1" lang="zh-CN" sz="3600" spc="-1" strike="noStrike" u="sng">
                <a:solidFill>
                  <a:srgbClr val="c00000"/>
                </a:solidFill>
                <a:uFillTx/>
                <a:latin typeface="黑体"/>
                <a:ea typeface="黑体"/>
              </a:rPr>
              <a:t>正常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由于学习压力而出现一些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心理、生理反应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是大家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经常会遇到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。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7" name="AutoShape 7">
            <a:hlinkClick r:id="rId1" action="ppaction://hlinksldjump"/>
          </p:cNvPr>
          <p:cNvSpPr/>
          <p:nvPr/>
        </p:nvSpPr>
        <p:spPr>
          <a:xfrm>
            <a:off x="7467480" y="1371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228600" y="5867280"/>
            <a:ext cx="95918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请同学们不要害怕，要理智面对学习压力。   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09" name="Picture 9" descr="W_042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244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609480" y="7621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      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11" name="Picture 5" descr="4B257580033"/>
          <p:cNvPicPr/>
          <p:nvPr/>
        </p:nvPicPr>
        <p:blipFill>
          <a:blip r:embed="rId1"/>
          <a:stretch/>
        </p:blipFill>
        <p:spPr>
          <a:xfrm>
            <a:off x="0" y="6381720"/>
            <a:ext cx="8820000" cy="4762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838080" y="48769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感到紧张 、头晕、烦躁、头脑空白、难以思考等 。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85800" y="2743200"/>
            <a:ext cx="8077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语文老师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宣布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明天进行第一单元测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……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  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   ②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期中考试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我要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取得好成绩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……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  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   ③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老师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期待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我进步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……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  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   ④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父母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希望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我考上理想的高中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……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609480" y="68580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在平时的学习中，同学们会遇到下面这样的情况吗？这时，你的心里有什么感觉？身体有什么反应？ 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2133720" y="5791320"/>
            <a:ext cx="609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以上现象说明什么？</a:t>
            </a:r>
            <a:endParaRPr b="1" lang="en-US" sz="4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5486400" y="1752480"/>
            <a:ext cx="35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00"/>
                </a:solidFill>
                <a:latin typeface="Times New Roman"/>
                <a:ea typeface="黑体"/>
              </a:rPr>
              <a:t>学习压力</a:t>
            </a:r>
            <a:endParaRPr b="1" lang="en-US" sz="6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4800600" y="426708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imes New Roman"/>
                <a:ea typeface="黑体"/>
              </a:rPr>
              <a:t>生理、心理反应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3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971800" y="2590920"/>
            <a:ext cx="3124080" cy="2263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6"/>
          <p:cNvPicPr/>
          <p:nvPr/>
        </p:nvPicPr>
        <p:blipFill>
          <a:blip r:embed="rId2"/>
          <a:stretch/>
        </p:blipFill>
        <p:spPr>
          <a:xfrm>
            <a:off x="6324480" y="304920"/>
            <a:ext cx="2590920" cy="3146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5"/>
          <p:cNvPicPr/>
          <p:nvPr/>
        </p:nvPicPr>
        <p:blipFill>
          <a:blip r:embed="rId3"/>
          <a:stretch/>
        </p:blipFill>
        <p:spPr>
          <a:xfrm>
            <a:off x="228600" y="304920"/>
            <a:ext cx="2819520" cy="1927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7"/>
          <p:cNvPicPr/>
          <p:nvPr/>
        </p:nvPicPr>
        <p:blipFill>
          <a:blip r:embed="rId4"/>
          <a:stretch/>
        </p:blipFill>
        <p:spPr>
          <a:xfrm>
            <a:off x="3429000" y="228600"/>
            <a:ext cx="2666880" cy="20574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1"/>
          <p:cNvSpPr/>
          <p:nvPr/>
        </p:nvSpPr>
        <p:spPr>
          <a:xfrm>
            <a:off x="0" y="1523880"/>
            <a:ext cx="1066680" cy="6858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紧张发抖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3657600" y="2057400"/>
            <a:ext cx="2006640" cy="3762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担心、恐惧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7086600" y="3124080"/>
            <a:ext cx="1752480" cy="70344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反应迟钝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失去信心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5" name="Rectangle 17"/>
          <p:cNvSpPr/>
          <p:nvPr/>
        </p:nvSpPr>
        <p:spPr>
          <a:xfrm>
            <a:off x="4876920" y="4191120"/>
            <a:ext cx="1600200" cy="6858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烦躁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坐立不安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26" name="Picture 19" descr="RM_0799"/>
          <p:cNvPicPr/>
          <p:nvPr/>
        </p:nvPicPr>
        <p:blipFill>
          <a:blip r:embed="rId5"/>
          <a:stretch/>
        </p:blipFill>
        <p:spPr>
          <a:xfrm>
            <a:off x="0" y="2438280"/>
            <a:ext cx="2666880" cy="19814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6"/>
          <p:cNvSpPr/>
          <p:nvPr/>
        </p:nvSpPr>
        <p:spPr>
          <a:xfrm>
            <a:off x="228600" y="4419720"/>
            <a:ext cx="2362320" cy="6919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头脑空白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难以思考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8" name="AutoShape 25"/>
          <p:cNvSpPr/>
          <p:nvPr/>
        </p:nvSpPr>
        <p:spPr>
          <a:xfrm>
            <a:off x="533520" y="5638680"/>
            <a:ext cx="1371600" cy="838440"/>
          </a:xfrm>
          <a:prstGeom prst="rightArrow">
            <a:avLst>
              <a:gd name="adj1" fmla="val 47324"/>
              <a:gd name="adj2" fmla="val 6429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9" name="AutoShape 27"/>
          <p:cNvSpPr/>
          <p:nvPr/>
        </p:nvSpPr>
        <p:spPr>
          <a:xfrm>
            <a:off x="1905120" y="4952880"/>
            <a:ext cx="7238880" cy="1905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说明：学习生活中总会有压力，感受到压力是</a:t>
            </a:r>
            <a:r>
              <a:rPr b="1" lang="zh-CN" sz="3600" spc="-1" strike="noStrike" u="sng">
                <a:solidFill>
                  <a:srgbClr val="c00000"/>
                </a:solidFill>
                <a:uFillTx/>
                <a:latin typeface="Arial"/>
                <a:ea typeface="黑体"/>
              </a:rPr>
              <a:t>正常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，出现生理、心理反应也是</a:t>
            </a:r>
            <a:r>
              <a:rPr b="1" lang="zh-CN" sz="3600" spc="-1" strike="noStrike" u="sng">
                <a:solidFill>
                  <a:srgbClr val="c00000"/>
                </a:solidFill>
                <a:uFillTx/>
                <a:latin typeface="Arial"/>
                <a:ea typeface="黑体"/>
              </a:rPr>
              <a:t>正常的。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30" name="Picture 17" descr="W_042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286840" y="6172200"/>
            <a:ext cx="857160" cy="685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5"/>
          <p:cNvSpPr/>
          <p:nvPr/>
        </p:nvSpPr>
        <p:spPr>
          <a:xfrm>
            <a:off x="685800" y="2286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、学习压力给我们带来的影响：</a:t>
            </a:r>
            <a:endParaRPr b="1" lang="en-US" sz="4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838080" y="25909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过度的学习压力，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则会使焦虑不断增加，影响学习效率和已有水平的正常发挥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（消极的影响）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5394240" y="131112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1066680" y="914400"/>
            <a:ext cx="7086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  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(1)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适度的学习压力，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可以激发我们的干劲和潜能，使我们表现得更积极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积极的影响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838080" y="426708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没有学习压力，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会使我们觉得学习轻松，也有可能使我们失去动力，止步不前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（消极的影响）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6" name="AutoShape 11">
            <a:hlinkClick r:id="rId1" action="ppaction://hlinksldjump"/>
          </p:cNvPr>
          <p:cNvSpPr/>
          <p:nvPr/>
        </p:nvSpPr>
        <p:spPr>
          <a:xfrm>
            <a:off x="7924680" y="380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7" name="AutoShape 25"/>
          <p:cNvSpPr/>
          <p:nvPr/>
        </p:nvSpPr>
        <p:spPr>
          <a:xfrm>
            <a:off x="1219320" y="5836320"/>
            <a:ext cx="6568920" cy="1018800"/>
          </a:xfrm>
          <a:prstGeom prst="horizontalScroll">
            <a:avLst>
              <a:gd name="adj" fmla="val 12500"/>
            </a:avLst>
          </a:prstGeom>
          <a:solidFill>
            <a:srgbClr val="66ff66">
              <a:alpha val="55000"/>
            </a:srgbClr>
          </a:solidFill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Arial"/>
                <a:ea typeface="黑体"/>
              </a:rPr>
              <a:t>结论：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黑体"/>
              </a:rPr>
              <a:t>学习需要适度的压力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38" name="Picture 13" descr="W_042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86840" y="6172200"/>
            <a:ext cx="857160" cy="685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pic_222030"/>
          <p:cNvPicPr/>
          <p:nvPr/>
        </p:nvPicPr>
        <p:blipFill>
          <a:blip r:embed="rId1"/>
          <a:stretch/>
        </p:blipFill>
        <p:spPr>
          <a:xfrm>
            <a:off x="304920" y="0"/>
            <a:ext cx="2438280" cy="1905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pic_222031"/>
          <p:cNvPicPr/>
          <p:nvPr/>
        </p:nvPicPr>
        <p:blipFill>
          <a:blip r:embed="rId2"/>
          <a:stretch/>
        </p:blipFill>
        <p:spPr>
          <a:xfrm>
            <a:off x="3124080" y="0"/>
            <a:ext cx="2667240" cy="1981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pic_222032"/>
          <p:cNvPicPr/>
          <p:nvPr/>
        </p:nvPicPr>
        <p:blipFill>
          <a:blip r:embed="rId3"/>
          <a:stretch/>
        </p:blipFill>
        <p:spPr>
          <a:xfrm>
            <a:off x="6172200" y="0"/>
            <a:ext cx="2666880" cy="192420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18"/>
          <p:cNvSpPr/>
          <p:nvPr/>
        </p:nvSpPr>
        <p:spPr>
          <a:xfrm>
            <a:off x="0" y="1981080"/>
            <a:ext cx="2819520" cy="3200400"/>
          </a:xfrm>
          <a:prstGeom prst="upArrowCallout">
            <a:avLst>
              <a:gd name="adj1" fmla="val 23873"/>
              <a:gd name="adj2" fmla="val 25000"/>
              <a:gd name="adj3" fmla="val 13064"/>
              <a:gd name="adj4" fmla="val 38581"/>
            </a:avLst>
          </a:prstGeom>
          <a:solidFill>
            <a:srgbClr val="ffffff"/>
          </a:solidFill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晨</a:t>
            </a:r>
            <a:r>
              <a:rPr b="1" lang="zh-CN" sz="2800" spc="-1" strike="noStrike" u="sng">
                <a:solidFill>
                  <a:srgbClr val="c00000"/>
                </a:solidFill>
                <a:uFillTx/>
                <a:latin typeface="Arial"/>
                <a:ea typeface="黑体"/>
              </a:rPr>
              <a:t>一脸轻松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下学期我将到外国读书，再也不用担心考试成绩了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3" name="AutoShape 19"/>
          <p:cNvSpPr/>
          <p:nvPr/>
        </p:nvSpPr>
        <p:spPr>
          <a:xfrm>
            <a:off x="3048120" y="1981080"/>
            <a:ext cx="2819160" cy="3200400"/>
          </a:xfrm>
          <a:prstGeom prst="upArrowCallout">
            <a:avLst>
              <a:gd name="adj1" fmla="val 23873"/>
              <a:gd name="adj2" fmla="val 25000"/>
              <a:gd name="adj3" fmla="val 13066"/>
              <a:gd name="adj4" fmla="val 38581"/>
            </a:avLst>
          </a:prstGeom>
          <a:solidFill>
            <a:srgbClr val="ffffff"/>
          </a:solidFill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小晔学习平时很努力，但每逢</a:t>
            </a:r>
            <a:r>
              <a:rPr b="1" lang="zh-CN" sz="3200" spc="-1" strike="noStrike" u="sng">
                <a:solidFill>
                  <a:srgbClr val="c00000"/>
                </a:solidFill>
                <a:uFillTx/>
                <a:latin typeface="Arial"/>
                <a:ea typeface="黑体"/>
              </a:rPr>
              <a:t>考试就紧张，担心考不好。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4" name="AutoShape 20"/>
          <p:cNvSpPr/>
          <p:nvPr/>
        </p:nvSpPr>
        <p:spPr>
          <a:xfrm>
            <a:off x="6095880" y="1981080"/>
            <a:ext cx="2819520" cy="3200400"/>
          </a:xfrm>
          <a:prstGeom prst="upArrowCallout">
            <a:avLst>
              <a:gd name="adj1" fmla="val 23873"/>
              <a:gd name="adj2" fmla="val 25000"/>
              <a:gd name="adj3" fmla="val 13064"/>
              <a:gd name="adj4" fmla="val 38581"/>
            </a:avLst>
          </a:prstGeom>
          <a:solidFill>
            <a:srgbClr val="ffffff"/>
          </a:solidFill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小玉喜欢迎接挑战，她</a:t>
            </a:r>
            <a:r>
              <a:rPr b="1" lang="zh-CN" sz="3200" spc="-1" strike="noStrike" u="sng">
                <a:solidFill>
                  <a:srgbClr val="c00000"/>
                </a:solidFill>
                <a:uFillTx/>
                <a:latin typeface="Arial"/>
                <a:ea typeface="黑体"/>
              </a:rPr>
              <a:t>有条不紊地复习，对自己充满信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心。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5" name="Text Box 22"/>
          <p:cNvSpPr/>
          <p:nvPr/>
        </p:nvSpPr>
        <p:spPr>
          <a:xfrm>
            <a:off x="228600" y="56674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、面对考试的压力三人各持什么态度？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、不同的态度会对考试产生什么影响？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753120" y="5257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没有学习压力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3801240" y="5257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过度学习压力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6849360" y="5257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适度学习压力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0" y="-360"/>
            <a:ext cx="914400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               </a:t>
            </a:r>
            <a:r>
              <a:rPr b="1" lang="en-US" sz="4000" spc="-1" strike="noStrike">
                <a:solidFill>
                  <a:srgbClr val="c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c00000"/>
                </a:solidFill>
                <a:latin typeface="黑体"/>
                <a:ea typeface="黑体"/>
              </a:rPr>
              <a:t>、不同的态度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小晨没有学习压力，不在乎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小晔过度的学习压力，过于紧张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小玉适度学习压力，既重视，又善于将压力转化为动力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黑体"/>
                <a:ea typeface="黑体"/>
              </a:rPr>
              <a:t>          </a:t>
            </a:r>
            <a:r>
              <a:rPr b="1" lang="en-US" sz="4000" spc="-1" strike="noStrike">
                <a:solidFill>
                  <a:srgbClr val="c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c00000"/>
                </a:solidFill>
                <a:latin typeface="黑体"/>
                <a:ea typeface="黑体"/>
              </a:rPr>
              <a:t>、不同的影响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不利于学习进步和成绩的提高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不利于复习和考试正常发挥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有利于充分发挥自己的潜能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25"/>
          <p:cNvSpPr/>
          <p:nvPr/>
        </p:nvSpPr>
        <p:spPr>
          <a:xfrm>
            <a:off x="914400" y="5836320"/>
            <a:ext cx="6775560" cy="1018800"/>
          </a:xfrm>
          <a:prstGeom prst="horizontalScroll">
            <a:avLst>
              <a:gd name="adj" fmla="val 12500"/>
            </a:avLst>
          </a:prstGeom>
          <a:solidFill>
            <a:srgbClr val="66ff66">
              <a:alpha val="55000"/>
            </a:srgbClr>
          </a:solidFill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结论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学习需要适度的压力</a:t>
            </a:r>
            <a:endParaRPr b="1" lang="en-US" sz="40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51" name="Picture 5" descr="W_04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86840" y="6172200"/>
            <a:ext cx="857160" cy="685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lf2015</cp:lastModifiedBy>
  <dcterms:modified xsi:type="dcterms:W3CDTF">2015-10-13T07:07:35Z</dcterms:modified>
  <cp:revision>87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