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BA53-E4B2-4528-A5DD-EDBC2946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2A04-60D7-4652-BA75-AB0F8C6D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BEE4-8955-4A77-9D20-7CE995E8B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CA80-D5A8-4AD6-AC33-D8EE66572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32BF-1CD9-4443-935D-C0810329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D807-7E8A-4D80-B51E-D56103A1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EADF-7547-400B-B7B4-2D1024FE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8C1E-A637-4A36-B80F-50490CDC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3E85-DDAF-49BE-9BAF-DF7988EA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43C0-31DA-45FA-BF1C-AE4B49CC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C6B4-6354-49C3-80A4-F62CED5F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6FEA-8E76-4B84-BA64-AC422398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4A2C-C223-44BF-99F9-4277EB9CD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_2-52-1999_20020919134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900000" y="333360"/>
            <a:ext cx="7417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ffff"/>
                </a:solidFill>
                <a:latin typeface="Arial"/>
                <a:ea typeface="华文新魏"/>
              </a:rPr>
              <a:t>绿色蝈蝈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5219640" y="2492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法布尔（法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ì       cuàn       xīsū       zhō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01120300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01120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01120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001120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优蝈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6_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826920" y="1557360"/>
            <a:ext cx="6985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下课啦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    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" name="Picture 3" descr="xin_2be2a29eb08911d7bb2700e04c3d26a6_DSP015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04880" y="404640"/>
            <a:ext cx="581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文章介绍了蝈蝈哪些方面的特点</a:t>
            </a:r>
            <a:r>
              <a:rPr b="1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808200" y="4227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220480" y="1316160"/>
            <a:ext cx="45698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猜谜：谜一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小诸葛亮，稳坐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军帐。布下八卦阵，捉拿飞来将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谜二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姑娘，日夜忙，会抽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会织网；织出网来不捉鱼，提些小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当口粮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518472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课文，感知内容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绿色蝈蝈外表有哪些特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76200" y="1706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8360" y="1557360"/>
            <a:ext cx="77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这种昆虫非常漂亮，浑身嫩绿，侧面有两条淡白色的丝带身材优美，苗条匀称，两片大翼轻盈如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808200" y="3219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9640" y="328464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作者主要写了绿色蝈蝈的哪些习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写了哪个方面的习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095480" y="3435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11280" y="4437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习性写了蝈蝈的叫声和食性。主要写的是食物习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826920" y="580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19120" y="5738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38088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很多同学对蝈蝈的叫声感兴趣，我们一起来看看作者是怎样写蝈蝈的叫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1752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1600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窃窃私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248520" y="15238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拟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2438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是滑轮的响声；又像是干皱的薄膜隐隐约约的作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248520" y="2666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比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3962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喑哑 尖锐 急促 清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2448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四个形容词，进一步加深我们对蝈蝈叫声的认识</a:t>
            </a:r>
            <a:r>
              <a:rPr b="0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蝈蝈1.wav" descr=""/>
          <p:cNvPicPr/>
          <p:nvPr/>
        </p:nvPicPr>
        <p:blipFill>
          <a:blip r:embed="rId1"/>
          <a:stretch/>
        </p:blipFill>
        <p:spPr>
          <a:xfrm>
            <a:off x="3995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-9216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7752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90720" y="3886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116000" y="765000"/>
            <a:ext cx="129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特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771640" y="404640"/>
            <a:ext cx="38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形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苗条，匀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色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嫩绿，淡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268360" y="549360"/>
            <a:ext cx="360720" cy="1008000"/>
          </a:xfrm>
          <a:custGeom>
            <a:avLst/>
            <a:gdLst>
              <a:gd name="textAreaLeft" fmla="*/ 230400 w 360720"/>
              <a:gd name="textAreaRight" fmla="*/ 361080 w 360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187280" y="32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习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771640" y="2205000"/>
            <a:ext cx="3124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195640" y="220500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9560 h 3024360"/>
              <a:gd name="textAreaBottom" fmla="*/ 294480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9"/>
                  <a:pt x="10800" y="1817"/>
                </a:cubicBezTo>
                <a:lnTo>
                  <a:pt x="10800" y="8967"/>
                </a:lnTo>
                <a:cubicBezTo>
                  <a:pt x="10800" y="9876"/>
                  <a:pt x="5400" y="10784"/>
                  <a:pt x="0" y="10784"/>
                </a:cubicBezTo>
                <a:cubicBezTo>
                  <a:pt x="5400" y="10784"/>
                  <a:pt x="10800" y="11693"/>
                  <a:pt x="10800" y="12601"/>
                </a:cubicBezTo>
                <a:lnTo>
                  <a:pt x="10800" y="19783"/>
                </a:lnTo>
                <a:cubicBezTo>
                  <a:pt x="10800" y="206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743280" y="2781360"/>
            <a:ext cx="54007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昆虫：蝉、金龟子一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果：梨子、葡萄、西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492360" y="2133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3348000" y="2924280"/>
            <a:ext cx="358920" cy="2087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492360" y="5084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31840" y="588312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6094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不断变换对绿色蝈蝈的称呼，找出这些称呼，说说作者在什么时候用什么称呼，这样写有什么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95280" y="260280"/>
            <a:ext cx="396252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狂热的狩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我笼里的囚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蝉的屠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267080" y="333360"/>
            <a:ext cx="4876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捕杀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成为笼中观察和实验的对象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吃蝉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90720" y="3962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328464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　　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作者不断变换对绿色蝈蝈的称呼，使行文更生动，描写更形象，给人更深刻的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7620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75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572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在介绍蝈蝈的特点时，用了些什么手法？你觉得哪些地方值得你借鉴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721080" y="1295280"/>
            <a:ext cx="7938720" cy="5131080"/>
            <a:chOff x="721080" y="1295280"/>
            <a:chExt cx="7938720" cy="5131080"/>
          </a:xfrm>
        </p:grpSpPr>
        <p:sp>
          <p:nvSpPr>
            <p:cNvPr id="122" name="Text Box 6"/>
            <p:cNvSpPr/>
            <p:nvPr/>
          </p:nvSpPr>
          <p:spPr>
            <a:xfrm>
              <a:off x="2810880" y="1295280"/>
              <a:ext cx="31982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蝉（叫声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鹰（捕食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螳螂（食性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7"/>
            <p:cNvGrpSpPr/>
            <p:nvPr/>
          </p:nvGrpSpPr>
          <p:grpSpPr>
            <a:xfrm>
              <a:off x="721080" y="1522080"/>
              <a:ext cx="7938720" cy="4904280"/>
              <a:chOff x="721080" y="1522080"/>
              <a:chExt cx="7938720" cy="4904280"/>
            </a:xfrm>
          </p:grpSpPr>
          <p:sp>
            <p:nvSpPr>
              <p:cNvPr id="124" name="Text Box 8"/>
              <p:cNvSpPr/>
              <p:nvPr/>
            </p:nvSpPr>
            <p:spPr>
              <a:xfrm>
                <a:off x="1279440" y="1792440"/>
                <a:ext cx="1843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9"/>
              <p:cNvSpPr/>
              <p:nvPr/>
            </p:nvSpPr>
            <p:spPr>
              <a:xfrm>
                <a:off x="721080" y="198108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对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0"/>
              <p:cNvSpPr/>
              <p:nvPr/>
            </p:nvSpPr>
            <p:spPr>
              <a:xfrm>
                <a:off x="2209680" y="16765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11"/>
              <p:cNvSpPr/>
              <p:nvPr/>
            </p:nvSpPr>
            <p:spPr>
              <a:xfrm>
                <a:off x="2286000" y="19051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12"/>
              <p:cNvSpPr/>
              <p:nvPr/>
            </p:nvSpPr>
            <p:spPr>
              <a:xfrm>
                <a:off x="2286000" y="2819520"/>
                <a:ext cx="228600" cy="609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3"/>
              <p:cNvSpPr/>
              <p:nvPr/>
            </p:nvSpPr>
            <p:spPr>
              <a:xfrm>
                <a:off x="721080" y="48769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拟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4"/>
              <p:cNvSpPr/>
              <p:nvPr/>
            </p:nvSpPr>
            <p:spPr>
              <a:xfrm>
                <a:off x="3923640" y="4114800"/>
                <a:ext cx="598320" cy="23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窃窃私语、津津有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身材优美、苗条匀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酷爱甜食、宽容、忌妒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5"/>
              <p:cNvSpPr/>
              <p:nvPr/>
            </p:nvSpPr>
            <p:spPr>
              <a:xfrm>
                <a:off x="7221600" y="198288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突出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6"/>
              <p:cNvSpPr/>
              <p:nvPr/>
            </p:nvSpPr>
            <p:spPr>
              <a:xfrm>
                <a:off x="7259760" y="484020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形象生动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7"/>
              <p:cNvSpPr/>
              <p:nvPr/>
            </p:nvSpPr>
            <p:spPr>
              <a:xfrm>
                <a:off x="1676520" y="1523880"/>
                <a:ext cx="228600" cy="18288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7520 h 1828800"/>
                  <a:gd name="textAreaBottom" fmla="*/ 1781280 h 18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722"/>
                    </a:lnTo>
                    <a:cubicBezTo>
                      <a:pt x="10800" y="8622"/>
                      <a:pt x="5400" y="9522"/>
                      <a:pt x="0" y="9522"/>
                    </a:cubicBezTo>
                    <a:cubicBezTo>
                      <a:pt x="5400" y="9522"/>
                      <a:pt x="10800" y="10422"/>
                      <a:pt x="10800" y="11322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18"/>
              <p:cNvSpPr/>
              <p:nvPr/>
            </p:nvSpPr>
            <p:spPr>
              <a:xfrm>
                <a:off x="1600200" y="4419720"/>
                <a:ext cx="228600" cy="1752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360 h 1752480"/>
                  <a:gd name="textAreaBottom" fmla="*/ 1707120 h 175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826"/>
                    </a:lnTo>
                    <a:cubicBezTo>
                      <a:pt x="10800" y="8726"/>
                      <a:pt x="5400" y="9626"/>
                      <a:pt x="0" y="9626"/>
                    </a:cubicBezTo>
                    <a:cubicBezTo>
                      <a:pt x="5400" y="9626"/>
                      <a:pt x="10800" y="10526"/>
                      <a:pt x="10800" y="1142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19"/>
              <p:cNvSpPr/>
              <p:nvPr/>
            </p:nvSpPr>
            <p:spPr>
              <a:xfrm rot="10857600">
                <a:off x="6629040" y="1523880"/>
                <a:ext cx="228600" cy="19051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5120"/>
                  <a:gd name="textAreaBottom" fmla="*/ 1855440 h 190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125"/>
                    </a:lnTo>
                    <a:cubicBezTo>
                      <a:pt x="10800" y="11025"/>
                      <a:pt x="5400" y="11925"/>
                      <a:pt x="0" y="11925"/>
                    </a:cubicBezTo>
                    <a:cubicBezTo>
                      <a:pt x="5400" y="11925"/>
                      <a:pt x="10800" y="12825"/>
                      <a:pt x="10800" y="13725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20"/>
              <p:cNvSpPr/>
              <p:nvPr/>
            </p:nvSpPr>
            <p:spPr>
              <a:xfrm rot="10857600">
                <a:off x="6552720" y="441936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299"/>
                    </a:lnTo>
                    <a:cubicBezTo>
                      <a:pt x="10800" y="11199"/>
                      <a:pt x="5400" y="12099"/>
                      <a:pt x="0" y="12099"/>
                    </a:cubicBezTo>
                    <a:cubicBezTo>
                      <a:pt x="5400" y="12099"/>
                      <a:pt x="10800" y="12999"/>
                      <a:pt x="10800" y="13899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371600" y="5105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与下文作比较，看看本文的语言有何不同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086920" y="1739880"/>
            <a:ext cx="547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　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辞海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中有关蝈蝈的条目是这样的：蝈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昆虫。螽斯的一种。翅短，腹大，雄的前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部可摩擦发声。吃植物的嫩叶和花，危害农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物。也有称之为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哥哥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31840" y="5307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段是平实的说明语言，简明，准确，客观。课文的语言生动灵活，既有对昆虫的形象描绘，又有个人感情的流露，充满了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116000" y="2924280"/>
            <a:ext cx="76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　　法布尔笔下的蝈蝈是鲜活的</a:t>
            </a:r>
            <a:r>
              <a:rPr b="1" lang="en-US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字里行间洋溢着作者本人对生命的尊重与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-92160" y="5164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04920" y="1522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这篇科学小品文，妙趣横生。作者观察细致，文笔细腻生动，文中的蝈蝈活灵活现，令人喜爱。从中我们体会到作者对生命的尊重与热爱，对自然的陶醉与痴迷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-方正超大字符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93640" y="5754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03120" y="195120"/>
            <a:ext cx="837252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写作特色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文艺笔调。既有对昆虫的形象描写，又有个人感情的流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生动传神的语言。作者对蝈蝈充满了喜爱之情，语言生动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拟人方法的运用，使文章自然、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通过比较来写蝈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0zrbpuv1[1]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4267080"/>
            <a:ext cx="77724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92200" y="5738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75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517680" y="192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75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03120" y="482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35320" y="2206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口头表达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76200" y="2211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19120" y="1922400"/>
            <a:ext cx="8624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请同学们灵活运用本文的写作特点（或语言生动、或运用拟人等）说说自己喜欢的小动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七、布置作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　　这篇文章这么有趣，其实大自然中精彩的东西很多，请同学们去户外静听虫鸣鸟啼，并用一段话形象地描写出来，希望每一位同学都能在倾听中有所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82760" y="6010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abre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0312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法布尔像"/>
          <p:cNvPicPr/>
          <p:nvPr/>
        </p:nvPicPr>
        <p:blipFill>
          <a:blip r:embed="rId2"/>
          <a:stretch/>
        </p:blipFill>
        <p:spPr>
          <a:xfrm>
            <a:off x="5219640" y="155736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68360" y="0"/>
            <a:ext cx="50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法布尔及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昆虫记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07920"/>
            <a:ext cx="8686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布尔，法国著名昆虫学家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法布尔生于法国南部一户农民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小迷上大自然中的花鸟草虫。为了实现自己的夙愿，几经周折，历尽艰辛，数十年如一日，在自己的住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--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荒石园”里完成了一卷又一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以大量科学报告材料和文学气质艰苦写成的巨著，文体基本为散文，共十卷，二百万字，不仅详尽地记录着法布尔的研究成果，更记载着法布尔痴迷昆虫研究的动因、生平抱负、知识背景、生活状况等等，不妨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作法布尔的自传的旁证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国文学界曾给法布尔“昆虫世界的维吉尔”的称号，人们称他作“作家、昆虫学家”，这些称号他是当之无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876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_31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3808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借助工具书弄清字词的读音及含义，解决课后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一读，写一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47640" y="404640"/>
            <a:ext cx="849636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mì       cuàn       xīsū       zhōng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2:57:20Z</dcterms:created>
  <dc:creator>第一PPT模板网-WWW.1PPT.COM</dc:creator>
  <dc:description>第一PPT模板网-WWW.1PPT.COM
</dc:description>
  <cp:keywords>第一PPT模板网-WWW.1PPT.COM</cp:keywords>
  <dc:language>en-US</dc:language>
  <cp:lastModifiedBy>clf2015</cp:lastModifiedBy>
  <dcterms:modified xsi:type="dcterms:W3CDTF">2015-09-29T08:57:39Z</dcterms:modified>
  <cp:revision>11</cp:revision>
  <dc:subject>第一PPT模板网-WWW.1PPT.COM</dc:subject>
  <dc:title>第一PPT模板网-WWW.1PPT.COM</dc:title>
</cp:coreProperties>
</file>