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663A-C677-481E-8864-42974E56F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2AF6-5836-49F6-AB20-419E2B0CF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FF43-60D6-4E19-8830-632B1198F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8F96-EC63-407E-BED4-07B9477B6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29BB-3CE3-4E68-B57B-5B52A6C95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C188-08CB-4BBB-ABD9-774069777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200E-47E0-49F3-9DFF-79AF56A37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B0BA-E6B7-4BB5-9529-19C35DC79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3B49-0948-456B-AC5D-311343CC8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0338-E245-4486-94D8-25D741D0E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08F0-7D0E-49D3-A43C-7B884B1F3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37C9-388E-417C-86AB-2DB03769E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09A45-6D9B-4474-82B2-6500B25A86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1_2-52-1999_2002091913453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7"/>
          <p:cNvSpPr/>
          <p:nvPr/>
        </p:nvSpPr>
        <p:spPr>
          <a:xfrm>
            <a:off x="900000" y="333360"/>
            <a:ext cx="74170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200" spc="-1" strike="noStrike">
                <a:solidFill>
                  <a:srgbClr val="ffffff"/>
                </a:solidFill>
                <a:latin typeface="Arial"/>
                <a:ea typeface="华文新魏"/>
              </a:rPr>
              <a:t>绿色蝈蝈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9"/>
          <p:cNvSpPr/>
          <p:nvPr/>
        </p:nvSpPr>
        <p:spPr>
          <a:xfrm>
            <a:off x="5219640" y="2492280"/>
            <a:ext cx="392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华文细黑"/>
              </a:rPr>
              <a:t>法布尔（法国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4"/>
          <p:cNvSpPr/>
          <p:nvPr/>
        </p:nvSpPr>
        <p:spPr>
          <a:xfrm>
            <a:off x="4479840" y="3078000"/>
            <a:ext cx="184320" cy="702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4479840" y="3611520"/>
            <a:ext cx="184320" cy="7016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517680" y="57312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324000" y="404640"/>
            <a:ext cx="8496000" cy="60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gōu        shòu     xuānxiāo     yīny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篝火       狩猎      喧嚣            喑哑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mì       cuàn       xīsū       zhōn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静谧       篡夺       窸窣        螽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Wōjù     sù náng     huì                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莴苣         嗉囊        喙             大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chóu            tá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更胜一筹             开膛破肚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20011203004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70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2001120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2001120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2001120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1828800" y="60948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优蝈"/>
          <p:cNvPicPr/>
          <p:nvPr/>
        </p:nvPicPr>
        <p:blipFill>
          <a:blip r:embed="rId1"/>
          <a:stretch/>
        </p:blipFill>
        <p:spPr>
          <a:xfrm>
            <a:off x="0" y="0"/>
            <a:ext cx="8893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蚱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6_57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WordArt 2"/>
          <p:cNvSpPr txBox="1"/>
          <p:nvPr/>
        </p:nvSpPr>
        <p:spPr>
          <a:xfrm>
            <a:off x="826920" y="1557360"/>
            <a:ext cx="6985080" cy="331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 </a:t>
            </a:r>
            <a:r>
              <a:rPr b="0" i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下课啦！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再    见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77" name="Picture 3" descr="xin_2be2a29eb08911d7bb2700e04c3d26a6_DSP0157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1604880" y="404640"/>
            <a:ext cx="581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隶书"/>
                <a:ea typeface="隶书"/>
              </a:rPr>
              <a:t>文章介绍了蝈蝈哪些方面的特点</a:t>
            </a:r>
            <a:r>
              <a:rPr b="1" lang="en-US" sz="4800" spc="-1" strike="noStrike">
                <a:solidFill>
                  <a:srgbClr val="333399"/>
                </a:solidFill>
                <a:latin typeface="隶书"/>
                <a:ea typeface="隶书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808200" y="422748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优蝈"/>
          <p:cNvPicPr/>
          <p:nvPr/>
        </p:nvPicPr>
        <p:blipFill>
          <a:blip r:embed="rId1"/>
          <a:stretch/>
        </p:blipFill>
        <p:spPr>
          <a:xfrm>
            <a:off x="838080" y="2286000"/>
            <a:ext cx="73152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2220480" y="1316160"/>
            <a:ext cx="456984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猜谜：谜一：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隶书"/>
              </a:rPr>
              <a:t>“</a:t>
            </a: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小小诸葛亮，稳坐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军帐。布下八卦阵，捉拿飞来将。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隶书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谜二：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隶书"/>
              </a:rPr>
              <a:t>“</a:t>
            </a: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小姑娘，日夜忙，会抽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会织网；织出网来不捉鱼，提些小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当口粮。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隶书"/>
              </a:rPr>
              <a:t>”</a:t>
            </a: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395280" y="-360"/>
            <a:ext cx="5184720" cy="108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速读课文，感知内容 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468360" y="90792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绿色蝈蝈外表有哪些特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376200" y="1706400"/>
            <a:ext cx="1843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468360" y="1557360"/>
            <a:ext cx="77756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33cc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这种昆虫非常漂亮，浑身嫩绿，侧面有两条淡白色的丝带身材优美，苗条匀称，两片大翼轻盈如纱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808200" y="321948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539640" y="3284640"/>
            <a:ext cx="777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作者主要写了绿色蝈蝈的哪些习性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主要写了哪个方面的习性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1095480" y="343548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9"/>
          <p:cNvSpPr/>
          <p:nvPr/>
        </p:nvSpPr>
        <p:spPr>
          <a:xfrm>
            <a:off x="611280" y="443700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习性写了蝈蝈的叫声和食性。主要写的是食物习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0"/>
          <p:cNvSpPr/>
          <p:nvPr/>
        </p:nvSpPr>
        <p:spPr>
          <a:xfrm>
            <a:off x="826920" y="580536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1"/>
          <p:cNvSpPr/>
          <p:nvPr/>
        </p:nvSpPr>
        <p:spPr>
          <a:xfrm>
            <a:off x="519120" y="573876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250920" y="380880"/>
            <a:ext cx="8497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有很多同学对蝈蝈的叫声感兴趣，我们一起来看看作者是怎样写蝈蝈的叫声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1295280" y="175248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1066680" y="160020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窃窃私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6248520" y="1523880"/>
            <a:ext cx="107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cc"/>
                </a:solidFill>
                <a:latin typeface="华文行楷"/>
                <a:ea typeface="华文行楷"/>
              </a:rPr>
              <a:t>拟人</a:t>
            </a:r>
            <a:r>
              <a:rPr b="0" lang="zh-CN" sz="2400" spc="-1" strike="noStrike">
                <a:solidFill>
                  <a:srgbClr val="ff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990720" y="243828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像是滑轮的响声；又像是干皱的薄膜隐隐约约的作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6248520" y="266688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cc"/>
                </a:solidFill>
                <a:latin typeface="华文行楷"/>
                <a:ea typeface="华文行楷"/>
              </a:rPr>
              <a:t>比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1066680" y="396252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喑哑 尖锐 急促 清脆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9"/>
          <p:cNvSpPr/>
          <p:nvPr/>
        </p:nvSpPr>
        <p:spPr>
          <a:xfrm>
            <a:off x="6324480" y="380988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cc"/>
                </a:solidFill>
                <a:latin typeface="华文行楷"/>
                <a:ea typeface="华文行楷"/>
              </a:rPr>
              <a:t>四个形容词，进一步加深我们对蝈蝈叫声的认识</a:t>
            </a:r>
            <a:r>
              <a:rPr b="0" lang="zh-CN" sz="2800" spc="-1" strike="noStrike">
                <a:solidFill>
                  <a:srgbClr val="ff33cc"/>
                </a:solidFill>
                <a:latin typeface="华文行楷"/>
                <a:ea typeface="华文行楷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蝈蝈1.wav" descr=""/>
          <p:cNvPicPr/>
          <p:nvPr/>
        </p:nvPicPr>
        <p:blipFill>
          <a:blip r:embed="rId1"/>
          <a:stretch/>
        </p:blipFill>
        <p:spPr>
          <a:xfrm>
            <a:off x="3995640" y="602136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11"/>
          <p:cNvSpPr/>
          <p:nvPr/>
        </p:nvSpPr>
        <p:spPr>
          <a:xfrm>
            <a:off x="-92160" y="530712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5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5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5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112" nodeType="clickEffect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5" dur="77523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990720" y="388620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1116000" y="765000"/>
            <a:ext cx="12952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Times New Roman"/>
              </a:rPr>
              <a:t>特征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2771640" y="404640"/>
            <a:ext cx="3888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形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苗条，匀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色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嫩绿，淡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5"/>
          <p:cNvSpPr/>
          <p:nvPr/>
        </p:nvSpPr>
        <p:spPr>
          <a:xfrm>
            <a:off x="2268360" y="549360"/>
            <a:ext cx="360720" cy="1008000"/>
          </a:xfrm>
          <a:custGeom>
            <a:avLst/>
            <a:gdLst>
              <a:gd name="textAreaLeft" fmla="*/ 230400 w 360720"/>
              <a:gd name="textAreaRight" fmla="*/ 361080 w 36072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1187280" y="321300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Times New Roman"/>
              </a:rPr>
              <a:t>习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2771640" y="2205000"/>
            <a:ext cx="312444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8"/>
          <p:cNvSpPr/>
          <p:nvPr/>
        </p:nvSpPr>
        <p:spPr>
          <a:xfrm>
            <a:off x="2195640" y="2205000"/>
            <a:ext cx="431640" cy="3024360"/>
          </a:xfrm>
          <a:custGeom>
            <a:avLst/>
            <a:gdLst>
              <a:gd name="textAreaLeft" fmla="*/ 275760 w 431640"/>
              <a:gd name="textAreaRight" fmla="*/ 432000 w 431640"/>
              <a:gd name="textAreaTop" fmla="*/ 79560 h 3024360"/>
              <a:gd name="textAreaBottom" fmla="*/ 2944800 h 302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9"/>
                  <a:pt x="10800" y="1817"/>
                </a:cubicBezTo>
                <a:lnTo>
                  <a:pt x="10800" y="8967"/>
                </a:lnTo>
                <a:cubicBezTo>
                  <a:pt x="10800" y="9876"/>
                  <a:pt x="5400" y="10784"/>
                  <a:pt x="0" y="10784"/>
                </a:cubicBezTo>
                <a:cubicBezTo>
                  <a:pt x="5400" y="10784"/>
                  <a:pt x="10800" y="11693"/>
                  <a:pt x="10800" y="12601"/>
                </a:cubicBezTo>
                <a:lnTo>
                  <a:pt x="10800" y="19783"/>
                </a:lnTo>
                <a:cubicBezTo>
                  <a:pt x="10800" y="20692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9"/>
          <p:cNvSpPr/>
          <p:nvPr/>
        </p:nvSpPr>
        <p:spPr>
          <a:xfrm>
            <a:off x="3743280" y="2781360"/>
            <a:ext cx="5400720" cy="24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昆虫：蝉、金龟子一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水果：梨子、葡萄、西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青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同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0"/>
          <p:cNvSpPr/>
          <p:nvPr/>
        </p:nvSpPr>
        <p:spPr>
          <a:xfrm>
            <a:off x="3492360" y="2133720"/>
            <a:ext cx="175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--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柔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11"/>
          <p:cNvSpPr/>
          <p:nvPr/>
        </p:nvSpPr>
        <p:spPr>
          <a:xfrm>
            <a:off x="3348000" y="2924280"/>
            <a:ext cx="358920" cy="2087280"/>
          </a:xfrm>
          <a:custGeom>
            <a:avLst/>
            <a:gdLst>
              <a:gd name="textAreaLeft" fmla="*/ 229320 w 358920"/>
              <a:gd name="textAreaRight" fmla="*/ 359280 w 358920"/>
              <a:gd name="textAreaTop" fmla="*/ 54360 h 2087280"/>
              <a:gd name="textAreaBottom" fmla="*/ 2032920 h 208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2"/>
          <p:cNvSpPr/>
          <p:nvPr/>
        </p:nvSpPr>
        <p:spPr>
          <a:xfrm>
            <a:off x="3492360" y="508464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--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群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3"/>
          <p:cNvSpPr/>
          <p:nvPr/>
        </p:nvSpPr>
        <p:spPr>
          <a:xfrm>
            <a:off x="231840" y="5883120"/>
            <a:ext cx="1839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3"/>
          <p:cNvSpPr/>
          <p:nvPr/>
        </p:nvSpPr>
        <p:spPr>
          <a:xfrm>
            <a:off x="609480" y="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作者不断变换对绿色蝈蝈的称呼，找出这些称呼，说说作者在什么时候用什么称呼，这样写有什么效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3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3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395280" y="260280"/>
            <a:ext cx="3962520" cy="26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狂热的狩猎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我笼里的囚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蝉的屠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4267080" y="333360"/>
            <a:ext cx="4876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华文行楷"/>
              </a:rPr>
              <a:t>当蝈蝈捕杀蝉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华文行楷"/>
              </a:rPr>
              <a:t>当蝈蝈成为笼中观察和实验的对象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华文行楷"/>
              </a:rPr>
              <a:t>当蝈蝈吃蝉肉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990720" y="396252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611280" y="3284640"/>
            <a:ext cx="807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cc"/>
                </a:solidFill>
                <a:latin typeface="Times New Roman"/>
                <a:ea typeface="华文新魏"/>
              </a:rPr>
              <a:t>　　</a:t>
            </a:r>
            <a:r>
              <a:rPr b="1" lang="zh-CN" sz="4000" spc="-1" strike="noStrike">
                <a:solidFill>
                  <a:srgbClr val="ff33cc"/>
                </a:solidFill>
                <a:latin typeface="Times New Roman"/>
                <a:ea typeface="华文新魏"/>
              </a:rPr>
              <a:t>作者不断变换对绿色蝈蝈的称呼，使行文更生动，描写更形象，给人更深刻的印象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376200" y="581184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7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2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7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75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4"/>
          <p:cNvSpPr/>
          <p:nvPr/>
        </p:nvSpPr>
        <p:spPr>
          <a:xfrm>
            <a:off x="457200" y="2286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作者在介绍蝈蝈的特点时，用了些什么手法？你觉得哪些地方值得你借鉴学习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Group 5"/>
          <p:cNvGrpSpPr/>
          <p:nvPr/>
        </p:nvGrpSpPr>
        <p:grpSpPr>
          <a:xfrm>
            <a:off x="721080" y="1295280"/>
            <a:ext cx="7938720" cy="5131080"/>
            <a:chOff x="721080" y="1295280"/>
            <a:chExt cx="7938720" cy="5131080"/>
          </a:xfrm>
        </p:grpSpPr>
        <p:sp>
          <p:nvSpPr>
            <p:cNvPr id="122" name="Text Box 6"/>
            <p:cNvSpPr/>
            <p:nvPr/>
          </p:nvSpPr>
          <p:spPr>
            <a:xfrm>
              <a:off x="2810880" y="1295280"/>
              <a:ext cx="3198240" cy="231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蝈蝈 </a:t>
              </a:r>
              <a:r>
                <a:rPr b="1" lang="en-US" sz="3600" spc="-1" strike="noStrike">
                  <a:solidFill>
                    <a:srgbClr val="333399"/>
                  </a:solidFill>
                  <a:latin typeface="Times New Roman"/>
                  <a:ea typeface="隶书"/>
                </a:rPr>
                <a:t>——</a:t>
              </a:r>
              <a:r>
                <a:rPr b="1" lang="en-US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 </a:t>
              </a:r>
              <a:r>
                <a:rPr b="1" lang="zh-CN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蝉（叫声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蝈蝈 </a:t>
              </a:r>
              <a:r>
                <a:rPr b="1" lang="en-US" sz="3600" spc="-1" strike="noStrike">
                  <a:solidFill>
                    <a:srgbClr val="333399"/>
                  </a:solidFill>
                  <a:latin typeface="Times New Roman"/>
                  <a:ea typeface="隶书"/>
                </a:rPr>
                <a:t>——</a:t>
              </a:r>
              <a:r>
                <a:rPr b="1" lang="en-US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 </a:t>
              </a:r>
              <a:r>
                <a:rPr b="1" lang="zh-CN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鹰（捕食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蝈蝈 </a:t>
              </a:r>
              <a:r>
                <a:rPr b="1" lang="en-US" sz="3600" spc="-1" strike="noStrike">
                  <a:solidFill>
                    <a:srgbClr val="333399"/>
                  </a:solidFill>
                  <a:latin typeface="Times New Roman"/>
                  <a:ea typeface="隶书"/>
                </a:rPr>
                <a:t>——</a:t>
              </a:r>
              <a:r>
                <a:rPr b="1" lang="zh-CN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螳螂（食性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" name="Group 7"/>
            <p:cNvGrpSpPr/>
            <p:nvPr/>
          </p:nvGrpSpPr>
          <p:grpSpPr>
            <a:xfrm>
              <a:off x="721080" y="1522080"/>
              <a:ext cx="7938720" cy="4904280"/>
              <a:chOff x="721080" y="1522080"/>
              <a:chExt cx="7938720" cy="4904280"/>
            </a:xfrm>
          </p:grpSpPr>
          <p:sp>
            <p:nvSpPr>
              <p:cNvPr id="124" name="Text Box 8"/>
              <p:cNvSpPr/>
              <p:nvPr/>
            </p:nvSpPr>
            <p:spPr>
              <a:xfrm>
                <a:off x="1279440" y="1792440"/>
                <a:ext cx="184320" cy="70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Text Box 9"/>
              <p:cNvSpPr/>
              <p:nvPr/>
            </p:nvSpPr>
            <p:spPr>
              <a:xfrm>
                <a:off x="721080" y="198108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对比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AutoShape 10"/>
              <p:cNvSpPr/>
              <p:nvPr/>
            </p:nvSpPr>
            <p:spPr>
              <a:xfrm>
                <a:off x="2209680" y="1676520"/>
                <a:ext cx="228600" cy="190476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49680 h 1904760"/>
                  <a:gd name="textAreaBottom" fmla="*/ 1855080 h 1904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AutoShape 11"/>
              <p:cNvSpPr/>
              <p:nvPr/>
            </p:nvSpPr>
            <p:spPr>
              <a:xfrm>
                <a:off x="2286000" y="1905120"/>
                <a:ext cx="228600" cy="190476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49680 h 1904760"/>
                  <a:gd name="textAreaBottom" fmla="*/ 1855080 h 1904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AutoShape 12"/>
              <p:cNvSpPr/>
              <p:nvPr/>
            </p:nvSpPr>
            <p:spPr>
              <a:xfrm>
                <a:off x="2286000" y="2819520"/>
                <a:ext cx="228600" cy="60948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15840 h 609480"/>
                  <a:gd name="textAreaBottom" fmla="*/ 593640 h 609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Text Box 13"/>
              <p:cNvSpPr/>
              <p:nvPr/>
            </p:nvSpPr>
            <p:spPr>
              <a:xfrm>
                <a:off x="721080" y="487692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拟人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Text Box 14"/>
              <p:cNvSpPr/>
              <p:nvPr/>
            </p:nvSpPr>
            <p:spPr>
              <a:xfrm>
                <a:off x="3923640" y="4114800"/>
                <a:ext cx="598320" cy="231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窃窃私语、津津有味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身材优美、苗条匀称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酷爱甜食、宽容、忌妒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Text Box 15"/>
              <p:cNvSpPr/>
              <p:nvPr/>
            </p:nvSpPr>
            <p:spPr>
              <a:xfrm>
                <a:off x="7221600" y="1982880"/>
                <a:ext cx="14000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突出特征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Text Box 16"/>
              <p:cNvSpPr/>
              <p:nvPr/>
            </p:nvSpPr>
            <p:spPr>
              <a:xfrm>
                <a:off x="7259760" y="4840200"/>
                <a:ext cx="14000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形象生动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AutoShape 17"/>
              <p:cNvSpPr/>
              <p:nvPr/>
            </p:nvSpPr>
            <p:spPr>
              <a:xfrm>
                <a:off x="1676520" y="1523880"/>
                <a:ext cx="228600" cy="182880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47520 h 1828800"/>
                  <a:gd name="textAreaBottom" fmla="*/ 1781280 h 1828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7722"/>
                    </a:lnTo>
                    <a:cubicBezTo>
                      <a:pt x="10800" y="8622"/>
                      <a:pt x="5400" y="9522"/>
                      <a:pt x="0" y="9522"/>
                    </a:cubicBezTo>
                    <a:cubicBezTo>
                      <a:pt x="5400" y="9522"/>
                      <a:pt x="10800" y="10422"/>
                      <a:pt x="10800" y="11322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AutoShape 18"/>
              <p:cNvSpPr/>
              <p:nvPr/>
            </p:nvSpPr>
            <p:spPr>
              <a:xfrm>
                <a:off x="1600200" y="4419720"/>
                <a:ext cx="228600" cy="175248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45360 h 1752480"/>
                  <a:gd name="textAreaBottom" fmla="*/ 1707120 h 1752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7826"/>
                    </a:lnTo>
                    <a:cubicBezTo>
                      <a:pt x="10800" y="8726"/>
                      <a:pt x="5400" y="9626"/>
                      <a:pt x="0" y="9626"/>
                    </a:cubicBezTo>
                    <a:cubicBezTo>
                      <a:pt x="5400" y="9626"/>
                      <a:pt x="10800" y="10526"/>
                      <a:pt x="10800" y="11426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AutoShape 19"/>
              <p:cNvSpPr/>
              <p:nvPr/>
            </p:nvSpPr>
            <p:spPr>
              <a:xfrm rot="10857600">
                <a:off x="6629040" y="1523880"/>
                <a:ext cx="228600" cy="190512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49680 h 1905120"/>
                  <a:gd name="textAreaBottom" fmla="*/ 1855440 h 1905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10125"/>
                    </a:lnTo>
                    <a:cubicBezTo>
                      <a:pt x="10800" y="11025"/>
                      <a:pt x="5400" y="11925"/>
                      <a:pt x="0" y="11925"/>
                    </a:cubicBezTo>
                    <a:cubicBezTo>
                      <a:pt x="5400" y="11925"/>
                      <a:pt x="10800" y="12825"/>
                      <a:pt x="10800" y="13725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AutoShape 20"/>
              <p:cNvSpPr/>
              <p:nvPr/>
            </p:nvSpPr>
            <p:spPr>
              <a:xfrm rot="10857600">
                <a:off x="6552720" y="4419360"/>
                <a:ext cx="228600" cy="190476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49680 h 1904760"/>
                  <a:gd name="textAreaBottom" fmla="*/ 1855080 h 1904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10299"/>
                    </a:lnTo>
                    <a:cubicBezTo>
                      <a:pt x="10800" y="11199"/>
                      <a:pt x="5400" y="12099"/>
                      <a:pt x="0" y="12099"/>
                    </a:cubicBezTo>
                    <a:cubicBezTo>
                      <a:pt x="5400" y="12099"/>
                      <a:pt x="10800" y="12999"/>
                      <a:pt x="10800" y="13899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1371600" y="5105520"/>
            <a:ext cx="7162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685800" y="4572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cc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ff33cc"/>
                </a:solidFill>
                <a:latin typeface="宋体"/>
              </a:rPr>
              <a:t>与下文作比较，看看本文的语言有何不同特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2086920" y="1739880"/>
            <a:ext cx="547344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　</a:t>
            </a:r>
            <a:r>
              <a:rPr b="1" lang="en-US" sz="3200" spc="-1" strike="noStrike">
                <a:solidFill>
                  <a:srgbClr val="333399"/>
                </a:solidFill>
                <a:latin typeface="隶书"/>
                <a:ea typeface="隶书"/>
              </a:rPr>
              <a:t>《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辞海</a:t>
            </a:r>
            <a:r>
              <a:rPr b="1" lang="en-US" sz="3200" spc="-1" strike="noStrike">
                <a:solidFill>
                  <a:srgbClr val="333399"/>
                </a:solidFill>
                <a:latin typeface="隶书"/>
                <a:ea typeface="隶书"/>
              </a:rPr>
              <a:t>》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中有关蝈蝈的条目是这样的：蝈蝈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昆虫。螽斯的一种。翅短，腹大，雄的前翅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部可摩擦发声。吃植物的嫩叶和花，危害农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物。也有称之为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隶书"/>
              </a:rPr>
              <a:t>“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哥哥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隶书"/>
              </a:rPr>
              <a:t>”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231840" y="530712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26920" y="692280"/>
            <a:ext cx="7490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文段是平实的说明语言，简明，准确，客观。课文的语言生动灵活，既有对昆虫的形象描绘，又有个人感情的流露，充满了喜爱之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1116000" y="2924280"/>
            <a:ext cx="764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新宋体"/>
                <a:ea typeface="新宋体"/>
              </a:rPr>
              <a:t>　　法布尔笔下的蝈蝈是鲜活的</a:t>
            </a:r>
            <a:r>
              <a:rPr b="1" lang="en-US" sz="3200" spc="-1" strike="noStrike">
                <a:solidFill>
                  <a:srgbClr val="d60093"/>
                </a:solidFill>
                <a:latin typeface="新宋体"/>
                <a:ea typeface="新宋体"/>
              </a:rPr>
              <a:t>,</a:t>
            </a:r>
            <a:r>
              <a:rPr b="1" lang="zh-CN" sz="3200" spc="-1" strike="noStrike">
                <a:solidFill>
                  <a:srgbClr val="d60093"/>
                </a:solidFill>
                <a:latin typeface="新宋体"/>
                <a:ea typeface="新宋体"/>
              </a:rPr>
              <a:t>字里行间洋溢着作者本人对生命的尊重与热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-92160" y="516420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304920" y="152280"/>
            <a:ext cx="8458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华文行楷"/>
                <a:ea typeface="宋体-方正超大字符集"/>
              </a:rPr>
              <a:t>主题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华文行楷"/>
                <a:ea typeface="宋体-方正超大字符集"/>
              </a:rPr>
              <a:t>         </a:t>
            </a:r>
            <a:r>
              <a:rPr b="1" lang="zh-CN" sz="3200" spc="-1" strike="noStrike">
                <a:solidFill>
                  <a:srgbClr val="ff33cc"/>
                </a:solidFill>
                <a:latin typeface="华文行楷"/>
                <a:ea typeface="宋体-方正超大字符集"/>
              </a:rPr>
              <a:t>这篇科学小品文，妙趣横生。作者观察细致，文笔细腻生动，文中的蝈蝈活灵活现，令人喜爱。从中我们体会到作者对生命的尊重与热爱，对自然的陶醉与痴迷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宋体-方正超大字符集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593640" y="575460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303120" y="195120"/>
            <a:ext cx="8372520" cy="36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隶书"/>
                <a:ea typeface="隶书"/>
              </a:rPr>
              <a:t>写作特色</a:t>
            </a:r>
            <a:r>
              <a:rPr b="1" lang="en-US" sz="4000" spc="-1" strike="noStrike">
                <a:solidFill>
                  <a:srgbClr val="333399"/>
                </a:solidFill>
                <a:latin typeface="隶书"/>
                <a:ea typeface="隶书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隶书"/>
                <a:ea typeface="隶书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隶书"/>
                <a:ea typeface="隶书"/>
              </a:rPr>
              <a:t>(1)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文艺笔调。既有对昆虫的形象描写，又有个人感情的流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（</a:t>
            </a:r>
            <a:r>
              <a:rPr b="1" lang="en-US" sz="3200" spc="-1" strike="noStrike">
                <a:solidFill>
                  <a:srgbClr val="333399"/>
                </a:solidFill>
                <a:latin typeface="隶书"/>
                <a:ea typeface="隶书"/>
              </a:rPr>
              <a:t>2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）生动传神的语言。作者对蝈蝈充满了喜爱之情，语言生动感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（</a:t>
            </a:r>
            <a:r>
              <a:rPr b="1" lang="en-US" sz="3200" spc="-1" strike="noStrike">
                <a:solidFill>
                  <a:srgbClr val="333399"/>
                </a:solidFill>
                <a:latin typeface="隶书"/>
                <a:ea typeface="隶书"/>
              </a:rPr>
              <a:t>3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）拟人方法的运用，使文章自然、亲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（</a:t>
            </a:r>
            <a:r>
              <a:rPr b="1" lang="en-US" sz="3200" spc="-1" strike="noStrike">
                <a:solidFill>
                  <a:srgbClr val="333399"/>
                </a:solidFill>
                <a:latin typeface="隶书"/>
                <a:ea typeface="隶书"/>
              </a:rPr>
              <a:t>4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）通过比较来写蝈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矩形 5"/>
          <p:cNvSpPr/>
          <p:nvPr/>
        </p:nvSpPr>
        <p:spPr>
          <a:xfrm>
            <a:off x="295200" y="87012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0zrbpuv1[1]"/>
          <p:cNvPicPr/>
          <p:nvPr/>
        </p:nvPicPr>
        <p:blipFill>
          <a:blip r:embed="rId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2"/>
          <p:cNvSpPr/>
          <p:nvPr/>
        </p:nvSpPr>
        <p:spPr>
          <a:xfrm>
            <a:off x="609480" y="304920"/>
            <a:ext cx="7772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黑体"/>
                <a:ea typeface="黑体"/>
              </a:rPr>
              <a:t>总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　　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在这篇文章中，法布尔通过自己详尽的观察，用生动活泼的文字给我们介绍了蝈蝈这种可爱的昆虫。介绍了它的一些习性，如叫声、食物习性。详写了食物习性，对蝈蝈的叫声进行了略写。教会了我们这种昆虫的一些自然科学知识。不少同学们对蝈蝈感兴趣，到图书馆或上网查找关于蝈蝈的资料，请每组派一名代表介绍你们查找到的有关的蝈蝈的资料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685800" y="4267080"/>
            <a:ext cx="777240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　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592200" y="573876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" dur="75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75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2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7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4"/>
          <p:cNvSpPr/>
          <p:nvPr/>
        </p:nvSpPr>
        <p:spPr>
          <a:xfrm>
            <a:off x="517680" y="19224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609480" y="304920"/>
            <a:ext cx="7772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黑体"/>
                <a:ea typeface="黑体"/>
              </a:rPr>
              <a:t>总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　　 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在这篇文章中，法布尔通过自己详尽的观察，用生动活泼的文字给我们介绍了蝈蝈这种可爱的昆虫。介绍了它的一些习性，如叫声、食物习性。详写了食物习性，对蝈蝈的叫声进行了略写。教会了我们这种昆虫的一些自然科学知识。不少同学们对蝈蝈感兴趣，到图书馆或上网查找关于蝈蝈的资料，请每组派一名代表介绍你们查找到的有关的蝈蝈的资料。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75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75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4"/>
          <p:cNvSpPr/>
          <p:nvPr/>
        </p:nvSpPr>
        <p:spPr>
          <a:xfrm>
            <a:off x="303120" y="48276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1435320" y="220680"/>
            <a:ext cx="2923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cc"/>
                </a:solidFill>
                <a:latin typeface="隶书"/>
                <a:ea typeface="隶书"/>
              </a:rPr>
              <a:t>口头表达练习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6"/>
          <p:cNvSpPr/>
          <p:nvPr/>
        </p:nvSpPr>
        <p:spPr>
          <a:xfrm>
            <a:off x="376200" y="221148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7"/>
          <p:cNvSpPr/>
          <p:nvPr/>
        </p:nvSpPr>
        <p:spPr>
          <a:xfrm>
            <a:off x="519120" y="1922400"/>
            <a:ext cx="862488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cc"/>
                </a:solidFill>
                <a:latin typeface="隶书"/>
                <a:ea typeface="隶书"/>
              </a:rPr>
              <a:t>请同学们灵活运用本文的写作特点（或语言生动、或运用拟人等）说说自己喜欢的小动物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826560" y="260280"/>
            <a:ext cx="741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Arial"/>
              </a:rPr>
              <a:t>七、布置作业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Arial"/>
              </a:rPr>
              <a:t>　　这篇文章这么有趣，其实大自然中精彩的东西很多，请同学们去户外静听虫鸣鸟啼，并用一段话形象地描写出来，希望每一位同学都能在倾听中有所发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482760" y="601020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fabre"/>
          <p:cNvPicPr/>
          <p:nvPr/>
        </p:nvPicPr>
        <p:blipFill>
          <a:blip r:embed="rId1"/>
          <a:stretch/>
        </p:blipFill>
        <p:spPr>
          <a:xfrm>
            <a:off x="395280" y="1052640"/>
            <a:ext cx="3672000" cy="4968720"/>
          </a:xfrm>
          <a:prstGeom prst="rect">
            <a:avLst/>
          </a:prstGeom>
          <a:ln w="0">
            <a:noFill/>
          </a:ln>
        </p:spPr>
      </p:pic>
      <p:sp>
        <p:nvSpPr>
          <p:cNvPr id="48" name="Text Box 3"/>
          <p:cNvSpPr/>
          <p:nvPr/>
        </p:nvSpPr>
        <p:spPr>
          <a:xfrm>
            <a:off x="303120" y="1628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法布尔像"/>
          <p:cNvPicPr/>
          <p:nvPr/>
        </p:nvPicPr>
        <p:blipFill>
          <a:blip r:embed="rId2"/>
          <a:stretch/>
        </p:blipFill>
        <p:spPr>
          <a:xfrm>
            <a:off x="5219640" y="1557360"/>
            <a:ext cx="316872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2268360" y="0"/>
            <a:ext cx="508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法布尔及</a:t>
            </a:r>
            <a:r>
              <a:rPr b="0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《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昆虫记</a:t>
            </a:r>
            <a:r>
              <a:rPr b="0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0" y="907920"/>
            <a:ext cx="868680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法布尔，法国著名昆虫学家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82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日，法布尔生于法国南部一户农民家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小迷上大自然中的花鸟草虫。为了实现自己的夙愿，几经周折，历尽艰辛，数十年如一日，在自己的住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-----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荒石园”里完成了一卷又一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昆虫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昆虫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以大量科学报告材料和文学气质艰苦写成的巨著，文体基本为散文，共十卷，二百万字，不仅详尽地记录着法布尔的研究成果，更记载着法布尔痴迷昆虫研究的动因、生平抱负、知识背景、生活状况等等，不妨把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昆虫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当作法布尔的自传的旁证材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法国文学界曾给法布尔“昆虫世界的维吉尔”的称号，人们称他作“作家、昆虫学家”，这些称号他是当之无愧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158760" y="581184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pic_3169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1828800" y="60948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533520" y="380880"/>
            <a:ext cx="82296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借助工具书弄清字词的读音及含义，解决课后的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读一读，写一写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优蝈"/>
          <p:cNvPicPr/>
          <p:nvPr/>
        </p:nvPicPr>
        <p:blipFill>
          <a:blip r:embed="rId1"/>
          <a:stretch/>
        </p:blipFill>
        <p:spPr>
          <a:xfrm>
            <a:off x="838080" y="2286000"/>
            <a:ext cx="73152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24000" y="404640"/>
            <a:ext cx="849600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篝火       狩猎      喧嚣            喑哑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静谧       篡夺       窸窣        螽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莴苣         嗉囊        喙             大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更胜一筹             开膛破肚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4"/>
          <p:cNvSpPr/>
          <p:nvPr/>
        </p:nvSpPr>
        <p:spPr>
          <a:xfrm>
            <a:off x="4479840" y="3078000"/>
            <a:ext cx="184320" cy="702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5"/>
          <p:cNvSpPr/>
          <p:nvPr/>
        </p:nvSpPr>
        <p:spPr>
          <a:xfrm>
            <a:off x="4479840" y="3611520"/>
            <a:ext cx="184320" cy="7016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517680" y="57312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"/>
          <p:cNvSpPr/>
          <p:nvPr/>
        </p:nvSpPr>
        <p:spPr>
          <a:xfrm>
            <a:off x="647640" y="404640"/>
            <a:ext cx="8496360" cy="60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cc"/>
                </a:solidFill>
                <a:latin typeface="Arial"/>
              </a:rPr>
              <a:t>gōu        shòu     xuānxiāo     yīny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篝火       狩猎      喧嚣            喑哑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ff33cc"/>
                </a:solidFill>
                <a:latin typeface="Arial"/>
              </a:rPr>
              <a:t>mì       cuàn       xīsū       zhōng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静谧       篡夺       窸窣        螽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cc"/>
                </a:solidFill>
                <a:latin typeface="Arial"/>
              </a:rPr>
              <a:t>Wōjù     sù náng     huì                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莴苣         嗉囊        喙             大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en-US" sz="4000" spc="-1" strike="noStrike">
                <a:solidFill>
                  <a:srgbClr val="ff33cc"/>
                </a:solidFill>
                <a:latin typeface="Arial"/>
              </a:rPr>
              <a:t>chóu            tá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更胜一筹             开膛破肚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9T12:57:20Z</dcterms:created>
  <dc:creator>第一PPT模板网-WWW.1PPT.COM</dc:creator>
  <dc:description>第一PPT模板网-WWW.1PPT.COM
</dc:description>
  <cp:keywords>第一PPT模板网-WWW.1PPT.COM</cp:keywords>
  <dc:language>en-US</dc:language>
  <cp:lastModifiedBy>clf2015</cp:lastModifiedBy>
  <dcterms:modified xsi:type="dcterms:W3CDTF">2015-09-29T08:57:39Z</dcterms:modified>
  <cp:revision>11</cp:revision>
  <dc:subject>第一PPT模板网-WWW.1PPT.COM</dc:subject>
  <dc:title>第一PPT模板网-WWW.1PPT.COM</dc:title>
</cp:coreProperties>
</file>