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034-92BA-4623-94B4-77C471DF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AA3-F3B8-4234-ACC3-90EEA08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746-63A7-4F81-8A0E-3F5054B0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53A-0CA3-4473-981B-E612875E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780-3191-4E5A-95FD-D74FE628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5D3-9F30-4B1F-97D2-EFC7DFCE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005-EB24-4739-8080-4A58FDE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1A8-6430-4D17-90D8-BCAC544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55B-3BF9-4438-8B0C-2CF1FB9F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B8F-EA16-4A63-9EAD-C6F9289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7DE-559F-488E-8A23-F686874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64A-67F8-4425-8454-B1236BA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92EA-EAFF-44E3-8E77-F20223718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yzw_2005112171823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302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24000" y="141300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　　恐龙的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灭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11592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教新课标二年级下册第八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-12-07"/>
          <p:cNvPicPr/>
          <p:nvPr/>
        </p:nvPicPr>
        <p:blipFill>
          <a:blip r:embed="rId2"/>
          <a:stretch/>
        </p:blipFill>
        <p:spPr>
          <a:xfrm>
            <a:off x="6311880" y="0"/>
            <a:ext cx="2832120" cy="1206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 rot="21070800">
            <a:off x="250560" y="333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95280" y="1413000"/>
            <a:ext cx="3816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球变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没有阳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哺乳动物增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气温下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284720" y="1484280"/>
            <a:ext cx="3960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偷吃恐龙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孵出雄性恐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动植物死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耐不住严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00360" y="1844640"/>
            <a:ext cx="1800360" cy="287964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71640" y="2852640"/>
            <a:ext cx="1729080" cy="108108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V="1">
            <a:off x="3780000" y="1988640"/>
            <a:ext cx="792000" cy="187164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 flipV="1">
            <a:off x="2627280" y="3213000"/>
            <a:ext cx="1800360" cy="172872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8049240" y="2708280"/>
            <a:ext cx="1094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00"/>
                </a:solidFill>
                <a:latin typeface="Arial"/>
              </a:rPr>
              <a:t>灭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755640" y="476280"/>
            <a:ext cx="7848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在我们的地球上，曾经有很多生物种类出现后又消失了，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是一个生物演化史中的必然阶段。但是像恐龙这样一个庞大的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统治地位的家族，为什么会突然之间就从地球上消失了，这不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不引起我们的猜测。在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6500</a:t>
            </a: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万年前白垩纪结束的时候，究竟发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了什么，使得恐龙和另外一大批生物统统死去，科学家们对此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直争论不休。有的说是地球在那个时候发生了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地质上的造山运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因为平地上长出许多高山来，沼泽便减少了，气候也变得不那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湿润温暖了。恐龙的呼吸器官不能适应干冷干热的空气，而且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到冬天，恐龙的食物也没有了，所以就走上了绝路。有的说是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新星爆发引起地球气候发生强烈变化，</a:t>
            </a: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温度骤然升高后又降得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低的缘故。还有的说是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恐龙吃了大量的有花植物，这些花中有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多毒素，</a:t>
            </a: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恐龙又食量很大，所以中毒而死。证据是那个时候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出现了有花植物。还有人别出心裁地说，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是因为恐龙这种巨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动物因吃的太多且不断放屁，向空中释放大量的甲烷气体。</a:t>
            </a: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由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它们数量太多，生存时间又长，所以破坏了地球的臭氧层造成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灭性气候。甚至还有人说是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外星人跑到地球来猎取的结果，</a:t>
            </a: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因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它们觉得恐龙肉特别好吃。证据是他们在北极发现的恐龙骨胳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石有像被激光切割的痕迹。总之，真可谓是五花八门，无奇不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但是，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普遍被大家认可的是陨石撞击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990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布置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根据课文内容和你了解的课外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识，   编一些恐龙的故事，画成连环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并配上相应的文字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小组合作戴上亲手做的恐龙头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演恐龙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476360" y="1989000"/>
            <a:ext cx="583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指导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33336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恐龙的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灭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fyzw_2005112171823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75564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庞大的恐龙为什么会消失了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30492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研究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读相应的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用自己的话说说明白了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组内交流自己的想法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6"/>
          <p:cNvSpPr/>
          <p:nvPr/>
        </p:nvSpPr>
        <p:spPr>
          <a:xfrm>
            <a:off x="1077840" y="115920"/>
            <a:ext cx="2952720" cy="720720"/>
          </a:xfrm>
          <a:prstGeom prst="wedgeEllipseCallout">
            <a:avLst>
              <a:gd name="adj1" fmla="val 1722"/>
              <a:gd name="adj2" fmla="val 78412"/>
            </a:avLst>
          </a:prstGeom>
          <a:solidFill>
            <a:srgbClr val="e8f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74560" y="1052640"/>
            <a:ext cx="856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地球上突然变得（　　　），恐龙没有（　　）的习惯，加上恐龙身上没有（　　）来（　　），它们耐不住（　　），就（　　）地（　　）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327640" y="1125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十分寒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670200" y="1844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冬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543640" y="256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皮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293840" y="3357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保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293840" y="4076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严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967280" y="407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慢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293840" y="479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消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619280" y="333360"/>
            <a:ext cx="302400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另一种说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042920" y="1628640"/>
            <a:ext cx="7667640" cy="277524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宇宙（　　）与（　　）相撞，尘埃把（　　）遮住了，因为没有（　　）照射，动物和植物大量死亡，恐龙也（　　）地灭绝了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771640" y="1628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行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508720" y="1628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356000" y="2276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24360" y="29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阳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619280" y="4292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渐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2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682560" y="0"/>
            <a:ext cx="982656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恐龙蛋"/>
          <p:cNvPicPr/>
          <p:nvPr/>
        </p:nvPicPr>
        <p:blipFill>
          <a:blip r:embed="rId3"/>
          <a:stretch/>
        </p:blipFill>
        <p:spPr>
          <a:xfrm>
            <a:off x="5572080" y="-25560"/>
            <a:ext cx="3571920" cy="1560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116000" y="47628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球上的哺乳动物（　　　　　），　　　　　　　　　　　　　　　　　　　它们经常偷吃（　　　），使恐龙（　　　）灭绝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771840" y="692280"/>
            <a:ext cx="3805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3120" y="3284640"/>
            <a:ext cx="3805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843120" y="4005360"/>
            <a:ext cx="3805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116000" y="3068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流行的（　　　）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116000" y="371628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全球气（　　），使恐龙蛋只能孵出（　　）的小恐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605520" y="1484280"/>
            <a:ext cx="1399320" cy="3889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c99e"/>
                </a:solidFill>
                <a:latin typeface="Arial"/>
              </a:rPr>
              <a:t>其它的种种说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050920" y="1052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越来越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572000" y="17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恐龙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763640" y="1773360"/>
            <a:ext cx="172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484360" y="234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渐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500720" y="3068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传染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3348000" y="3789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下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48000" y="4437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雄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838080" y="1752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成果发布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128600" y="148896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066680" y="114300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成果发布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我认为第（  ）种说法最有说服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因为（                     ），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以恐龙灭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47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klt0"/>
          <p:cNvPicPr/>
          <p:nvPr/>
        </p:nvPicPr>
        <p:blipFill>
          <a:blip r:embed="rId2"/>
          <a:stretch/>
        </p:blipFill>
        <p:spPr>
          <a:xfrm>
            <a:off x="-539640" y="-746280"/>
            <a:ext cx="10726560" cy="9296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429440" y="3645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21080" y="3645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1800" y="3645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8:39:11Z</dcterms:created>
  <dc:creator>krh</dc:creator>
  <dc:description/>
  <dc:language>en-US</dc:language>
  <cp:lastModifiedBy>user</cp:lastModifiedBy>
  <dcterms:modified xsi:type="dcterms:W3CDTF">2015-11-27T09:22:47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