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07E-39F8-45BA-A554-8F50743E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5AC-D7A6-4693-9DBB-4936A764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EBD-1E35-40C7-88B2-86D71A11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F27-3CDE-4B6E-9226-0AA6054E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04E-ED45-4EF5-8718-D8A63831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C33-EF00-40BB-8EAB-A45657E3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39B-916B-4B47-BFD4-427B553C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EB4-9309-415A-AE08-B15C0596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819-1040-4B35-A1EE-254DC2FF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8CF-2DD8-4E5E-A3EE-DFE5A4D8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93C-480D-4DC2-B3A3-34DCC6A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F8D-6CB3-4B8D-983C-9B195D3E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5BCD-968A-4CD8-B70C-0879F684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毽子里的铜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师大版小学语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年级上册第十单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9820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老人一声不响，却笑呵呵地伸手在烘缸里取出一个小小的烤山薯，往我手里一放说：“给你吃。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老人半天才明白我的意思，马上把铜钱放回我的口袋里，摸摸我的头说：“小姑娘，我怎么会拿你的钱呢？不过你的好心肠，我永远不会忘记的。”他又在烘缸里取出一个小山薯给我说：“再给你一个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图片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8380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文中老人的两块烤山薯，使我温暖至今。我不仅得到了两块烤山薯，而且得到了用金钱买不到的关爱。确实，金钱有时能买到一些具体的物品，却买不到一些无形的东西，比如钱能买到钟表，却买不到时间；钱能买到药品，但是买不到健康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。请你想一想，钱还能买到什么却买不到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图片3"/>
          <p:cNvPicPr/>
          <p:nvPr/>
        </p:nvPicPr>
        <p:blipFill>
          <a:blip r:embed="rId2"/>
          <a:stretch/>
        </p:blipFill>
        <p:spPr>
          <a:xfrm>
            <a:off x="539640" y="981000"/>
            <a:ext cx="251964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看似微不足道的两枚铜钱是珍贵的，因为它蕴涵着比金钱更重要的东西，那就是人们心底的那份善良，就是人与人之间的那份真诚的体谅。其实在我们的身边，也有许许多多的人正在给予我们无私的关爱，大家感受到这些爱了吗？想过如何回报这些爱吗？我们不妨联系生活实际想一想，把你的真实感受写下来，相信你会有更大的收获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0083111584833136"/>
          <p:cNvPicPr/>
          <p:nvPr/>
        </p:nvPicPr>
        <p:blipFill>
          <a:blip r:embed="rId1"/>
          <a:stretch/>
        </p:blipFill>
        <p:spPr>
          <a:xfrm>
            <a:off x="0" y="0"/>
            <a:ext cx="47624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00831115124866969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oods008182741"/>
          <p:cNvPicPr/>
          <p:nvPr/>
        </p:nvPicPr>
        <p:blipFill>
          <a:blip r:embed="rId3"/>
          <a:stretch/>
        </p:blipFill>
        <p:spPr>
          <a:xfrm>
            <a:off x="4724280" y="3638520"/>
            <a:ext cx="4419720" cy="321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214092287800_9912_b"/>
          <p:cNvPicPr/>
          <p:nvPr/>
        </p:nvPicPr>
        <p:blipFill>
          <a:blip r:embed="rId4"/>
          <a:stretch/>
        </p:blipFill>
        <p:spPr>
          <a:xfrm>
            <a:off x="0" y="3657600"/>
            <a:ext cx="4724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560" y="914400"/>
            <a:ext cx="251460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在踢毽子的小朋友。毽子是以前深受孩子们喜欢的游戏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59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8499001b1f7ce19728da52a"/>
          <p:cNvPicPr/>
          <p:nvPr/>
        </p:nvPicPr>
        <p:blipFill>
          <a:blip r:embed="rId1"/>
          <a:stretch/>
        </p:blipFill>
        <p:spPr>
          <a:xfrm>
            <a:off x="0" y="0"/>
            <a:ext cx="4876920" cy="308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b89e9a1918b18f5f42a9ad38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340aed62a19a63506088b28"/>
          <p:cNvPicPr/>
          <p:nvPr/>
        </p:nvPicPr>
        <p:blipFill>
          <a:blip r:embed="rId3"/>
          <a:stretch/>
        </p:blipFill>
        <p:spPr>
          <a:xfrm>
            <a:off x="0" y="304812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99b66c2a813bd2fe4dd3b33"/>
          <p:cNvPicPr/>
          <p:nvPr/>
        </p:nvPicPr>
        <p:blipFill>
          <a:blip r:embed="rId4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8367d1fcde15a691b901a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0" y="4464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铜钱是古代铜质辅币。圆形，中有方孔，价值悬殊不定（根据存世量，品相等）。为中国历代通用，但形制不一。清代末年使用铜元后，逐渐停止流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0071227577962322180"/>
          <p:cNvPicPr/>
          <p:nvPr/>
        </p:nvPicPr>
        <p:blipFill>
          <a:blip r:embed="rId1"/>
          <a:stretch/>
        </p:blipFill>
        <p:spPr>
          <a:xfrm>
            <a:off x="0" y="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45541_05684431729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初读课文，整体感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同学们大声地把课文读一读，注意读准字音，认准字型；同时想一想文章围绕毽子里的铜钱讲了一件什么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那么，这是一位怎样的老人呢？刚才我们读过课文了，谁来说说这位老人给你留下了怎样的印象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那么这是不是一个小气的老人呢？细读课文，结合文中的语句谈自己的看法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 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朱玲玲</cp:lastModifiedBy>
  <dcterms:modified xsi:type="dcterms:W3CDTF">2013-12-02T04:49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