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624-EBC7-4FE5-A9B6-F903825C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CD6-1CB6-4298-BA4B-85A9DA92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2A2-487C-4026-91DA-C33F5796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4F-97E5-4980-89C3-D27FBD64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F74-26CE-4CA8-AE88-E782CE8E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80F-DA3C-4A59-B823-13FE2E2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974-D2EA-4A1A-81AA-984DE41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21A-64BA-49F4-A504-34531F0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230-D5F1-4995-AAED-5714785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6E9-26B3-46C5-B2E7-F30CFAC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B76-8D7A-4EDA-AC97-A52B6BDD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12F-9FD4-411D-8D60-C9A8C48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BE3-2D36-4F9D-B28C-EDB4FD0DE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毽子里的铜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北师大版小学语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年级上册第十单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9820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老人一声不响，却笑呵呵地伸手在烘缸里取出一个小小的烤山薯，往我手里一放说：“给你吃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老人半天才明白我的意思，马上把铜钱放回我的口袋里，摸摸我的头说：“小姑娘，我怎么会拿你的钱呢？不过你的好心肠，我永远不会忘记的。”他又在烘缸里取出一个小山薯给我说：“再给你一个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图片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838080" y="1676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文中老人的两块烤山薯，使我温暖至今。我不仅得到了两块烤山薯，而且得到了用金钱买不到的关爱。确实，金钱有时能买到一些具体的物品，却买不到一些无形的东西，比如钱能买到钟表，却买不到时间；钱能买到药品，但是买不到健康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。请你想一想，钱还能买到什么却买不到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图片3"/>
          <p:cNvPicPr/>
          <p:nvPr/>
        </p:nvPicPr>
        <p:blipFill>
          <a:blip r:embed="rId2"/>
          <a:stretch/>
        </p:blipFill>
        <p:spPr>
          <a:xfrm>
            <a:off x="539640" y="981000"/>
            <a:ext cx="251964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看似微不足道的两枚铜钱是珍贵的，因为它蕴涵着比金钱更重要的东西，那就是人们心底的那份善良，就是人与人之间的那份真诚的体谅。其实在我们的身边，也有许许多多的人正在给予我们无私的关爱，大家感受到这些爱了吗？想过如何回报这些爱吗？我们不妨联系生活实际想一想，把你的真实感受写下来，相信你会有更大的收获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83111584833136"/>
          <p:cNvPicPr/>
          <p:nvPr/>
        </p:nvPicPr>
        <p:blipFill>
          <a:blip r:embed="rId1"/>
          <a:stretch/>
        </p:blipFill>
        <p:spPr>
          <a:xfrm>
            <a:off x="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83111512486696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goods008182741"/>
          <p:cNvPicPr/>
          <p:nvPr/>
        </p:nvPicPr>
        <p:blipFill>
          <a:blip r:embed="rId3"/>
          <a:stretch/>
        </p:blipFill>
        <p:spPr>
          <a:xfrm>
            <a:off x="4724280" y="363852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214092287800_9912_b"/>
          <p:cNvPicPr/>
          <p:nvPr/>
        </p:nvPicPr>
        <p:blipFill>
          <a:blip r:embed="rId4"/>
          <a:stretch/>
        </p:blipFill>
        <p:spPr>
          <a:xfrm>
            <a:off x="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560" y="914400"/>
            <a:ext cx="251460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在踢毽子的小朋友。毽子是以前深受孩子们喜欢的游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59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8499001b1f7ce19728da52a"/>
          <p:cNvPicPr/>
          <p:nvPr/>
        </p:nvPicPr>
        <p:blipFill>
          <a:blip r:embed="rId1"/>
          <a:stretch/>
        </p:blipFill>
        <p:spPr>
          <a:xfrm>
            <a:off x="0" y="0"/>
            <a:ext cx="487692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b89e9a1918b18f5f42a9ad38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40aed62a19a63506088b28"/>
          <p:cNvPicPr/>
          <p:nvPr/>
        </p:nvPicPr>
        <p:blipFill>
          <a:blip r:embed="rId3"/>
          <a:stretch/>
        </p:blipFill>
        <p:spPr>
          <a:xfrm>
            <a:off x="0" y="3048120"/>
            <a:ext cx="487692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299b66c2a813bd2fe4dd3b33"/>
          <p:cNvPicPr/>
          <p:nvPr/>
        </p:nvPicPr>
        <p:blipFill>
          <a:blip r:embed="rId4"/>
          <a:stretch/>
        </p:blipFill>
        <p:spPr>
          <a:xfrm>
            <a:off x="4876920" y="31240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8367d1fcde15a691b901a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4464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铜钱是古代铜质辅币。圆形，中有方孔，价值悬殊不定（根据存世量，品相等）。为中国历代通用，但形制不一。清代末年使用铜元后，逐渐停止流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071227577962322180"/>
          <p:cNvPicPr/>
          <p:nvPr/>
        </p:nvPicPr>
        <p:blipFill>
          <a:blip r:embed="rId1"/>
          <a:stretch/>
        </p:blipFill>
        <p:spPr>
          <a:xfrm>
            <a:off x="0" y="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45541_05684431729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初读课文，整体感知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大声地把课文读一读，注意读准字音，认准字型；同时想一想文章围绕毽子里的铜钱讲了一件什么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那么，这是一位怎样的老人呢？刚才我们读过课文了，谁来说说这位老人给你留下了怎样的印象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那么这是不是一个小气的老人呢？细读课文，结合文中的语句谈自己的看法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朱玲玲</cp:lastModifiedBy>
  <dcterms:modified xsi:type="dcterms:W3CDTF">2013-12-02T04:49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