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applause.wav" ContentType="audio/x-wav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media/image10.jpeg" ContentType="image/jpeg"/>
  <Override PartName="/ppt/media/image5.png" ContentType="image/png"/>
  <Override PartName="/ppt/media/image1.jpeg" ContentType="image/jpeg"/>
  <Override PartName="/ppt/media/image7.png" ContentType="image/png"/>
  <Override PartName="/ppt/media/image8.png" ContentType="image/png"/>
  <Override PartName="/ppt/media/image9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6A5FB-6A91-421F-AB59-C64AE1768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93701-5D61-44AD-8B2F-12EF82421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6DF54-C114-4EEA-BA59-5431A47DE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1C28D-34F7-49E3-B430-E688E1452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0B549-EC1B-44CD-BB6D-FFF8CCAFA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0C2F2-C27F-471C-A7CC-CE26B2C6D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CAD1F-9E90-4B65-86E5-9E386F0E2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2CD01-BF5C-4CC7-ACC5-BCA4049DB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55910-148B-462A-B1D3-6851AB0F0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AE0C0-96D2-419A-B79B-B7D8DCA73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B706D-2005-433B-92A4-E019862DF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10777-2BB8-46B5-9D8C-4B8A439FD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58BA9-C82E-4ACE-BD50-239746F55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83A6A-0E53-47DF-96E0-51C3F1878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551F0-5465-4FDE-BC00-78D78C92D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5D120-AD24-4B5A-8160-B91360508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A621E-F269-43F2-8B2B-8E4A66442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ACC4E-F9DB-4A49-B6EC-B9753D943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806A1-D3B3-4A09-831F-2F4ECE656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59C60-BE84-460A-80A0-188983F94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0B77D-68B6-480A-AB3D-9BB857D6B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ED09D-4BD3-4F40-BE1A-460FBF3F2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D79AF-DD87-4308-8A32-F35674955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CE925-E707-4D3E-8FDD-38BACED3C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5CB54-2894-4507-8472-8586E081751B}" type="slidenum">
              <a:rPr b="0" lang="zh-CN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297D0-4F7A-4614-A0FD-CCC8EEE3E446}" type="slidenum">
              <a:rPr b="0" lang="zh-CN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08000" y="1844640"/>
            <a:ext cx="8893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不忘九</a:t>
            </a: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·</a:t>
            </a: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一八，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                  </a:t>
            </a: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为中华民族崛起而读书！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995640" y="5013360"/>
            <a:ext cx="4800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华文行楷"/>
                <a:ea typeface="华文行楷"/>
              </a:rPr>
              <a:t>高二（</a:t>
            </a:r>
            <a:r>
              <a:rPr b="1" lang="zh-CN" sz="4000" spc="-1" strike="noStrike">
                <a:solidFill>
                  <a:srgbClr val="ff0000"/>
                </a:solidFill>
                <a:latin typeface="华文行楷"/>
                <a:ea typeface="华文行楷"/>
              </a:rPr>
              <a:t>6</a:t>
            </a:r>
            <a:r>
              <a:rPr b="1" lang="zh-CN" sz="4000" spc="-1" strike="noStrike">
                <a:solidFill>
                  <a:srgbClr val="ff0000"/>
                </a:solidFill>
                <a:latin typeface="华文行楷"/>
                <a:ea typeface="华文行楷"/>
              </a:rPr>
              <a:t>）班主办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76860" fill="hold"/>
                                        <p:tgtEl>
                                          <p:spTgt spid="1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" dur="75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     1931年9月18日晚，盘踞在中国东北的日本关东军按照精心策划的阴谋，由铁道“守备队”炸毁沈阳柳条湖附近的南满铁路路轨，并嫁祸于中国军队。这就是所谓的“柳条湖事件”。日军以此为借口，突然向驻守在沈阳北大营的中国军队发动进攻。由于东北军执行“不抵抗政策”，当晚日军便攻占北大营，次日占领整个沈阳城。之后，日军继续向辽宁、吉林和黑龙江的广大地区进攻，短短4个多月内，128万平方公里、相当于日本国土3.5倍的中国东北全部沦陷，3000多万东北父老成了亡国奴。“九一八”事变，揭开了日本对中国、进而对亚洲及太平洋地区进行全面武装侵略的序幕。 这是次日晨日军在沈阳外攘门上向中国军队进攻。 新华社发"/>
          <p:cNvPicPr/>
          <p:nvPr/>
        </p:nvPicPr>
        <p:blipFill>
          <a:blip r:embed="rId2"/>
          <a:stretch/>
        </p:blipFill>
        <p:spPr>
          <a:xfrm>
            <a:off x="4067280" y="620640"/>
            <a:ext cx="4762440" cy="306720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250920" y="1721520"/>
            <a:ext cx="86421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1931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年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9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月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18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日晚，盘踞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中国东北的日本关东军按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照精心策划的阴谋，由铁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道“守备队”炸毁沈阳柳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湖附近的南满铁路路轨，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并嫁祸于中国军队。这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是所谓的“柳条湖事件”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日军以此为借口，突然向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驻守在沈阳北大营的中国军队发动进攻。由于东北军执行“不抵抗政策”，当晚日军便攻占北大营，次日占领整个沈阳城。之后，日军继续向辽宁、吉林和黑龙江的广大地区进攻，短短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4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个多月内，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128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万平方公里、相当于日本国土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3.5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倍的中国东北全部沦陷，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3000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多万东北父老成了亡国奴。“九一八”事变，揭开了日本对中国、进而对亚洲及太平洋地区进行全面武装侵略的序幕。 这是次日晨日军在沈阳外攘门上向中国军队进攻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1931年9月18日，驻中国东北的日本关东军炮击中国东北军的北大营并向沈阳进攻，制造了震惊中外的“九·一八”事变。19日，日军侵占沈阳，几天之内又占领长春、吉林等地。1932年2月，东北全境沦陷。“九·一八”事变是日本帝国主义企图以武力征服中国的开端。图为日军占领沈阳城（资料图片）。 新华社发"/>
          <p:cNvPicPr/>
          <p:nvPr/>
        </p:nvPicPr>
        <p:blipFill>
          <a:blip r:embed="rId2"/>
          <a:stretch/>
        </p:blipFill>
        <p:spPr>
          <a:xfrm>
            <a:off x="4067280" y="3429000"/>
            <a:ext cx="4762440" cy="302904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287280" y="1463040"/>
            <a:ext cx="85694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1931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年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9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月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18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日，驻中国东北的日本关东军炮击中国东北军的北大营并向沈阳进攻，制造了震惊中外的“九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·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一八”事变。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19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日，日军侵占沈阳，几天之内又占领长春、吉林等地。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1932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年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月，东北全境沦陷。“九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·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一八”事变是日本帝国主义企图以武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力征服中国的开端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图为日军占领沈阳城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9月17日，参观者在触摸警世钟。 2006年是“九一八”事变75周年。位于沈阳市柳条湖附近的“九一八”历史博物馆迎来了众多参观者。"/>
          <p:cNvPicPr/>
          <p:nvPr/>
        </p:nvPicPr>
        <p:blipFill>
          <a:blip r:embed="rId2"/>
          <a:stretch/>
        </p:blipFill>
        <p:spPr>
          <a:xfrm>
            <a:off x="2355840" y="725400"/>
            <a:ext cx="4406760" cy="54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1771200" y="912960"/>
            <a:ext cx="56030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满江红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·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纪念九一八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         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旧事重浮，关东破，思来恨切！ </a:t>
            </a:r>
            <a:br>
              <a:rPr sz="3600"/>
            </a:b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　　痛回首，柳条湖畔，夕阳浴血。 </a:t>
            </a:r>
            <a:br>
              <a:rPr sz="3600"/>
            </a:b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　　城下悬颅魂不死，刀前刻骨节尤烈！ </a:t>
            </a:r>
            <a:br>
              <a:rPr sz="3600"/>
            </a:b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　　更同呼，万剑向东瀛，都消灭！ </a:t>
            </a:r>
            <a:br>
              <a:rPr sz="3600"/>
            </a:b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　应长记，仇未雪！时秣马，休松懈！ </a:t>
            </a:r>
            <a:br>
              <a:rPr sz="3600"/>
            </a:b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　　看金戈舞处，我心如铁。 </a:t>
            </a:r>
            <a:br>
              <a:rPr sz="3600"/>
            </a:b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　　四海闲庭飞短棹，神州举火樱花谢。 </a:t>
            </a:r>
            <a:br>
              <a:rPr sz="3600"/>
            </a:b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　　当对酒，与千古徐郎，同明月！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0" y="6461280"/>
            <a:ext cx="396720" cy="39672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3540240" y="-2633760"/>
            <a:ext cx="3514320" cy="360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五星红旗迎风飘扬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,</a:t>
            </a:r>
            <a:br>
              <a:rPr sz="3600"/>
            </a:b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胜利歌声多么响亮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;</a:t>
            </a:r>
            <a:br>
              <a:rPr sz="3600"/>
            </a:b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歌唱我们亲爱的祖国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,</a:t>
            </a:r>
            <a:br>
              <a:rPr sz="3600"/>
            </a:b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从今走向繁荣富强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.</a:t>
            </a:r>
            <a:br>
              <a:rPr sz="3600"/>
            </a:b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歌唱我们亲爱的祖国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,</a:t>
            </a:r>
            <a:br>
              <a:rPr sz="3600"/>
            </a:b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从今走向繁荣富强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.</a:t>
            </a:r>
            <a:br>
              <a:rPr sz="3600"/>
            </a:b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越过高山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,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越过平原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,</a:t>
            </a:r>
            <a:br>
              <a:rPr sz="3600"/>
            </a:b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跨过奔腾的黄河长江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;</a:t>
            </a:r>
            <a:br>
              <a:rPr sz="3600"/>
            </a:b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宽广美丽的土地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,</a:t>
            </a:r>
            <a:br>
              <a:rPr sz="3600"/>
            </a:b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是我们亲爱的家乡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,</a:t>
            </a:r>
            <a:br>
              <a:rPr sz="3600"/>
            </a:b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英雄的人民站起来了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!</a:t>
            </a:r>
            <a:br>
              <a:rPr sz="3600"/>
            </a:b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我们团结友爱坚强如钢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.</a:t>
            </a:r>
            <a:br>
              <a:rPr sz="3600"/>
            </a:b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五星红旗迎风飘扬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,</a:t>
            </a:r>
            <a:br>
              <a:rPr sz="3600"/>
            </a:b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胜利歌声多么响亮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;</a:t>
            </a:r>
            <a:br>
              <a:rPr sz="3600"/>
            </a:b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歌唱我们亲爱的祖国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,</a:t>
            </a:r>
            <a:br>
              <a:rPr sz="3600"/>
            </a:b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从今走向繁荣富强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.</a:t>
            </a:r>
            <a:br>
              <a:rPr sz="3600"/>
            </a:b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歌唱我们亲爱的祖国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,</a:t>
            </a:r>
            <a:br>
              <a:rPr sz="3600"/>
            </a:b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从今走向繁荣富强</a:t>
            </a:r>
            <a:br>
              <a:rPr sz="3600"/>
            </a:b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我们勤劳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,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我们勇敢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,</a:t>
            </a:r>
            <a:br>
              <a:rPr sz="3600"/>
            </a:b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独立自由是我们的理想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;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我们战胜了多少苦难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,</a:t>
            </a:r>
            <a:br>
              <a:rPr sz="3600"/>
            </a:b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才得到今天的解放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!</a:t>
            </a:r>
            <a:br>
              <a:rPr sz="3600"/>
            </a:b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我们爱和平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,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我们爱家乡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,</a:t>
            </a:r>
            <a:br>
              <a:rPr sz="3600"/>
            </a:b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谁敢侵犯我们就叫他死亡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!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五星红旗迎风飘扬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,</a:t>
            </a:r>
            <a:br>
              <a:rPr sz="3600"/>
            </a:b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胜利歌声多么响亮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,</a:t>
            </a:r>
            <a:br>
              <a:rPr sz="3600"/>
            </a:b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歌唱我们亲爱的祖国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,</a:t>
            </a:r>
            <a:br>
              <a:rPr sz="3600"/>
            </a:b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从今走向繁荣富强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.</a:t>
            </a:r>
            <a:br>
              <a:rPr sz="3600"/>
            </a:b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歌唱我们亲爱的祖国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,</a:t>
            </a:r>
            <a:br>
              <a:rPr sz="3600"/>
            </a:b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从今走向繁荣富强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.</a:t>
            </a:r>
            <a:br>
              <a:rPr sz="3600"/>
            </a:b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东方太阳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,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正在升起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,</a:t>
            </a:r>
            <a:br>
              <a:rPr sz="3600"/>
            </a:b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人民共和国正在成长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;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我们领袖毛泽东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,</a:t>
            </a:r>
            <a:br>
              <a:rPr sz="3600"/>
            </a:b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指引着前进的方向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.</a:t>
            </a:r>
            <a:br>
              <a:rPr sz="3600"/>
            </a:b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我们的生活天天向上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,</a:t>
            </a:r>
            <a:br>
              <a:rPr sz="3600"/>
            </a:b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我们的前途万丈光芒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.</a:t>
            </a:r>
            <a:br>
              <a:rPr sz="3600"/>
            </a:b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五星红旗迎风飘扬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,</a:t>
            </a:r>
            <a:br>
              <a:rPr sz="3600"/>
            </a:b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胜利歌声多么响亮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;</a:t>
            </a:r>
            <a:br>
              <a:rPr sz="3600"/>
            </a:b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歌唱我们亲爱的祖国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,</a:t>
            </a:r>
            <a:br>
              <a:rPr sz="3600"/>
            </a:b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从今走向繁荣富强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.</a:t>
            </a:r>
            <a:br>
              <a:rPr sz="3600"/>
            </a:b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歌唱我们亲爱的祖国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,</a:t>
            </a:r>
            <a:br>
              <a:rPr sz="3600"/>
            </a:b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从今走向繁荣富强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.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0" dur="1" fill="hold"/>
                                        <p:tgtEl>
                                          <p:spTgt spid="1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87904"/>
                            </p:stCondLst>
                            <p:childTnLst>
                              <p:par>
                                <p:cTn id="72" nodeType="afterEffect" fill="hold" presetClass="path" presetID="0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451 0.63606 L 0.0467 -4.58128 E">
                                      <p:cBhvr>
                                        <p:cTn id="73" dur="210000" fill="hold"/>
                                        <p:tgtEl>
                                          <p:spTgt spid="1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76" dur="1" fill="hold"/>
                                  <p:tgtEl>
                                    <p:spTgt spid="1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660066"/>
                </a:solidFill>
                <a:latin typeface="Tahoma"/>
              </a:rPr>
              <a:t>高二（</a:t>
            </a:r>
            <a:r>
              <a:rPr b="1" i="1" lang="zh-CN" sz="6000" spc="-1" strike="noStrike">
                <a:solidFill>
                  <a:srgbClr val="660066"/>
                </a:solidFill>
                <a:latin typeface="Tahoma"/>
              </a:rPr>
              <a:t>6</a:t>
            </a:r>
            <a:r>
              <a:rPr b="1" i="1" lang="zh-CN" sz="6000" spc="-1" strike="noStrike">
                <a:solidFill>
                  <a:srgbClr val="660066"/>
                </a:solidFill>
                <a:latin typeface="Tahoma"/>
              </a:rPr>
              <a:t>）班</a:t>
            </a:r>
            <a:br>
              <a:rPr sz="6000"/>
            </a:br>
            <a:r>
              <a:rPr b="1" i="1" lang="zh-CN" sz="6000" spc="-1" strike="noStrike">
                <a:solidFill>
                  <a:srgbClr val="660066"/>
                </a:solidFill>
                <a:latin typeface="Tahoma"/>
              </a:rPr>
              <a:t>主题班会</a:t>
            </a:r>
            <a:br>
              <a:rPr sz="6000"/>
            </a:br>
            <a:br>
              <a:rPr sz="6000"/>
            </a:br>
            <a:r>
              <a:rPr b="1" i="1" lang="zh-CN" sz="6000" spc="-1" strike="noStrike">
                <a:solidFill>
                  <a:srgbClr val="660066"/>
                </a:solidFill>
                <a:latin typeface="Tahoma"/>
              </a:rPr>
              <a:t>到此结束！</a:t>
            </a:r>
            <a:endParaRPr b="0" lang="en-US" sz="6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0"/>
                            </p:stCondLst>
                            <p:childTnLst>
                              <p:par>
                                <p:cTn id="8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7" dur="249505" fill="hold"/>
                                        <p:tgtEl>
                                          <p:spTgt spid="1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431640" y="324000"/>
            <a:ext cx="8280720" cy="62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restart="whenNotActive" nodeType="interactiveSeq" fill="hold">
                <p:stCondLst>
                  <p:cond evt="onClick">
                    <p:tgtEl>
                      <p:spTgt spid="139"/>
                    </p:tgtEl>
                  </p:cond>
                </p:stCondLst>
                <p:childTnLst>
                  <p:par>
                    <p:cTn id="16" fill="hold">
                      <p:stCondLst>
                        <p:cond evt="onClick">
                          <p:tgtEl>
                            <p:spTgt spid="139"/>
                          </p:tgtEl>
                        </p:cond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9" dur="1" fill="hold"/>
                                        <p:tgtEl>
                                          <p:spTgt spid="1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九一八”事变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68360" y="1371240"/>
            <a:ext cx="8207280" cy="50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１９３１年９月１８日晚，盘踞在中国东北的日本关东军按照精心策划的阴谋，由铁道“守备队”炸毁沈阳柳条湖附近的南满铁路路轨，并嫁祸于中国军队。这就是所谓的“柳条湖事件”。日军以此为借口，突然向驻守在沈阳北大营的中国军队发动进攻。由于东北军执行“不抵抗政策”，当晚日军便攻占北大营，次日占领整个沈阳城。日军继续向辽宁、吉林和黑龙江的广大地区进攻，短短４个多月内，１２８万平方公里、相当于日本国土３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.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５倍的中国东北全部沦陷，３０００多万父老成了亡国奴。这就是震惊中外的“九一八”事变。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179280" y="836640"/>
            <a:ext cx="878544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日本对中国东北垂涎已久。“九一八”事变前，它已通过日俄战争夺取了旅顺、大连和满洲铁路沿线并派兵驻扎，这正是它能够阴谋进行事变的前提。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在１９２７年夏，日本内阁就在东京召开“东方会议”，制订了《对华政策纲领》，露骨地声称中国东北“在（日本）国防和国民的生存上有着重大的利害关系”。同年７月，内阁首相田中义一向天皇奏呈《帝国对满蒙之积极根本政策》（即臭名昭著的“田中奏折”），公然宣称：“欲征服中国，必先征服满蒙；欲征服世界，必先征服中国。”从而确立了以“满蒙”为侵略基地的狂妄战略。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000"/>
                            </p:stCondLst>
                            <p:childTnLst>
                              <p:par>
                                <p:cTn id="39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685800" y="764640"/>
            <a:ext cx="777240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从１９２９年起，日军陆军参谋本部和关东军在中国东北三省先后秘密组织了四次“参谋旅行”，侦察情况，制定了侵略中国东北的作战方案。１９３１年６月，日本陆军参谋本部和陆军省制定“满蒙问题解决方案大纲”，确定了以武力侵占中国东北的具体步骤；７月，陆军参谋本部把攻城重炮秘密调运至沈阳，对准东北军驻地北大营；８月，日本陆军大臣南次郎在日本全国师团长会议上叫嚷：满蒙问题只有用武力解决。随后进一步做了发动此次战争的各种准备。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685440" y="981000"/>
            <a:ext cx="78469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“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九一八”事变揭开了日本对中国、进而对亚洲及太平洋地区进行全面武装侵略的序幕。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“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九一八”事变激起了全国人民的抗日怒潮。各地人民纷纷要求抗日，反对国民党政府的不抵抗主义。在中国共产党的领导和影响下，东北人民奋起抵抗，开展抗日游击战争，先后出现了东北义勇军和各种抗日武装。１９３６年２月，东北各抗日部队统一改编为东北抗日联军。１９３７年“七七”事变后，抗日联军团结广大群众， 进一步开展了广泛持久的抗日武装斗争，有力地配合了中国共产党领导的全国抗战。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10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10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9月17日，参观者在触摸警世钟。 2006年是“九一八”事变75周年。位于沈阳市柳条湖附近的“九一八”历史博物馆迎来了众多参观者。"/>
          <p:cNvPicPr/>
          <p:nvPr/>
        </p:nvPicPr>
        <p:blipFill>
          <a:blip r:embed="rId2"/>
          <a:stretch/>
        </p:blipFill>
        <p:spPr>
          <a:xfrm>
            <a:off x="324000" y="333360"/>
            <a:ext cx="4133880" cy="6264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5148360" y="2833200"/>
            <a:ext cx="345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2007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年是“九一八”事变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76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周年。位于沈阳市柳条湖附近的“九一八”历史博物馆迎来了众多参观者。 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9月17日，沈阳市民在“九一八”历史博物馆参观。 2006年是“九一八”事变75周年。位于沈阳市柳条湖附近的“九一八”历史博物馆迎来了众多参观者。"/>
          <p:cNvPicPr/>
          <p:nvPr/>
        </p:nvPicPr>
        <p:blipFill>
          <a:blip r:embed="rId2"/>
          <a:stretch/>
        </p:blipFill>
        <p:spPr>
          <a:xfrm>
            <a:off x="574560" y="620640"/>
            <a:ext cx="7993080" cy="516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     9月16日，一名工作人员从沈阳“九一八”历史博物馆残历碑前经过。今年是日本军国主义发动“九一八”事变７５周年。除事变爆发地沈阳将举行撞钟鸣警仪式外，辽宁全省其余１３个城市将在９月１８日晚９时１８分与沈阳同时拉响警报，警示人们勿忘国耻，振兴中华。     　新华社记者 李钢摄"/>
          <p:cNvPicPr/>
          <p:nvPr/>
        </p:nvPicPr>
        <p:blipFill>
          <a:blip r:embed="rId2"/>
          <a:stretch/>
        </p:blipFill>
        <p:spPr>
          <a:xfrm>
            <a:off x="934920" y="115920"/>
            <a:ext cx="7272360" cy="453708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227160" y="5453280"/>
            <a:ext cx="86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9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月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16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日，一名工作人员从沈阳“九一八”历史博物馆残历碑前经过。去年是日本军国主义发动“九一八”事变７５周年。除事变爆发地沈阳将举行撞钟鸣警仪式外，辽宁全省其余１３个城市将在９月１８日晚９时１８分与沈阳同时拉响警报，警示人们勿忘国耻，振兴中华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9T09:41:22Z</dcterms:created>
  <dc:creator>j2mv9-jyyq6-jm44k-qmyth-8rb2w</dc:creator>
  <dc:description/>
  <dc:language>en-US</dc:language>
  <cp:lastModifiedBy>huangyou</cp:lastModifiedBy>
  <dcterms:modified xsi:type="dcterms:W3CDTF">2007-09-20T07:41:42Z</dcterms:modified>
  <cp:revision>31</cp:revision>
  <dc:subject/>
  <dc:title>几十年未解之谜 全球怪物大搜寻 </dc:title>
</cp:coreProperties>
</file>