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00A-6708-4E7D-8AD5-3DA03252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3E4-279D-432D-AAD4-7C36D2ED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7ED-985B-4994-8C81-26C8E7DD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E65-648C-4493-B1CB-25532C87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8F3D-9652-4C67-8165-5D549E4C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BA22-1DB3-45CB-977E-CD87E339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561B-5C1A-40EE-AF6C-7A8FDE28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E58B-83DE-4C04-9BEC-6F1D21E7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48EA-A3CD-4B65-89D2-F24AFFD1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22A7-8CAB-4C3F-91CC-8443606E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F83E-7814-4995-A38E-4ABADEAF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C1C-BA68-47C8-90B9-CCCBA3C2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2052-46D9-42C2-832D-E1610B73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6778-F627-4D8A-A38F-AC85E3CF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1E25-E50F-43EC-989C-D436F46B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67E7-24C0-4CE1-95F3-114C0F35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B3A2-754D-43D1-B5D4-BD7CA25E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976-3BD1-4229-93DE-EC96106C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7C5-9252-4A5B-BC0D-46A8FBB2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E14-D16C-4248-94FB-0C91F6DF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E2D-9CD5-4752-9E75-3A2EC1A9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AD0-E0E5-4BB0-9A34-4C2FB07F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D19-0F8B-421B-8920-3C36F54A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ED1-D1F0-437F-85F0-8418CD0E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F989-54BE-40E2-8289-6E70F5346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09D0-4C73-4684-8961-0B61ADE9F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48765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宋体"/>
              </a:rPr>
              <a:t>又是一个春暖花开的季节了，在这美丽的季节里，来！让我们一起走到户外，一起享受这迷人的春天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èi          yì    pín            yī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蔚 蓝    巡弋    频频   绿茵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     xī  y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祈盼      蜥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-304920"/>
            <a:ext cx="182880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认一认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巡弋：（军舰）在海上巡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速之客：速：邀请。没有经过邀请而突然到来的客人。指意想不到的客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频频：屡次、连续几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祈盼：祈祷、盼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304920"/>
            <a:ext cx="243828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词语理解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感情的自由读一读诗歌，想一想这是一首关于描写什么的诗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—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你懂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战争破坏了大自然，带给人们不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1080" y="685800"/>
            <a:ext cx="273384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一读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5076720" cy="5562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4648320" cy="132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蔚蓝色的大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本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是海鸥的乐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3280" y="0"/>
            <a:ext cx="4500720" cy="6705720"/>
            <a:chOff x="4643280" y="0"/>
            <a:chExt cx="4500720" cy="670572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4427640" cy="67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3280" y="0"/>
              <a:ext cx="4500720" cy="1373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Times New Roman"/>
                  <a:ea typeface="宋体"/>
                </a:rPr>
                <a:t>可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巡弋的战舰和水雷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成了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不速之客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181480" y="5181480"/>
            <a:ext cx="3581640" cy="1219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究竟是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464328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金黄色的沙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本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是蜥蜴和甲虫的天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381560" y="0"/>
            <a:ext cx="4762440" cy="280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419720" y="2743200"/>
            <a:ext cx="4724280" cy="2819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5257800"/>
            <a:ext cx="4724280" cy="1600200"/>
          </a:xfrm>
          <a:prstGeom prst="rect">
            <a:avLst/>
          </a:prstGeom>
          <a:solidFill>
            <a:srgbClr val="ffff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轰隆隆的坦克和大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破了它们的梦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能把这些灾难与不幸在诗中的各小节的词与句中体现出来么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轰隆隆的坦克和大炮还打破了什么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破了人和动物们的家园、打破了宁静的生活、打破了亲人的生命、打破了快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426708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的发蓝的夜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本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属于星星和月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343400" y="1752480"/>
            <a:ext cx="4800600" cy="5105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19720" y="0"/>
            <a:ext cx="4724280" cy="1752480"/>
          </a:xfrm>
          <a:prstGeom prst="rect">
            <a:avLst/>
          </a:prstGeom>
          <a:solidFill>
            <a:srgbClr val="ffff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今频频发射导弹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星星的家园搅得很不安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44492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4495680" cy="1600200"/>
          </a:xfrm>
          <a:prstGeom prst="rect">
            <a:avLst/>
          </a:prstGeom>
          <a:solidFill>
            <a:srgbClr val="ffff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茵茵的草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本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滚动着欢乐的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495680" y="-243000"/>
            <a:ext cx="4647960" cy="7100640"/>
            <a:chOff x="4495680" y="-243000"/>
            <a:chExt cx="4647960" cy="710064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4495680" y="-243000"/>
              <a:ext cx="4647960" cy="71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495680" y="26280"/>
              <a:ext cx="4647960" cy="1323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Times New Roman"/>
                  <a:ea typeface="宋体"/>
                </a:rPr>
                <a:t>可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今散落着的地雷碎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阻拦着孩子们奔跑的脚步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战争的罪恶之处仅仅是这些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还会造成怎样的灾难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675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里作者用哪两个词语把原状和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接在一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本来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可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里，作者运用了什么修辞手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对比。表达的意思是因为战争的破坏，大自然不再安宁，战争使自然界满目疮痍，使人们的生活不得安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1295280"/>
            <a:ext cx="6172200" cy="1143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静而美丽的连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63040" y="5806080"/>
              <a:ext cx="353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战争，让我们无家可归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7993080" cy="570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55627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战争，让我们缺胳膊少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5688000" cy="5832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6520" y="54100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战争，让我们家破人亡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9880" y="5943600"/>
            <a:ext cx="5334120" cy="9144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战争，让我们失去了家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8991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可恶的战争夺去了那么多无辜的生命，给人们带来那么多的痛苦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，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们虽然不能阻止战争的发生，但是我们能不断壮大和平的力量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海   天空   草地   沙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暗示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了海陆空暗示了整个大自然都遭到了破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描写哪些地方的风景、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4724280" cy="358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724280" y="3276720"/>
            <a:ext cx="4419720" cy="3581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920" y="23623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这究竟是为什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？？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22860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这究竟是为什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？？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638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这究竟是为什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？？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5486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这究竟是为什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？？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究竟是为什么？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究竟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究竟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究竟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的四次“这究竟是为什么”表达了怎样的思想感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愤慨、不解、痛斥、愤怒、憎恨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使人感到，这不仅仅是疑问了，更是一种对战争的控诉，一种对战争的抗议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00000" y="33336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58920" y="1268280"/>
          <a:ext cx="8785080" cy="4753080"/>
        </p:xfrm>
        <a:graphic>
          <a:graphicData uri="http://schemas.openxmlformats.org/drawingml/2006/table">
            <a:tbl>
              <a:tblPr/>
              <a:tblGrid>
                <a:gridCol w="1500120"/>
                <a:gridCol w="3433680"/>
                <a:gridCol w="38512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微軟正黑體"/>
                        </a:rPr>
                        <a:t>地     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微軟正黑體"/>
                        </a:rPr>
                        <a:t>原先的美好景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微軟正黑體"/>
                        </a:rPr>
                        <a:t>现在的状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574560" y="208764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0200" y="30970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沙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4560" y="4176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夜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3280" y="5184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草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71640" y="208764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海鸥的乐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71640" y="309708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蜥蜴和甲虫的天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71640" y="4176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星星和月亮的家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71640" y="5184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滚动着欢乐的足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8720" y="1916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巡弋的战舰和水雷成为不速之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64000" y="299736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轰隆隆的坦克和大炮打破了它们的梦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407664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频频的导弹发射把星星的家园搅得很不安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515772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满是散落的地雷碎片阻挡着孩子们打奔跑的脚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8080" y="38088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填一填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蔚蓝色的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58920" y="1052640"/>
            <a:ext cx="69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"/>
            <a:ext cx="480060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们希望，我们祈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让战火中的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张课桌，平稳的课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被导弹的气浪掀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间教室，洁白的教室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免遭炸弹的弹片击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和我们一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鲜花中读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和我们一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享受春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希望，我们祈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蔚蓝的大海，                     永远是海鸥是乐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希望，我们祈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希望，我们祈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希望，我们祈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66680" y="152280"/>
            <a:ext cx="27432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拓展训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续写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                    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（               ）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来是（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可是（                 ）的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究竟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茵茵的草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蓝而发黑的夜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黄色的沙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到这些美丽的景色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们有什么感觉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880" y="731520"/>
            <a:ext cx="83059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同学们，我们沐浴着和煦的春光，在美丽的鲜花中嬉戏，这是多么幸福、惬意的事情啊！然而在这个世界上，还有一部分人不能像我们一样享受春天，不能享受春天带给他们的快乐和幸福。因为世界上还有好多地方正笼罩着战争的阴影，有多少人正期盼着和平！这节课，我们就来学习一首呼唤和平的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i="1" lang="zh-CN" sz="6000" spc="-1" strike="noStrike">
                <a:solidFill>
                  <a:srgbClr val="006600"/>
                </a:solidFill>
                <a:latin typeface="Arial"/>
              </a:rPr>
              <a:t>和我们一样享受春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hea</dc:creator>
  <dc:description>www.nordridesign.cn
</dc:description>
  <cp:keywords>教育 英语 Powerbar Rhea</cp:keywords>
  <dc:language>en-US</dc:language>
  <cp:lastModifiedBy>微软用户</cp:lastModifiedBy>
  <dcterms:modified xsi:type="dcterms:W3CDTF">2012-11-19T23:54:55Z</dcterms:modified>
  <cp:revision>39</cp:revision>
  <dc:subject>教育 英语 </dc:subject>
  <dc:title>儿童教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