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9.jpeg" ContentType="image/jpeg"/>
  <Override PartName="/ppt/media/whoosh.wav" ContentType="audio/x-wav"/>
  <Override PartName="/ppt/media/image10.jpeg" ContentType="image/jpeg"/>
  <Override PartName="/ppt/media/image25.gif" ContentType="image/gif"/>
  <Override PartName="/ppt/media/image12.jpeg" ContentType="image/jpeg"/>
  <Override PartName="/ppt/media/cashreg.wav" ContentType="audio/x-wav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2.gif" ContentType="image/gif"/>
  <Override PartName="/ppt/media/image17.jpeg" ContentType="image/jpeg"/>
  <Override PartName="/ppt/media/image21.png" ContentType="image/png"/>
  <Override PartName="/ppt/media/image19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4.gif" ContentType="image/gif"/>
  <Override PartName="/ppt/media/image13.jpeg" ContentType="image/jpeg"/>
  <Override PartName="/ppt/media/image23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2A95-598E-4ED7-8517-D6EAFB1427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258A-9029-4726-BA10-3131EEED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CC8-367E-4C2A-B34C-708ED8AB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D00-C6AC-4106-BDD8-A8EC3015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6A1-802C-4026-A0A2-8CFC0DCE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56D-B2AF-4366-B3D8-ECA9C3AB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CE2-DF6C-4D53-A935-EEE14402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05D-3815-4F51-A1F9-BD581FBA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291-F8A2-4224-8FAC-D52E20E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043-DFBD-42A9-889C-D341A044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7DB-1757-4C9E-9773-8C53456D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5BF-6366-40A7-9C9A-07EA6904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FF7-E1A2-409A-8D65-C520108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8A4-F2E8-4A1F-B904-D686785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CD25-C282-4DD6-B100-232AE48F2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258920" y="3429000"/>
            <a:ext cx="3600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回  声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96360" cy="433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581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河上有座石桥。半圆的桥洞和水里的倒影连起来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好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个大月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9680" y="304920"/>
            <a:ext cx="900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　　半圆的桥洞和水里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倒影连起来，好像一个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月亮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96880" y="5149800"/>
            <a:ext cx="43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这里把什么比作月亮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858000" cy="114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4495680" cy="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4076640"/>
            <a:ext cx="5040360" cy="7034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小河上有座石桥。半圆的桥洞和水里的倒影连起来，好像一个大月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640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4876920"/>
            <a:ext cx="6705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看，谁来了？读第二段，看看发生了什么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914040"/>
            <a:ext cx="84456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青蛙跟着妈妈游到桥洞底下，看到周围美丽的景色，高兴得叫起来：“呱呱呱，多好看哪！”这时，不知哪儿有一只小青蛙也在叫：“呱呱呱，多好看哪！”小青蛙问：“你是谁？你在哪儿？” 那只看不见的小青蛙也在问：“你是谁？你在哪儿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6011640" y="403920"/>
            <a:ext cx="3672000" cy="1513080"/>
            <a:chOff x="6011640" y="403920"/>
            <a:chExt cx="3672000" cy="1513080"/>
          </a:xfrm>
        </p:grpSpPr>
        <p:sp>
          <p:nvSpPr>
            <p:cNvPr id="109" name=""/>
            <p:cNvSpPr/>
            <p:nvPr/>
          </p:nvSpPr>
          <p:spPr>
            <a:xfrm flipV="1" rot="10800000">
              <a:off x="6011640" y="403560"/>
              <a:ext cx="2881080" cy="1513080"/>
            </a:xfrm>
            <a:prstGeom prst="wedgeEllipseCallout">
              <a:avLst>
                <a:gd name="adj1" fmla="val 49282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0800000">
              <a:off x="6443640" y="691920"/>
              <a:ext cx="324000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呱呱呱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多好看哪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556000" y="189000"/>
            <a:ext cx="3671640" cy="1484280"/>
            <a:chOff x="2556000" y="189000"/>
            <a:chExt cx="3671640" cy="1484280"/>
          </a:xfrm>
        </p:grpSpPr>
        <p:sp>
          <p:nvSpPr>
            <p:cNvPr id="112" name=""/>
            <p:cNvSpPr/>
            <p:nvPr/>
          </p:nvSpPr>
          <p:spPr>
            <a:xfrm>
              <a:off x="2556000" y="189000"/>
              <a:ext cx="3024000" cy="1484280"/>
            </a:xfrm>
            <a:prstGeom prst="wedgeEllipseCallout">
              <a:avLst>
                <a:gd name="adj1" fmla="val -43175"/>
                <a:gd name="adj2" fmla="val 6818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10800000">
              <a:off x="2987640" y="475920"/>
              <a:ext cx="324000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呱呱呱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多好看哪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867280" y="3141720"/>
            <a:ext cx="3276720" cy="1871280"/>
            <a:chOff x="5867280" y="3141720"/>
            <a:chExt cx="3276720" cy="1871280"/>
          </a:xfrm>
        </p:grpSpPr>
        <p:sp>
          <p:nvSpPr>
            <p:cNvPr id="115" name=""/>
            <p:cNvSpPr/>
            <p:nvPr/>
          </p:nvSpPr>
          <p:spPr>
            <a:xfrm>
              <a:off x="5867280" y="3141720"/>
              <a:ext cx="3025800" cy="1871280"/>
            </a:xfrm>
            <a:prstGeom prst="wedgeEllipseCallout">
              <a:avLst>
                <a:gd name="adj1" fmla="val -57555"/>
                <a:gd name="adj2" fmla="val -555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84720" y="3515040"/>
              <a:ext cx="305928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是谁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在哪儿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90640" y="2971800"/>
            <a:ext cx="3393720" cy="1609200"/>
            <a:chOff x="890640" y="2971800"/>
            <a:chExt cx="3393720" cy="1609200"/>
          </a:xfrm>
        </p:grpSpPr>
        <p:sp>
          <p:nvSpPr>
            <p:cNvPr id="118" name=""/>
            <p:cNvSpPr/>
            <p:nvPr/>
          </p:nvSpPr>
          <p:spPr>
            <a:xfrm>
              <a:off x="890640" y="2971800"/>
              <a:ext cx="3053520" cy="1609200"/>
            </a:xfrm>
            <a:prstGeom prst="wedgeEllipseCallout">
              <a:avLst>
                <a:gd name="adj1" fmla="val 11615"/>
                <a:gd name="adj2" fmla="val -9238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4600" y="3334680"/>
              <a:ext cx="302976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你是谁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你在哪儿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913680"/>
            <a:ext cx="84456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青蛙跟着妈妈游到桥洞底下，看到周围美丽的景色，高兴得叫起来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：“呱呱呱，多好看哪！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不知哪儿有一只小青蛙也在叫起来：“呱呱呱，多好看啊！”小青蛙问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：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“你是谁？你在哪儿？”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只看不见的小青蛙也在问：“你是谁？你在哪儿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765000"/>
            <a:ext cx="6912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呱呱呱，多好看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0000" y="836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765000"/>
            <a:ext cx="6912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呱呱呱，多好看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836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1268280"/>
            <a:ext cx="7488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你是谁？你在哪儿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59280" y="1700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呱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3068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圆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2133720"/>
            <a:ext cx="158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3068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波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177336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碰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06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9256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1700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16000" y="1268280"/>
            <a:ext cx="7488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你是谁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你在哪儿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2009160"/>
            <a:ext cx="849780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青蛙跟着妈妈游到桥洞底下，看到周围美丽的景色，高兴得叫起来：“呱呱呱，多好看哪！”这时，不知哪儿有一只小青蛙也在叫起来：“呱呱呱，多好看哪！”小青蛙问：“你是谁？你在哪儿？” 那只看不见的小青蛙也在问：“你是谁？你在哪儿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295280" cy="1217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71640" y="4149720"/>
            <a:ext cx="1008000" cy="94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55640" y="2708280"/>
            <a:ext cx="1295280" cy="1217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900000" y="1341360"/>
            <a:ext cx="936720" cy="879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24000" y="549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：“呱呱呱，多好看哪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5640" y="1413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“呱呱呱，多好看哪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3577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：“你是谁？你在哪儿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443700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“你是谁？你在哪儿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286480" cy="3600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4149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青蛙奇怪极了，他问妈妈：“桥洞里藏着一只小青蛙吧？他在学我说话哩。”妈妈笑着说：“孩子，跟我来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286480" cy="360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4149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青蛙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奇怪极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他问妈妈：“桥洞里藏着一只小青蛙吧？他在学我说话哩。”妈妈笑着说：“孩子，跟我来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555000" y="99072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3300"/>
                </a:solidFill>
                <a:latin typeface="Arial"/>
                <a:ea typeface="楷体_GB2312"/>
              </a:rPr>
              <a:t>藏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6840" cy="5327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71640" y="303120"/>
            <a:ext cx="4680000" cy="826200"/>
          </a:xfrm>
          <a:prstGeom prst="wedgeEllipseCallout">
            <a:avLst>
              <a:gd name="adj1" fmla="val -57490"/>
              <a:gd name="adj2" fmla="val 961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桥洞里藏着一只小青蛙吧？他在学我说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539640" y="3041640"/>
            <a:ext cx="4535280" cy="826200"/>
          </a:xfrm>
          <a:prstGeom prst="wedgeEllipseCallout">
            <a:avLst>
              <a:gd name="adj1" fmla="val 54472"/>
              <a:gd name="adj2" fmla="val 9132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孩子，跟我来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1008000" cy="924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9640" y="1413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青蛙跟着妈妈游到桥洞下。半圆的桥洞和水里的倒影连起来，好像一个大月亮。它还发现一只看不见的小青蛙在学它说话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24360" y="1557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2048040" cy="193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1979640" cy="1935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924360" y="3573360"/>
            <a:ext cx="20178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5219640" y="3573360"/>
            <a:ext cx="2362320" cy="2727360"/>
            <a:chOff x="5219640" y="3573360"/>
            <a:chExt cx="2362320" cy="272736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5219640" y="357336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709600" y="36338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围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203640" y="692280"/>
            <a:ext cx="2361960" cy="2727360"/>
            <a:chOff x="3203640" y="692280"/>
            <a:chExt cx="2361960" cy="27273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203640" y="69228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692880" y="752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岸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87280" y="3645000"/>
            <a:ext cx="2362320" cy="2727360"/>
            <a:chOff x="1187280" y="3645000"/>
            <a:chExt cx="2362320" cy="272736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1187280" y="364500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677240" y="370548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圆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Program Files\Microsoft Office\Clipart\Pub60Cor\DD00261_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39680" y="304920"/>
            <a:ext cx="900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470240" y="857160"/>
            <a:ext cx="6249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ā           huà      rēng               w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青 蛙    讲话     扔 进     波 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ǎn                  àn      jiǎn            zhōu wé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返 回    河 岸    捡 起       周  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44720" y="-528480"/>
            <a:ext cx="7127640" cy="4535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5280" y="3933720"/>
            <a:ext cx="831708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她捡起一颗石子，扔进河里，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水被激起一圈圈波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波纹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到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岸，又一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圈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荡回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80880"/>
            <a:ext cx="9144000" cy="80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青蛙妈妈带着小青蛙跳到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岸上</a:t>
            </a:r>
            <a:r>
              <a:rPr b="1" lang="en-US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.</a:t>
            </a: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它捡起一颗石子</a:t>
            </a:r>
            <a:r>
              <a:rPr b="1" lang="en-US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,</a:t>
            </a: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扔进河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里</a:t>
            </a:r>
            <a:r>
              <a:rPr b="1" lang="en-US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,</a:t>
            </a: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河水被激起一圈圈波纹</a:t>
            </a:r>
            <a:r>
              <a:rPr b="1" lang="en-US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.</a:t>
            </a: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波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纹碰到河岸，又一圈圈地荡回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来</a:t>
            </a:r>
            <a:r>
              <a:rPr b="1" lang="en-US" sz="5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43000" y="4457880"/>
            <a:ext cx="7543800" cy="114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7924680" cy="120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9343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5909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76201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Program Files\Microsoft Office\Clipart\WebArt\BD00364_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0" y="981000"/>
            <a:ext cx="934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“</a:t>
            </a:r>
            <a:r>
              <a:rPr b="1" lang="en-US" sz="48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孩子，你的叫声就像这水的波纹。水的波纹碰到河岸又荡回来。你在桥洞里叫，声音的波纹碰到桥洞的石壁，也要返回来，这样，你就听到自己的回声啦。”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91440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8991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      </a:t>
            </a:r>
            <a:r>
              <a:rPr b="1" lang="zh-CN" sz="66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水的（　　）碰到河岸又（　）回来，你在（　　）里叫，声音的（　　）碰到桥洞的（　　），也要（　）回来。　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53320" y="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波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25120" y="9144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5920" y="19810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桥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95920" y="29718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波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65680" y="4041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石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8160" y="40384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128000" cy="4221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5640" y="472428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音的波纹碰到桥洞的石壁，也要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4360" y="1197000"/>
            <a:ext cx="95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青蛙在桥洞下发现（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2565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妈妈告诉它这是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4005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声就是指（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04920" y="685800"/>
            <a:ext cx="8092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　</a:t>
            </a:r>
            <a:r>
              <a:rPr b="0" lang="zh-CN" sz="8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指声波遇到障碍物反射回来再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度被听到的声音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20920" y="4795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回声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6858000" y="6019920"/>
            <a:ext cx="1876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方正舒体"/>
              </a:rPr>
              <a:t>返回问题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284120" y="38088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声波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44080" y="2021040"/>
            <a:ext cx="5860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指声音的波纹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能引起听觉的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动波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897200" cy="1668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477120" y="4800600"/>
            <a:ext cx="2324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00000" y="256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声就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碰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来的自然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258920" y="3429000"/>
            <a:ext cx="3600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我的收获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640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1844640"/>
            <a:ext cx="7345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半圆           桥洞             倒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周围           呱呱             波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波纹           返回      一圈圈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24360" y="1557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256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79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1197000"/>
            <a:ext cx="29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419640" y="2205000"/>
            <a:ext cx="10080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78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碰到）（碰面）（碰碰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1800360" cy="1673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92360" y="2637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2637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696360" cy="4336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1619280" y="4076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华文宋体"/>
                <a:ea typeface="华文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qiáo      bàn       d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宋体"/>
                <a:ea typeface="华文宋体"/>
              </a:rPr>
              <a:t>石 桥    半 圆    倒 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696360" cy="4336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443700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河上有座石桥。半圆的桥洞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水里的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影连起来，好像一个大月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1455200">
            <a:off x="1979280" y="907200"/>
            <a:ext cx="3816360" cy="3303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24360" y="1557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350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倒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摔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1844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倒水）（倒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249228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1844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342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倒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07:00:56Z</dcterms:created>
  <dc:creator>i</dc:creator>
  <dc:description/>
  <cp:keywords/>
  <dc:language>en-US</dc:language>
  <cp:lastModifiedBy>123456</cp:lastModifiedBy>
  <cp:lastPrinted>1899-12-30T00:00:00Z</cp:lastPrinted>
  <dcterms:modified xsi:type="dcterms:W3CDTF">2012-12-28T00:36:41Z</dcterms:modified>
  <cp:revision>1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