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60A-5617-4813-BCE2-E4026F9E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243-AF67-45C8-85B3-896DB140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072-A2CF-4E61-9C63-60C559C9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6F4-FC5E-4B11-BC98-FB33E88B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B40-AA6A-42CC-B3DF-39D3E199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395-330B-4025-9CE8-7FC30517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DA3-CB60-4AEE-AE94-ADC1A8AB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E2D-AB0A-4528-AEDF-CF6A3CE1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422-EAAC-4105-83F4-887B936C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032-C2B6-4318-A49C-CB7CDCBD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B32-4277-4B14-A062-8E1166D3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8A2-A161-4C7C-A2EA-8FA8FCB2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31F6-00DD-4ABA-9776-544F6DCA39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187280" y="58053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4437000"/>
            <a:ext cx="8208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看完这个故事，是否觉得这群猴子很笨呢？是否也体会到盲从的可怕。现实中，一个人错误的知见，也可能引发一堆人跟着错误，最后造成不可收拾的悲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-1019520" y="2898720"/>
            <a:ext cx="5640120" cy="1227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谢谢收看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6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156000" y="4076280"/>
            <a:ext cx="2987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00"/>
                </a:solidFill>
                <a:latin typeface="Arial"/>
              </a:rPr>
              <a:t>从前，有一群猴子住在森林中，森林附近有一口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5013360"/>
            <a:ext cx="5580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一天晚上，猴子跑到井边去玩，无意中向井里张望，发现井中有月亮的倒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愚笨的猴子以为月亮掉到了水中，于是飞快地跑回森林中，报告猴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看见月亮掉到井里面去了，我们应该将它救出来。”其它的猴子听到了纷纷地说：“我赞成！我赞成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4365720"/>
            <a:ext cx="83628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于是猴王便带着所有的猴子们一起去救月亮。它们商量如何救月亮，一只猴子发表意见说：“我们可以先由一位同伴爬到树上，然后大家由上而下接手，就可以到达井里面救月亮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3280" y="3068280"/>
            <a:ext cx="404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大家赞同它的意见，先爬到一颗靠井边的树，由上而下吊着树枝，最后一只猴子终于碰到了井中的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5589360"/>
            <a:ext cx="842472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但经过手一搅动，月亮便不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4869000"/>
            <a:ext cx="835344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在它发现不对劲的同时，树枝也因为负荷不了一群猴子的重量，终于断裂了，一群笨猴子个个都掉入了井里，丧失了宝贵的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50:34Z</dcterms:created>
  <dc:creator>zhao</dc:creator>
  <dc:description/>
  <dc:language>en-US</dc:language>
  <cp:lastModifiedBy>zhao</cp:lastModifiedBy>
  <dcterms:modified xsi:type="dcterms:W3CDTF">2010-10-21T07:50:54Z</dcterms:modified>
  <cp:revision>2</cp:revision>
  <dc:subject/>
  <dc:title>幻灯片 1</dc:title>
</cp:coreProperties>
</file>