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3.jpeg" ContentType="image/jpeg"/>
  <Override PartName="/ppt/media/image20.jpeg" ContentType="image/jpeg"/>
  <Override PartName="/ppt/media/image19.gif" ContentType="image/gif"/>
  <Override PartName="/ppt/media/image21.jpeg" ContentType="image/jpeg"/>
  <Override PartName="/ppt/media/image17.gif" ContentType="image/gif"/>
  <Override PartName="/ppt/media/image27.jpeg" ContentType="image/jpeg"/>
  <Override PartName="/ppt/media/image14.gif" ContentType="image/gif"/>
  <Override PartName="/ppt/media/image31.jpeg" ContentType="image/jpeg"/>
  <Override PartName="/ppt/media/image18.jpeg" ContentType="image/jpeg"/>
  <Override PartName="/ppt/media/image8.gif" ContentType="image/gif"/>
  <Override PartName="/ppt/media/image13.gif" ContentType="image/gif"/>
  <Override PartName="/ppt/media/image9.gif" ContentType="image/gif"/>
  <Override PartName="/ppt/media/image16.jpeg" ContentType="image/jpeg"/>
  <Override PartName="/ppt/media/image26.jpeg" ContentType="image/jpeg"/>
  <Override PartName="/ppt/media/image32.jpeg" ContentType="image/jpeg"/>
  <Override PartName="/ppt/media/image11.jpeg" ContentType="image/jpeg"/>
  <Override PartName="/ppt/media/image36.jpeg" ContentType="image/jpeg"/>
  <Override PartName="/ppt/media/image30.gif" ContentType="image/gif"/>
  <Override PartName="/ppt/media/image34.gif" ContentType="image/gif"/>
  <Override PartName="/ppt/media/image33.jpeg" ContentType="image/jpeg"/>
  <Override PartName="/ppt/media/applause.wav" ContentType="audio/x-wav"/>
  <Override PartName="/ppt/media/image4.jpeg" ContentType="image/jpeg"/>
  <Override PartName="/ppt/media/image12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5.gif" ContentType="image/gif"/>
  <Override PartName="/ppt/media/image7.jpeg" ContentType="image/jpeg"/>
  <Override PartName="/ppt/media/image5.jpeg" ContentType="image/jpeg"/>
  <Override PartName="/ppt/media/image15.gif" ContentType="image/gif"/>
  <Override PartName="/ppt/media/image28.jpeg" ContentType="image/jpeg"/>
  <Override PartName="/ppt/media/image2.gif" ContentType="image/gif"/>
  <Override PartName="/ppt/media/image6.jpeg" ContentType="image/jpeg"/>
  <Override PartName="/ppt/media/image25.gif" ContentType="image/gif"/>
  <Override PartName="/ppt/media/image10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FF68-2265-4007-805A-186D676F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01FA-4E26-41C4-B6C8-ADCB982D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E42C-A082-4A68-9A0A-EF8C48C1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04A8-C85B-4F88-AB64-78D16640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D9D0-6B7D-40D9-81B6-C35D1629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CEFF-2914-4D5A-9486-848507DD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ADE9-C158-4264-B31E-42F1B0B4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A592-29D3-4AAC-8EAD-24B1FFA0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462F-769B-4B67-9FF2-F2DECDCF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5F96-AA6E-4ECF-B1B4-DDAD3BBC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2AC4-6B8D-46B0-A86C-554C4500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662-8B65-4A7E-A35C-939F1867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DDB9-7AE9-48A0-9085-3B1B54BCD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.xml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68120"/>
            <a:ext cx="9144000" cy="7026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24280" y="4648320"/>
            <a:ext cx="1752840" cy="1460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195640" y="1268280"/>
            <a:ext cx="4897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诚 信 是 金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42920" y="1052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8420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2682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丛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岁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丛飞开始资助贫困学生。他为着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“我不能成就一个世界，但我要尽我所能成就这些孩子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承诺付出了自己的所有。十年中，丛飞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助了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7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贫困儿童，捐款捐物达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多万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欠债已达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万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4508640"/>
            <a:ext cx="67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你认为这样做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值得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吗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为什么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1330200" y="-2546280"/>
            <a:ext cx="5713200" cy="3808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76720" y="-2905200"/>
            <a:ext cx="5715000" cy="3807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5867280"/>
            <a:ext cx="914400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8420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312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1800" y="1341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41300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476280"/>
            <a:ext cx="8425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了多赚钱资助贫困学生，丛飞经常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负荷工作。今年４月，他被确诊为胃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及时治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命将有危险。但是他连医药费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付不起。中央电视台等媒体对丛飞的情况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行了报道。很多好心人都送来了钱物，让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好治疗。这时，丛飞又犹豫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面对这种情况，如果你是丛飞，你会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4495680"/>
            <a:ext cx="71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Ａ、自己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先治病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Ｂ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兑现承诺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先寄钱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小孩子读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705720" y="4495680"/>
            <a:ext cx="1800000" cy="1636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14400" y="533520"/>
            <a:ext cx="7257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丛飞为了兑现自己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诺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瞒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人，偷偷把别人捐给他看病的钱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了几个贫困学生。听了丛飞的事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，又有很多人都送来了物品和捐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丛飞住的那家医院宣布减免他的费用，并尽力挽救他的生命。在这些人的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力和救助之下，现在丛飞已经动了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术，病情趋于稳定，并逐步好转。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愿好人一生平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553080" y="52578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9480" y="5181480"/>
            <a:ext cx="167652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392200" y="2570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486900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做人要诚实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对人守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对事负责。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诚信是金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191120"/>
            <a:ext cx="80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丛飞的故事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学到了哪些做人的道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745080" cy="3456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4000320" cy="345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629400" y="4952880"/>
            <a:ext cx="23209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9640" y="692280"/>
            <a:ext cx="31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人名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08040" y="141192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言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行必果。——孔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4005360"/>
            <a:ext cx="70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如果要别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首先要自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信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。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　　　　　　　　——莎士比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51080" y="3283560"/>
            <a:ext cx="318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为人之本。——鲁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220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者，天之道也；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者，人之道也。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　　　　　　　　　　——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08720" y="5229360"/>
            <a:ext cx="1676520" cy="1276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324480" y="228600"/>
            <a:ext cx="249408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39280" cy="6900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-1690560" y="-549360"/>
            <a:ext cx="12239640" cy="74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75438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221004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43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28600" y="2286000"/>
            <a:ext cx="845820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37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欣赏诗朗诵  让我们呼唤诚信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是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时候， 幸福围绕在我们周围， 可我们常不自知， 因为我们需要一双慧眼来把世界看得清清楚楚， 真真切切， 但最重要的是彼此都需要诚信， 来达到彼此相互了解， 相互融洽， 相互真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是美， 当代人都追求美， 追求外表的华丽， 漂亮，却忘掉了心灵美， 其实心灵美才是真正的美。 在漫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的历史长河中， 中华文化哺育着中华儿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65040" y="1125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请你谈谈什么是诚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145600">
            <a:off x="3816360" y="4307040"/>
            <a:ext cx="5715000" cy="191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2152800"/>
            <a:ext cx="67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诚信，即诚实守信。“诚”，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是诚实无欺、诚信做人、诚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做事，实事求是；“信”，即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信用、讲信誉、守信义、不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-4138560" y="-1754280"/>
            <a:ext cx="5713200" cy="3808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39640" y="5229360"/>
            <a:ext cx="1676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是德， 人们常说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艰苦奋斗是中华民族的传统美德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我却要说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也是人与人交往中必不可缺的一种美德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有了诚信才更加灿烂。 人生有了诚信才更加迷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15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学校，我爱老师，我刻苦学习很用功。 我爱公物，他爱劳动，我处处帮助同学。 我乐为集体争光荣。 诚信早已播种在心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362320"/>
            <a:ext cx="960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如同一团火！ 诚信如同一棵松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如同一面镜！ 诚信如同一盏灯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的人，有力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4114800"/>
            <a:ext cx="50292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诚信事竟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诚信成英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有诚信事事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我们从诚信走向明天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10000" y="476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誓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1557360"/>
            <a:ext cx="74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一名光荣的高中生，我珍惜我的荣誉，将以诚实守信的参加各项考试。我已认真学习了学校关于考试的有关规定并将严格遵守，保证按规定的程序和要求参加考试，遵守考场纪律，维护考场秩序，诚信考试，绝不违纪，做一名诚实守信的高中生。我庄严宣誓：我将遵守考纪，公平参与竞争，用我的人格和名誉担保，在体现公正、公平的考试中，以诚实守信的态度完成此次考试。担当自己应有的责任，塑造自己纯净的灵魂，树立班级文明形象，创建一个有序、和谐的学习环境作出贡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66ff33"/>
                </a:solidFill>
                <a:latin typeface="Arial"/>
                <a:ea typeface="方正舒体"/>
              </a:rPr>
              <a:t>高二（</a:t>
            </a:r>
            <a:r>
              <a:rPr b="1" i="1" lang="en-US" sz="8000" spc="-1" strike="noStrike">
                <a:solidFill>
                  <a:srgbClr val="66ff33"/>
                </a:solidFill>
                <a:latin typeface="Arial"/>
                <a:ea typeface="方正舒体"/>
              </a:rPr>
              <a:t>9</a:t>
            </a:r>
            <a:r>
              <a:rPr b="1" i="1" lang="zh-CN" sz="8000" spc="-1" strike="noStrike">
                <a:solidFill>
                  <a:srgbClr val="66ff33"/>
                </a:solidFill>
                <a:latin typeface="Arial"/>
                <a:ea typeface="方正舒体"/>
              </a:rPr>
              <a:t>）班</a:t>
            </a:r>
            <a:br>
              <a:rPr sz="8000"/>
            </a:br>
            <a:r>
              <a:rPr b="1" i="1" lang="zh-CN" sz="8000" spc="-1" strike="noStrike">
                <a:solidFill>
                  <a:srgbClr val="66ff33"/>
                </a:solidFill>
                <a:latin typeface="Arial"/>
                <a:ea typeface="方正舒体"/>
              </a:rPr>
              <a:t>主题班会</a:t>
            </a:r>
            <a:br>
              <a:rPr sz="8000"/>
            </a:br>
            <a:br>
              <a:rPr sz="8000"/>
            </a:br>
            <a:r>
              <a:rPr b="1" i="1" lang="zh-CN" sz="4400" spc="-1" strike="noStrike">
                <a:solidFill>
                  <a:srgbClr val="66ff33"/>
                </a:solidFill>
                <a:latin typeface="Arial"/>
              </a:rPr>
              <a:t>到此结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7704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集团总经理贝兆汉"/>
          <p:cNvPicPr/>
          <p:nvPr/>
        </p:nvPicPr>
        <p:blipFill>
          <a:blip r:embed="rId1"/>
          <a:stretch/>
        </p:blipFill>
        <p:spPr>
          <a:xfrm>
            <a:off x="5364000" y="260280"/>
            <a:ext cx="3314880" cy="2087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27400" y="4869000"/>
            <a:ext cx="352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你觉得“五包”政策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合理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3130560" y="-1465200"/>
            <a:ext cx="5713560" cy="3808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1125360"/>
            <a:ext cx="4824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五包”承诺提出后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5071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3800" y="3429000"/>
            <a:ext cx="4839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如果你是厂长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你会怎么做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赔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还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不赔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19280" cy="60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315200" y="4952880"/>
            <a:ext cx="1273320" cy="1524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-912960" y="5181480"/>
            <a:ext cx="5713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2096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七月份，国家又对１３０多种药品下调了价格。很多商家又写信来要求索赔。这时，厂里已经拖欠了员工一个月的工资，退休员工的工资也发不出来了。许多员工怨声载道，退休员工甚至冲进办公室质问厂长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495680"/>
            <a:ext cx="776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如果你是厂长，面对这种处境，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又会如何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选择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？为什么？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可以表演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649440" cy="60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35280" y="404640"/>
            <a:ext cx="649080" cy="600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708360" y="-2760840"/>
            <a:ext cx="5715000" cy="3807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635960" y="5029200"/>
            <a:ext cx="15080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6920" y="620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后来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141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24720" y="1557360"/>
            <a:ext cx="4618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没过几个月，“五包”的回报来了。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业部门都知道“白云山”是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讲信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，跟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们作生意不会吃亏。“白云山”的产品供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应求，生意越做越红火。现在，白云山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由原来的一个只有四口铜锅的制药车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展到涉足多个行业的企业集团，曾一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中国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50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家最大工业企业榜首。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651640" y="620640"/>
            <a:ext cx="476280" cy="381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19920" y="5013360"/>
            <a:ext cx="3124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319280" cy="2808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314172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西南宁某制药厂为了攫取更大的利润，在厂长的默许下，开始秘密制造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假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南宁某地区有几十人先后服用该厂的药而呕吐不止，生病住了院。广西警方经过深入细致的调查取证，一举摧毁了这家假药厂。这家厂最终被查封，相关领导也受到了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严厉的处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260280"/>
            <a:ext cx="3660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央电视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济半小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报道了广西南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警方破获的一起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造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假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案件。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-179280" y="6237360"/>
            <a:ext cx="91422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6676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1989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03480" y="170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192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323880" y="1600200"/>
            <a:ext cx="2375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个企业的不同结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明了什么道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895480"/>
            <a:ext cx="498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讲诚信能使企业获得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远发展的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不讲诚信会使企业失去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来所有的发展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诚信是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086600" y="2819520"/>
            <a:ext cx="18003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5832720" cy="4086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71840" y="4835520"/>
            <a:ext cx="24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歌手丛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2855880" y="4724280"/>
            <a:ext cx="5713560" cy="3810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364000" y="479736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02:20:37Z</dcterms:created>
  <dc:creator>贝壳</dc:creator>
  <dc:description/>
  <cp:keywords/>
  <dc:language>en-US</dc:language>
  <cp:lastModifiedBy>微软用户</cp:lastModifiedBy>
  <cp:lastPrinted>1899-12-30T00:00:00Z</cp:lastPrinted>
  <dcterms:modified xsi:type="dcterms:W3CDTF">2011-11-05T15:31:57Z</dcterms:modified>
  <cp:revision>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