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14.gif" ContentType="image/gif"/>
  <Override PartName="/ppt/media/image31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26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30.gif" ContentType="image/gif"/>
  <Override PartName="/ppt/media/image34.gif" ContentType="image/gif"/>
  <Override PartName="/ppt/media/image33.jpeg" ContentType="image/jpeg"/>
  <Override PartName="/ppt/media/applause.wav" ContentType="audio/x-wav"/>
  <Override PartName="/ppt/media/image4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DE9-E6E7-4FB7-8ACB-BA8569DC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77E-0CCA-41E0-B338-08B247EE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A76-3C07-4A74-97C0-D5BFF16E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D45-5923-4F95-A79D-B3B26DE0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6AA-0352-412D-AAD1-9A0F59B6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5B3-0AFE-45B7-B01E-1EBD8DA2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B9D-FD78-4718-BA10-0BD25B02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FB3-8A6B-4B94-9496-7EE7B990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C86-F8AB-4DA1-B88D-5BD2943B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D42-0CC8-4601-B263-B4EFC26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9B9-C10D-4F99-91D4-B0CB0CED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C10-CDBF-4C34-9B5B-4693396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0BE1-28F5-45D8-A6C3-878CAC5A7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4648320"/>
            <a:ext cx="175284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95640" y="1268280"/>
            <a:ext cx="489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 信 是 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268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开始资助贫困学生。他为着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“我不能成就一个世界，但我要尽我所能成就这些孩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承诺付出了自己的所有。十年中，丛飞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贫困儿童，捐款捐物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欠债已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0864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认为这样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值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30200" y="-2546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76720" y="-29052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134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413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76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多赚钱资助贫困学生，丛飞经常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荷工作。今年４月，他被确诊为胃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时治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将有危险。但是他连医药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付不起。中央电视台等媒体对丛飞的情况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了报道。很多好心人都送来了钱物，让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治疗。这时，丛飞又犹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面对这种情况，如果你是丛飞，你会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4956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Ａ、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治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Ｂ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兑现承诺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寄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孩子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1800000" cy="16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533520"/>
            <a:ext cx="725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为了兑现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诺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瞒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人，偷偷把别人捐给他看病的钱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了几个贫困学生。听了丛飞的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又有很多人都送来了物品和捐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住的那家医院宣布减免他的费用，并尽力挽救他的生命。在这些人的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和救助之下，现在丛飞已经动了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，病情趋于稳定，并逐步好转。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好人一生平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1676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做人要诚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人守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事负责。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诚信是金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911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丛飞的故事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学到了哪些做人的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0003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32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人名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411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言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行必果。——孔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0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要别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首先要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——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51080" y="3283560"/>
            <a:ext cx="31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人之本。——鲁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20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天之道也；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人之道也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　　——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2494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90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1690560" y="-549360"/>
            <a:ext cx="1223964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8600" y="2286000"/>
            <a:ext cx="8458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诗朗诵  让我们呼唤诚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候， 幸福围绕在我们周围， 可我们常不自知， 因为我们需要一双慧眼来把世界看得清清楚楚， 真真切切， 但最重要的是彼此都需要诚信， 来达到彼此相互了解， 相互融洽， 相互真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美， 当代人都追求美， 追求外表的华丽， 漂亮，却忘掉了心灵美， 其实心灵美才是真正的美。 在漫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历史长河中， 中华文化哺育着中华儿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6504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你谈谈什么是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45600">
            <a:off x="3816360" y="4307040"/>
            <a:ext cx="5715000" cy="191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21528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诚信，即诚实守信。“诚”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是诚实无欺、诚信做人、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做事，实事求是；“信”，即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信用、讲信誉、守信义、不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4138560" y="-1754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676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德， 人们常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苦奋斗是中华民族的传统美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我却要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也是人与人交往中必不可缺的一种美德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有了诚信才更加灿烂。 人生有了诚信才更加迷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，我爱老师，我刻苦学习很用功。 我爱公物，他爱劳动，我处处帮助同学。 我乐为集体争光荣。 诚信早已播种在心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62320"/>
            <a:ext cx="96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团火！ 诚信如同一棵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面镜！ 诚信如同一盏灯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的人，有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4114800"/>
            <a:ext cx="5029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事竟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成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诚信事事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从诚信走向明天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10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誓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55736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一名光荣的高中生，我珍惜我的荣誉，将以诚实守信的参加各项考试。我已认真学习了学校关于考试的有关规定并将严格遵守，保证按规定的程序和要求参加考试，遵守考场纪律，维护考场秩序，诚信考试，绝不违纪，做一名诚实守信的高中生。我庄严宣誓：我将遵守考纪，公平参与竞争，用我的人格和名誉担保，在体现公正、公平的考试中，以诚实守信的态度完成此次考试。担当自己应有的责任，塑造自己纯净的灵魂，树立班级文明形象，创建一个有序、和谐的学习环境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高二（</a:t>
            </a:r>
            <a:r>
              <a:rPr b="1" i="1" lang="en-US" sz="8000" spc="-1" strike="noStrike">
                <a:solidFill>
                  <a:srgbClr val="66ff33"/>
                </a:solidFill>
                <a:latin typeface="Arial"/>
                <a:ea typeface="方正舒体"/>
              </a:rPr>
              <a:t>9</a:t>
            </a: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）班</a:t>
            </a:r>
            <a:br>
              <a:rPr sz="8000"/>
            </a:b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主题班会</a:t>
            </a:r>
            <a:br>
              <a:rPr sz="8000"/>
            </a:br>
            <a:br>
              <a:rPr sz="8000"/>
            </a:br>
            <a:r>
              <a:rPr b="1" i="1" lang="zh-CN" sz="4400" spc="-1" strike="noStrike">
                <a:solidFill>
                  <a:srgbClr val="66ff33"/>
                </a:solidFill>
                <a:latin typeface="Arial"/>
              </a:rPr>
              <a:t>到此结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集团总经理贝兆汉"/>
          <p:cNvPicPr/>
          <p:nvPr/>
        </p:nvPicPr>
        <p:blipFill>
          <a:blip r:embed="rId1"/>
          <a:stretch/>
        </p:blipFill>
        <p:spPr>
          <a:xfrm>
            <a:off x="5364000" y="260280"/>
            <a:ext cx="33148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觉得“五包”政策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130560" y="-14652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125360"/>
            <a:ext cx="482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五包”承诺提出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50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3800" y="3429000"/>
            <a:ext cx="483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会怎么做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27332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912960" y="5181480"/>
            <a:ext cx="5713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月份，国家又对１３０多种药品下调了价格。很多商家又写信来要求索赔。这时，厂里已经拖欠了员工一个月的工资，退休员工的工资也发不出来了。许多员工怨声载道，退休员工甚至冲进办公室质问厂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95680"/>
            <a:ext cx="77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，面对这种处境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又会如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可以表演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4944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08360" y="-276084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35960" y="5029200"/>
            <a:ext cx="1508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后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720" y="1557360"/>
            <a:ext cx="46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过几个月，“五包”的回报来了。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部门都知道“白云山”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讲信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跟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作生意不会吃亏。“白云山”的产品供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求，生意越做越红火。现在，白云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由原来的一个只有四口铜锅的制药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到涉足多个行业的企业集团，曾一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家最大工业企业榜首。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01336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141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南宁某制药厂为了攫取更大的利润，在厂长的默许下，开始秘密制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南宁某地区有几十人先后服用该厂的药而呕吐不止，生病住了院。广西警方经过深入细致的调查取证，一举摧毁了这家假药厂。这家厂最终被查封，相关领导也受到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严厉的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260280"/>
            <a:ext cx="366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央电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半小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报道了广西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警方破获的一起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案件。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179280" y="6237360"/>
            <a:ext cx="914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676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23880" y="1600200"/>
            <a:ext cx="2375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企业的不同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道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895480"/>
            <a:ext cx="498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讲诚信能使企业获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远发展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不讲诚信会使企业失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来所有的发展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诚信是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2819520"/>
            <a:ext cx="1800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832720" cy="40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1840" y="48355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歌手丛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855880" y="4724280"/>
            <a:ext cx="5713560" cy="381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2:20:37Z</dcterms:created>
  <dc:creator>贝壳</dc:creator>
  <dc:description/>
  <cp:keywords/>
  <dc:language>en-US</dc:language>
  <cp:lastModifiedBy>微软用户</cp:lastModifiedBy>
  <cp:lastPrinted>1899-12-30T00:00:00Z</cp:lastPrinted>
  <dcterms:modified xsi:type="dcterms:W3CDTF">2011-11-05T15:31:57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