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00DC-A090-49BC-9557-B919FCAF2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D520-9317-463F-8B04-DA4FE728E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2968-1DA2-4067-8019-A40BD7F3C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F72C-D7FF-49E4-86BF-54060AD7D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DF21-699D-4396-81F8-0B5BE2D7F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9F7A-ABC4-4CD9-87E3-BC5BDB2E6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0854-4B8A-4E80-B7BA-C07CB6A6E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AAB5-F0CF-4F44-86EA-8D73EAA27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1DF3-A9EF-4536-B1A0-4E3A24BB7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FE87-21B5-465A-85D4-0C8D1DF0B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8A20-5AF5-4E2C-B712-88F3A1BE1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3886-D07D-41F7-BC10-02EA51341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7444F-0BC0-46CA-88BA-17DEED718D6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908000" y="1052640"/>
            <a:ext cx="5040360" cy="4752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我想要本课外书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195640" y="3933720"/>
            <a:ext cx="4089240" cy="11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高二</a:t>
            </a: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16</a:t>
            </a:r>
            <a:r>
              <a:rPr b="0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班主题班会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" name=""/>
          <p:cNvSpPr/>
          <p:nvPr/>
        </p:nvSpPr>
        <p:spPr>
          <a:xfrm>
            <a:off x="4716360" y="5300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10.12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24000" y="304812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．要学会略读和精读。略读，就是大概地看，一目十行的看。精读，就是，细细地读，慢慢地品味。这是两种不同的读书方法。对于一些精彩的地方，我们要精读，而有些写得不是很精彩的地方，我们只要用略读即可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24000" y="2774160"/>
            <a:ext cx="849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．课外阅读贵在坚持。“滴水穿石”，“聚沙成塔”，课外阅读也是如此，贵在坚持，如果我们每天都能抽一点时间来进行课外阅读，那么几年下来，你的语文能力一定会大有提高，写起作文来一定会笔下生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900000" y="1773360"/>
            <a:ext cx="633600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他们很想要一本课外书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340000" y="2205000"/>
            <a:ext cx="4546440" cy="3888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中学生应看的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40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本书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941040"/>
            <a:ext cx="4427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论语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匹克威克外传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三国演义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老人与海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红楼梦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哈姆莱特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呐喊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堂吉诃德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史记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《子夜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00720" y="1213200"/>
            <a:ext cx="4643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《巴黎圣母院》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女神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围城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歌德谈话录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欧也妮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葛朗台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家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普希金诗选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苏菲的世界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雷雨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复活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410840"/>
            <a:ext cx="4427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谈美书简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麦田里的守望者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傅雷家书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人类的故事》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古文观止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飞鸟集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富兰克林自传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撒哈拉的故事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致加西亚的信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悲惨世界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16360" y="1229040"/>
            <a:ext cx="4427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昆虫记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文化苦旅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平凡的世界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杰出青少年的七个习惯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余光中诗选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果壳中的宇宙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病隙碎笔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蒙田随笔集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活着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我的心中每天开出一朵花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50920" y="2012040"/>
            <a:ext cx="8497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这些书涵盖了教育部推荐的中学生必读的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本文学名著的基础上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借鉴了胡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鲁迅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海明威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毛姆等古今中外许多名家所列举的不可不读的书目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选取了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本最适合中学生阅读的书籍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在确定这些书的过程中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我们广泛征求了专家学者和教学经验丰富的教师意见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并逐一斟酌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筛选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内容包括了文学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艺术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历史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地理等不同领域的精华之作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0920" y="3046680"/>
            <a:ext cx="871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同学们，你经常读课外书吗？你读过那些课外书呢？相信你在阅读阅读课外书的过程中，一定获得了好多知识，得到了许多的乐趣吧。今天，我就跟大家谈谈课外阅读的问题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2050920" y="2060640"/>
            <a:ext cx="511344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为什么要读课外书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31687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个多读书的人，其视野必然开阔，其志向必然高远，其追求必然执着。也就是说，多读书，不仅能使人变得视野开阔，知识丰富，而且还能使人具有远大的理想，执着的追求。我国著名的语言学家吕淑湘先生也说过，他学习语文，三分得益于课内，七分得益于课外。的确如此，我们从各种课外书中可以获取丰富的知识，通过阅读，我们可以跨越时空，了解古今中外的事情。我们还可以通过阅读和各种名人对话。不仅如此，多读课外书还能提高你的作文能力。杜甫说：读书破万卷，下笔如有神。可以这样说，凡是作文写得好的同学，都是喜欢课外阅读的，因为我们可以从课外书中学到一些好词佳句，可以学到一些写作的方法，可以积累一些写作的素材。当然，读课外书的好处还有好多，我想喜欢课外阅读的同学都能深切地体会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2050920" y="692280"/>
            <a:ext cx="4465800" cy="103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讨论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258920" y="2565360"/>
            <a:ext cx="604980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我们读了哪些课外书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50920" y="1464840"/>
            <a:ext cx="8569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在人的一生中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中学时期是积累知识和文化的重要时期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要想开阔自己的视野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丰富自己的人生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在同龄人中成为佼佼者，仅凭课本上的东西是远远不够的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必须多读书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读好书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好书可以增加我们知识的深度和广度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好书可以传递人生哲理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好书可以让我们树立正确的人生理念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让我们拥有一个更广阔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更光明的世界。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187280" y="1773360"/>
            <a:ext cx="6624720" cy="188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怎样读课外书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95280" y="2407680"/>
            <a:ext cx="8353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或许大家要说，课外书有谁不会读呢？在这里，我们要向大家提几点建议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看课外书不要老是看一种书，各种书都要看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有些同学就爱看历史的，其余的一概不看。这样做是不好的。鲁迅先生说过，读书如蜜蜂采蜜一样，倘若总是叮在一处，所得就非常有限，是酿不出什么蜜来的。读书也如吃菜一样，总是挑食，就会营养不良。老看一种书只能得到一方面的知识，其他方面的知识就得不到了，所以我们要看各种书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50920" y="2774160"/>
            <a:ext cx="871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．读书要学会做读书笔记。“不动笔墨不看书”，我们在读书的时候，要学会“动笔墨”。老师建议每个同学都准备一本读书笔记本，将一些好词、佳句，一些精彩的段落，一些读书的心得体会记下来，经常的去读一读，背一背。这样，时间长了，你就能积累好多的东西，对于提高你的写作水平是大有好处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04:46:44Z</dcterms:created>
  <dc:creator> </dc:creator>
  <dc:description/>
  <dc:language>en-US</dc:language>
  <cp:lastModifiedBy> </cp:lastModifiedBy>
  <dcterms:modified xsi:type="dcterms:W3CDTF">2011-10-12T13:21:40Z</dcterms:modified>
  <cp:revision>22</cp:revision>
  <dc:subject/>
  <dc:title>幻灯片 1</dc:title>
</cp:coreProperties>
</file>