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9C4B-1277-4464-9570-E79CA2A6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750F-A0AA-42DE-9AAD-3FDCE487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C723-DE17-4D45-81A0-80028585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5DA-B876-4458-97A8-337342E4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7947-DC42-422F-9E27-AF159852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A32A-B090-40FA-9361-AEC959B6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AB3-6767-425E-9961-28E91080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3AB0-1870-4E86-8BE1-9E148205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55DA-B9A8-4B31-ADCE-B063B9A1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0C2-6407-46D7-968B-299273F0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38C-34AA-4494-9310-1641C31C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7DD-D877-47DE-9831-5D89BF9B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4D71-C58A-469E-B6BF-A5E676335E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8000" y="1052640"/>
            <a:ext cx="5040360" cy="47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想要本课外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3933720"/>
            <a:ext cx="408924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高二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16</a:t>
            </a: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班主题班会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530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.1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304812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．要学会略读和精读。略读，就是大概地看，一目十行的看。精读，就是，细细地读，慢慢地品味。这是两种不同的读书方法。对于一些精彩的地方，我们要精读，而有些写得不是很精彩的地方，我们只要用略读即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277416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课外阅读贵在坚持。“滴水穿石”，“聚沙成塔”，课外阅读也是如此，贵在坚持，如果我们每天都能抽一点时间来进行课外阅读，那么几年下来，你的语文能力一定会大有提高，写起作文来一定会笔下生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00000" y="1773360"/>
            <a:ext cx="6336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他们很想要一本课外书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340000" y="2205000"/>
            <a:ext cx="4546440" cy="388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中学生应看的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本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410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论语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匹克威克外传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三国演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老人与海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红楼梦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哈姆莱特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呐喊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堂吉诃德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史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《子夜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213200"/>
            <a:ext cx="464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《巴黎圣母院》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女神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围城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歌德谈话录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欧也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葛朗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家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普希金诗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苏菲的世界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雷雨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复活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108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谈美书简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麦田里的守望者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傅雷家书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人类的故事》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古文观止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飞鸟集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富兰克林自传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撒哈拉的故事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致加西亚的信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悲惨世界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2290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昆虫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文化苦旅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平凡的世界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杰出青少年的七个习惯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余光中诗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果壳中的宇宙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病隙碎笔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蒙田随笔集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活着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我的心中每天开出一朵花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20120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些书涵盖了教育部推荐的中学生必读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文学名著的基础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借鉴了胡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鲁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海明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毛姆等古今中外许多名家所列举的不可不读的书目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选取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最适合中学生阅读的书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确定这些书的过程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广泛征求了专家学者和教学经验丰富的教师意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并逐一斟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筛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内容包括了文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艺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历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地理等不同领域的精华之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0466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学们，你经常读课外书吗？你读过那些课外书呢？相信你在阅读阅读课外书的过程中，一定获得了好多知识，得到了许多的乐趣吧。今天，我就跟大家谈谈课外阅读的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050920" y="2060640"/>
            <a:ext cx="511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为什么要读课外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68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多读书的人，其视野必然开阔，其志向必然高远，其追求必然执着。也就是说，多读书，不仅能使人变得视野开阔，知识丰富，而且还能使人具有远大的理想，执着的追求。我国著名的语言学家吕淑湘先生也说过，他学习语文，三分得益于课内，七分得益于课外。的确如此，我们从各种课外书中可以获取丰富的知识，通过阅读，我们可以跨越时空，了解古今中外的事情。我们还可以通过阅读和各种名人对话。不仅如此，多读课外书还能提高你的作文能力。杜甫说：读书破万卷，下笔如有神。可以这样说，凡是作文写得好的同学，都是喜欢课外阅读的，因为我们可以从课外书中学到一些好词佳句，可以学到一些写作的方法，可以积累一些写作的素材。当然，读课外书的好处还有好多，我想喜欢课外阅读的同学都能深切地体会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050920" y="692280"/>
            <a:ext cx="4465800" cy="10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讨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58920" y="2565360"/>
            <a:ext cx="6049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们读了哪些课外书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46484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人的一生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学时期是积累知识和文化的重要时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要想开阔自己的视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丰富自己的人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同龄人中成为佼佼者，仅凭课本上的东西是远远不够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必须多读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读好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增加我们知识的深度和广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传递人生哲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让我们树立正确的人生理念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让我们拥有一个更广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更光明的世界。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187280" y="1773360"/>
            <a:ext cx="662472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怎样读课外书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240768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许大家要说，课外书有谁不会读呢？在这里，我们要向大家提几点建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看课外书不要老是看一种书，各种书都要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些同学就爱看历史的，其余的一概不看。这样做是不好的。鲁迅先生说过，读书如蜜蜂采蜜一样，倘若总是叮在一处，所得就非常有限，是酿不出什么蜜来的。读书也如吃菜一样，总是挑食，就会营养不良。老看一种书只能得到一方面的知识，其他方面的知识就得不到了，所以我们要看各种书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277416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读书要学会做读书笔记。“不动笔墨不看书”，我们在读书的时候，要学会“动笔墨”。老师建议每个同学都准备一本读书笔记本，将一些好词、佳句，一些精彩的段落，一些读书的心得体会记下来，经常的去读一读，背一背。这样，时间长了，你就能积累好多的东西，对于提高你的写作水平是大有好处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4:46:44Z</dcterms:created>
  <dc:creator> </dc:creator>
  <dc:description/>
  <dc:language>en-US</dc:language>
  <cp:lastModifiedBy> </cp:lastModifiedBy>
  <dcterms:modified xsi:type="dcterms:W3CDTF">2011-10-12T13:21:40Z</dcterms:modified>
  <cp:revision>22</cp:revision>
  <dc:subject/>
  <dc:title>幻灯片 1</dc:title>
</cp:coreProperties>
</file>