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click.wav" ContentType="audio/x-wav"/>
  <Override PartName="/ppt/media/image11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3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594-C8BA-49C2-B810-A8635816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A17-8A56-4C22-BF0B-4FCDAED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5D7-1267-47AA-9FEF-8112281B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0C1-C56D-438F-A269-C4ED4161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8EC-5C38-4C0B-ADDF-E00AD7C2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1F2-F25A-424C-8C54-77BAD76B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82D0-A226-4FA6-B2FD-DA41473B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1DF-DCFB-4CC2-A6E7-17306A1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4C9B-77F7-4E6A-BA5D-7203095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D355-88AC-4313-BEFF-0A703EE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1FD-3863-4FAC-9CDC-8CCF4883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69E-8ACA-4DB2-8842-E3319A4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D9FC-30DA-4B57-BB3E-2027440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3BA2-AB69-4D2A-9F98-31AF27D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6B18-DD85-4E66-9A85-E8C12064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03A5-073F-45F2-AD72-3C56E4DD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6F20-FD3C-4513-8E99-B7EAE020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D6F7-E1EA-4CD6-B506-8D24A323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569C-FDA5-49C6-8F2E-FA78C38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65F6-1999-46BB-9E75-55779DE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AB13-8132-4F53-AA4A-A65EED5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B3CA-F634-467D-9994-4F128C5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786-21C8-4BB1-9FDB-88F21DD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9197-D73C-4176-91AE-FFAC62B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590B-9828-4C08-BED8-10C633C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3B04-9B70-4A39-A1D4-346D9D7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7316-2F86-45DA-934F-EB31299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6928-0BFB-4C31-ABAE-786A8AF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7E32-0F05-45DE-A5BE-00ACD53C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4A58-2BF2-420F-A3DD-16BB0DEA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4FF-AA03-4B8E-B553-F05BF9B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675-D5D6-4EEC-9AFB-34CDAD5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8FB-C080-4448-BE74-EE9DF2D7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DC2-A944-463F-9D6C-4E7A22A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600-94E6-4D18-90BB-87DD8B2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11F-A90D-4B3A-8CA2-A007DAB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CBE-B9C8-4ACC-BDA8-34863A36A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BF27-F74B-44A0-9938-489F8650805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D8B-524C-4044-B314-BE024CE5922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050920" y="69228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大堰河——我的保姆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96000" y="177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艾青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06668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读第１－３节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这三节主要写了关于大堰河的那些内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第三节运用了哪些景？体会其中蕴涵的情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3760" y="228600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介绍大堰河的身份、地位、死后的境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3960" y="3886200"/>
            <a:ext cx="1460880" cy="2044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意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雪压草盖的坟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檐头枯死的瓦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被典押了的园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长了青苔的石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495680"/>
            <a:ext cx="762120" cy="838440"/>
          </a:xfrm>
          <a:custGeom>
            <a:avLst/>
            <a:gdLst>
              <a:gd name="textAreaLeft" fmla="*/ 118800 w 762120"/>
              <a:gd name="textAreaRight" fmla="*/ 667080 w 7621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72160" y="4267080"/>
            <a:ext cx="103428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意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荒寂衰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萧索凄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34360" y="4267080"/>
            <a:ext cx="124740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深情的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低沉的哀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4495680"/>
            <a:ext cx="762120" cy="838440"/>
          </a:xfrm>
          <a:custGeom>
            <a:avLst/>
            <a:gdLst>
              <a:gd name="textAreaLeft" fmla="*/ 118800 w 762120"/>
              <a:gd name="textAreaRight" fmla="*/ 667080 w 7621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29000" y="19810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搭好灶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0" cy="6858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05520" y="2895480"/>
            <a:ext cx="914400" cy="60984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257440" y="3962520"/>
            <a:ext cx="6858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365760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尝过熟饭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029200" y="4495680"/>
            <a:ext cx="914400" cy="45720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46483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放好酱碗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54100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补好破衣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95680" y="4648320"/>
            <a:ext cx="0" cy="7617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46483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包扎伤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048120" y="4419360"/>
            <a:ext cx="990360" cy="5331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5812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掐死虱子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3886200"/>
            <a:ext cx="6858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5909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拾起鸡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895480"/>
            <a:ext cx="914400" cy="60984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3200400"/>
            <a:ext cx="13716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抚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6668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拍去炭灰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52280" y="11430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节诗人回忆了在大堰河家的生活，摄取了哪些生活场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70680" y="6453360"/>
            <a:ext cx="733680" cy="404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母子情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00400" y="2666880"/>
            <a:ext cx="2743200" cy="198144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495360 h 1981440"/>
              <a:gd name="textAreaBottom" fmla="*/ 1486080 h 1981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520" y="3352680"/>
            <a:ext cx="12189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深爱</a:t>
            </a:r>
            <a:endParaRPr b="0" lang="en-US" sz="4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切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276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贴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4648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赞美乳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3276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做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9144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哪些细节表现大堰河对乳儿的深爱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990720"/>
            <a:ext cx="457200" cy="4572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2450" t="23334" r="23696" b="21665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37000" y="914400"/>
            <a:ext cx="729000" cy="3855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你用你厚大的手掌把我抱在怀里，抚摸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4572000"/>
            <a:ext cx="579096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苦难而又温馨的母爱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伟大而又深沉的母爱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1676520" y="1219320"/>
            <a:ext cx="7010280" cy="4986360"/>
          </a:xfrm>
          <a:prstGeom prst="rect">
            <a:avLst/>
          </a:prstGeom>
          <a:ln w="76320">
            <a:solidFill>
              <a:srgbClr val="99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28600" y="4648320"/>
            <a:ext cx="266688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281952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8" name=""/>
          <p:cNvSpPr txBox="1"/>
          <p:nvPr/>
        </p:nvSpPr>
        <p:spPr>
          <a:xfrm>
            <a:off x="533520" y="609480"/>
            <a:ext cx="1218960" cy="121932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家</a:t>
            </a:r>
            <a:endParaRPr b="0" lang="en-US" sz="9600" spc="-1" strike="noStrike">
              <a:ln w="9360">
                <a:solidFill>
                  <a:srgbClr val="cc00cc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809880"/>
            <a:ext cx="1143000" cy="457200"/>
          </a:xfrm>
          <a:prstGeom prst="wedgeRectCallout">
            <a:avLst>
              <a:gd name="adj1" fmla="val 39305"/>
              <a:gd name="adj2" fmla="val 112500"/>
            </a:avLst>
          </a:prstGeom>
          <a:solidFill>
            <a:srgbClr val="00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火   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28600"/>
            <a:ext cx="1447560" cy="533520"/>
          </a:xfrm>
          <a:prstGeom prst="wedgeRectCallout">
            <a:avLst>
              <a:gd name="adj1" fmla="val 81250"/>
              <a:gd name="adj2" fmla="val 69939"/>
            </a:avLst>
          </a:prstGeom>
          <a:solidFill>
            <a:srgbClr val="00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雕花家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3480" y="692280"/>
            <a:ext cx="9177480" cy="5545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5410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我做了生我的父母家里的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新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73392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跟“我”在大堰河家的生活形成对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一方面突出了“我”的亲疏和爱憎；另一方面也反映了社会的不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7203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76720" y="838080"/>
            <a:ext cx="2590560" cy="838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含着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1600200"/>
            <a:ext cx="236232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295280" y="1600200"/>
            <a:ext cx="236232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90560" y="1676520"/>
            <a:ext cx="1447560" cy="1676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62520" y="1752480"/>
            <a:ext cx="380880" cy="1676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1752480"/>
            <a:ext cx="457200" cy="1676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1676520"/>
            <a:ext cx="1143000" cy="1752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4290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切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喂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烧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34290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晒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4360" y="466884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纯朴宽厚 勤劳善良 只求奉献的大堰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6021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命运悲惨，极容易满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21251" t="21665" r="22503" b="21673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14400" y="9907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大堰河辛劳一生，死后得到了什么？你从中读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880" y="3352680"/>
            <a:ext cx="4204080" cy="1434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愤怒控诉不公道的社会世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深切同情大堰河的悲惨命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03884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3962520" cy="27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304920" y="3429000"/>
            <a:ext cx="3962160" cy="293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2" name=""/>
          <p:cNvSpPr txBox="1"/>
          <p:nvPr/>
        </p:nvSpPr>
        <p:spPr>
          <a:xfrm>
            <a:off x="609480" y="533520"/>
            <a:ext cx="3657600" cy="93348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华文新魏"/>
              </a:rPr>
              <a:t>大堰河之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57400" y="1905120"/>
            <a:ext cx="1219320" cy="127620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墓</a:t>
            </a:r>
            <a:endParaRPr b="0" lang="en-US" sz="9600" spc="-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08000" y="404640"/>
            <a:ext cx="2971800" cy="2514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1200" y="2079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047600"/>
            <a:ext cx="58672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艾青，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910—199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原名蒋海澄，浙江金华人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因出生时难产，一位算命先生说他的命是“克父母”的，因此被送到一位贫苦农民的家里抚养。少爱美术，曾赴法国专攻美术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193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年回国，加入“左联”，从事革命文艺活动，不久被捕入狱。在狱中艾青转而从事诗歌创作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月一个雨雪纷飞的早晨，他在狱中睹雪思人，因雪神飞，回忆起幼年生活，创作了《大堰河－－我的保姆》，并一举以感人肺腑的感情和清新自然的诗风震动诗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艾青在现代史上具有重要地位，被誉为“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卓越的民族诗人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”。《大堰河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我的保姆》是艾青的成名作。《我爱这土地》《向太阳》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《火把》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《古罗马竞技场》等是他的代表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2692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066680" y="990720"/>
            <a:ext cx="2629080" cy="61884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主题思想</a:t>
            </a:r>
            <a:r>
              <a:rPr b="0" lang="en-US" sz="4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:</a:t>
            </a:r>
            <a:endParaRPr b="0" lang="en-US" sz="48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1628640"/>
            <a:ext cx="7920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这首抒情长诗，选择了大堰河的若干生活片段，一系列细节，以深沉、真挚的感情，歌颂了贫农妇女大堰河勤劳、善良的美好品质，描写了她的悲惨命运，并诅咒和揭露了造成她悲剧命的黑暗社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2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9640" y="3718080"/>
            <a:ext cx="79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没有一个诗人能够由于自身和依赖自身而伟大，他既不依赖自己的痛苦，也不依赖自己的幸福；任何伟大的诗人之所以伟大，是因为他的痛苦和幸福深深植根于社会和历史的土壤里。　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　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－－〔苏联〕别林斯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18900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艾青的诗有着特有的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忧郁美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诗人的这种忧郁，源自民族的苦难，体现着他深刻的忧患意识，博大的历史襟怀和浓烈的爱国真情！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艾青的诗永远昭示我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对国家、民族深沉强烈的爱和广博的襟怀、火热的心肠，是诗的根本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3840" y="549360"/>
            <a:ext cx="252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82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大堰河，原出生于离艾青老家五里远的大叶荷村，很小就被卖到艾青的家乡－－畈田蒋村当童养媳。她没有名字，人们只好用她的出生地称呼她，“卑微到连自己的名字也没有！”她一生命运非常悲惨：与前夫生了三个孩子；前夫死后，另嫁，又生了两个孩子。当时农民生活非常艰难，苛捐杂税，还有地主盘剥。大堰河孩子多，生活更是艰难，她受尽煎熬，仅四十多岁就离开了人世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艾青出生时因母亲难产，算命先生说他会“克死父母”，因此他一出生就受家人歧视，被寄养到大堰河家。艾青就是吮吸着大堰河的乳汁，在她精心爱抚下成长的。直到五岁才被领回家，仍然受家庭歧视，规定他不能叫父母为爸爸妈妈，而要叫叔叔婶婶。因此在艾青的情感世界里，对大堰河的爱远远超过了对父母的爱！因此他“长大一点后，总想早点离开家庭”，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岁就离开了家。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，他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岁，在狱中他满怀深情写下了《大堰河－－我的保姆》。后来诗人在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5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和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7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两次回乡，都一往情深地去祭扫大堰河的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-50760"/>
            <a:ext cx="9144000" cy="6908760"/>
            <a:chOff x="0" y="-50760"/>
            <a:chExt cx="9144000" cy="6908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-50760"/>
              <a:ext cx="9144000" cy="69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369000"/>
              <a:ext cx="8572320" cy="18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3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</a:rPr>
                <a:t>大堰河，今天我看到雪使我想起了你……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126828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19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引起回忆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---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介绍我与大堰河的关系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---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追怀  痛悼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大堰河生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9810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828800"/>
            <a:ext cx="2438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家务繁重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疼爱乳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含泪别离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贫富对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生活勤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宽厚善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爱儿好梦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美丽心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大堰河死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38098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2438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死后凄苦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一生悲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殡葬之薄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悲惨写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家人遭遇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悲剧命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5715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直接赞美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---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呈给大堰河的赞美诗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---   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赞颂  讴歌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09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眷恋  感激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同情 诅咒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33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叙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533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抒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rot="16200000">
            <a:off x="5770800" y="1923840"/>
            <a:ext cx="914400" cy="266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rot="16200000">
            <a:off x="5847120" y="3524040"/>
            <a:ext cx="914400" cy="266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6200000">
            <a:off x="5847120" y="5200560"/>
            <a:ext cx="914400" cy="266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605520" y="1371600"/>
            <a:ext cx="1399320" cy="4572000"/>
            <a:chOff x="-605520" y="1371600"/>
            <a:chExt cx="1399320" cy="4572000"/>
          </a:xfrm>
        </p:grpSpPr>
        <p:sp>
          <p:nvSpPr>
            <p:cNvPr id="158" name=""/>
            <p:cNvSpPr/>
            <p:nvPr/>
          </p:nvSpPr>
          <p:spPr>
            <a:xfrm>
              <a:off x="-605520" y="1371600"/>
              <a:ext cx="13993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  <a:ea typeface="隶书"/>
                </a:rPr>
                <a:t>大堰河       我的保姆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2895480"/>
              <a:ext cx="0" cy="838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08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诗人与普通人一样，都有着自己的生活经历。诗人与普通人不同，就在于诗人能把某种感觉变成艺术，变成诗。艾青就是把自己心中的感觉用语言表达出来了，谱写了一曲献给大堰河的赞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堰河——我的保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11280" y="3933720"/>
            <a:ext cx="38894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484280"/>
            <a:ext cx="8229600" cy="23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　　三十年代末的上海，一位著名诗人见到艾青，动情地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　　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“德国有莱茵河，法国有塞纳河，埃及有尼罗河……我可以骄傲地说：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中国有大堰河！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5:23:48Z</dcterms:created>
  <dc:creator>路路VICKY</dc:creator>
  <dc:description/>
  <dc:language>en-US</dc:language>
  <cp:lastModifiedBy>番茄花园</cp:lastModifiedBy>
  <cp:lastPrinted>1899-12-30T00:00:00Z</cp:lastPrinted>
  <dcterms:modified xsi:type="dcterms:W3CDTF">2008-09-14T01:44:57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