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gif" ContentType="image/gif"/>
  <Override PartName="/ppt/media/image5.gif" ContentType="image/gif"/>
  <Override PartName="/ppt/media/image6.gif" ContentType="image/gif"/>
  <Override PartName="/ppt/media/image11.gif" ContentType="image/gif"/>
  <Override PartName="/ppt/media/image7.jpeg" ContentType="image/jpeg"/>
  <Override PartName="/ppt/media/image8.jpeg" ContentType="image/jpeg"/>
  <Override PartName="/ppt/media/image1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8AEB-340C-4E7E-A31A-3B169A71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290E-DB32-44D6-8898-204E6104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FA83-C7C3-4673-A278-32990A480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B308-04F9-4665-8E40-DDC8866C2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846B-A9E7-48EA-A2B2-4AA32537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0CEB-9F21-4913-859E-C93CD120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576F-4127-4444-A79B-C3D240C9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8DAB-F04D-42F5-9290-3DF7AA68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8B4D-C936-462D-88C5-7F9DF05F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38E8-D2E7-44F8-A312-CB5D0424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3231-0EDF-4AAC-B3A3-005F7818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9F04-24F9-433F-8817-8C1B3F8D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35BD-F55B-49A0-A480-117FA51337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2" name=""/>
          <p:cNvSpPr txBox="1"/>
          <p:nvPr/>
        </p:nvSpPr>
        <p:spPr>
          <a:xfrm>
            <a:off x="900000" y="4221000"/>
            <a:ext cx="7537680" cy="24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9847"/>
                <a:gd name="adj2" fmla="val -1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cc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为了孩子的明天，我们共同努力！</a:t>
            </a:r>
            <a:endParaRPr b="1" lang="en-US" sz="2400" spc="1" strike="noStrike">
              <a:ln w="22320">
                <a:solidFill>
                  <a:srgbClr val="ff0000"/>
                </a:solidFill>
                <a:miter/>
              </a:ln>
              <a:solidFill>
                <a:srgbClr val="cc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50920" y="1773360"/>
            <a:ext cx="864216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3333cc"/>
                  </a:solidFill>
                  <a:miter/>
                </a:ln>
                <a:solidFill>
                  <a:srgbClr val="cc3300"/>
                </a:solidFill>
                <a:latin typeface="华文新魏"/>
              </a:rPr>
              <a:t>万全三中八年级</a:t>
            </a:r>
            <a:r>
              <a:rPr b="1" lang="en-US" sz="2400" spc="1" strike="noStrike">
                <a:ln w="19080">
                  <a:solidFill>
                    <a:srgbClr val="3333cc"/>
                  </a:solidFill>
                  <a:miter/>
                </a:ln>
                <a:solidFill>
                  <a:srgbClr val="cc3300"/>
                </a:solidFill>
                <a:latin typeface="华文新魏"/>
              </a:rPr>
              <a:t>85</a:t>
            </a:r>
            <a:r>
              <a:rPr b="1" lang="zh-CN" sz="2400" spc="1" strike="noStrike">
                <a:ln w="19080">
                  <a:solidFill>
                    <a:srgbClr val="3333cc"/>
                  </a:solidFill>
                  <a:miter/>
                </a:ln>
                <a:solidFill>
                  <a:srgbClr val="cc3300"/>
                </a:solidFill>
                <a:latin typeface="华文新魏"/>
              </a:rPr>
              <a:t>班家长会</a:t>
            </a:r>
            <a:endParaRPr b="1" lang="en-US" sz="2400" spc="1" strike="noStrike">
              <a:ln w="19080">
                <a:solidFill>
                  <a:srgbClr val="3333cc"/>
                </a:solidFill>
                <a:miter/>
              </a:ln>
              <a:solidFill>
                <a:srgbClr val="cc3300"/>
              </a:solidFill>
              <a:latin typeface="华文新魏"/>
              <a:ea typeface="华文新魏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08720" y="5157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826920" y="189000"/>
            <a:ext cx="7561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初二过渡——关键时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918440" y="380880"/>
            <a:ext cx="4752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、多关心孩子的学习内容和实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进步程度，家长要多询问孩子最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学习了什么掌握得如何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44720" y="3208320"/>
            <a:ext cx="50576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、经常给孩子制订几个容易达到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小目标，这样可以使孩子感觉到能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做到，树立孩子自信心，从而有利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孩子发挥出潜能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79280" y="45720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 订下家庭学习规矩，并且自始至终执行，以形成良好的学习习惯，作息习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2286000"/>
            <a:ext cx="87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、 要有恰当的教育方法，对待孩子要有耐心，不能经常打骂。那样只会激起孩子的抵触心理，事与愿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48690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7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家长要以身作则，给孩子做出榜样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553080" y="5529240"/>
            <a:ext cx="152424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0920" y="119700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⒈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黑体"/>
              </a:rPr>
              <a:t>帮孩子分析成绩，加强弱科的学习；孩子的作业希望家长多关注一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256536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⒉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严格控制孩子的零花钱、衣着、发式；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3357720"/>
            <a:ext cx="59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⒊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控制同学聚会</a:t>
            </a: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过生日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407664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4</a:t>
            </a:r>
            <a:r>
              <a:rPr b="1" lang="en-GB" sz="32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双休日期间尽量少外出，多与孩子交流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47242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⒌ 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了解孩子的交际圈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谁 特点 玩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60280"/>
            <a:ext cx="87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隶书"/>
                <a:ea typeface="隶书"/>
              </a:rPr>
              <a:t>希望家长配合我做好以下工作</a:t>
            </a:r>
            <a:r>
              <a:rPr b="1" lang="en-US" sz="4800" spc="-1" strike="noStrike">
                <a:solidFill>
                  <a:srgbClr val="000066"/>
                </a:solidFill>
                <a:latin typeface="隶书"/>
                <a:ea typeface="隶书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373720"/>
            <a:ext cx="82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6.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在孩子面前对学校、老师的评价态度的把握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35280" y="26028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幼圆"/>
                <a:ea typeface="幼圆"/>
              </a:rPr>
              <a:t>孩子变坏前的</a:t>
            </a:r>
            <a:r>
              <a:rPr b="1" lang="en-US" sz="4000" spc="-1" strike="noStrike">
                <a:solidFill>
                  <a:srgbClr val="ff0000"/>
                </a:solidFill>
                <a:latin typeface="幼圆"/>
                <a:ea typeface="幼圆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幼圆"/>
                <a:ea typeface="幼圆"/>
              </a:rPr>
              <a:t>项征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981000"/>
            <a:ext cx="8675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语言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爱说谎话，黑话，脏话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及喜欢说话时带有江湖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穿着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太过于时髦，暴露，喜欢擅改衣服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穿制服时特别将胸前两个扣子解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外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发型怪异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身上有刺青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常有外伤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行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较为标新立异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行为诡异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敢让家人知道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时间反锁自己房门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且神色紧张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态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易于动怒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情绪极端变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常与家人赌气或自暴自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0920" y="189000"/>
            <a:ext cx="8893080" cy="34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作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早出晚归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无端数日不归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白天蒙头大睡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黑间外出去向不交代清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物品：有不良刊物、刀具、药物、空胶罐、香烟酒类，甚至不明钱物或票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业：一下子成绩一落千丈，经常迟到早退、逃学、读书时间骤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交友：有社会人士的朋友，电话、书信量突增，有朋友也不敢介绍给家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习惯：有吸烟喝酒习惯，生活不正常，用钱需求量突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如果所列举的特征与孩子的行为相似愈多，父母就应该愈加注意，愈早防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8244000" y="6021360"/>
            <a:ext cx="687240" cy="620640"/>
          </a:xfrm>
          <a:custGeom>
            <a:avLst/>
            <a:gdLst>
              <a:gd name="textAreaLeft" fmla="*/ 161280 w 687240"/>
              <a:gd name="textAreaRight" fmla="*/ 525240 w 687240"/>
              <a:gd name="textAreaTop" fmla="*/ 72720 h 620640"/>
              <a:gd name="textAreaBottom" fmla="*/ 389520 h 620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411280" y="476280"/>
            <a:ext cx="64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彩云"/>
              </a:rPr>
              <a:t>       </a:t>
            </a:r>
            <a:r>
              <a:rPr b="1" lang="zh-CN" sz="5400" spc="-1" strike="noStrike">
                <a:solidFill>
                  <a:srgbClr val="b2b2b2"/>
                </a:solidFill>
                <a:latin typeface="Arial"/>
                <a:ea typeface="华文隶书"/>
              </a:rPr>
              <a:t>孩子是祖国的未来，民族的希望，更是我们每一个家庭的寄托。在此衷心祝愿我们每一个孩子健康成长，每一个家庭幸福平安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2521080" cy="670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2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77800" y="990720"/>
            <a:ext cx="818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Verdana"/>
                <a:ea typeface="华文彩云"/>
              </a:rPr>
              <a:t>真诚期待与您的合作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03480" y="2666880"/>
            <a:ext cx="545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别忘了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00000" y="5084640"/>
            <a:ext cx="750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ff"/>
                </a:solidFill>
                <a:latin typeface="Verdana"/>
                <a:ea typeface="华文隶书"/>
              </a:rPr>
              <a:t>经常联系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3141720"/>
            <a:ext cx="75088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ff"/>
                </a:solidFill>
                <a:latin typeface="Verdana"/>
                <a:ea typeface="华文隶书"/>
              </a:rPr>
              <a:t>常过来看看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395280" y="549360"/>
            <a:ext cx="8424720" cy="361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谢谢您的光临！再见！</a:t>
            </a:r>
            <a:endParaRPr b="0" lang="en-US" sz="2400" spc="1" strike="noStrike">
              <a:ln w="3816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916360" y="5445000"/>
            <a:ext cx="3581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9999"/>
                  </a:solidFill>
                  <a:miter/>
                </a:ln>
                <a:solidFill>
                  <a:srgbClr val="3333cc"/>
                </a:solidFill>
                <a:latin typeface="华文新魏"/>
              </a:rPr>
              <a:t>初二</a:t>
            </a:r>
            <a:r>
              <a:rPr b="1" lang="en-US" sz="2400" spc="1" strike="noStrike">
                <a:ln w="19080">
                  <a:solidFill>
                    <a:srgbClr val="ff9999"/>
                  </a:solidFill>
                  <a:miter/>
                </a:ln>
                <a:solidFill>
                  <a:srgbClr val="3333cc"/>
                </a:solidFill>
                <a:latin typeface="华文新魏"/>
              </a:rPr>
              <a:t>85</a:t>
            </a:r>
            <a:r>
              <a:rPr b="1" lang="zh-CN" sz="2400" spc="1" strike="noStrike">
                <a:ln w="19080">
                  <a:solidFill>
                    <a:srgbClr val="ff9999"/>
                  </a:solidFill>
                  <a:miter/>
                </a:ln>
                <a:solidFill>
                  <a:srgbClr val="3333cc"/>
                </a:solidFill>
                <a:latin typeface="华文新魏"/>
              </a:rPr>
              <a:t>班</a:t>
            </a:r>
            <a:endParaRPr b="1" lang="en-US" sz="2400" spc="1" strike="noStrike">
              <a:ln w="19080">
                <a:solidFill>
                  <a:srgbClr val="ff9999"/>
                </a:solidFill>
                <a:miter/>
              </a:ln>
              <a:solidFill>
                <a:srgbClr val="3333cc"/>
              </a:solidFill>
              <a:latin typeface="华文新魏"/>
              <a:ea typeface="华文新魏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500720" y="3357720"/>
            <a:ext cx="142560" cy="142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500720" y="3357720"/>
            <a:ext cx="142560" cy="142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7680240" y="489600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7885080" y="5775480"/>
            <a:ext cx="125892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2955960" y="543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927760" y="5506920"/>
            <a:ext cx="192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84760" y="53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880" y="2590920"/>
            <a:ext cx="838224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隶书"/>
              </a:rPr>
              <a:t>欢迎您的到来！</a:t>
            </a:r>
            <a:endParaRPr b="1" lang="en-US" sz="2400" spc="1" strike="noStrike">
              <a:ln w="381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隶书"/>
              <a:ea typeface="隶书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880" y="838080"/>
            <a:ext cx="60199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ff7c80"/>
                </a:solidFill>
                <a:latin typeface="黑体"/>
              </a:rPr>
              <a:t>尊敬的各位家长</a:t>
            </a:r>
            <a:endParaRPr b="1" lang="en-US" sz="2400" spc="1" strike="noStrike">
              <a:ln w="9360">
                <a:solidFill>
                  <a:srgbClr val="3333cc"/>
                </a:solidFill>
                <a:miter/>
              </a:ln>
              <a:solidFill>
                <a:srgbClr val="ff7c80"/>
              </a:solidFill>
              <a:latin typeface="黑体"/>
              <a:ea typeface="黑体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80880" y="5181480"/>
            <a:ext cx="533412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380880"/>
            <a:ext cx="594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a1002"/>
                </a:solidFill>
                <a:latin typeface="黑体"/>
                <a:ea typeface="黑体"/>
              </a:rPr>
              <a:t>家长会内容</a:t>
            </a:r>
            <a:r>
              <a:rPr b="1" lang="en-US" sz="6000" spc="-1" strike="noStrike">
                <a:solidFill>
                  <a:srgbClr val="ca1002"/>
                </a:solidFill>
                <a:latin typeface="黑体"/>
                <a:ea typeface="黑体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04920" y="2570040"/>
            <a:ext cx="5181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92360" y="177336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华文中宋"/>
              </a:rPr>
              <a:t>一、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析期末考试成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92360" y="2852640"/>
            <a:ext cx="677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华文中宋"/>
              </a:rPr>
              <a:t>二、谈一 谈父母教育孩子的问题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63640" y="386064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华文中宋"/>
              </a:rPr>
              <a:t>三、家庭教育中应注意的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63640" y="486900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华文中宋"/>
              </a:rPr>
              <a:t>给家长的几点希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1835280" cy="24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79280" y="0"/>
            <a:ext cx="8964720" cy="31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由本次考试成绩可以看出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竞争意识不强，时间观念较差。尤其是中层的学生自我满足，部分学生成绩波动较大，偏科现象较突出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.</a:t>
            </a: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个别学生自我约束能力不够，易受影响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751800" y="4871880"/>
            <a:ext cx="239220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16000" y="144360"/>
            <a:ext cx="87487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、学生思想上有放松现象，出现畏难情绪，信心不够坚定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、有个别同学不能合理安排学习时间，晚上睡得晚导致上课打瞌睡，影响课堂效果；有的同学想提高成绩，但方法不对又不积极主动问老师和同学，时间一长就有放弃的心理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dffed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0920" y="1989000"/>
            <a:ext cx="864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二、</a:t>
            </a:r>
            <a:r>
              <a:rPr b="0" lang="zh-CN" sz="72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谈教育孩子问题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0920" y="404640"/>
            <a:ext cx="831816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假若孩子在实际生活中确认，他的任性要求</a:t>
            </a: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隶书"/>
              </a:rPr>
              <a:t>都能满足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，他的不听话并未遭致任何不愉快的后果，那么就</a:t>
            </a:r>
            <a:r>
              <a:rPr b="1" lang="zh-CN" sz="5400" spc="-1" strike="noStrike">
                <a:solidFill>
                  <a:srgbClr val="000066"/>
                </a:solidFill>
                <a:latin typeface="Times New Roman"/>
                <a:ea typeface="隶书"/>
              </a:rPr>
              <a:t>渐渐习惯于顽皮、任性、捣乱、不听话，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之后就慢慢认为这是理所当然的。</a:t>
            </a:r>
            <a:br>
              <a:rPr sz="5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--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苏霍姆林斯基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华文隶书"/>
              </a:rPr>
              <a:t>       </a:t>
            </a:r>
            <a:r>
              <a:rPr b="1" lang="zh-CN" sz="45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如果一个孩子没有良好的家庭教育，那么不管老师付出多大的努力，都收不到完美的效果，学校里的一切问题都会在家庭里折射出来，而学校复杂的教育过程产生困难的根源也都可以追溯到家庭。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18920" y="5300640"/>
            <a:ext cx="70866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著名教育家苏霍姆林斯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68360" y="2743200"/>
            <a:ext cx="849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、尽量表扬孩子，孩子具有一定的自信心，才会肯去学习；要使孩子每天都感觉到他在学习上取得了一定的进步，哪怕是改正一个缺点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1773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27082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26828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、 创造和睦、祥和、稳定的家庭气氛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63165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58960" y="304920"/>
            <a:ext cx="338112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谈谈家庭教育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11T08:02:28Z</dcterms:modified>
  <cp:revision>98</cp:revision>
  <dc:subject/>
  <dc:title>PowerPoint Presentation</dc:title>
</cp:coreProperties>
</file>