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F6AD-3672-423D-9FF5-468BF5A2F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2E3B-ED30-4A9E-9358-DD7BDEA5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1479-F705-4B0A-B554-E3A55CF82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487C-F541-4A03-BB0A-8AADCEC5A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16F5-4A03-498B-A389-888A3B5F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711B-9964-4DD2-8507-9985C6F3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92E8-C1BE-4163-8536-BC849B9F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7D7B-9BDE-4805-8821-D0CAE613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4423-CBC1-4385-A48A-FA553964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E51A-DCC5-4AB3-B431-833E9514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1AB9-2EC0-40D5-9337-1844C5A7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8300-1B5E-46FA-9530-6D0F5CB5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E9DC-3520-40CC-B293-BBB13553EF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猜词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 rot="520200">
            <a:off x="2514600" y="1294920"/>
            <a:ext cx="4267080" cy="279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迷你简启体"/>
              </a:rPr>
              <a:t>高等数学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迷你简启体"/>
              <a:ea typeface="迷你简启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362320" y="1752480"/>
            <a:ext cx="44956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圣诞节</a:t>
            </a:r>
            <a:endParaRPr b="0" lang="en-US" sz="6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590920" y="1523880"/>
            <a:ext cx="4343400" cy="201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病毒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048120" y="1752480"/>
            <a:ext cx="304776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搞笑</a:t>
            </a:r>
            <a:endParaRPr b="0" lang="en-US" sz="6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657600" y="2057400"/>
            <a:ext cx="259092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迷你繁启体"/>
              </a:rPr>
              <a:t>大豆</a:t>
            </a:r>
            <a:endParaRPr b="0" lang="en-US" sz="8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迷你繁启体"/>
              <a:ea typeface="迷你繁启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819520" y="1676520"/>
            <a:ext cx="3686040" cy="17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迷你简启体"/>
              </a:rPr>
              <a:t>不差钱</a:t>
            </a:r>
            <a:endParaRPr b="1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迷你简启体"/>
              <a:ea typeface="迷你简启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895480" y="1828800"/>
            <a:ext cx="365760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迷你简启体"/>
              </a:rPr>
              <a:t>躲猫猫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迷你简启体"/>
              <a:ea typeface="迷你简启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 rot="321000">
            <a:off x="2819520" y="1447560"/>
            <a:ext cx="38862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春哥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 rot="393600">
            <a:off x="2895480" y="1295280"/>
            <a:ext cx="350532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书体坊赵九江钢笔行书"/>
              </a:rPr>
              <a:t>古龙水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书体坊赵九江钢笔行书"/>
              <a:ea typeface="书体坊赵九江钢笔行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47800" y="1752120"/>
            <a:ext cx="196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黑体"/>
              </a:rPr>
              <a:t>环保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438280" y="1828800"/>
            <a:ext cx="40388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迷你简启体"/>
              </a:rPr>
              <a:t>睫毛膏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迷你简启体"/>
              <a:ea typeface="迷你简启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 rot="291600">
            <a:off x="2209320" y="1295280"/>
            <a:ext cx="44197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迷你简启体"/>
              </a:rPr>
              <a:t>隐形眼镜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迷你简启体"/>
              <a:ea typeface="迷你简启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819520" y="1676520"/>
            <a:ext cx="370512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ankGothic Md BT"/>
              </a:rPr>
              <a:t>跨栏</a:t>
            </a:r>
            <a:endParaRPr b="0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ankGothic Md BT"/>
              <a:ea typeface="BankGothic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590920" y="1523880"/>
            <a:ext cx="4343400" cy="201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玉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124080" y="1828800"/>
            <a:ext cx="31244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迷你繁启体"/>
              </a:rPr>
              <a:t>iphone</a:t>
            </a:r>
            <a:endParaRPr b="0" lang="en-US" sz="8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迷你繁启体"/>
              <a:ea typeface="迷你繁启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048120" y="1752480"/>
            <a:ext cx="304776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你懂的</a:t>
            </a:r>
            <a:endParaRPr b="0" lang="en-US" sz="6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895480" y="1828800"/>
            <a:ext cx="365760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迷你简启体"/>
              </a:rPr>
              <a:t>伤不起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迷你简启体"/>
              <a:ea typeface="迷你简启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819520" y="1676520"/>
            <a:ext cx="3686040" cy="17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迷你简启体"/>
              </a:rPr>
              <a:t>神马</a:t>
            </a:r>
            <a:endParaRPr b="1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迷你简启体"/>
              <a:ea typeface="迷你简启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 rot="321000">
            <a:off x="2819520" y="1447560"/>
            <a:ext cx="38862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浮云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 rot="393600">
            <a:off x="2895480" y="1295280"/>
            <a:ext cx="350532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书体坊赵九江钢笔行书"/>
              </a:rPr>
              <a:t>眼镜蛇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书体坊赵九江钢笔行书"/>
              <a:ea typeface="书体坊赵九江钢笔行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76720" y="18288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迷你简启体"/>
              </a:rPr>
              <a:t>西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47120" y="1752120"/>
            <a:ext cx="371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黑体"/>
              </a:rPr>
              <a:t>Hold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黑体"/>
              </a:rPr>
              <a:t>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895480" y="1447920"/>
            <a:ext cx="3362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跨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438280" y="1828800"/>
            <a:ext cx="40388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迷你简启体"/>
              </a:rPr>
              <a:t>同性恋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迷你简启体"/>
              <a:ea typeface="迷你简启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209680" y="1752480"/>
            <a:ext cx="4876920" cy="17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迷你简启体"/>
              </a:rPr>
              <a:t>Dota</a:t>
            </a:r>
            <a:endParaRPr b="0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迷你简启体"/>
              <a:ea typeface="迷你简启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819520" y="1676520"/>
            <a:ext cx="370512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ankGothic Md BT"/>
              </a:rPr>
              <a:t>小月月</a:t>
            </a:r>
            <a:endParaRPr b="0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ankGothic Md BT"/>
              <a:ea typeface="BankGothic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590920" y="1523880"/>
            <a:ext cx="4343400" cy="201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QQ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048120" y="1752480"/>
            <a:ext cx="304776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富二代</a:t>
            </a:r>
            <a:endParaRPr b="0" lang="en-US" sz="6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819520" y="1676520"/>
            <a:ext cx="3686040" cy="17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迷你简启体"/>
              </a:rPr>
              <a:t>俯卧撑</a:t>
            </a:r>
            <a:endParaRPr b="1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迷你简启体"/>
              <a:ea typeface="迷你简启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2895480" y="1828800"/>
            <a:ext cx="365760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迷你简启体"/>
              </a:rPr>
              <a:t>打酱油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迷你简启体"/>
              <a:ea typeface="迷你简启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 rot="321000">
            <a:off x="2819520" y="1447560"/>
            <a:ext cx="38862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白痴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 rot="393600">
            <a:off x="2895480" y="1295280"/>
            <a:ext cx="350532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书体坊赵九江钢笔行书"/>
              </a:rPr>
              <a:t>李刚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书体坊赵九江钢笔行书"/>
              <a:ea typeface="书体坊赵九江钢笔行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09680" y="190512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迷你简启体"/>
              </a:rPr>
              <a:t>奇异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90920" y="1600200"/>
            <a:ext cx="556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黑体"/>
              </a:rPr>
              <a:t>穿越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547800" y="1752120"/>
            <a:ext cx="196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黑体"/>
              </a:rPr>
              <a:t>百度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209680" y="1752480"/>
            <a:ext cx="4876920" cy="17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迷你简启体"/>
              </a:rPr>
              <a:t>软件</a:t>
            </a:r>
            <a:endParaRPr b="0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迷你简启体"/>
              <a:ea typeface="迷你简启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590920" y="1523880"/>
            <a:ext cx="4343400" cy="201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V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438280" y="1828800"/>
            <a:ext cx="40388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迷你简启体"/>
              </a:rPr>
              <a:t>美女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迷你简启体"/>
              <a:ea typeface="迷你简启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819520" y="1676520"/>
            <a:ext cx="370512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ankGothic Md BT"/>
              </a:rPr>
              <a:t>吉他</a:t>
            </a:r>
            <a:endParaRPr b="0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ankGothic Md BT"/>
              <a:ea typeface="BankGothic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124080" y="2057400"/>
            <a:ext cx="3200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汉仪黛玉体简"/>
              </a:rPr>
              <a:t>王小贱</a:t>
            </a:r>
            <a:endParaRPr b="0" lang="en-US" sz="8000" spc="1" strike="noStrike">
              <a:ln w="12600">
                <a:solidFill>
                  <a:srgbClr val="ff66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汉仪黛玉体简"/>
              <a:ea typeface="汉仪黛玉体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438280" y="1676520"/>
            <a:ext cx="46483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格林童话</a:t>
            </a:r>
            <a:endParaRPr b="0" lang="en-US" sz="6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819520" y="1676520"/>
            <a:ext cx="3686040" cy="17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迷你简启体"/>
              </a:rPr>
              <a:t>乌托邦</a:t>
            </a:r>
            <a:endParaRPr b="1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迷你简启体"/>
              <a:ea typeface="迷你简启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895480" y="1828800"/>
            <a:ext cx="365760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迷你简启体"/>
              </a:rPr>
              <a:t>KTV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迷你简启体"/>
              <a:ea typeface="迷你简启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 rot="321000">
            <a:off x="2819520" y="1447560"/>
            <a:ext cx="38862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迷你简启体"/>
              </a:rPr>
              <a:t>解放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迷你简启体"/>
              <a:ea typeface="迷你简启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323880" y="1676520"/>
            <a:ext cx="23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黑体"/>
              </a:rPr>
              <a:t>爆米花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 rot="393600">
            <a:off x="2895480" y="1295280"/>
            <a:ext cx="350532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书体坊赵九江钢笔行书"/>
              </a:rPr>
              <a:t>小村庄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书体坊赵九江钢笔行书"/>
              <a:ea typeface="书体坊赵九江钢笔行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438280" y="1828800"/>
            <a:ext cx="40388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迷你简启体"/>
              </a:rPr>
              <a:t>文化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迷你简启体"/>
              <a:ea typeface="迷你简启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 rot="21400800">
            <a:off x="3276360" y="1752480"/>
            <a:ext cx="285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黑体"/>
              </a:rPr>
              <a:t>科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819520" y="1676520"/>
            <a:ext cx="370512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ankGothic Md BT"/>
              </a:rPr>
              <a:t>小康</a:t>
            </a:r>
            <a:endParaRPr b="0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ankGothic Md BT"/>
              <a:ea typeface="BankGothic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400200" y="1676520"/>
            <a:ext cx="23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黑体"/>
              </a:rPr>
              <a:t>利比亚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04080" y="754200"/>
            <a:ext cx="1839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048120" y="1752480"/>
            <a:ext cx="304776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卡扎菲</a:t>
            </a:r>
            <a:endParaRPr b="0" lang="en-US" sz="6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819520" y="1676520"/>
            <a:ext cx="3686040" cy="17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迷你简启体"/>
              </a:rPr>
              <a:t>蓝精灵</a:t>
            </a:r>
            <a:endParaRPr b="1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迷你简启体"/>
              <a:ea typeface="迷你简启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895480" y="1828800"/>
            <a:ext cx="365760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迷你简启体"/>
              </a:rPr>
              <a:t>淡定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迷你简启体"/>
              <a:ea typeface="迷你简启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 rot="321000">
            <a:off x="2819520" y="1447560"/>
            <a:ext cx="38862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地沟油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 rot="1125600">
            <a:off x="2743200" y="685800"/>
            <a:ext cx="4118040" cy="349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书体坊赵九江钢笔行书"/>
              </a:rPr>
              <a:t>荟灵湖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书体坊赵九江钢笔行书"/>
              <a:ea typeface="书体坊赵九江钢笔行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666880" y="1828800"/>
            <a:ext cx="35816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迷你简启体"/>
              </a:rPr>
              <a:t>坑爹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迷你简启体"/>
              <a:ea typeface="迷你简启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24080" y="1905120"/>
            <a:ext cx="556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迷你简启体"/>
              </a:rPr>
              <a:t>忐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562920" y="1752120"/>
            <a:ext cx="26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黑体"/>
              </a:rPr>
              <a:t>婚姻法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47800" y="1752120"/>
            <a:ext cx="196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黑体"/>
              </a:rPr>
              <a:t>公平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438280" y="1828800"/>
            <a:ext cx="40388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迷你简启体"/>
              </a:rPr>
              <a:t>裸婚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迷你简启体"/>
              <a:ea typeface="迷你简启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rot="21400800">
            <a:off x="2895480" y="1904760"/>
            <a:ext cx="323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黑体"/>
              </a:rPr>
              <a:t>月饼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819520" y="1676520"/>
            <a:ext cx="370512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ankGothic Md BT"/>
              </a:rPr>
              <a:t>刘德华</a:t>
            </a:r>
            <a:endParaRPr b="0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ankGothic Md BT"/>
              <a:ea typeface="BankGothic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34440" y="167652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黑体"/>
              </a:rPr>
              <a:t>欢迎光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04080" y="754200"/>
            <a:ext cx="1839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971800" y="1828800"/>
            <a:ext cx="335268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迷你繁启体"/>
              </a:rPr>
              <a:t>风筝</a:t>
            </a:r>
            <a:endParaRPr b="0" lang="en-US" sz="8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迷你繁启体"/>
              <a:ea typeface="迷你繁启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048120" y="1752480"/>
            <a:ext cx="304776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葫芦娃</a:t>
            </a:r>
            <a:endParaRPr b="0" lang="en-US" sz="6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819520" y="1676520"/>
            <a:ext cx="3686040" cy="17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迷你简启体"/>
              </a:rPr>
              <a:t>微博</a:t>
            </a:r>
            <a:endParaRPr b="1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迷你简启体"/>
              <a:ea typeface="迷你简启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438280" y="1828800"/>
            <a:ext cx="40388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迷你简启体"/>
              </a:rPr>
              <a:t>人民网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迷你简启体"/>
              <a:ea typeface="迷你简启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895480" y="1828800"/>
            <a:ext cx="365760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迷你简启体"/>
              </a:rPr>
              <a:t>神奇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迷你简启体"/>
              <a:ea typeface="迷你简启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273480" y="1675800"/>
            <a:ext cx="342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黑体"/>
              </a:rPr>
              <a:t>元旦晚会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 rot="922800">
            <a:off x="2743200" y="990720"/>
            <a:ext cx="3886200" cy="31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王菲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 rot="1125600">
            <a:off x="2743200" y="685800"/>
            <a:ext cx="4118040" cy="349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书体坊赵九江钢笔行书"/>
              </a:rPr>
              <a:t>周星驰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书体坊赵九江钢笔行书"/>
              <a:ea typeface="书体坊赵九江钢笔行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124080" y="1905120"/>
            <a:ext cx="556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迷你简启体"/>
              </a:rPr>
              <a:t>幻灯片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048120" y="1752480"/>
            <a:ext cx="304776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工程化学</a:t>
            </a:r>
            <a:endParaRPr b="0" lang="en-US" sz="6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819520" y="1676520"/>
            <a:ext cx="3686040" cy="17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迷你简启体"/>
              </a:rPr>
              <a:t>死机</a:t>
            </a:r>
            <a:endParaRPr b="1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迷你简启体"/>
              <a:ea typeface="迷你简启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895480" y="1828800"/>
            <a:ext cx="365760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迷你简启体"/>
              </a:rPr>
              <a:t>乌龟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迷你简启体"/>
              <a:ea typeface="迷你简启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 rot="1125600">
            <a:off x="2743200" y="685800"/>
            <a:ext cx="4118040" cy="349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书体坊赵九江钢笔行书"/>
              </a:rPr>
              <a:t>窈窕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书体坊赵九江钢笔行书"/>
              <a:ea typeface="书体坊赵九江钢笔行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24080" y="1905120"/>
            <a:ext cx="556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迷你简启体"/>
              </a:rPr>
              <a:t>沙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819520" y="1676520"/>
            <a:ext cx="370512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ankGothic Md BT"/>
              </a:rPr>
              <a:t>CEO</a:t>
            </a:r>
            <a:endParaRPr b="0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ankGothic Md BT"/>
              <a:ea typeface="BankGothic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765960" y="182880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黑体"/>
              </a:rPr>
              <a:t>雷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04080" y="754200"/>
            <a:ext cx="1839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 rot="922800">
            <a:off x="2743200" y="990720"/>
            <a:ext cx="3886200" cy="31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面条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24080" y="1905120"/>
            <a:ext cx="495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迷你简启体"/>
              </a:rPr>
              <a:t>外星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057400" y="1981080"/>
            <a:ext cx="6248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初恋这件小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048120" y="1752480"/>
            <a:ext cx="304776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文艺</a:t>
            </a:r>
            <a:endParaRPr b="0" lang="en-US" sz="6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461040" y="175248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黑体"/>
              </a:rPr>
              <a:t>得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52680" y="1981080"/>
            <a:ext cx="243864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迷你简启体"/>
              </a:rPr>
              <a:t>怪兽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迷你简启体"/>
              <a:ea typeface="迷你简启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070520" y="160020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黑体"/>
              </a:rPr>
              <a:t>异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781080" y="1752480"/>
            <a:ext cx="23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黑体"/>
              </a:rPr>
              <a:t>节目单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110760" y="175248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黑体"/>
              </a:rPr>
              <a:t>文艺青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209680" y="1752480"/>
            <a:ext cx="4876920" cy="17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迷你简启体"/>
              </a:rPr>
              <a:t>通货膨胀</a:t>
            </a:r>
            <a:endParaRPr b="0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迷你简启体"/>
              <a:ea typeface="迷你简启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613320" y="152388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黑体"/>
              </a:rPr>
              <a:t>网店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 rot="922800">
            <a:off x="2743200" y="990720"/>
            <a:ext cx="3886200" cy="31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淡定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2819520" y="1295280"/>
            <a:ext cx="36576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芙蓉姐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124080" y="1905120"/>
            <a:ext cx="495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迷你简启体"/>
              </a:rPr>
              <a:t>火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124080" y="1905120"/>
            <a:ext cx="6248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凤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048120" y="1752480"/>
            <a:ext cx="304776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饭馆</a:t>
            </a:r>
            <a:endParaRPr b="0" lang="en-US" sz="6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 rot="922800">
            <a:off x="2743200" y="990720"/>
            <a:ext cx="3886200" cy="31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特工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819520" y="1295280"/>
            <a:ext cx="36576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敌人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24080" y="1905120"/>
            <a:ext cx="495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迷你简启体"/>
              </a:rPr>
              <a:t>舞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124080" y="1905120"/>
            <a:ext cx="6248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地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1-12-22T15:30:28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