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  <p:custShowLst>
    <p:custShow name="自定义放映2" id="0">
      <p:sldLst>
        <p:sld r:id="rId23"/>
        <p:sld r:id="rId28"/>
        <p:sld r:id="rId2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E67-03E6-43CE-8756-70FFCAE9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84D-CB12-43D9-B397-0DE9CB57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B62-41BF-45F3-9338-9D6FDA2C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AB9-E826-4845-A5D4-02BEC2A1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0D74-F486-4D6E-B043-AB1FED4E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030C-92C9-4DD2-9D46-4B06059A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9B9A-D677-40A6-970D-3E372943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E6B-FD12-47BF-836E-FDCE8773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65F0-5E61-410F-8B41-FD5C93ED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3DB0-FAB5-49EA-AB57-EF80DED3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4ADE-6A0E-4B9D-B0EE-148B9B4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B73-A4D7-4E4E-BE3D-EF587F0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C688-1267-46DD-80C1-2044C5E9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3645-1719-4A93-BB7B-B26B9DEA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1DB3-0A3F-4459-A21F-A499A410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1DC4-9AA8-4E66-AC3A-CFD977F4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4F80-C21D-41E5-A500-6460279F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675-30E2-4984-A0AB-C8AC86BF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B34-D7EA-41B3-8654-31EB255A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BA4-FBD5-4F4D-9FBE-02ACBCC5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36B-F900-4C2C-8663-F0626FC3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425-27E9-4B64-8073-81ABD1C1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73E-A7DB-45B9-B117-EAE9C98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48B-5AC3-45A0-BF7A-5FE9DF77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2436-9604-4015-8FE9-18EF8707525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50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4B2B-1FC3-424A-AB3D-A570BC4CA83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0.png"/><Relationship Id="rId4" Type="http://schemas.openxmlformats.org/officeDocument/2006/relationships/audio" Target="file:///tmp/home/.config/libreoffice/4/user/gallery/drumroll.wav" TargetMode="External"/><Relationship Id="rId5" Type="http://schemas.microsoft.com/office/2007/relationships/media" Target="file:///tmp/home/.config/libreoffice/4/user/gallery/drumroll.wav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88640"/>
            <a:ext cx="60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6  </a:t>
            </a:r>
            <a:r>
              <a:rPr b="1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曹 冲 称 象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0000" y="1560600"/>
            <a:ext cx="76676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0666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0666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438280"/>
            <a:ext cx="769608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曹操带领儿子和官员去看人家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给他的一头大象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时间：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古时候  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人物：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曹操、曹操的儿子、官员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事情的起因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838080"/>
            <a:ext cx="7772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第一自然段讲了一件什么事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10666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第二自然段告诉了我们什么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97180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大象又高又大，官员们在议论大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象的重量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11430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这头大象怎么样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95880" y="12193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1219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又高又大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819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你是从哪些话中看出大象又高又大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809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身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一堵墙，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四根柱子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8769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像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… …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像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…”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这两个比喻句把大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象的高大写的既生动又形象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1143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官员们在议论什么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3352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这么大的象，到底有多重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10666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齐读第三自然段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432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官员们想出了哪些称象的方法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（用“有的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有的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也有的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……”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句式说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80060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一是造一杆大秤来称；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二是把大象割成一块一块的用秤称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10666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曹操听后态度怎么样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1066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直摇头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743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为什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直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摇头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因为曹操对官员们提出的办法不满意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直摇头”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不停的摇头，说明曹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的态度是坚决反对的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184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512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5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一读，比较每组中的两句话意思有什么不同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6064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57440" y="2924280"/>
            <a:ext cx="418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38960" y="4508640"/>
            <a:ext cx="425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大象有多重呢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大象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到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多重呢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91440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男生齐读第四自然段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971800"/>
            <a:ext cx="8534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这段讲什么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Arial"/>
              </a:rPr>
              <a:t>曹冲提出称象的办法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60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称大象的方法，曹冲想：</a:t>
            </a: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082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宰大象的方法，曹冲想：               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0760" y="1808280"/>
            <a:ext cx="26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用船当大称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3860640"/>
            <a:ext cx="129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用石头代替大象，可以一块一块地称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79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我是曹冲，还会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(                        )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763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曹冲的办法是什么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分了几个步骤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一步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沿水面画线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297180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648320" y="297180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620640"/>
            <a:ext cx="3313080" cy="1728720"/>
          </a:xfrm>
          <a:prstGeom prst="wedgeEllipseCallout">
            <a:avLst>
              <a:gd name="adj1" fmla="val 38356"/>
              <a:gd name="adj2" fmla="val 128055"/>
            </a:avLst>
          </a:prstGeom>
          <a:solidFill>
            <a:srgbClr val="66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92240" y="10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大象上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5373720"/>
            <a:ext cx="3382920" cy="1185840"/>
          </a:xfrm>
          <a:prstGeom prst="wedgeEllipseCallout">
            <a:avLst>
              <a:gd name="adj1" fmla="val 57134"/>
              <a:gd name="adj2" fmla="val -24833"/>
            </a:avLst>
          </a:prstGeom>
          <a:solidFill>
            <a:srgbClr val="66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做上记号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43280" y="549360"/>
            <a:ext cx="3889440" cy="1942920"/>
          </a:xfrm>
          <a:prstGeom prst="wedgeRoundRectCallout">
            <a:avLst>
              <a:gd name="adj1" fmla="val 15018"/>
              <a:gd name="adj2" fmla="val 135782"/>
              <a:gd name="adj3" fmla="val 16667"/>
            </a:avLst>
          </a:prstGeom>
          <a:solidFill>
            <a:srgbClr val="66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相同重量的石头换取大象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50760" y="1779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2133720"/>
            <a:ext cx="2592720" cy="896760"/>
          </a:xfrm>
          <a:prstGeom prst="wedgeEllipseCallout">
            <a:avLst>
              <a:gd name="adj1" fmla="val 13504"/>
              <a:gd name="adj2" fmla="val 166990"/>
            </a:avLst>
          </a:prstGeom>
          <a:solidFill>
            <a:srgbClr val="66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象下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二步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岸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装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09680" y="1905120"/>
            <a:ext cx="5257800" cy="38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三步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沉画线处，称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79096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45720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Times New Roman"/>
              </a:rPr>
              <a:t>石头的重量就等于大象的重量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63868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把大象（               ）一艘大船上，看船身下沉多少，就（               ）水面，在船舷上（              ）。再把大象（                 ），往船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等船下沉到画线的地方，（                  ）船上的石头。这样，就称出了大象的重量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1159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  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10666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  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38560" y="20574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画  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99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上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2997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装石头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27640" y="3860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称 一 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512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60280"/>
            <a:ext cx="9144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觉得曹冲是一个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)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长大了，要做一个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(                                                          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64480" y="1295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聪明、爱动脑筋，遇到问题善于动脑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036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冒号、引号的用法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曹操问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谁有办法把这头大象称一称？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得造一杆大秤，砍一棵大树做秤杆。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了大秤也不成啊，谁有那么大的力气提得起这杆大秤呢？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784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8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曹操问      谁有办法把这头大象称一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(2)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曹冲站出来说       我有办法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他大声喊       快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364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62064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21040" y="137160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?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2565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63700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86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4005360"/>
            <a:ext cx="16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0"/>
            <a:ext cx="41054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学习生字词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235440" y="1125360"/>
            <a:ext cx="7984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ōng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yì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lùn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gān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hē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zhù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uān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suì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ào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cá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02240" y="1714680"/>
            <a:ext cx="60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冲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议   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论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杆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1497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20600" y="4292640"/>
            <a:ext cx="64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柱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官  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造</a:t>
            </a:r>
            <a:r>
              <a:rPr b="1" lang="zh-CN" sz="36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曹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720" y="232560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冲进 冲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冲向 冲泡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2360" y="256536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议员 会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议论 争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720" y="234936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论文 论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争论 论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5440" y="242100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旗杆 树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桅杆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256536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称呼 称赞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称重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6200" y="49086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柱子 木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47480" y="4745160"/>
            <a:ext cx="60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官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1080" y="479736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月 万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守岁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08360" y="501336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创造 开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创新 创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48560" y="490860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曹营 曹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姓曹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771640" y="476280"/>
            <a:ext cx="4896000" cy="817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03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家一起认一认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宋体"/>
              </a:rPr>
              <a:t>　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484360" y="177300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曹冲  称象  秤杆  宰割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船舷  柱子  一艘  官员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1803600" cy="3616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5445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得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děi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造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杆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gǎn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大秤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2666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思考：课文讲了一件什么事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41911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Arial"/>
              </a:rPr>
              <a:t>曹冲小时候想办法称象的故事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4:00Z</dcterms:created>
  <dc:creator>cupfu</dc:creator>
  <dc:description/>
  <dc:language>en-US</dc:language>
  <cp:lastModifiedBy>tclsevers</cp:lastModifiedBy>
  <dcterms:modified xsi:type="dcterms:W3CDTF">2013-03-11T12:24:03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6</vt:lpwstr>
  </property>
  <property fmtid="{D5CDD505-2E9C-101B-9397-08002B2CF9AE}" pid="3" name="Version">
    <vt:r8>1</vt:r8>
  </property>
</Properties>
</file>