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01C-1D61-4B11-8DEF-A7161AB3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B00-FDB9-46E7-9F62-F0DD0B28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8A8-FFFF-4CD9-B7B5-298F3151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3BA-D240-46F8-8FED-C1C3D84C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7EE-8B7E-4509-8EC9-A27AA5EE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D737-22D2-4460-9B2E-DA53100F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651D-C24A-451C-86FE-06F6BD59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63A3-8C31-4FE6-B55C-A4C5ED8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F1E4-3F5D-499E-A86F-18D9D7E3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DE39-29F0-4D3A-AE7D-FA1905BC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916-DCDC-4A6C-BF24-D5DB5007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51F-83D3-43F7-AEFA-B493B0E0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5B24-103D-48CF-98AC-814467D2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435A-76D7-46D0-8082-FCB6BA0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E3E7-4DE4-4490-9819-84A3AB59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9BC9-71D8-4F85-848D-ED864153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26E6-C0BC-4E93-9B72-D1F1B5FD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0CA-7517-4774-AC70-647E8F39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30F-31D2-4E62-A560-00D84600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D84-B266-4256-8E0B-EB7F5E3A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8C9-6B4C-4F46-B653-C312C525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BB6-56E1-4DAF-A10F-C088143A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554-7D32-45CA-AA3D-FF5D902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349-C11F-424C-9E4D-61099CA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888F-B5B2-4EFB-AB09-F9498F20941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6C12-B80F-4C81-B4AF-E41EE91C184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24000" y="299736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1d1d"/>
                </a:solidFill>
                <a:latin typeface="Arial"/>
                <a:ea typeface="黑体"/>
              </a:rPr>
              <a:t>把掌声分给她一半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33336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北师大版小学语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六年级上册第四单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huí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定音：比喻凭某个人一句话把事情最后决定下来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容不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做事得心应手，不紧张，不忙乱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眼花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乱：看到纷繁或新奇的东西而使眼睛发花，感到迷乱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梦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èi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以求：睡梦中还在寻找追求，形容愿望十分迫切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袅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iǎo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青烟：回旋上升的青色烟气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u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àn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（珠玉等）光亮鲜明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默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q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形容彼此无需用语言表达，即可心灵相通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饶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h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宽恕；该处罚而不给予处罚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暗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比喻潜在的障碍或危险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理解词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这篇课文主要选取了几件事来写孙晋芳？这些事例可以看出孙晋芳怎样的体育精神？文中哪些语句可以体现出来？用不同符号划出来，多读一读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42900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三伏天刻苦训练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郞平闹矛盾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4640" y="4383000"/>
            <a:ext cx="47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buClr>
                <a:srgbClr val="007a77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课文通过　　　　 、       这两件事，给我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塑造了一个　　　　 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　的孙晋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当堂训练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.   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将下列词语补充完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（    ）不迫  一（    ）定音   化险为（   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梦（    ）以求   眼（    ）手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885040"/>
            <a:ext cx="88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.   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志同道合。（根据意思写词语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比喻凭某个人一句话把事情最后决定下来。（   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常镇静、不慌不忙的样子。（      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看见复杂纷繁的东西而感到迷乱。（     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回旋上升的青色烟气。（     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30492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你能补充下列有关“然”的词语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  ）然而止 （    ）然不解  （    ）然若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  ）然决然 （    ）然无声  （    ）然长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  ）然不同 （    ）然大波  （    ）然长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    ）然自得 （    ）然无味  （    ）然自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05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理解文中所体现的团结、拼搏、奋进的体育精神，从而认识到“祖国的荣誉高于一切”的民族精神。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⒉掌握多角度塑造人物的方法。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⒊揣摩文中议论和抒情的作用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自学指导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请同学们默读课文，用心体会孙晋芳到底具有怎样高超的球技？划出相关的词、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一双挥洒自如的手固然是至关重要的，作为一名优秀的二传手，还必须具有宽大的胸怀。去掉“必须”行不行？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6-1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段，孙晋芳通过什么事认识到必须具有宽大的胸怀的？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8604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无论多么险恶的来球，只要经过她的手一调整，一缓冲，顷刻间就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化险为夷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变得平和起来。对于她的球艺，一位体育记者曾经做过如下的描写：“如果说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飞来的球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像一团熊熊燃烧的烈火，那么，从她手里飞走的球就已经变成一缕缕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袅袅青烟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……” 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07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险为夷就是指把险恶的球变得平和起来。把“飞来的球”比喻成了“熊熊燃烧的烈火”，飞来的球体会到速度很快，力度很强 ，很难接，从“袅袅轻烟”中你体会到真是球技高超啊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8668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2 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原来漂亮蓬松的头发，变得湿淋淋的，粘到一块去了。运动衣衫的颜色被汗水浸染得由浅变深，只要轻轻一拧就可以拧出一滩汗水。她一边托，一边数，一、二、三、四……一直数到五百下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生动的描写出孙晋芳训练时肯吃苦，顽强拼搏的精神。）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954880"/>
            <a:ext cx="81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3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廊顶仿佛突然升高了，墙壁和门窗也似乎向两边闪开，狭小的走廊啊，宛如变成了一个无边无垠的空间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通过抒情感慨空间的变化，赞扬孙晋芳的球技，形象衬托出她传球技艺高超。）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9374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4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更神的，还是孙晋芳的双手，仿佛变成了两块磁石，吸引着飞舞的白球；仿佛有了魔法，可以随意把球送到想送的地方。</a:t>
            </a:r>
            <a:br>
              <a:rPr sz="2400"/>
            </a:br>
            <a:br>
              <a:rPr sz="24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用比喻写出孙晋芳可以任意地控制排球，形象生动地写出了她技艺高超。）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3111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5 </a:t>
            </a: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孙晋芳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悔恨</a:t>
            </a: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自己心胸不宽阔，她懂得了自己的喜怒哀乐、自己的情绪起伏会直接影响队员，影响胜负，决心继续磨炼自己，要把心海中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暗礁</a:t>
            </a: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一块一块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炸平</a:t>
            </a: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暗礁比喻心中的狭隘，“炸平”生动表现要除去心中狭隘的决心。）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32115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6 </a:t>
            </a: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透过那细眯的眼缝，闪射出来的却是机敏、聪慧而又幽默的目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外貌描写中渗透出人们对孙晋芳的喜爱，可见抒情十记叙的文字更加感人，容易与读者产生共鸣。）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833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7 </a:t>
            </a: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一幕幕惊心动魄的战斗场面，就由她导演出来；一支支悦耳的乐曲，由她指挥而生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形象地写出孙晋芳在比赛中的主导作用，她是比赛场上的灵魂。）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br>
              <a:rPr sz="2400"/>
            </a:b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团结协作：与郎平消除误会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拼搏奋进：走廊练球的场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学会本课的生字新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有感情的朗读课文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42920" y="1316160"/>
            <a:ext cx="7704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如果把中国女排姑娘们比为一颗颗璀璨的珍珠，那么，孙晋芳就是一条闪闪发光的金线，把颗颗珍珠串连在一起，中国女排才成为闪耀着奇光异彩的战斗集体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343728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这个比喻很好，类似的比喻你也能写两个吗？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如果把女排比作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一部精彩的戏，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那么孙晋芳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_____ __________________________________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如果把女排比作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一曲优美的乐章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那么孙晋芳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___ _____________________________________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1280" y="1844640"/>
            <a:ext cx="813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每一份成就都离不开运动员的奋斗，中国女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的辉煌成就也是全体队员拼搏的结果，而课文说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该把欢呼声和掌声分给孙晋芳一半合适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2109600" cy="52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26920" y="4076640"/>
            <a:ext cx="7490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她组织全队的进攻，为得每一分创造了必要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件，如果没有她，女排便没有了灵魂，也就不会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得辉煌得成绩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40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请描写你熟悉或喜欢的一位运动员顽强拼搏的精神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2794320" cy="431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4000" y="29242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981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年中国女排首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世界杯冠军时的郎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3360" y="2492280"/>
            <a:ext cx="8540640" cy="32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把掌声分给她一半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孙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晋——顽强——拼搏——团结——协作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芳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祖国的荣誉高于一切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58920" y="1052640"/>
            <a:ext cx="223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板书设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960720" cy="3200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021120" cy="3998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92360" y="5229360"/>
            <a:ext cx="24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排球比赛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篇文章是一篇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报告文学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报告文学是一种用文学方法及时反映现实生活的文学体裁，它总是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真人真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基础上，选择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典型的事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来塑造性格鲜明的人物形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奥运会上，女排姑娘获得了奥运会的金牌，五星红旗在高昂的国歌声中徐徐身升起，我们激动兴奋，我们为中国而骄傲，我们为自己是中国人而自豪，但同学可知道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8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月，中国女排夺得了第三届世界杯女排赛的桂冠；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8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年夺得第九届世界杯女排锦标赛冠军；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年洛杉矶奥运会上再登冠军奖台，实现了几代人梦寐以求的“三连冠”宏愿。那时的女排令全国人民为之热血沸腾，女排的精神鼓舞着亿万探索前进的人们。女排的精神就是敢于拼搏的中华民族精神。女排之所以取得这样辉煌的成绩，离不开当时的女排队长孙晋芳。今天就让我们走进她，看看她究竟有什么法宝，让女排成为中国人心中的长城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8000" y="2605680"/>
            <a:ext cx="43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孙晋芳，著名女子排球运动员。安徽宿县人。身高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75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米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71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入苏州市业余体校进行排球训练，同年入 江苏排球队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76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被选入国家排球集训队，任中国女排队长。比赛经验丰富，能传、吊、扣，是组织快攻多变战术的核心，战术意识强，曾多次参加国际比赛，为世界著名二传手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81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在第三届世界杯赛中首次获冠军（她获“最佳运动员奖”、“优秀运动员奖”和“最佳二传手奖”），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82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获第九届世界女排锦标赛冠军和第九届亚洲运动会女排比赛冠军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80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获运动健将称号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81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、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83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获国家体委颁发的体育运动荣誉奖章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81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、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82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被评为全国十名最佳运动员之一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年被评为中华人民共和国成立三十五年来杰出运动员之一。</a:t>
            </a:r>
            <a:br>
              <a:rPr sz="1800"/>
            </a:b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746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5040360" cy="357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700360" y="4653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女排，中国的骄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54064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自学指导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请学生自由朗读课文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扫除字词障碍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640" y="2491920"/>
            <a:ext cx="86853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huí    jìn    kuàng  cí      juè     wěn   shù  bèi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锤     晋     旷     磁     倔     吻    恕    惫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jué   jiàng   mán   gu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倔      强      埋      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旷    廊     磁     逆    脉     虎      梁     幕      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8028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亲昵  默契  饶恕  蓬松  荣誉  爽朗   璀璨    顷刻间     暗礁    倔强    脾气倔     化险为夷     一锤定音      得心应手    挥洒自如  </a:t>
            </a: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弱不禁风     眼花缭乱   梦寐以求  </a:t>
            </a: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忍辱负重      无边无垠     从容不迫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83664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正确认读生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8:42Z</dcterms:created>
  <dc:creator/>
  <dc:description/>
  <dc:language>en-US</dc:language>
  <cp:lastModifiedBy>雨林木风</cp:lastModifiedBy>
  <dcterms:modified xsi:type="dcterms:W3CDTF">2011-10-10T02:55:02Z</dcterms:modified>
  <cp:revision>42</cp:revision>
  <dc:subject/>
  <dc:title>幻灯片 1</dc:title>
</cp:coreProperties>
</file>