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png" ContentType="image/png"/>
  <Override PartName="/ppt/media/image9.jpeg" ContentType="image/jpeg"/>
  <Override PartName="/ppt/media/image4.jpeg" ContentType="image/jpeg"/>
  <Override PartName="/ppt/media/image5.png" ContentType="image/png"/>
  <Override PartName="/ppt/media/image10.png" ContentType="image/png"/>
  <Override PartName="/ppt/media/image6.jpeg" ContentType="image/jpeg"/>
  <Override PartName="/ppt/media/image7.jpeg" ContentType="image/jpeg"/>
  <Override PartName="/ppt/media/image8.jpeg" ContentType="image/jpeg"/>
  <Override PartName="/ppt/media/image11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E1B7-D653-45F4-9201-F4E56DA1B2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BFBEE-9CFC-4FA0-80B4-6EDE3DA6D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B9E29-A122-450D-A8B9-62984E697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FBE15-CB94-440D-86DF-7DF8FA827B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68413-AA6E-41DF-8A07-D2E2369023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8BA036-CE05-42DA-B391-845A51FA3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8F3A24-4984-4E7B-9C14-DB70072F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68B78-16CE-47CB-AA42-34C07959B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A95162-58A8-49FF-9AB5-CB66B61CC2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50C4A5-1124-48F9-98BD-AEE024F4D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0B78A-70F2-44EA-8648-F7ADCD01D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38F96-44B2-43E8-8756-9F693A42FE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17FA1-88BF-4EBB-A792-E723B24D0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285675-0B15-4A38-BC2F-3194F6429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5B55D-D45C-4A7F-9586-B0B864987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6F766D-E73C-427E-8E07-8F340F9FF5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745E76-043E-4651-BBD3-639695647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112B-E702-4E7D-A6DB-4D6F3B17E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CABE-76DB-4605-992C-A40EA1DEB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53F2-78F0-41ED-B943-4769C708E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1BAA-9F8D-48FA-9C61-336E597A2D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610DE-D82D-4087-85FB-A959A8F425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8CC20-462A-4FB7-AE5A-DA702B25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3DF81-120D-4A18-8B27-C013A71E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3" name="" descr=""/>
            <p:cNvPicPr/>
            <p:nvPr/>
          </p:nvPicPr>
          <p:blipFill>
            <a:blip r:embed="rId2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7F62A-9E3B-4BB5-AB6E-C27D7CBE5A87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eaeaea"/>
                </a:solidFill>
                <a:latin typeface="Arial"/>
              </a:endParaRPr>
            </a:p>
          </p:txBody>
        </p:sp>
        <p:pic>
          <p:nvPicPr>
            <p:cNvPr id="48" name="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904760" y="1676520"/>
            <a:ext cx="6933960" cy="21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eaeaea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DF08E-60BF-4A62-BF01-244FB798CB8F}" type="slidenum">
              <a:rPr b="0" lang="zh-CN" sz="1400" spc="-1" strike="noStrike">
                <a:solidFill>
                  <a:srgbClr val="eaeaea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4.jpeg"/><Relationship Id="rId3" Type="http://schemas.openxmlformats.org/officeDocument/2006/relationships/image" Target="../media/image11.wmf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00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1763640" y="836640"/>
            <a:ext cx="69850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eaeaea"/>
                </a:solidFill>
                <a:latin typeface="Times New Roman"/>
              </a:rPr>
              <a:t>人的一生会追寻许多。学业、家庭、事业……而今天我们要追寻的是被许多人淡忘，却又最重要的东西——最宝贵的品质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2" name=""/>
          <p:cNvSpPr/>
          <p:nvPr/>
        </p:nvSpPr>
        <p:spPr>
          <a:xfrm>
            <a:off x="1187280" y="765000"/>
            <a:ext cx="676944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学习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工作、对他人、对班集体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家庭、对自己的生活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校规、对自己身体健康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Times New Roman"/>
              </a:rPr>
              <a:t>对社会负责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403280" y="1197000"/>
            <a:ext cx="6983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eaeaea"/>
                </a:solidFill>
                <a:latin typeface="Times New Roman"/>
                <a:ea typeface="黑体"/>
              </a:rPr>
              <a:t>生活的美需要我们去寻找、发现。在我们的学习生活中，你发现了哪些“责任心”强的事例呢？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1476360" y="907920"/>
            <a:ext cx="619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619280" y="907920"/>
            <a:ext cx="6481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比如：不乱扔垃圾，班干部做好职责内的工作，打扫班级卫生区、关一下电灯、门窗，擦一下黑板，把作业认真做好，讲文明，帮助其他同学，维护班级和学校的荣誉等等。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eaeaea"/>
                </a:solidFill>
                <a:latin typeface="Times New Roman"/>
                <a:ea typeface="黑体"/>
              </a:rPr>
              <a:t>虽然都是微不足道的小事，却也能体现出一个人那份可贵的责任心，折射出一</a:t>
            </a:r>
            <a:r>
              <a:rPr b="1" lang="zh-CN" sz="2400" spc="-1" strike="noStrike">
                <a:solidFill>
                  <a:srgbClr val="eaeaea"/>
                </a:solidFill>
                <a:latin typeface="Times New Roman"/>
                <a:ea typeface="黑体"/>
              </a:rPr>
              <a:t>个人闪光的心灵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1258920" y="0"/>
            <a:ext cx="71280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究竟怎样才能做一个有责任心的人，相信大家现在都有自己的一些思考了。那么，下面我们来一起来测一测，看你是不是一个有责任心的人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与人约会，你通常会提前一会出门，以保证自己能准时赴约吗？是。　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发现自己脚下有纸屑你会拾起扔进垃圾桶吗？　  是。    否。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把零用钱储蓄起来吗？  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发现朋友违规，你会作出善意的提醒吗？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外出的你找不到垃圾桶时，会把垃圾带回家去吗？     是。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坚持运动以保持健康吗？      是。       否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116000" y="0"/>
            <a:ext cx="7705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忌吃垃圾食物、脂肪性过高和其他有害健康的食物吗？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永远将正事列为优先，完成后再做其他休闲吗？   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在你玩得正兴起时，母亲请你帮忙去买酱油，你会放弃玩耍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0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收到别人的信，你总会尽快回信吗？       是。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没有警察时，你也会遵守交通规则吗？　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拖延交作业吗？    是。    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经常帮忙做家务吗？　　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4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你会认真对待每一项作业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5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每天出门前，你有照镜子的习惯吗？　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当你作业做到深夜还未完成时，你会继续努力直至完成吗？  是。    否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7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、除了上述罗列的，对于责任意识，你认为还可以有哪些补充的呢？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"/>
          <p:cNvSpPr/>
          <p:nvPr/>
        </p:nvSpPr>
        <p:spPr>
          <a:xfrm>
            <a:off x="1332000" y="189000"/>
            <a:ext cx="705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回答是的就得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13—18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是个非常有责任感的人。你行事谨慎、懂礼貌、为人可靠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              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并且相当诚实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9—12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大多数情况下你都很有责任感，只是偶尔有些率性而为，没有考虑得很周到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4—8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：你的责任感有所欠缺，这将会使得你难以得到大家的充分信任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分数为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6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以下：你是个完全不负责任的人。有些朋友的父母可能会对你有成见，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           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332000" y="476280"/>
            <a:ext cx="7488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正生活在美好的幸福中却无意享受幸福的时候，有这么一些孩子，他们没有课桌椅，他们的教室淌满着泥水，甚至他们只能在露天野地里，在不幸中坚持着学习。在一个本该需要大人去好好照顾和好好爱护、疼惜的年龄里，他们却是挑起了生活的重担，他们本该像我们一样面带微笑地踏步在铺满香花的大道上，但是，他们什么都没有。他们有的只是破烂的衣服和艰辛的生活压迫。但是，再大的苦难都没有打消他们的信念，对幸福的渴望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,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对尊严的追求，对命运的不屈，他们不曾放弃，因为在他们的心中有着美好的梦想，希望和我们一样能在社会的各个领域活出自己的价值，他们挣扎着，呐喊着……因为他们有责任，是责任让他们不向命运屈服；是责任，让他们艰苦学习着；是责任，让他们强烈地珍惜着自己，永不放弃；也是责任，让他们对学习负责；更是责任，让他们对自己的人生负责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403280" y="404640"/>
            <a:ext cx="7129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生命让我们隆重登场，责任，让我们璀璨生光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当我们无意享受幸福的时候，他们正承受着巨大的苦难。但是，他们不曾放弃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因为在他们心中有着美好的梦想；因为他们有着责任，是责任让他们勇敢而努力学习着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那么，幸福的我们，是不是也应当为了我们的梦想而努力拼搏呢？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为了我们的学习，为了高考，为了美好的大学梦，为了美好的明天，为了我们的人生，同学们，让我们对自己、对学习负责吧，同时也是为老师、为学校、为我们的父母、为社会负责！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3"/>
          <a:stretch/>
        </p:blipFill>
        <p:spPr>
          <a:xfrm>
            <a:off x="1676520" y="4413240"/>
            <a:ext cx="5790960" cy="2438280"/>
          </a:xfrm>
          <a:prstGeom prst="rect">
            <a:avLst/>
          </a:prstGeom>
          <a:ln w="0">
            <a:noFill/>
          </a:ln>
        </p:spPr>
      </p:pic>
      <p:sp>
        <p:nvSpPr>
          <p:cNvPr id="124" name=""/>
          <p:cNvSpPr/>
          <p:nvPr/>
        </p:nvSpPr>
        <p:spPr>
          <a:xfrm>
            <a:off x="539640" y="765000"/>
            <a:ext cx="73454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就拥有了至高无上的灵魂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，在别人心中就如同一座有高度的山，不可逾越，不可移动。</a:t>
            </a:r>
            <a:br>
              <a:rPr sz="3600"/>
            </a:br>
            <a:br>
              <a:rPr sz="3600"/>
            </a:br>
            <a:r>
              <a:rPr b="1" lang="zh-CN" sz="3600" spc="-1" strike="noStrike">
                <a:solidFill>
                  <a:srgbClr val="ffcc66"/>
                </a:solidFill>
                <a:latin typeface="Times New Roman"/>
                <a:ea typeface="黑体"/>
              </a:rPr>
              <a:t>一个人有了责任心世界更精彩、更迷人！</a:t>
            </a:r>
            <a:br>
              <a:rPr sz="3600"/>
            </a:b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5280" y="838080"/>
            <a:ext cx="817092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755640" y="692280"/>
            <a:ext cx="7632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dfc81b"/>
                </a:solidFill>
                <a:latin typeface="Times New Roman"/>
                <a:ea typeface="黑体"/>
              </a:rPr>
              <a:t>坚持、感恩、诚信、正义、善良、乐观、勤奋、高尚。。。。。。</a:t>
            </a:r>
            <a:endParaRPr b="0" lang="en-US" sz="48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16000" y="1628640"/>
            <a:ext cx="7772400" cy="120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cc66"/>
                </a:solidFill>
                <a:latin typeface="Times New Roman"/>
              </a:rPr>
              <a:t>班级荣辱，我的责任</a:t>
            </a:r>
            <a:endParaRPr b="0" lang="en-US" sz="6000" spc="-1" strike="noStrike">
              <a:solidFill>
                <a:srgbClr val="ffcc66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85840" y="0"/>
            <a:ext cx="8570880" cy="598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endParaRPr b="0" lang="en-US" sz="36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50920" y="333360"/>
            <a:ext cx="8496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eaeaea"/>
                </a:solidFill>
                <a:latin typeface="Times New Roman"/>
              </a:rPr>
              <a:t>在大连，有一位普通的公交车驾驶员，叫黄志全，但他却被所有的大连人都记在了心里。一次在行车途中黄志全突然心脏病发作，在生命的最后一分钟里，他做了三件事：把车缓缓地停在马路边，用生命的最后力气拉下了手动刹车闸；把车门打开，让乘客安全地下了车；将发动机关闭，确保了车和乘客、路人的安全。最后，他安详地趴在方向盘上停止了他的呼吸。在生命的最后一分钟里，黄志全，这个平凡而普通的公交车驾驶员，在生命的最后一刻，把对别人的负责，看得比自己的生命还重要！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28760" y="990360"/>
            <a:ext cx="82864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6600ff"/>
                </a:solidFill>
                <a:latin typeface="黑体"/>
                <a:ea typeface="黑体"/>
              </a:rPr>
              <a:t>     </a:t>
            </a:r>
            <a:endParaRPr b="0" lang="en-US" sz="40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755640" y="549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dfc81b"/>
                </a:solidFill>
                <a:latin typeface="Times New Roman"/>
              </a:rPr>
              <a:t>一名平凡的公共汽车驾驶员，为什么能让这么多人知道并记住他的名字？</a:t>
            </a:r>
            <a:endParaRPr b="0" lang="en-US" sz="32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84360" y="2997360"/>
            <a:ext cx="799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4e306"/>
                </a:solidFill>
                <a:latin typeface="Times New Roman"/>
              </a:rPr>
              <a:t>因为他有一颗闪光的责任心！在生命最后一分钟，他没有忘记自己的责任！就是这份责任心，挽救了多少人的生命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1332000" y="620640"/>
            <a:ext cx="7416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责任心是我们最宝贵的品质。大家知道吗？有一部名为《背起爸爸上学》的电影，电影说的是一个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16</a:t>
            </a: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岁的农村少年，以优异的成绩考取了大学，但面对瘫痪在床无人照顾的父亲，无奈之下他只好卖掉全部家产，背着父亲走进校门，开始了漫长而艰辛的求学之路。他“背”起了父子之情，“背”起了爱的责任。这，就是伟大的责任！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47640" y="476280"/>
            <a:ext cx="712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正因为黄志全富有责任心，所有旅客们才能够幸免于难。正因为农村少年富有责任心，于是他背起了父亲走进校门。</a:t>
            </a:r>
            <a:r>
              <a:rPr b="0" lang="zh-CN" sz="3600" spc="-1" strike="noStrike">
                <a:solidFill>
                  <a:srgbClr val="ff33cc"/>
                </a:solidFill>
                <a:latin typeface="Times New Roman"/>
              </a:rPr>
              <a:t>同学们，那么，我们呢，我们大家是否也都具备了基本的责任心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547640" y="4724280"/>
            <a:ext cx="741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eaeaea"/>
                </a:solidFill>
                <a:latin typeface="Times New Roman"/>
              </a:rPr>
              <a:t>年轻的我们应该具备那些方面的责任心呢？</a:t>
            </a:r>
            <a:endParaRPr b="0" lang="en-US" sz="36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1619280" y="1052640"/>
            <a:ext cx="6985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258920" y="0"/>
            <a:ext cx="741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一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上课了，同学们都很认真听讲，但是教师某一个角落出现了这样的情形：黄凯翘着二郎腿，手插在裤兜里，边听者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mp3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边抖动着腿，摇头晃脑的嘴巴里还边哼哼唧唧的。接着，拿起镜子对着自己照呀照的。然后，趴着不一会就呼呼大睡了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187280" y="2565360"/>
            <a:ext cx="7056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二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班干部陈戈刚做完数学作业，他舒展了脖子“真爽，今天的题目做得真顺利”。此时，恩熙捧着一道数学题向其请教：“陈戈，这道题目我不会做，你帮我讲解下，好吗？”陈戈看了看题目吞吞吐吐的说：“嗯……这个嘛……哎呀，真不好意思，我不会做耶。”过了一会班长叫住陈戈：“班主任说，班委下课后都要留下来打扫卫生。”陈戈默默不语，很不情愿地。下课铃响，陈戈拿起篮球：“走喽，打球去了。”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324000" y="0"/>
            <a:ext cx="7991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三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旁白：好不容易，终于放假了，陈飞背着一大袋的脏衣服踏入家门：“妈，我回来了，这袋衣服帮我洗洗。”于是，陈飞一把一把的从袋子里掏出衣服，扔了一满桌乱糟糟的。可是，家里空空如也，没人在。于是，陈飞囔囔道：“晕死，都死光啦。肚子饿死啦。”陈飞翻箱倒柜找吃的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430200" y="270828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4e306"/>
                </a:solidFill>
                <a:latin typeface="Times New Roman"/>
              </a:rPr>
              <a:t>情景剧（四）：</a:t>
            </a:r>
            <a:r>
              <a:rPr b="0" lang="zh-CN" sz="2400" spc="-1" strike="noStrike">
                <a:solidFill>
                  <a:srgbClr val="990000"/>
                </a:solidFill>
                <a:latin typeface="Times New Roman"/>
              </a:rPr>
              <a:t>旁白：某日，敏敏生日，宿舍。敏敏、恩熙、俊熙偷偷摸摸携着大包小包的零食猫也似的躲进宿舍，恩熙：“哈，太棒了，多亏了俊熙，搞到这么多吃的。”俊熙：“是哦，这可是我装着生病借口出校偷偷买回来的耶。”敏敏：“好啦，这会儿，我可以过一个有趣的生日了。”于是三人唱起了生日歌，一起吃起零食。过了一会儿，突然间恩熙叫着：“啊，肚子痛。”接着俊熙、敏敏也都肚子痛起来了。三人捂着肚子又叫又闹的，引来了同学，赶紧送医院。（旁白）据检查：因路边小摊摊零食过期，导致食物中毒。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00ff"/>
            </a:gs>
            <a:gs pos="100000">
              <a:srgbClr val="200b5b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914400" y="2057400"/>
            <a:ext cx="731376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3</a:t>
            </a:r>
            <a:r>
              <a:rPr b="1" lang="zh-CN" sz="5400" spc="-1" strike="noStrike">
                <a:solidFill>
                  <a:srgbClr val="6600ff"/>
                </a:solidFill>
                <a:latin typeface="隶书"/>
                <a:ea typeface="隶书"/>
              </a:rPr>
              <a:t>、专心课的习惯</a:t>
            </a:r>
            <a:endParaRPr b="0" lang="en-US" sz="5400" spc="-1" strike="noStrike">
              <a:solidFill>
                <a:srgbClr val="eaeaea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258920" y="0"/>
            <a:ext cx="691200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情景剧（五）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 </a:t>
            </a: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旁白：某年某月某日，小君上街买了一袋零食。晃悠在公园里：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eaeaea"/>
                </a:solidFill>
                <a:latin typeface="Times New Roman"/>
              </a:rPr>
              <a:t>小君提着零食，边晃悠边吃花生。小君无视提示标语踏过草坪（草坪边标语：小草有生命，足下留情），剥掉的花生壳吧嗒吧嗒的丢在地上。这时，一个小女孩走过来，叫住小君：“哥哥，老师说，不能随便乱扔垃圾！”小君回过头以不屑的目光从头到脚扫视了女生：“哼，你管不着，我爱怎么仍就怎么仍。”于是，继续吃着花生随地丢着花生壳。女孩子嘟着嘴，无奈地叹了叹，一颗一颗地拣起地上的花生壳。在旁边目睹了这一幕的老者叫住了小君：“小伙子，你东西掉了啦。”小君看了看自己提的袋子，又瞧了瞧路上：“没有啊，什么东西掉了？”老者感叹地说：“你的责任心掉了啦！”小君纳闷无语——</a:t>
            </a: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7T05:21:59Z</dcterms:created>
  <dc:creator>wyh</dc:creator>
  <dc:description/>
  <dc:language>en-US</dc:language>
  <cp:lastModifiedBy>微软用户</cp:lastModifiedBy>
  <dcterms:modified xsi:type="dcterms:W3CDTF">2011-12-23T09:22:52Z</dcterms:modified>
  <cp:revision>34</cp:revision>
  <dc:subject/>
  <dc:title>幻灯片 1</dc:title>
</cp:coreProperties>
</file>