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7.png" ContentType="image/png"/>
  <Override PartName="/ppt/media/image3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38.png" ContentType="image/png"/>
  <Override PartName="/ppt/media/image11.jpeg" ContentType="image/jpeg"/>
  <Override PartName="/ppt/media/image9.jpeg" ContentType="image/jpeg"/>
  <Override PartName="/ppt/media/image13.png" ContentType="image/png"/>
  <Override PartName="/ppt/media/image12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A50F2-317C-4855-BABA-666B3941D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55D49-9638-4A11-8E81-6699FDF76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ECC0E-7494-4047-AB46-4CB469477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B481B-5716-4ABA-B8B4-FEA0926E7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5CB39-154D-479C-9EB8-7D8B13C5C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77299-9B63-45E7-9A8B-C511CFF17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0BDD5-6A9D-4A93-AD78-557987C46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11DC1-239B-499D-A1A8-92383477A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B85BC-26C5-441A-95DE-0CB4CA625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80AE9-529B-4AA6-82A5-ED2CB03DC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DA667-D7D2-48BA-A60F-D71C330B1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82AF4-EA84-4C75-BC97-A41E57472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168E2-5F50-4FB3-BFA3-314AC8371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C6B02-66D4-4E00-B942-0C768747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69B6F-8B46-4D6F-95B5-375F39F36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B1CF5-EAD1-4860-9B9C-2ECE1545D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9DF29-620B-4A09-8681-474433FC1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0502C-220C-4C02-8BC5-29EC41533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76BCE-A6BD-46A0-9F4F-51032F377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3E70A-AA64-471C-A0B4-B9FE0C976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93F47-D2A1-4E73-BBB5-E5D381BAD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7D197-7B43-448C-86BF-B5D19103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C9E01-3E7F-4F41-98A6-5FCC103C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36250-FCF6-445B-9D81-41016007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A153C-3666-4D28-B771-BD176C3EF9FB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F7454-DCC4-4025-B544-4FD6372EBD51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image" Target="../media/image35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04920" y="-228600"/>
            <a:ext cx="86868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黑体"/>
                <a:ea typeface="黑体"/>
              </a:rPr>
              <a:t>八国联军侵华战争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7488360" cy="594684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141" name=""/>
          <p:cNvSpPr/>
          <p:nvPr/>
        </p:nvSpPr>
        <p:spPr>
          <a:xfrm>
            <a:off x="8105400" y="1052640"/>
            <a:ext cx="60696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八国联军司令官的合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8172360" y="5907240"/>
            <a:ext cx="971640" cy="9507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45080" cy="37987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68360" y="4005360"/>
            <a:ext cx="38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大沽口炮台的守军与侵略军激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716360" y="3787920"/>
            <a:ext cx="4427640" cy="30700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372360" y="3141720"/>
            <a:ext cx="21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清军炮阵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3672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24000" y="515772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大沽炮台被联军炮火彻底摧毁，守军阵亡千余人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836640"/>
            <a:ext cx="45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日军首先攻占了西北炮台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514760" y="3390840"/>
            <a:ext cx="4629240" cy="3467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771640" y="5516640"/>
            <a:ext cx="48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八国联军在天津登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40402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rcRect l="0" t="12085" r="0" b="0"/>
          <a:stretch/>
        </p:blipFill>
        <p:spPr>
          <a:xfrm>
            <a:off x="3348000" y="3565440"/>
            <a:ext cx="5508720" cy="30034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5435640" y="98100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侵略北京的八国联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rcRect l="0" t="0" r="0" b="13622"/>
          <a:stretch/>
        </p:blipFill>
        <p:spPr>
          <a:xfrm>
            <a:off x="395280" y="260280"/>
            <a:ext cx="4681440" cy="3202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324000" y="260280"/>
            <a:ext cx="4824360" cy="63086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5508720" y="620640"/>
            <a:ext cx="331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1900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年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8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月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15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日，慈禧太后挟光绪仓皇出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364000" y="2492280"/>
            <a:ext cx="3529080" cy="3513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700360" y="6338880"/>
            <a:ext cx="359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八国联军进入紫禁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37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826920" y="260280"/>
            <a:ext cx="7561440" cy="6078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65760" cy="36846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932360" y="1125360"/>
            <a:ext cx="367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被八国联军炮火毁坏的北京齐化、正阳门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2633760" y="3049560"/>
            <a:ext cx="6510240" cy="3808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616720" cy="50846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071611.jpg (34755 bytes)"/>
          <p:cNvPicPr/>
          <p:nvPr/>
        </p:nvPicPr>
        <p:blipFill>
          <a:blip r:embed="rId2"/>
          <a:stretch/>
        </p:blipFill>
        <p:spPr>
          <a:xfrm>
            <a:off x="5383080" y="0"/>
            <a:ext cx="3760920" cy="5084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67" name=""/>
          <p:cNvSpPr/>
          <p:nvPr/>
        </p:nvSpPr>
        <p:spPr>
          <a:xfrm>
            <a:off x="3422160" y="5877000"/>
            <a:ext cx="1415160" cy="3682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俄军在屠杀中国百姓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8108" t="0" r="0" b="0"/>
          <a:stretch/>
        </p:blipFill>
        <p:spPr>
          <a:xfrm>
            <a:off x="3132000" y="0"/>
            <a:ext cx="6012000" cy="40989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3141720"/>
            <a:ext cx="5508720" cy="35542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1187280" y="2205000"/>
            <a:ext cx="5904000" cy="224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落后就要挨打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731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同学们想一下，在中国近代史上，也是一次列强侵华战争，也是最高统治者出逃，也以签订了一个丧权辱国的条约而告结束。下面请同学们回忆、讨论，这是哪一次战争，当时出逃的皇帝是谁？最后签订了什么条约？为什么会在较短的时间内京城被两次攻破？这说明了什么？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717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这场战争是指第二次鸦片战争。当时出逃的皇帝是慈禧太后和咸丰帝。第二次鸦片战争最后签订了《北京条约》。在四十年中列强两次攻破京城。这一方面表明了列强的船坚炮利，另一方面又表明清朝的腐败。这说明了清王朝的腐败已经到了无以复加的地步。因此，两次攻破京城都与清政府的腐败、妥协有绝大关系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rcRect l="29639" t="43364" r="29639" b="0"/>
          <a:stretch/>
        </p:blipFill>
        <p:spPr>
          <a:xfrm>
            <a:off x="5003640" y="476280"/>
            <a:ext cx="3821400" cy="41990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4075200" cy="61927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 flipV="1" rot="10800000">
            <a:off x="5076720" y="4723200"/>
            <a:ext cx="367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李鸿章和庆亲王奕劻代表清政府与列强各国签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rcRect l="0" t="0" r="0" b="6402"/>
          <a:stretch/>
        </p:blipFill>
        <p:spPr>
          <a:xfrm>
            <a:off x="179280" y="404640"/>
            <a:ext cx="8785440" cy="4167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82" name=""/>
          <p:cNvSpPr/>
          <p:nvPr/>
        </p:nvSpPr>
        <p:spPr>
          <a:xfrm>
            <a:off x="1187280" y="510120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　　　　　　　　《辛丑条约》签订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　　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1901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年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9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月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日清政府与德、俄、英、法等十一个帝国主义国家签订了空前丧权辱国的《辛丑条约》。这就是李鸿章和庆亲王奕劻代表清政府与各国列强签约时的情景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496360" cy="49658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042920" y="5596200"/>
            <a:ext cx="723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一批不平等条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     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1901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年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9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月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日清政府与德、俄、英、法等十一个帝国主义国家签订了空前丧权辱国的《辛丑条约》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6703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332000" y="981000"/>
            <a:ext cx="1224000" cy="581400"/>
          </a:xfrm>
          <a:prstGeom prst="rect">
            <a:avLst/>
          </a:prstGeom>
          <a:noFill/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原因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780000" y="3284640"/>
            <a:ext cx="43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英俄德法，美日意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556000" y="3284640"/>
            <a:ext cx="1295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1979640" y="2708280"/>
            <a:ext cx="7345440" cy="520560"/>
            <a:chOff x="1979640" y="2708280"/>
            <a:chExt cx="7345440" cy="520560"/>
          </a:xfrm>
        </p:grpSpPr>
        <p:sp>
          <p:nvSpPr>
            <p:cNvPr id="190" name=""/>
            <p:cNvSpPr/>
            <p:nvPr/>
          </p:nvSpPr>
          <p:spPr>
            <a:xfrm>
              <a:off x="1979640" y="2708280"/>
              <a:ext cx="734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</a:rPr>
                <a:t>①</a:t>
              </a:r>
              <a:r>
                <a:rPr b="1" lang="zh-CN" sz="2800" spc="-1" strike="noStrike">
                  <a:solidFill>
                    <a:srgbClr val="ffffff"/>
                  </a:solidFill>
                  <a:latin typeface="Arial"/>
                </a:rPr>
                <a:t>八国联军侵华和义和团廊坊大捷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91" name="" descr=""/>
            <p:cNvPicPr/>
            <p:nvPr/>
          </p:nvPicPr>
          <p:blipFill>
            <a:blip r:embed="rId2"/>
            <a:stretch/>
          </p:blipFill>
          <p:spPr>
            <a:xfrm>
              <a:off x="8531280" y="2708280"/>
              <a:ext cx="506520" cy="495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2" name=""/>
          <p:cNvGrpSpPr/>
          <p:nvPr/>
        </p:nvGrpSpPr>
        <p:grpSpPr>
          <a:xfrm>
            <a:off x="2050920" y="4149720"/>
            <a:ext cx="7632720" cy="565200"/>
            <a:chOff x="2050920" y="4149720"/>
            <a:chExt cx="7632720" cy="565200"/>
          </a:xfrm>
        </p:grpSpPr>
        <p:sp>
          <p:nvSpPr>
            <p:cNvPr id="193" name=""/>
            <p:cNvSpPr/>
            <p:nvPr/>
          </p:nvSpPr>
          <p:spPr>
            <a:xfrm>
              <a:off x="2050920" y="4149720"/>
              <a:ext cx="763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</a:rPr>
                <a:t>②</a:t>
              </a:r>
              <a:r>
                <a:rPr b="1" lang="zh-CN" sz="2800" spc="-1" strike="noStrike">
                  <a:solidFill>
                    <a:srgbClr val="ffffff"/>
                  </a:solidFill>
                  <a:latin typeface="Arial"/>
                </a:rPr>
                <a:t>天津的失陷和八国联军侵占北京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94" name="" descr=""/>
            <p:cNvPicPr/>
            <p:nvPr/>
          </p:nvPicPr>
          <p:blipFill>
            <a:blip r:embed="rId3"/>
            <a:stretch/>
          </p:blipFill>
          <p:spPr>
            <a:xfrm>
              <a:off x="8602560" y="4292640"/>
              <a:ext cx="431640" cy="42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"/>
          <p:cNvSpPr/>
          <p:nvPr/>
        </p:nvSpPr>
        <p:spPr>
          <a:xfrm>
            <a:off x="-567360" y="1125360"/>
            <a:ext cx="1399320" cy="4248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八国联军侵华战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00720" y="3213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32000" y="21337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过程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258920" y="4941720"/>
            <a:ext cx="1295280" cy="581400"/>
          </a:xfrm>
          <a:prstGeom prst="rect">
            <a:avLst/>
          </a:prstGeom>
          <a:noFill/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结果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42920" y="1197000"/>
            <a:ext cx="216000" cy="4103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106920 h 4103640"/>
              <a:gd name="textAreaBottom" fmla="*/ 399672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835280" y="3068640"/>
            <a:ext cx="288720" cy="1224000"/>
          </a:xfrm>
          <a:custGeom>
            <a:avLst/>
            <a:gdLst>
              <a:gd name="textAreaLeft" fmla="*/ 184680 w 288720"/>
              <a:gd name="textAreaRight" fmla="*/ 289080 w 28872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916360" y="981000"/>
            <a:ext cx="4895640" cy="58140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镇压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义和团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反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爱国运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700360" y="5013360"/>
            <a:ext cx="2663640" cy="58140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《辛丑条约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>
            <a:hlinkClick r:id="rId1" action="ppaction://hlinksldjump"/>
          </p:cNvPr>
          <p:cNvSpPr/>
          <p:nvPr/>
        </p:nvSpPr>
        <p:spPr>
          <a:xfrm>
            <a:off x="900000" y="76500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二、《辛丑条约》的签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87280" y="177336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时间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258920" y="285264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内容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258920" y="386064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影响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rcRect l="0" t="10271" r="0" b="5811"/>
          <a:stretch/>
        </p:blipFill>
        <p:spPr>
          <a:xfrm>
            <a:off x="3348000" y="2781360"/>
            <a:ext cx="5545080" cy="3722760"/>
          </a:xfrm>
          <a:prstGeom prst="rect">
            <a:avLst/>
          </a:prstGeom>
          <a:ln w="0">
            <a:noFill/>
          </a:ln>
        </p:spPr>
      </p:pic>
      <p:grpSp>
        <p:nvGrpSpPr>
          <p:cNvPr id="208" name=""/>
          <p:cNvGrpSpPr/>
          <p:nvPr/>
        </p:nvGrpSpPr>
        <p:grpSpPr>
          <a:xfrm>
            <a:off x="3022200" y="1700280"/>
            <a:ext cx="1838880" cy="566640"/>
            <a:chOff x="3022200" y="1700280"/>
            <a:chExt cx="1838880" cy="566640"/>
          </a:xfrm>
        </p:grpSpPr>
        <p:sp>
          <p:nvSpPr>
            <p:cNvPr id="209" name=""/>
            <p:cNvSpPr/>
            <p:nvPr/>
          </p:nvSpPr>
          <p:spPr>
            <a:xfrm>
              <a:off x="3022200" y="1700280"/>
              <a:ext cx="133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901</a:t>
              </a:r>
              <a:r>
                <a:rPr b="1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年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10" name="" descr=""/>
            <p:cNvPicPr/>
            <p:nvPr/>
          </p:nvPicPr>
          <p:blipFill>
            <a:blip r:embed="rId3"/>
            <a:stretch/>
          </p:blipFill>
          <p:spPr>
            <a:xfrm>
              <a:off x="4356000" y="1773360"/>
              <a:ext cx="505080" cy="4935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77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770" fill="hold"/>
                                        <p:tgtEl>
                                          <p:spTgt spid="2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" dur="77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539640" y="4437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539640" y="476280"/>
          <a:ext cx="8136000" cy="4176720"/>
        </p:xfrm>
        <a:graphic>
          <a:graphicData uri="http://schemas.openxmlformats.org/drawingml/2006/table">
            <a:tbl>
              <a:tblPr/>
              <a:tblGrid>
                <a:gridCol w="1224000"/>
                <a:gridCol w="3456000"/>
                <a:gridCol w="3456000"/>
              </a:tblGrid>
              <a:tr h="581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内容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危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3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经济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赔款白银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4.5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亿两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3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政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严禁人民反帝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军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拆毁炮台；驻扎要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1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外交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划定使馆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3" name=""/>
          <p:cNvSpPr/>
          <p:nvPr/>
        </p:nvSpPr>
        <p:spPr>
          <a:xfrm>
            <a:off x="5435640" y="112536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加剧人民的贫困和经济的凋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364000" y="198900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清政府进一步成为列强的帮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92720" y="2924280"/>
            <a:ext cx="331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清政府完全处于列强控制，失去军事自主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292720" y="400536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清政府处于列强监控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68360" y="5295240"/>
            <a:ext cx="835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影响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《辛丑条约》的签订，标志着中国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完全沦为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半殖民地半封建社会，清朝完全成为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帝国主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统治中国的工具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11640" y="5805360"/>
            <a:ext cx="4105440" cy="0"/>
          </a:xfrm>
          <a:prstGeom prst="line">
            <a:avLst/>
          </a:prstGeom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11280" y="6237360"/>
            <a:ext cx="1800000" cy="0"/>
          </a:xfrm>
          <a:prstGeom prst="line">
            <a:avLst/>
          </a:prstGeom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 flipV="1">
            <a:off x="3634920" y="2565360"/>
            <a:ext cx="1584360" cy="2952720"/>
          </a:xfrm>
          <a:prstGeom prst="line">
            <a:avLst/>
          </a:prstGeom>
          <a:ln w="38160">
            <a:solidFill>
              <a:srgbClr val="66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学习目标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了解义和团运动的原因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八国联军侵华的基本事实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理解《辛丑条约》的主要内容及对中华民族的影响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324000" y="981000"/>
            <a:ext cx="295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鸦片战争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1840—184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4000" y="3068640"/>
            <a:ext cx="302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甲午中日战争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1894—1895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348000" y="1052640"/>
            <a:ext cx="248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《南京条约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492360" y="3068640"/>
            <a:ext cx="25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《马关条约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492360" y="5084640"/>
            <a:ext cx="25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《辛丑条约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156360" y="907920"/>
            <a:ext cx="273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开始逐步沦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半殖民地半封建社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227640" y="2997360"/>
            <a:ext cx="24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大大加深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半殖民地化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56360" y="4869000"/>
            <a:ext cx="273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完全沦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半殖民地半封建社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843280" y="1341360"/>
            <a:ext cx="57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651640" y="1341360"/>
            <a:ext cx="57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059280" y="3357720"/>
            <a:ext cx="57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651640" y="3357720"/>
            <a:ext cx="57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651640" y="5373720"/>
            <a:ext cx="57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059280" y="5373720"/>
            <a:ext cx="57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47640" y="2060640"/>
            <a:ext cx="433440" cy="863640"/>
          </a:xfrm>
          <a:prstGeom prst="downArrow">
            <a:avLst>
              <a:gd name="adj1" fmla="val 50000"/>
              <a:gd name="adj2" fmla="val 49813"/>
            </a:avLst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47640" y="4149720"/>
            <a:ext cx="430560" cy="863640"/>
          </a:xfrm>
          <a:prstGeom prst="downArrow">
            <a:avLst>
              <a:gd name="adj1" fmla="val 50000"/>
              <a:gd name="adj2" fmla="val 50146"/>
            </a:avLst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24000" y="5084640"/>
            <a:ext cx="287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八国联军侵华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1900—190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 flipV="1">
            <a:off x="1476360" y="2781360"/>
            <a:ext cx="2448000" cy="251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3995640" y="1773000"/>
            <a:ext cx="1513080" cy="93492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26920" y="5373720"/>
            <a:ext cx="727416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1403280" y="907920"/>
            <a:ext cx="0" cy="51134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95640" y="5156280"/>
            <a:ext cx="0" cy="2174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580000" y="5156280"/>
            <a:ext cx="0" cy="2174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508720" y="1628640"/>
            <a:ext cx="215640" cy="21600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51280" y="2637000"/>
            <a:ext cx="216000" cy="2156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332000" y="5229360"/>
            <a:ext cx="215640" cy="2156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547640" y="5516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 Black"/>
              </a:rPr>
              <a:t>南京条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551664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 Black"/>
              </a:rPr>
              <a:t>马关条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551664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 Black"/>
              </a:rPr>
              <a:t>辛丑条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476360" y="476280"/>
            <a:ext cx="359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半殖民地半封建社会程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380360" y="472428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条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796000" y="1484280"/>
            <a:ext cx="1511280" cy="4597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 Black"/>
              </a:rPr>
              <a:t>完全沦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95640" y="2924280"/>
            <a:ext cx="158436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 Black"/>
              </a:rPr>
              <a:t>大大加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124000" y="4724280"/>
            <a:ext cx="15843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 Black"/>
              </a:rPr>
              <a:t>开始沦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740720" y="55897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55640" y="6922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55640" y="5516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rcRect l="0" t="14827" r="0" b="0"/>
          <a:stretch/>
        </p:blipFill>
        <p:spPr>
          <a:xfrm>
            <a:off x="539640" y="336600"/>
            <a:ext cx="8064720" cy="53560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259" name=""/>
          <p:cNvSpPr/>
          <p:nvPr/>
        </p:nvSpPr>
        <p:spPr>
          <a:xfrm>
            <a:off x="468360" y="598680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条约签定后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列强承认慈禧太后执政合法，同意“两宫仍旧临朝”。慈禧挟光绪皇帝于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1902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日回到北京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835280" y="404640"/>
            <a:ext cx="180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侵略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88000" y="404640"/>
            <a:ext cx="16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反抗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906560" y="1916280"/>
            <a:ext cx="1800360" cy="520560"/>
          </a:xfrm>
          <a:prstGeom prst="rect">
            <a:avLst/>
          </a:prstGeom>
          <a:solidFill>
            <a:srgbClr val="ffff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鸦片战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27640" y="1916280"/>
            <a:ext cx="4248000" cy="5205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林则徐、关天培英勇抗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55640" y="2781360"/>
            <a:ext cx="2952720" cy="520560"/>
          </a:xfrm>
          <a:prstGeom prst="rect">
            <a:avLst/>
          </a:prstGeom>
          <a:solidFill>
            <a:srgbClr val="ffff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第二次鸦片战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427640" y="2779560"/>
            <a:ext cx="3240000" cy="5205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太平军抗击洋枪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971640" y="3645000"/>
            <a:ext cx="2735280" cy="520560"/>
          </a:xfrm>
          <a:prstGeom prst="rect">
            <a:avLst/>
          </a:prstGeom>
          <a:solidFill>
            <a:srgbClr val="ffff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阿古柏侵略新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427640" y="3645000"/>
            <a:ext cx="2952720" cy="5205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左宗棠收复新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6000" y="4508640"/>
            <a:ext cx="2589120" cy="520560"/>
          </a:xfrm>
          <a:prstGeom prst="rect">
            <a:avLst/>
          </a:prstGeom>
          <a:solidFill>
            <a:srgbClr val="ffff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甲午中日战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427640" y="4508640"/>
            <a:ext cx="2952720" cy="5205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邓世昌黄海海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042920" y="5445000"/>
            <a:ext cx="2664000" cy="520560"/>
          </a:xfrm>
          <a:prstGeom prst="rect">
            <a:avLst/>
          </a:prstGeom>
          <a:solidFill>
            <a:srgbClr val="ffff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八国联军侵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427640" y="5445000"/>
            <a:ext cx="4174920" cy="5205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义和团英勇抗击八国联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78200" y="2060640"/>
            <a:ext cx="576360" cy="358560"/>
          </a:xfrm>
          <a:prstGeom prst="leftRightArrow">
            <a:avLst>
              <a:gd name="adj1" fmla="val 50000"/>
              <a:gd name="adj2" fmla="val 32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778200" y="2924280"/>
            <a:ext cx="576360" cy="358560"/>
          </a:xfrm>
          <a:prstGeom prst="leftRightArrow">
            <a:avLst>
              <a:gd name="adj1" fmla="val 50000"/>
              <a:gd name="adj2" fmla="val 32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778200" y="3716280"/>
            <a:ext cx="576360" cy="358920"/>
          </a:xfrm>
          <a:prstGeom prst="leftRightArrow">
            <a:avLst>
              <a:gd name="adj1" fmla="val 50000"/>
              <a:gd name="adj2" fmla="val 319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778200" y="4579920"/>
            <a:ext cx="576360" cy="358920"/>
          </a:xfrm>
          <a:prstGeom prst="leftRightArrow">
            <a:avLst>
              <a:gd name="adj1" fmla="val 50000"/>
              <a:gd name="adj2" fmla="val 319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778200" y="5516640"/>
            <a:ext cx="576360" cy="358560"/>
          </a:xfrm>
          <a:prstGeom prst="leftRightArrow">
            <a:avLst>
              <a:gd name="adj1" fmla="val 50000"/>
              <a:gd name="adj2" fmla="val 32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564000" y="765000"/>
            <a:ext cx="1224000" cy="360360"/>
          </a:xfrm>
          <a:prstGeom prst="leftRightArrow">
            <a:avLst>
              <a:gd name="adj1" fmla="val 50000"/>
              <a:gd name="adj2" fmla="val 67618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427640" y="1917720"/>
            <a:ext cx="4248000" cy="5205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林则徐、关天培英勇抗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27640" y="2781360"/>
            <a:ext cx="3240000" cy="5205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太平军抗击洋枪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5148360" y="260280"/>
            <a:ext cx="230328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本课小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076720" y="1197000"/>
            <a:ext cx="3583080" cy="4392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900000" y="1341360"/>
            <a:ext cx="331956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684360" y="1628640"/>
            <a:ext cx="31669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义和团的反抗</a:t>
            </a:r>
            <a:endParaRPr b="1" lang="en-US" sz="1800" spc="1" strike="noStrike">
              <a:ln w="12600">
                <a:solidFill>
                  <a:srgbClr val="ff66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（毁洋物杀洋人）</a:t>
            </a:r>
            <a:endParaRPr b="1" lang="en-US" sz="1800" spc="1" strike="noStrike">
              <a:ln w="12600">
                <a:solidFill>
                  <a:srgbClr val="ff66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00720" y="1268280"/>
            <a:ext cx="4103640" cy="109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清政府招抚义和团</a:t>
            </a:r>
            <a:endParaRPr b="1" lang="en-US" sz="1800" spc="1" strike="noStrike">
              <a:ln w="1260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700360" y="3645000"/>
            <a:ext cx="561672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993366"/>
                  </a:solidFill>
                  <a:miter/>
                </a:ln>
                <a:solidFill>
                  <a:srgbClr val="80008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引起列强的极度不满，</a:t>
            </a:r>
            <a:endParaRPr b="1" lang="en-US" sz="1800" spc="1" strike="noStrike">
              <a:ln w="12600">
                <a:solidFill>
                  <a:srgbClr val="993366"/>
                </a:solidFill>
                <a:miter/>
              </a:ln>
              <a:solidFill>
                <a:srgbClr val="80008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993366"/>
                  </a:solidFill>
                  <a:miter/>
                </a:ln>
                <a:solidFill>
                  <a:srgbClr val="80008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联合镇压义和团，</a:t>
            </a:r>
            <a:endParaRPr b="1" lang="en-US" sz="1800" spc="1" strike="noStrike">
              <a:ln w="12600">
                <a:solidFill>
                  <a:srgbClr val="993366"/>
                </a:solidFill>
                <a:miter/>
              </a:ln>
              <a:solidFill>
                <a:srgbClr val="80008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993366"/>
                  </a:solidFill>
                  <a:miter/>
                </a:ln>
                <a:solidFill>
                  <a:srgbClr val="80008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八国联军侵华</a:t>
            </a:r>
            <a:endParaRPr b="1" lang="en-US" sz="1800" spc="1" strike="noStrike">
              <a:ln w="12600">
                <a:solidFill>
                  <a:srgbClr val="993366"/>
                </a:solidFill>
                <a:miter/>
              </a:ln>
              <a:solidFill>
                <a:srgbClr val="80008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12" name=""/>
          <p:cNvSpPr/>
          <p:nvPr/>
        </p:nvSpPr>
        <p:spPr>
          <a:xfrm rot="5400000">
            <a:off x="791280" y="3537720"/>
            <a:ext cx="1944720" cy="1295280"/>
          </a:xfrm>
          <a:custGeom>
            <a:avLst/>
            <a:gdLst>
              <a:gd name="textAreaLeft" fmla="*/ 648360 w 1944720"/>
              <a:gd name="textAreaRight" fmla="*/ 1665720 w 1944720"/>
              <a:gd name="textAreaTop" fmla="*/ 864720 h 1295280"/>
              <a:gd name="textAreaBottom" fmla="*/ 1109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7518"/>
                </a:moveTo>
                <a:lnTo>
                  <a:pt x="14418" y="17518"/>
                </a:lnTo>
                <a:lnTo>
                  <a:pt x="14418" y="7200"/>
                </a:lnTo>
                <a:lnTo>
                  <a:pt x="11318" y="7200"/>
                </a:lnTo>
                <a:lnTo>
                  <a:pt x="16459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84720" y="2491920"/>
            <a:ext cx="503280" cy="1081080"/>
          </a:xfrm>
          <a:prstGeom prst="upArrow">
            <a:avLst>
              <a:gd name="adj1" fmla="val 50000"/>
              <a:gd name="adj2" fmla="val 53702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6703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332000" y="981000"/>
            <a:ext cx="1224000" cy="581400"/>
          </a:xfrm>
          <a:prstGeom prst="rect">
            <a:avLst/>
          </a:prstGeom>
          <a:noFill/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原因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80000" y="3284640"/>
            <a:ext cx="43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英俄德法，美日意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56000" y="3284640"/>
            <a:ext cx="1295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979640" y="2708280"/>
            <a:ext cx="7345440" cy="520560"/>
            <a:chOff x="1979640" y="2708280"/>
            <a:chExt cx="7345440" cy="520560"/>
          </a:xfrm>
        </p:grpSpPr>
        <p:sp>
          <p:nvSpPr>
            <p:cNvPr id="119" name=""/>
            <p:cNvSpPr/>
            <p:nvPr/>
          </p:nvSpPr>
          <p:spPr>
            <a:xfrm>
              <a:off x="1979640" y="2708280"/>
              <a:ext cx="734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6600ff"/>
                  </a:solidFill>
                  <a:latin typeface="Arial"/>
                </a:rPr>
                <a:t>①</a:t>
              </a:r>
              <a:r>
                <a:rPr b="1" lang="zh-CN" sz="2800" spc="-1" strike="noStrike">
                  <a:solidFill>
                    <a:srgbClr val="6600ff"/>
                  </a:solidFill>
                  <a:latin typeface="Arial"/>
                </a:rPr>
                <a:t>八国联军侵华和义和团廊坊大捷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0" name="" descr=""/>
            <p:cNvPicPr/>
            <p:nvPr/>
          </p:nvPicPr>
          <p:blipFill>
            <a:blip r:embed="rId2"/>
            <a:stretch/>
          </p:blipFill>
          <p:spPr>
            <a:xfrm>
              <a:off x="8531280" y="2708280"/>
              <a:ext cx="506520" cy="495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1" name=""/>
          <p:cNvGrpSpPr/>
          <p:nvPr/>
        </p:nvGrpSpPr>
        <p:grpSpPr>
          <a:xfrm>
            <a:off x="2050920" y="4149720"/>
            <a:ext cx="7632720" cy="565200"/>
            <a:chOff x="2050920" y="4149720"/>
            <a:chExt cx="7632720" cy="565200"/>
          </a:xfrm>
        </p:grpSpPr>
        <p:sp>
          <p:nvSpPr>
            <p:cNvPr id="122" name=""/>
            <p:cNvSpPr/>
            <p:nvPr/>
          </p:nvSpPr>
          <p:spPr>
            <a:xfrm>
              <a:off x="2050920" y="4149720"/>
              <a:ext cx="763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Arial"/>
                </a:rPr>
                <a:t>②</a:t>
              </a:r>
              <a:r>
                <a:rPr b="1" lang="zh-CN" sz="2800" spc="-1" strike="noStrike">
                  <a:solidFill>
                    <a:srgbClr val="0000ff"/>
                  </a:solidFill>
                  <a:latin typeface="Arial"/>
                </a:rPr>
                <a:t>天津的失陷和八国联军侵占北京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3" name="" descr=""/>
            <p:cNvPicPr/>
            <p:nvPr/>
          </p:nvPicPr>
          <p:blipFill>
            <a:blip r:embed="rId3"/>
            <a:stretch/>
          </p:blipFill>
          <p:spPr>
            <a:xfrm>
              <a:off x="8602560" y="4292640"/>
              <a:ext cx="431640" cy="42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4" name=""/>
          <p:cNvSpPr/>
          <p:nvPr/>
        </p:nvSpPr>
        <p:spPr>
          <a:xfrm>
            <a:off x="-567360" y="1125360"/>
            <a:ext cx="1399320" cy="4248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Arial"/>
              </a:rPr>
              <a:t>八国联军侵华战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00720" y="3213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332000" y="21337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过程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258920" y="4941720"/>
            <a:ext cx="1295280" cy="581400"/>
          </a:xfrm>
          <a:prstGeom prst="rect">
            <a:avLst/>
          </a:prstGeom>
          <a:noFill/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结果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42920" y="1197000"/>
            <a:ext cx="216000" cy="4103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106920 h 4103640"/>
              <a:gd name="textAreaBottom" fmla="*/ 399672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835280" y="3068640"/>
            <a:ext cx="288720" cy="1224000"/>
          </a:xfrm>
          <a:custGeom>
            <a:avLst/>
            <a:gdLst>
              <a:gd name="textAreaLeft" fmla="*/ 184680 w 288720"/>
              <a:gd name="textAreaRight" fmla="*/ 289080 w 28872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916360" y="981000"/>
            <a:ext cx="4895640" cy="58140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镇压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义和团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反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爱国运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700360" y="5013360"/>
            <a:ext cx="2663640" cy="58140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《辛丑条约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rcRect l="3961" t="5732" r="4180" b="13807"/>
          <a:stretch/>
        </p:blipFill>
        <p:spPr>
          <a:xfrm>
            <a:off x="0" y="0"/>
            <a:ext cx="4767120" cy="58053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rcRect l="2003" t="4263" r="3092" b="6112"/>
          <a:stretch/>
        </p:blipFill>
        <p:spPr>
          <a:xfrm>
            <a:off x="4886280" y="1268280"/>
            <a:ext cx="4257720" cy="55897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68360" y="595008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日本、美国、英国指挥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64000" y="40464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意大利、法国、德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3946" t="4247" r="3560" b="5123"/>
          <a:stretch/>
        </p:blipFill>
        <p:spPr>
          <a:xfrm>
            <a:off x="0" y="0"/>
            <a:ext cx="4525920" cy="61657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rcRect l="5057" t="3932" r="3893" b="5661"/>
          <a:stretch/>
        </p:blipFill>
        <p:spPr>
          <a:xfrm>
            <a:off x="4937040" y="1052640"/>
            <a:ext cx="4206960" cy="58053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5292720" y="26028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奥匈、沙俄、德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476360" y="616572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日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9T08:02:07Z</dcterms:created>
  <dc:creator>Lenovo User</dc:creator>
  <dc:description/>
  <dc:language>en-US</dc:language>
  <cp:lastModifiedBy>admin</cp:lastModifiedBy>
  <dcterms:modified xsi:type="dcterms:W3CDTF">2013-11-17T02:14:29Z</dcterms:modified>
  <cp:revision>99</cp:revision>
  <dc:subject/>
  <dc:title>幻灯片 1</dc:title>
</cp:coreProperties>
</file>