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6.jpeg" ContentType="image/jpeg"/>
  <Override PartName="/ppt/media/type.wav" ContentType="audio/x-wav"/>
  <Override PartName="/ppt/media/image8.jpeg" ContentType="image/jpeg"/>
  <Override PartName="/ppt/media/image9.jpeg" ContentType="image/jpeg"/>
  <Override PartName="/ppt/media/image10.gif" ContentType="image/gif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E82-7949-4654-8884-EDCA63E0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E21A-7F3B-45D9-9DE7-A931C764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99F-BF82-495E-863F-DEAC2A7C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8E2-0C62-4CB6-877B-65FB5667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E3139-ADCB-4A43-9E06-45605959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D4583-3E81-4E06-88CF-DD61A1A4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32D96-1443-4DB7-B62A-A8B9174C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F6775-FB29-4A66-97ED-53B659E9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D8927-6C0F-4B82-9CC7-48599C2C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2E2ED-5D65-42EC-8B1D-1DBFDCA0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EDABA-AEC1-4A06-8F60-EFCFA61B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D8D6-2515-4405-B087-F7ADCA49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B8D4A-CC15-4ECA-92F6-8751DDD8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E9294-5AE0-4129-84C9-24975762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61471-F644-4846-8779-7572C70B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26CD7-0AA9-4E12-BB8E-48F64A2B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A8EA7-0228-47DD-9CA5-5EF8EB70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BCD57-4982-4E85-9583-DF444140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225E8-FBF8-4565-A944-41FE4EC6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13E8E-CFD2-47AA-BD74-6D1CF910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52145-5361-4D1D-810A-265EC32B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6189C-1B15-483B-BE19-A9BBCFE8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B79-2774-4A9E-BC32-5688AA43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14D94-B1F8-4EAF-A7F1-AF7430BE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B3920-4ECD-4DA2-A2E9-9BC167BC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2C132-F604-45DA-A1EA-CB2CD58C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0D07F-AAD9-4A32-BDE0-5E01FF2A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28554-AEB1-49D9-8B6C-40CE9FBB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AF48F-CEC3-4B41-95D6-85C49CF1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F662E-982E-4E8A-B906-878D61CD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5FF50-507D-4A04-BEA9-FED47FE5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29303-01D3-4FCB-81E4-F257A74F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1746F-6761-401E-B5B7-656508DA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3BC1-B7CA-4E20-BA2B-C627EDED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A0B20-84B2-4D43-961A-42B93BF4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59DAF-C538-4BD9-8855-1D626ED9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3C4B9-E779-4556-9652-94E0670F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BA20D-B972-433F-BB00-E55B4BA7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0E841-57EE-4FE9-8E90-3DC308CC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7661A-6F69-4A84-86B2-37D78F7E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DB853-C9D7-4393-9408-8933E9D8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C2B97-BD68-42EE-9043-DF7D5127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88A6B-9A22-4F81-BBCD-E0B95E90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F0E89-8C7E-42E4-ADAA-BA8A62E3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56B-6C26-440C-A9DF-5B7D6F54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BEB90-B625-41C8-9098-10D44248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4D8E7-E850-42A6-9E13-558BD765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94720-EE44-47E1-92FD-16A4B11D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09516-F689-4600-AA9F-1A5C6019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F1C11-1526-4059-98CE-AD1E899A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6D3FB-BDB3-4093-B31E-05209CC2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5962B-9737-4275-A169-718DB6D3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EBFB3-4897-479C-96F8-61E30AE5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633D0-FD5E-4A4D-A1BF-6B830458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F4EE7-37F1-4326-AC8B-2A6B2A95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43B7-C135-49B9-9D35-76AF6C11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4857B-9012-4D68-87D8-48C00535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D4FD-1E77-4BC0-957F-624A4B88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E8C-A7FB-4FFA-8408-3EBC90BC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A8B-D414-4059-9DE9-50C237F8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2C8A-3F9F-4CF7-A8C2-B29FFE79E56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A2C1-46D0-47E2-9EB7-F218F34163D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16CA-0E1C-4E4B-BFDB-1F17EB9C68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11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1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AFD6-373F-43C6-ABF1-939040B6D89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76D2-27B7-4E46-9144-B5E14B7FAD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5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"/><Relationship Id="rId3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8209080" cy="61563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63640" y="2133720"/>
            <a:ext cx="5437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做文明小学生</a:t>
            </a:r>
            <a:endParaRPr b="1" i="1" lang="en-US" sz="60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8244000" y="5661000"/>
            <a:ext cx="577800" cy="432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3716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-607680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8675640" cy="5734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教室门口比较窄，离开教室应有秩序，不要争先恐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◆ 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在教室及走廊行走，应轻步慢走，不能追逐打闹，否则很容易因碰撞而出现不友好的行为。</a:t>
            </a: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上下楼梯靠右走，楼梯是上下楼的必经之路，为了保证安全，必须按各自方向上楼。</a:t>
            </a: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玩游戏要到操场玩耍，并且要守秩序，排好队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遵守游戏规则</a:t>
            </a: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9280" y="33336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课间活动的要求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975672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514600" y="19051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252360" y="1197000"/>
            <a:ext cx="3376440" cy="44546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2700360" y="2133720"/>
            <a:ext cx="48657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畅所欲言  喜谈收获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56000" y="620640"/>
            <a:ext cx="2701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倡议书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6" name=""/>
          <p:cNvSpPr/>
          <p:nvPr/>
        </p:nvSpPr>
        <p:spPr>
          <a:xfrm>
            <a:off x="2176560" y="2354400"/>
            <a:ext cx="405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319480" y="2425680"/>
            <a:ext cx="52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59120" y="1994040"/>
            <a:ext cx="354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2276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亲爱的同学们：我们呼吁大家以文明为己任，从现在做起，从自身做起，从自己身旁的点滴小事做起，时刻紧记我们的口号：人人讲文明，从改掉一个不良习惯做起！由此，我们倡议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79280" y="1125360"/>
            <a:ext cx="8785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爱班爱校，说文明话，塑造文明形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以校为家，爱护公共设施，杜绝损坏公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遵守交通规则，维护正常的校园秩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严守校规校纪，虚心接受老师教诲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保持校园干净整洁，不佩戴耳环、项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6.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自尊自爱，言行得体，不追逐喧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7.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注意安全，不闯红灯、双黄线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8.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树立健康生活理念，不购买无证摊贩的食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8209080" cy="61563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1871640" y="2421000"/>
            <a:ext cx="543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懂礼仪，讲礼貌，</a:t>
            </a:r>
            <a:endParaRPr b="1" i="1" lang="en-US" sz="60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做文明小学生！</a:t>
            </a:r>
            <a:endParaRPr b="1" i="1" lang="en-US" sz="60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rot="21315000">
            <a:off x="1642680" y="1775880"/>
            <a:ext cx="518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08000" y="1341360"/>
            <a:ext cx="56167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咱们从小讲礼貌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晨风吹，阳光照，红领巾胸前飘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小朋友啊欢欢喜喜进学校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见了老师敬个礼，见了同学问声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老师您好！同学你早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团结友爱心一条，团结友爱心一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好儿童，志气高，讲文明，讲礼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小朋友呀咱们一定要记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不骂人来不打架，果皮纸屑不乱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纪律要遵守，卫生要做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咱们从小讲文明，咱们从小讲礼貌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1116000" y="6453360"/>
            <a:ext cx="503280" cy="556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31820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 rot="21315000">
            <a:off x="1783080" y="1771200"/>
            <a:ext cx="518472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文明拍手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一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一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文明学生我和你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二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二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文明学生不落后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三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三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请勿随地乱吐痰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四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四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大家都从点滴起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五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五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加强管理和监督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六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六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纸屑杂物不乱丢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七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七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人际交往要和气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21297000">
            <a:off x="5651640" y="2204640"/>
            <a:ext cx="20890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八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八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公共设施不乱画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九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九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保护环境要持久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十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十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文明公约要落实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27448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针对本次班会对自己进行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思，找到自己的错误并改正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76360" y="2060640"/>
            <a:ext cx="3097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360" y="98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小学生日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88000" y="98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行为规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1628640"/>
            <a:ext cx="799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尊敬国旗、国徽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会唱国歌，升降国旗、奏唱国歌时肃立、脱帽、行注目礼，少先队员行队礼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尊敬父母，关心父母身体健康，主动为家庭做力所能及的事。听从父母和长辈的教导，外出或回到家要主动打招呼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尊敬老师，见面行礼，主动问好，接受老师的教导，与老师交流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尊老爱幼，平等待人。同学之间友好相处，互相关心，互相帮助。不欺负弱小，不讥笑、戏弄他人。尊重残疾人。尊重他人的民族习惯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待人有礼貌，说话文明，讲普通话，会用礼貌用语。不骂人，不打架。到他人房间先敲门，经允许再进入，不随意翻动别人的物品，不打扰别人的工作、学习和休息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诚实守信，不说谎话，知错就改，不随意拿别人的东西，借东西及时归还，答应别人的事努力做到，做不到时表示歉意。考试不作弊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　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476360" y="2060640"/>
            <a:ext cx="3097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360" y="98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小学生日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98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行为规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1628640"/>
            <a:ext cx="712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虚心学习别人的长处和优点，不嫉妒别人。遇到挫折和失败不灰心，不气馁，遇到困难努力克服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爱惜粮食和学习、生活用品。节约水电，不比吃穿，不乱花钱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衣着整洁，经常洗澡，勤剪指甲，勤洗头，早晚刷牙，饭前便后要洗手。自己能做的事自己做，衣物用品摆放整齐，学会收拾房间、洗衣服、洗餐具等家务劳动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按时上学，不迟到，不早退，不逃学，有病有事要请假，放学后按时回家。参加活动守时，不能参加事先请假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课前准备好学习用品，上课专心听讲，积极思考，大胆提问，回答问题声音清楚，不随意打断他人发言。课间活动有秩序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476360" y="2060640"/>
            <a:ext cx="3097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98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小学生日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88000" y="98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行为规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58920" y="1484280"/>
            <a:ext cx="712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课前预习，课后认真复习，按时完成作业，书写工整，卷面整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坚持锻炼身体，认真做广播体操和眼保健操，坐、立、行、读书、写字姿势正确。积极参加有益的文体活动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4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认真做值日，保持教室、校园整洁。保护环境，爱护花草树木、庄稼和有益动物，不随地吐痰，不乱扔果皮纸屑等废弃物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爱护公物，不在课桌椅、建筑物和文物古迹上涂抹刻画。损坏公物要赔偿。拾到东西归还失主或交公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积极参加集体活动，认真完成集体交给的任务，少先队员服从队的决议，不做有损集体荣誉的事，集体成员之间相互尊重，学会合作。积极参加学校组织的各种劳动和社会实践活动，多观察，勤动手。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476360" y="2060640"/>
            <a:ext cx="3097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00360" y="98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小学生日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88000" y="98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行为规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16000" y="1773360"/>
            <a:ext cx="72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　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7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遵守交通法规，过马路走人行横道，不乱穿马路，不在公路、铁路、码头玩耍和追逐打闹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8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遵守公共秩序，在公共场所守不拥挤，不喧哗，礼让他人。乘公共车、船等主动购票，主动给老幼病残孕让座。不做法律禁止的事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珍爱生命，注意安全，防火、防溺水、防触电、防盗、防中毒，不做有危险的游戏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阅读、观看健康有益的图书、报刊、音像和网上信息，收听、收看内容健康的广播电视节目。不吸烟、不喝酒、不赌博，远离毒品，不参加封建迷信活动，不进入网吧等未成年人不宜入内的场所。敢于斗争，遇到坏人坏事主动报告。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042920" y="198900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00360" y="981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619280" y="981000"/>
            <a:ext cx="26654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3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说一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71" name=""/>
          <p:cNvSpPr/>
          <p:nvPr/>
        </p:nvSpPr>
        <p:spPr>
          <a:xfrm rot="21474000">
            <a:off x="2340000" y="3195720"/>
            <a:ext cx="59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请说说班内或学校近期出现的不良习惯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-607680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468000" cy="6381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◆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在校园内，随地吐痰，乱扔垃圾和果皮纸屑，乱扔纸袋，公共场合嚼口香糖，随地丢垃圾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◆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举行升旗仪式时，有的同学交头接耳、东张西望、左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右盼、站得东倒西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◆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有的同学在校园内进出或上下楼梯与老师相遇时，不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招呼。更有甚者，进老师的办公室时破门而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◆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有的同学不仅不穿校服，还在校服校牌上乱写乱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◆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有的同学出口成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◆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有的同学破坏班级财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◆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有的同学欺负弱小群体，给他人乱起绰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有的同学追打哄闹，推推搡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11280" y="350028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预备铃响了，我们应该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上课可以随便说话吗？有事情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课堂上可以做小动作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别人发言时，我们应该注意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rId2" action="ppaction://hlinksldjump"/>
          </p:cNvPr>
          <p:cNvSpPr/>
          <p:nvPr/>
        </p:nvSpPr>
        <p:spPr>
          <a:xfrm>
            <a:off x="5796000" y="5805360"/>
            <a:ext cx="129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32000" y="54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547640" y="189000"/>
            <a:ext cx="266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议一议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11280" y="350028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95280" y="2997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刚才几个同学的表演，你认为他们做的对吗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5796000" y="5805360"/>
            <a:ext cx="129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32000" y="54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124000" y="620640"/>
            <a:ext cx="3024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讨 论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9:59:46Z</dcterms:created>
  <dc:creator>USER</dc:creator>
  <dc:description/>
  <dc:language>en-US</dc:language>
  <cp:lastModifiedBy>微软用户</cp:lastModifiedBy>
  <dcterms:modified xsi:type="dcterms:W3CDTF">2012-11-22T01:07:36Z</dcterms:modified>
  <cp:revision>60</cp:revision>
  <dc:subject/>
  <dc:title>幻灯片 1</dc:title>
</cp:coreProperties>
</file>