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32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click.wav" ContentType="audio/x-wav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715-6C43-415B-9D24-CC36495A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586-FAC4-4D47-BDB4-2D8CDC25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A0D-13B6-49DF-B664-76CAF8A3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396-B188-48E0-BF33-03ECAB1B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3061-FA83-4FD2-A886-4E7B6F23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73B-D9EC-42BD-B08D-6FB6C12A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62D-16A4-456C-B5B7-90F22ABA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7F5-ED08-430F-9482-CC147F3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239-37EB-4370-ADBC-E3499A18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2FD-C856-4E32-990A-8D0260E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6FB-2F3F-46B1-9F0D-D67CBE4F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27C-2C97-4361-92D7-E3DA72A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838A-D664-4BD0-97E8-D4A3A6D2D6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4.xm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841319502518851"/>
          <p:cNvPicPr/>
          <p:nvPr/>
        </p:nvPicPr>
        <p:blipFill>
          <a:blip r:embed="rId1"/>
          <a:srcRect l="0" t="35017" r="0" b="0"/>
          <a:stretch/>
        </p:blipFill>
        <p:spPr>
          <a:xfrm>
            <a:off x="0" y="692280"/>
            <a:ext cx="9144000" cy="5627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895480" y="4643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124000" y="836640"/>
            <a:ext cx="5761080" cy="20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阿德的梦</a:t>
            </a:r>
            <a:endParaRPr b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496360" cy="53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44000" cy="57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041320" y="404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280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3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60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10044000" cy="68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-45864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12600" y="6308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476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走楼梯                     二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56360" y="4292640"/>
            <a:ext cx="1305000" cy="584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销售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645000"/>
            <a:ext cx="1305000" cy="584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预定 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445000"/>
            <a:ext cx="1368720" cy="674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德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4869000"/>
            <a:ext cx="1305000" cy="64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段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4149720"/>
            <a:ext cx="1305000" cy="628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顺便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62360" y="2979720"/>
            <a:ext cx="1305000" cy="539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04000" y="5516640"/>
            <a:ext cx="151308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baseline="-25000">
                <a:solidFill>
                  <a:srgbClr val="ff0000"/>
                </a:solidFill>
                <a:latin typeface="Arial"/>
              </a:rPr>
              <a:t>外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3564000"/>
            <a:ext cx="1305000" cy="585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移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2997360"/>
            <a:ext cx="1395360" cy="630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制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4797360"/>
            <a:ext cx="1305000" cy="674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运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2720" y="18986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280" y="5229360"/>
            <a:ext cx="549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2349360"/>
            <a:ext cx="1305000" cy="540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屏幕 </a:t>
            </a:r>
            <a:r>
              <a:rPr b="1" i="1" lang="zh-CN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2349360"/>
            <a:ext cx="1252440" cy="63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污染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7280" y="1628640"/>
            <a:ext cx="1368360" cy="675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8269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2514600" y="-1371600"/>
            <a:ext cx="2447280" cy="3209400"/>
            <a:chOff x="2514600" y="-1371600"/>
            <a:chExt cx="2447280" cy="32094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3096720" y="619560"/>
              <a:ext cx="1188000" cy="12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2514600" y="-1371600"/>
              <a:ext cx="2447280" cy="2242080"/>
              <a:chOff x="2514600" y="-1371600"/>
              <a:chExt cx="2447280" cy="2242080"/>
            </a:xfrm>
          </p:grpSpPr>
          <p:sp>
            <p:nvSpPr>
              <p:cNvPr id="113" name=""/>
              <p:cNvSpPr/>
              <p:nvPr/>
            </p:nvSpPr>
            <p:spPr>
              <a:xfrm>
                <a:off x="2514600" y="-1371600"/>
                <a:ext cx="2447280" cy="1560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喽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29480" y="82440"/>
                <a:ext cx="332640" cy="78804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3992760" y="82440"/>
                <a:ext cx="291600" cy="78804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924360" y="-1755720"/>
            <a:ext cx="2402640" cy="2128680"/>
            <a:chOff x="3924360" y="-1755720"/>
            <a:chExt cx="2402640" cy="21286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495680" y="-43488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3924360" y="-1755720"/>
              <a:ext cx="2402640" cy="1487160"/>
              <a:chOff x="3924360" y="-1755720"/>
              <a:chExt cx="2402640" cy="1487160"/>
            </a:xfrm>
          </p:grpSpPr>
          <p:sp>
            <p:nvSpPr>
              <p:cNvPr id="119" name=""/>
              <p:cNvSpPr/>
              <p:nvPr/>
            </p:nvSpPr>
            <p:spPr>
              <a:xfrm>
                <a:off x="3924360" y="-175572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销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28080" y="-79128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75520" y="-7912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2360" y="-1604880"/>
            <a:ext cx="2447280" cy="3209400"/>
            <a:chOff x="1692360" y="-1604880"/>
            <a:chExt cx="2447280" cy="320940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74480" y="386280"/>
              <a:ext cx="1188000" cy="12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1692360" y="-1604880"/>
              <a:ext cx="2447280" cy="2242440"/>
              <a:chOff x="1692360" y="-1604880"/>
              <a:chExt cx="2447280" cy="2242440"/>
            </a:xfrm>
          </p:grpSpPr>
          <p:sp>
            <p:nvSpPr>
              <p:cNvPr id="125" name=""/>
              <p:cNvSpPr/>
              <p:nvPr/>
            </p:nvSpPr>
            <p:spPr>
              <a:xfrm>
                <a:off x="1692360" y="-1604880"/>
                <a:ext cx="2447280" cy="1560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婆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07240" y="-150480"/>
                <a:ext cx="332640" cy="78804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170520" y="-150480"/>
                <a:ext cx="291600" cy="78804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4356000" y="-674640"/>
            <a:ext cx="2403000" cy="2128320"/>
            <a:chOff x="4356000" y="-674640"/>
            <a:chExt cx="2403000" cy="2128320"/>
          </a:xfrm>
        </p:grpSpPr>
        <p:pic>
          <p:nvPicPr>
            <p:cNvPr id="129" name="" descr=""/>
            <p:cNvPicPr/>
            <p:nvPr/>
          </p:nvPicPr>
          <p:blipFill>
            <a:blip r:embed="rId5"/>
            <a:stretch/>
          </p:blipFill>
          <p:spPr>
            <a:xfrm>
              <a:off x="4927320" y="64584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"/>
            <p:cNvGrpSpPr/>
            <p:nvPr/>
          </p:nvGrpSpPr>
          <p:grpSpPr>
            <a:xfrm>
              <a:off x="4356000" y="-674640"/>
              <a:ext cx="2403000" cy="1486800"/>
              <a:chOff x="4356000" y="-674640"/>
              <a:chExt cx="2403000" cy="1486800"/>
            </a:xfrm>
          </p:grpSpPr>
          <p:sp>
            <p:nvSpPr>
              <p:cNvPr id="131" name=""/>
              <p:cNvSpPr/>
              <p:nvPr/>
            </p:nvSpPr>
            <p:spPr>
              <a:xfrm>
                <a:off x="4356000" y="-674640"/>
                <a:ext cx="240300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污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9720" y="28944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5807160" y="28944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1042920" y="-1065240"/>
            <a:ext cx="2403000" cy="2129040"/>
            <a:chOff x="1042920" y="-1065240"/>
            <a:chExt cx="2403000" cy="2129040"/>
          </a:xfrm>
        </p:grpSpPr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1614240" y="25560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" name=""/>
            <p:cNvGrpSpPr/>
            <p:nvPr/>
          </p:nvGrpSpPr>
          <p:grpSpPr>
            <a:xfrm>
              <a:off x="1042920" y="-1065240"/>
              <a:ext cx="2403000" cy="1487520"/>
              <a:chOff x="1042920" y="-1065240"/>
              <a:chExt cx="2403000" cy="1487520"/>
            </a:xfrm>
          </p:grpSpPr>
          <p:sp>
            <p:nvSpPr>
              <p:cNvPr id="137" name=""/>
              <p:cNvSpPr/>
              <p:nvPr/>
            </p:nvSpPr>
            <p:spPr>
              <a:xfrm>
                <a:off x="1042920" y="-1065240"/>
                <a:ext cx="240300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屏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46640" y="-10044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494080" y="-10044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5219640" y="-819000"/>
            <a:ext cx="2402640" cy="2128320"/>
            <a:chOff x="5219640" y="-819000"/>
            <a:chExt cx="2402640" cy="212832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5790960" y="50148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5219640" y="-819000"/>
              <a:ext cx="2402640" cy="1486800"/>
              <a:chOff x="5219640" y="-819000"/>
              <a:chExt cx="2402640" cy="1486800"/>
            </a:xfrm>
          </p:grpSpPr>
          <p:sp>
            <p:nvSpPr>
              <p:cNvPr id="143" name=""/>
              <p:cNvSpPr/>
              <p:nvPr/>
            </p:nvSpPr>
            <p:spPr>
              <a:xfrm>
                <a:off x="5219640" y="-81900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预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23360" y="14508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6670800" y="1450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6740640" y="-747720"/>
            <a:ext cx="2402640" cy="2128320"/>
            <a:chOff x="6740640" y="-747720"/>
            <a:chExt cx="2402640" cy="2128320"/>
          </a:xfrm>
        </p:grpSpPr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7311960" y="57276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6740640" y="-747720"/>
              <a:ext cx="2402640" cy="1486800"/>
              <a:chOff x="6740640" y="-747720"/>
              <a:chExt cx="2402640" cy="1486800"/>
            </a:xfrm>
          </p:grpSpPr>
          <p:sp>
            <p:nvSpPr>
              <p:cNvPr id="149" name=""/>
              <p:cNvSpPr/>
              <p:nvPr/>
            </p:nvSpPr>
            <p:spPr>
              <a:xfrm>
                <a:off x="6740640" y="-74772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系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344360" y="21636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8191800" y="21636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-612720" y="-819000"/>
            <a:ext cx="2402640" cy="2128320"/>
            <a:chOff x="-612720" y="-819000"/>
            <a:chExt cx="2402640" cy="2128320"/>
          </a:xfrm>
        </p:grpSpPr>
        <p:pic>
          <p:nvPicPr>
            <p:cNvPr id="153" name="" descr=""/>
            <p:cNvPicPr/>
            <p:nvPr/>
          </p:nvPicPr>
          <p:blipFill>
            <a:blip r:embed="rId9"/>
            <a:stretch/>
          </p:blipFill>
          <p:spPr>
            <a:xfrm>
              <a:off x="-41040" y="50148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-612720" y="-819000"/>
              <a:ext cx="2402640" cy="1486800"/>
              <a:chOff x="-612720" y="-819000"/>
              <a:chExt cx="2402640" cy="1486800"/>
            </a:xfrm>
          </p:grpSpPr>
          <p:sp>
            <p:nvSpPr>
              <p:cNvPr id="155" name=""/>
              <p:cNvSpPr/>
              <p:nvPr/>
            </p:nvSpPr>
            <p:spPr>
              <a:xfrm>
                <a:off x="-612720" y="-81900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德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8640" y="14508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38440" y="1450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324000" y="-1065240"/>
            <a:ext cx="2402640" cy="2129040"/>
            <a:chOff x="324000" y="-1065240"/>
            <a:chExt cx="2402640" cy="2129040"/>
          </a:xfrm>
        </p:grpSpPr>
        <p:pic>
          <p:nvPicPr>
            <p:cNvPr id="159" name="" descr=""/>
            <p:cNvPicPr/>
            <p:nvPr/>
          </p:nvPicPr>
          <p:blipFill>
            <a:blip r:embed="rId10"/>
            <a:stretch/>
          </p:blipFill>
          <p:spPr>
            <a:xfrm>
              <a:off x="895320" y="255600"/>
              <a:ext cx="1166400" cy="8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24000" y="-1065240"/>
              <a:ext cx="2402640" cy="1487520"/>
              <a:chOff x="324000" y="-1065240"/>
              <a:chExt cx="2402640" cy="1487520"/>
            </a:xfrm>
          </p:grpSpPr>
          <p:sp>
            <p:nvSpPr>
              <p:cNvPr id="161" name=""/>
              <p:cNvSpPr/>
              <p:nvPr/>
            </p:nvSpPr>
            <p:spPr>
              <a:xfrm>
                <a:off x="324000" y="-106524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段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7720" y="-10044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75160" y="-10044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276720" y="-819000"/>
            <a:ext cx="2402640" cy="2128320"/>
            <a:chOff x="3276720" y="-819000"/>
            <a:chExt cx="2402640" cy="2128320"/>
          </a:xfrm>
        </p:grpSpPr>
        <p:pic>
          <p:nvPicPr>
            <p:cNvPr id="165" name="" descr=""/>
            <p:cNvPicPr/>
            <p:nvPr/>
          </p:nvPicPr>
          <p:blipFill>
            <a:blip r:embed="rId11"/>
            <a:stretch/>
          </p:blipFill>
          <p:spPr>
            <a:xfrm>
              <a:off x="3848040" y="50148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"/>
            <p:cNvGrpSpPr/>
            <p:nvPr/>
          </p:nvGrpSpPr>
          <p:grpSpPr>
            <a:xfrm>
              <a:off x="3276720" y="-819000"/>
              <a:ext cx="2402640" cy="1486800"/>
              <a:chOff x="3276720" y="-819000"/>
              <a:chExt cx="2402640" cy="14868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76720" y="-819000"/>
                <a:ext cx="240264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型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80440" y="14508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4727880" y="1450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7451640" y="-819000"/>
            <a:ext cx="2403000" cy="2128320"/>
            <a:chOff x="7451640" y="-819000"/>
            <a:chExt cx="2403000" cy="2128320"/>
          </a:xfrm>
        </p:grpSpPr>
        <p:pic>
          <p:nvPicPr>
            <p:cNvPr id="171" name="" descr=""/>
            <p:cNvPicPr/>
            <p:nvPr/>
          </p:nvPicPr>
          <p:blipFill>
            <a:blip r:embed="rId12"/>
            <a:stretch/>
          </p:blipFill>
          <p:spPr>
            <a:xfrm>
              <a:off x="8022960" y="501480"/>
              <a:ext cx="1166400" cy="80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"/>
            <p:cNvGrpSpPr/>
            <p:nvPr/>
          </p:nvGrpSpPr>
          <p:grpSpPr>
            <a:xfrm>
              <a:off x="7451640" y="-819000"/>
              <a:ext cx="2403000" cy="1486800"/>
              <a:chOff x="7451640" y="-819000"/>
              <a:chExt cx="2403000" cy="1486800"/>
            </a:xfrm>
          </p:grpSpPr>
          <p:sp>
            <p:nvSpPr>
              <p:cNvPr id="173" name=""/>
              <p:cNvSpPr/>
              <p:nvPr/>
            </p:nvSpPr>
            <p:spPr>
              <a:xfrm>
                <a:off x="7451640" y="-819000"/>
                <a:ext cx="2403000" cy="1035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订</a:t>
                </a:r>
                <a:endParaRPr b="0" lang="en-US" sz="8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55360" y="145080"/>
                <a:ext cx="32652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902800" y="145080"/>
                <a:ext cx="286560" cy="522720"/>
              </a:xfrm>
              <a:prstGeom prst="line">
                <a:avLst/>
              </a:prstGeom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25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29" dur="3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33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37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41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45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49" dur="3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53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57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61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0.08819 L 0.05208 1.42569 E">
                                      <p:cBhvr>
                                        <p:cTn id="165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116000" y="2276640"/>
            <a:ext cx="3168360" cy="1312560"/>
            <a:chOff x="1116000" y="2276640"/>
            <a:chExt cx="3168360" cy="1312560"/>
          </a:xfrm>
        </p:grpSpPr>
        <p:sp>
          <p:nvSpPr>
            <p:cNvPr id="177" name=""/>
            <p:cNvSpPr/>
            <p:nvPr/>
          </p:nvSpPr>
          <p:spPr>
            <a:xfrm>
              <a:off x="1116000" y="2708280"/>
              <a:ext cx="7531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系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6640" y="2276640"/>
              <a:ext cx="19598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xì(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关系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96640" y="3068640"/>
              <a:ext cx="2187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jì( 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系鞋带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68160" y="2492280"/>
              <a:ext cx="603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68160" y="2997360"/>
              <a:ext cx="6030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43280" y="263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2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kōng(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天空 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068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kòng(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空白 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148360" y="249192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292428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-211" b="250"/>
          <a:stretch/>
        </p:blipFill>
        <p:spPr>
          <a:xfrm>
            <a:off x="0" y="0"/>
            <a:ext cx="3355920" cy="3505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00cc99"/>
            </a:outerShdw>
          </a:effectLst>
        </p:spPr>
      </p:pic>
      <p:sp>
        <p:nvSpPr>
          <p:cNvPr id="45" name=""/>
          <p:cNvSpPr/>
          <p:nvPr/>
        </p:nvSpPr>
        <p:spPr>
          <a:xfrm>
            <a:off x="1403280" y="5229360"/>
            <a:ext cx="6958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2560" y="3808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阿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d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7622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24480" y="4114800"/>
            <a:ext cx="2819520" cy="256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1268280"/>
            <a:ext cx="860436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张望       盼望      希望      看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）同学们都（           ）今年冬天能下大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）王叔叔在校园里四处（           ），好像在找什么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）爸爸（          ）我长大了当一名医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）阿德想顺便去月球（           ）移居到那里的亲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765000"/>
            <a:ext cx="93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476360" y="1628640"/>
            <a:ext cx="63691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32  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阿德的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阿德1 副本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765000"/>
            <a:ext cx="4051440" cy="4953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54440" y="260280"/>
            <a:ext cx="448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德早早地起了床。今天上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，他要乘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最新的载人飞船，到火星上去旅游，并顺便去月球看望移居到那里的亲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7057800" y="624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9920" y="4592520"/>
            <a:ext cx="1219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00360" y="299736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35280" y="3499920"/>
            <a:ext cx="936360" cy="115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048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移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67640" y="907920"/>
            <a:ext cx="453960" cy="503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12920" y="1341360"/>
            <a:ext cx="5454720" cy="3556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848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顺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76720" y="1268280"/>
            <a:ext cx="4319640" cy="187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70840" y="342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旅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2556000" y="260280"/>
            <a:ext cx="9372240" cy="3657240"/>
            <a:chOff x="2556000" y="260280"/>
            <a:chExt cx="9372240" cy="3657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2556000" y="497160"/>
              <a:ext cx="4217400" cy="34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085880" y="260280"/>
              <a:ext cx="4842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4360" y="4292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离飞船起飞的时间还有半个小时，怎么打发这段时光呢？阿德拨通了可视电话，要跟月球上的外婆聊聊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765000"/>
            <a:ext cx="85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外婆，您好！两个小时以后就能见到您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么快呀！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当然喽！我这次坐的飞船是新型的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外婆，听说月球上的科研人员已研制出了无污染的太阳能汽车，市场上有卖的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！大商场里都有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4191120" cy="51818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19720" y="652320"/>
            <a:ext cx="472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阿德打开掌上电脑，进入月球最大的网上销售中心。“我要预订这辆太阳能汽车，下午两点来取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6408720" cy="633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1700280"/>
            <a:ext cx="777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旅客，飞船就要起飞了，请系好安全带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44720" y="1700280"/>
            <a:ext cx="3533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同学们，你们做过梦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98600" y="328464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们都梦到过什么东西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37440" y="2276640"/>
            <a:ext cx="2806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梦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719520" y="692280"/>
            <a:ext cx="226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飞船长鸣一声飞向太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9640" y="1989000"/>
            <a:ext cx="3581280" cy="1676520"/>
          </a:xfrm>
          <a:prstGeom prst="cloudCallout">
            <a:avLst>
              <a:gd name="adj1" fmla="val -65467"/>
              <a:gd name="adj2" fmla="val -711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拟声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365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青蛙在（          ）地叫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5229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、小男孩在（              ）地哭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拟声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哗哗    汪汪       咚咚      嗡嗡嗡     沙沙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滴滴答答   叽叽喳喳    呜里哇啦  咕咚咕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丁铃当郎  叽哩呱啦    唏哩哗啦    霹哩叭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124160" cy="510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219640" y="907920"/>
            <a:ext cx="33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阿德的安全带还没系好，他从椅子上滑了下来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759280" y="141300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哎呀！”阿德大叫一声。睁开眼一看，原来是一场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image7"/>
          <p:cNvPicPr/>
          <p:nvPr/>
        </p:nvPicPr>
        <p:blipFill>
          <a:blip r:embed="rId1"/>
          <a:srcRect l="24812" t="0" r="26744" b="0"/>
          <a:stretch/>
        </p:blipFill>
        <p:spPr>
          <a:xfrm>
            <a:off x="17928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2340000" y="-746280"/>
            <a:ext cx="13968360" cy="8928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24000" y="549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阿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早起要旅行，乘坐飞船是新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飞时间还未到，可视电话传真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视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看外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聊起畅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预订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车无污染，动力来自太阳能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船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呜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鸣声，阿德落地未成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来未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全带，大叫一声梦惊醒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79960" y="2276640"/>
            <a:ext cx="729360" cy="31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乘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研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拨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预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51960" y="2305080"/>
            <a:ext cx="729360" cy="316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飞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92560" y="2838600"/>
            <a:ext cx="266364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94000" y="3630600"/>
            <a:ext cx="251928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294000" y="2838600"/>
            <a:ext cx="2664000" cy="1584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20920" y="514368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419640" y="549360"/>
            <a:ext cx="2139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9400ed">
                        <a:alpha val="61176"/>
                      </a:srgbClr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连一连</a:t>
            </a:r>
            <a:endParaRPr b="1" lang="en-US" sz="1600" spc="1" strike="noStrike">
              <a:ln w="1260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9400ed">
                      <a:alpha val="61176"/>
                    </a:srgbClr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1052640"/>
            <a:ext cx="91440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阿德早早地起了床。今天上午</a:t>
            </a:r>
            <a:r>
              <a:rPr b="1" lang="en-US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点，他要乘坐</a:t>
            </a:r>
            <a:r>
              <a:rPr b="1" lang="en-US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世纪最新的载人飞船，到火星上去旅游，并顺便去月球看望移居到那里的亲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离飞船起飞的时间还有半个小时，怎么打发这段时光呢？阿德拨通了可视电话，要跟月球上的外婆聊聊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外婆出现在电话的屏幕上。“外婆，您好！两个小时以后就能见到您了。”“这么快呀！”“当然喽！我这次坐的飞船是新型的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“外婆，听说月球上的科研人员已研制出了无污染的太阳能汽车。市场上有卖的吗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“噢！大商场里都有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阿德打开掌上电脑，进入月球最大的网上销售中心。“我要预定这辆太阳能汽车，下午两点来取</a:t>
            </a:r>
            <a:r>
              <a:rPr b="1" lang="en-US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...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“亲爱的旅客，飞船就要起飞了，请系好安全带。” “呜</a:t>
            </a:r>
            <a:r>
              <a:rPr b="1" lang="en-US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——”</a:t>
            </a: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飞船长鸣一声飞向太空。这时，阿德的安全带还没系好，他从椅子上滑了下来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　　“哎呀！”阿德大叫一声。睁开眼睛一看，原来是一场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348000" y="26028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阿德的梦</a:t>
            </a:r>
            <a:endParaRPr b="1" lang="en-US" sz="16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1280" y="148428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小朋友，未来世界会是怎样呢？我们也来做一个梦吧，说说自己的想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765000"/>
            <a:ext cx="8532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到了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2050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年，地球上的汽车会是怎样的呢？让我们一起去看看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今天，我要去参加一个朋友的生日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party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。我先打开折叠好的小汽车，然后一按按钮，汽车就长出翅膀，飞上了天，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分钟后就到了朋友家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所有的汽车都在天上飞，空中真是 “车山车海”啊！公路上没有一辆汽车，只有人在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那么，天空不怕被污染吗？不会的，因为未来的汽车用的都是环保氧气油，排出来的都是清新的空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汽车里还有机器人驾驶员，如果你累了，只要按一下按钮，机器人就会蹦出来，你想去哪里，只要告诉他就行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每辆汽车都装有先进的报警和自动处理系统，这样汽车就不会相撞，不会发生安全事故了</a:t>
            </a:r>
            <a:r>
              <a:rPr b="1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189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未来的汽车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49360"/>
            <a:ext cx="95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视电话  研制 移居 打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载人飞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外婆 屏幕 新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上电脑  污染 销售 预订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鸣  太空  太阳能汽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3" descr=""/>
          <p:cNvPicPr/>
          <p:nvPr/>
        </p:nvPicPr>
        <p:blipFill>
          <a:blip r:embed="rId2"/>
          <a:stretch/>
        </p:blipFill>
        <p:spPr>
          <a:xfrm>
            <a:off x="4606920" y="0"/>
            <a:ext cx="4537080" cy="3193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3" descr=""/>
          <p:cNvPicPr/>
          <p:nvPr/>
        </p:nvPicPr>
        <p:blipFill>
          <a:blip r:embed="rId3"/>
          <a:stretch/>
        </p:blipFill>
        <p:spPr>
          <a:xfrm>
            <a:off x="0" y="2852640"/>
            <a:ext cx="4560840" cy="37879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4"/>
          <a:stretch/>
        </p:blipFill>
        <p:spPr>
          <a:xfrm>
            <a:off x="3924360" y="2536920"/>
            <a:ext cx="5038560" cy="4321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28600" y="6093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179280" y="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5292720" y="46080"/>
            <a:ext cx="3543480" cy="35989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3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8496000" cy="311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328600" y="6093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 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-857160"/>
            <a:ext cx="6858000" cy="85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95636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Times New Roman"/>
              </a:rPr>
              <a:t>研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28600" y="60930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Times New Roman"/>
              </a:rPr>
              <a:t>新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3-05-30T00:22:33Z</dcterms:modified>
  <cp:revision>213</cp:revision>
  <dc:subject/>
  <dc:title>PowerPoint Presentation</dc:title>
</cp:coreProperties>
</file>