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wmf" ContentType="image/x-wmf"/>
  <Override PartName="/ppt/media/image22.jpeg" ContentType="image/jpeg"/>
  <Override PartName="/ppt/media/image21.wmf" ContentType="image/x-wmf"/>
  <Override PartName="/ppt/media/image6.jpeg" ContentType="image/jpeg"/>
  <Override PartName="/ppt/media/image19.jpeg" ContentType="image/jpeg"/>
  <Override PartName="/ppt/media/image42.jpeg" ContentType="image/jpeg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36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24.wmf" ContentType="image/x-wmf"/>
  <Override PartName="/ppt/media/image1.wmf" ContentType="image/x-wmf"/>
  <Override PartName="/ppt/media/image7.jpeg" ContentType="image/jpeg"/>
  <Override PartName="/ppt/media/image38.jpeg" ContentType="image/jpeg"/>
  <Override PartName="/ppt/media/image23.wmf" ContentType="image/x-wmf"/>
  <Override PartName="/ppt/media/image28.jpeg" ContentType="image/jpeg"/>
  <Override PartName="/ppt/media/image51.jpeg" ContentType="image/jpeg"/>
  <Override PartName="/ppt/media/image9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3.jpeg" ContentType="image/jpeg"/>
  <Override PartName="/ppt/media/image39.jpeg" ContentType="image/jpeg"/>
  <Override PartName="/ppt/media/image41.jpeg" ContentType="image/jpeg"/>
  <Override PartName="/ppt/media/image45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6.jpeg" ContentType="image/jpeg"/>
  <Override PartName="/ppt/media/image49.jpeg" ContentType="image/jpeg"/>
  <Override PartName="/ppt/media/image50.jpeg" ContentType="image/jpeg"/>
  <Override PartName="/ppt/media/image12.jpeg" ContentType="image/jpeg"/>
  <Override PartName="/ppt/media/image47.wmf" ContentType="image/x-wmf"/>
  <Override PartName="/ppt/media/image31.jpeg" ContentType="image/jpeg"/>
  <Override PartName="/ppt/media/image8.wmf" ContentType="image/x-wmf"/>
  <Override PartName="/ppt/media/image4.jpeg" ContentType="image/jpeg"/>
  <Override PartName="/ppt/media/image25.jpeg" ContentType="image/jpeg"/>
  <Override PartName="/ppt/media/image30.jpeg" ContentType="image/jpeg"/>
  <Override PartName="/ppt/media/image3.jpeg" ContentType="image/jpeg"/>
  <Override PartName="/ppt/media/image40.jpeg" ContentType="image/jpeg"/>
  <Override PartName="/ppt/media/image13.jpeg" ContentType="image/jpeg"/>
  <Override PartName="/ppt/media/image11.wmf" ContentType="image/x-wmf"/>
  <Override PartName="/ppt/media/image17.jpeg" ContentType="image/jpeg"/>
  <Override PartName="/ppt/media/image5.png" ContentType="image/png"/>
  <Override PartName="/ppt/media/image4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</p:sldIdLst>
  <p:sldSz cx="9144000" cy="6858000"/>
  <p:notesSz cx="66643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75C-554A-403B-9C85-B0CD49E1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229-07A5-467B-86C0-DAF62421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B12-E735-467A-B213-B4C1DFE3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CFC-4ACD-47DA-A705-7BAE6DD0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2440-1E6C-4E29-A0FC-B8D80C9C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1B08-4CDD-4CF3-A008-52F3C6D4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EAFC-46B8-449C-8DD0-ACE44C92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7B66-4C8C-4B6E-A18C-8B5F540D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E9E4-A92C-4E46-B6C7-E75D3187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45FE-43CB-4BD4-AEFD-88E4C021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00AE-C233-401A-9E3F-CDCA627B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512E-67DA-481B-ABB6-69576711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7C33-AE2F-4B96-AD80-B4741652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6C6F-9062-46C7-A7BF-C3DB2948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C079-520B-4403-8E17-285FD37A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7B36-76F8-4CFD-817B-9ACEEAA8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4648-A582-4392-942A-1D993BA6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444FC-65B8-4C13-8E8F-7644B3CF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D608D-2301-4A46-803D-5D4C08FA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1CDD2-EB21-45D2-BF3A-54C893A8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BBA01-CA17-4BB4-BCD9-4E3B7C60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B684F-0B3E-4CBA-9A4A-8F6BE858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61CC-805E-4FBA-A0E5-EC468F40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69B44-F099-4FC9-B9DA-29E05F63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DEDB1-1C2D-432C-9F53-15B18E4F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7A3A2-522E-49BE-ACAF-E727AFBC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BF097-562E-442D-857C-2D00BF9C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887B7-CF7C-4A80-A59B-18FC2BC5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35C0C-A8E3-4AE8-BFCA-5FA62DF1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F864C-1923-4F44-9F76-4DD4CB83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D54FA-C294-4A2C-9C8E-8503939E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34548-72DC-44E4-8A5B-1AB84248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3B34B-103E-42E2-B807-6E3710EA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6BDA-F3BD-4E0C-9FD7-C547D188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00B03-3700-4C0B-8186-F4E08D64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2C7D4-0FD9-4BF4-90A6-CF966270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5D9CA-1084-41EA-BD70-C218AAF8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DB387-D438-442E-A358-22B2959D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77DFA-9A02-4633-97BE-3CE513D9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A507D-402C-4ED6-886C-9689420E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A0115-8CB6-4D16-BB89-A99D70B8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C66C5-AEEB-4A8A-89AB-BC0AEA3B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E2ABD-DC3C-476D-9F88-94B4BCD4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5AF6-475F-4A83-BEBD-52491F37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F9EC-4ABF-4485-BA0D-3AA3C6BD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9BB5-8F24-43F5-B6E0-217E7A21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56AF-2194-4038-9A52-8C013682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6325-FF0F-475D-AAFE-F4C9E34E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7200"/>
              <a:ext cx="312840" cy="1616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880" y="1881360"/>
              <a:ext cx="7452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7732800" y="5569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42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7559640" y="5700960"/>
              <a:ext cx="1581120" cy="1998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7597800" y="5786640"/>
              <a:ext cx="1542960" cy="38880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626240" y="5700960"/>
              <a:ext cx="1514520" cy="14256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4856040" y="2446560"/>
              <a:ext cx="162000" cy="2458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4856040" y="2683080"/>
              <a:ext cx="14292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4856040" y="280692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8683560" y="22748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8616960" y="5596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5999040" y="614700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未知"/>
            <p:cNvSpPr/>
            <p:nvPr/>
          </p:nvSpPr>
          <p:spPr>
            <a:xfrm>
              <a:off x="3809880" y="614700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5942160" y="601344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8607600" y="5719680"/>
              <a:ext cx="114120" cy="1717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8040" y="2814840"/>
              <a:ext cx="274320" cy="40305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12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6835680" y="2427480"/>
              <a:ext cx="400320" cy="250164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5496-8577-44F2-9190-9F2DDC274F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7200"/>
              <a:ext cx="312840" cy="1616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880" y="1881360"/>
              <a:ext cx="7452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7732800" y="5569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42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7559640" y="5700960"/>
              <a:ext cx="1581120" cy="1998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7597800" y="5786640"/>
              <a:ext cx="1542960" cy="38880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7626240" y="5700960"/>
              <a:ext cx="1514520" cy="14256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4856040" y="2446560"/>
              <a:ext cx="162000" cy="2458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4856040" y="2683080"/>
              <a:ext cx="14292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4856040" y="280692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8683560" y="22748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8616960" y="5596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5999040" y="614700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3809880" y="614700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5942160" y="601344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8607600" y="5719680"/>
              <a:ext cx="114120" cy="1717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8040" y="2814840"/>
              <a:ext cx="274320" cy="40305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12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6835680" y="2427480"/>
              <a:ext cx="400320" cy="250164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380B-C0D9-4175-89B3-6EA646B83D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52" name="未知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836640" y="4610160"/>
              <a:ext cx="4572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318960" y="4610160"/>
              <a:ext cx="4752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E340-27D6-4CCE-9368-693FD1CDF5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02" name="未知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18960" y="3773520"/>
              <a:ext cx="548496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838080" y="1752480"/>
              <a:ext cx="77691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318960" y="3773520"/>
              <a:ext cx="4752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838080" y="1752480"/>
              <a:ext cx="46080" cy="5119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0A54-17D9-4DD1-8CBC-B07B966230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403280" y="1052640"/>
            <a:ext cx="628020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  </a:t>
            </a:r>
            <a:r>
              <a:rPr b="0" lang="zh-CN" sz="96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心电图的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  </a:t>
            </a:r>
            <a:r>
              <a:rPr b="0" lang="zh-CN" sz="96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基本识别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佛山中医院实习生讲课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23080" y="4221000"/>
            <a:ext cx="23209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109320" y="6119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心脏特殊传导系统示意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458200" cy="61801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200 w 611280"/>
              <a:gd name="textAreaRight" fmla="*/ 586080 w 611280"/>
              <a:gd name="textAreaTop" fmla="*/ 25200 h 404640"/>
              <a:gd name="textAreaBottom" fmla="*/ 37944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71" y="1350"/>
                </a:lnTo>
                <a:lnTo>
                  <a:pt x="1350" y="135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71" y="20250"/>
                </a:lnTo>
                <a:lnTo>
                  <a:pt x="31271" y="135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271" y="2025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621" h="21600">
                <a:moveTo>
                  <a:pt x="9267" y="3756"/>
                </a:moveTo>
                <a:lnTo>
                  <a:pt x="23354" y="10800"/>
                </a:lnTo>
                <a:lnTo>
                  <a:pt x="9267" y="17844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85800" y="446040"/>
            <a:ext cx="84582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如：</a:t>
            </a:r>
            <a:r>
              <a:rPr b="1" lang="zh-CN" sz="4400" spc="-1" strike="noStrike">
                <a:solidFill>
                  <a:srgbClr val="b1ffff"/>
                </a:solidFill>
                <a:latin typeface="楷体_GB2312"/>
                <a:ea typeface="楷体_GB2312"/>
              </a:rPr>
              <a:t>前壁心内膜下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心肌缺血时，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V1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导联出现高大的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T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波；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b1ffff"/>
                </a:solidFill>
                <a:latin typeface="楷体_GB2312"/>
                <a:ea typeface="楷体_GB2312"/>
              </a:rPr>
              <a:t>下壁心内膜下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心肌缺血时，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II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III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aVF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导联出现高大的正向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T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波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2212920" y="5410080"/>
            <a:ext cx="480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心内膜面缺血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T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对称性高直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754280" y="1311120"/>
            <a:ext cx="536220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imes New Roman"/>
                <a:ea typeface="汉仪粗宋简"/>
              </a:rPr>
              <a:t>6.2</a:t>
            </a:r>
            <a:r>
              <a:rPr b="0" lang="zh-CN" sz="4800" spc="-1" strike="noStrike">
                <a:solidFill>
                  <a:srgbClr val="ccffff"/>
                </a:solidFill>
                <a:latin typeface="Times New Roman"/>
                <a:ea typeface="汉仪粗宋简"/>
              </a:rPr>
              <a:t>、心外膜下心肌缺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ff"/>
                </a:solidFill>
                <a:latin typeface="Times New Roman"/>
                <a:ea typeface="汉仪粗宋简"/>
              </a:rPr>
              <a:t>（包括透壁心肌缺血或透壁心肌梗塞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6477120" y="4586400"/>
            <a:ext cx="26668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0" y="692280"/>
            <a:ext cx="876312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心外膜缺血时，可引起心肌</a:t>
            </a:r>
            <a:r>
              <a:rPr b="1" lang="zh-CN" sz="4400" spc="-1" strike="noStrike">
                <a:solidFill>
                  <a:srgbClr val="b1ffff"/>
                </a:solidFill>
                <a:latin typeface="楷体_GB2312"/>
                <a:ea typeface="楷体_GB2312"/>
              </a:rPr>
              <a:t>复极顺序的逆转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，即心内膜复极在先而心外膜复极在后，此时膜外尚未复极（为负电荷），于是即出现与正常方向相反的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T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波（负波）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24000" y="692280"/>
            <a:ext cx="8820000" cy="39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1676520"/>
                <a:tab algn="l" pos="3352680"/>
                <a:tab algn="l" pos="5029200"/>
                <a:tab algn="l" pos="6705720"/>
                <a:tab algn="l" pos="838188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如：</a:t>
            </a:r>
            <a:r>
              <a:rPr b="1" lang="zh-CN" sz="4400" spc="-1" strike="noStrike">
                <a:solidFill>
                  <a:srgbClr val="b1ffff"/>
                </a:solidFill>
                <a:latin typeface="楷体_GB2312"/>
                <a:ea typeface="楷体_GB2312"/>
              </a:rPr>
              <a:t>前壁外膜下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心肌发生缺血时，在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V2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导联可见倒置的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T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波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1676520"/>
                <a:tab algn="l" pos="3352680"/>
                <a:tab algn="l" pos="5029200"/>
                <a:tab algn="l" pos="6705720"/>
                <a:tab algn="l" pos="838188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b1ffff"/>
                </a:solidFill>
                <a:latin typeface="楷体_GB2312"/>
                <a:ea typeface="楷体_GB2312"/>
              </a:rPr>
              <a:t>下壁外膜下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心肌发生缺血时，在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II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III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aVF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导联可出现深倒置的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T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波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390760" y="5867280"/>
            <a:ext cx="447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心外膜面缺血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T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对称性倒置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0" y="861840"/>
            <a:ext cx="914400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2326680" y="260280"/>
            <a:ext cx="426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汉仪粗宋简"/>
                <a:ea typeface="汉仪粗宋简"/>
              </a:rPr>
              <a:t>6.3</a:t>
            </a:r>
            <a:r>
              <a:rPr b="0" lang="zh-CN" sz="4800" spc="-1" strike="noStrike">
                <a:solidFill>
                  <a:srgbClr val="ccffff"/>
                </a:solidFill>
                <a:latin typeface="汉仪粗宋简"/>
                <a:ea typeface="汉仪粗宋简"/>
              </a:rPr>
              <a:t>、心肌损伤－</a:t>
            </a:r>
            <a:r>
              <a:rPr b="0" lang="en-US" sz="4800" spc="-1" strike="noStrike">
                <a:solidFill>
                  <a:srgbClr val="ccffff"/>
                </a:solidFill>
                <a:latin typeface="汉仪粗宋简"/>
                <a:ea typeface="汉仪粗宋简"/>
              </a:rPr>
              <a:t>ST</a:t>
            </a:r>
            <a:r>
              <a:rPr b="0" lang="zh-CN" sz="4800" spc="-1" strike="noStrike">
                <a:solidFill>
                  <a:srgbClr val="ccffff"/>
                </a:solidFill>
                <a:latin typeface="汉仪粗宋简"/>
                <a:ea typeface="汉仪粗宋简"/>
              </a:rPr>
              <a:t>段异常改变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1125360"/>
            <a:ext cx="88200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心肌缺血时除可出现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T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波的改变外，还可出现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ST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段的改变。典型的缺血型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ST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改变，往往表现为</a:t>
            </a:r>
            <a:r>
              <a:rPr b="1" lang="en-US" sz="4400" spc="-1" strike="noStrike">
                <a:solidFill>
                  <a:srgbClr val="b1ffff"/>
                </a:solidFill>
                <a:latin typeface="楷体_GB2312"/>
                <a:ea typeface="楷体_GB2312"/>
              </a:rPr>
              <a:t>ST</a:t>
            </a:r>
            <a:r>
              <a:rPr b="1" lang="zh-CN" sz="4400" spc="-1" strike="noStrike">
                <a:solidFill>
                  <a:srgbClr val="b1ffff"/>
                </a:solidFill>
                <a:latin typeface="楷体_GB2312"/>
                <a:ea typeface="楷体_GB2312"/>
              </a:rPr>
              <a:t>呈水平和下垂形下移≥</a:t>
            </a:r>
            <a:r>
              <a:rPr b="1" lang="en-US" sz="4400" spc="-1" strike="noStrike">
                <a:solidFill>
                  <a:srgbClr val="b1ffff"/>
                </a:solidFill>
                <a:latin typeface="楷体_GB2312"/>
                <a:ea typeface="楷体_GB2312"/>
              </a:rPr>
              <a:t>0.1mv</a:t>
            </a:r>
            <a:r>
              <a:rPr b="1" lang="zh-CN" sz="4400" spc="-1" strike="noStrike">
                <a:solidFill>
                  <a:srgbClr val="b1ffff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457200" y="457200"/>
            <a:ext cx="8153280" cy="30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一）典型心绞痛，心电图出现一时性的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ST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段下移，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T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波低平，双向或倒置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二）变异性心绞痛，心电图可出现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ST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段抬高而常伴有高耸的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T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波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85800" y="609480"/>
            <a:ext cx="800100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五）心室肥厚及束支传导阻滞等情况时出现的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ST-T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改变，是由于心肌除极时间延长，与心肌已开始进行的复极时间相重叠所致，通常称为继发性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ST-T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改变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2481840" y="1596960"/>
            <a:ext cx="367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ffff"/>
                </a:solidFill>
                <a:latin typeface="汉仪粗宋简"/>
                <a:ea typeface="汉仪粗宋简"/>
              </a:rPr>
              <a:t>6.4  </a:t>
            </a:r>
            <a:r>
              <a:rPr b="1" lang="zh-CN" sz="6000" spc="-1" strike="noStrike">
                <a:solidFill>
                  <a:srgbClr val="ccffff"/>
                </a:solidFill>
                <a:latin typeface="汉仪粗宋简"/>
                <a:ea typeface="汉仪粗宋简"/>
              </a:rPr>
              <a:t>心肌梗塞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-257040" y="841320"/>
            <a:ext cx="909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1ffff"/>
                </a:solidFill>
                <a:latin typeface="Times New Roman"/>
                <a:ea typeface="楷体_GB2312"/>
              </a:rPr>
              <a:t>（一）心电图各波段的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1ffff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5400" spc="-1" strike="noStrike">
                <a:solidFill>
                  <a:srgbClr val="b1ffff"/>
                </a:solidFill>
                <a:latin typeface="Times New Roman"/>
                <a:ea typeface="楷体_GB2312"/>
              </a:rPr>
              <a:t>组成（</a:t>
            </a:r>
            <a:r>
              <a:rPr b="1" lang="en-US" sz="5400" spc="-1" strike="noStrike">
                <a:solidFill>
                  <a:srgbClr val="b1ffff"/>
                </a:solidFill>
                <a:latin typeface="Times New Roman"/>
                <a:ea typeface="楷体_GB2312"/>
              </a:rPr>
              <a:t>3</a:t>
            </a:r>
            <a:r>
              <a:rPr b="1" lang="zh-CN" sz="5400" spc="-1" strike="noStrike">
                <a:solidFill>
                  <a:srgbClr val="b1ffff"/>
                </a:solidFill>
                <a:latin typeface="Times New Roman"/>
                <a:ea typeface="楷体_GB2312"/>
              </a:rPr>
              <a:t>波</a:t>
            </a:r>
            <a:r>
              <a:rPr b="1" lang="en-US" sz="5400" spc="-1" strike="noStrike">
                <a:solidFill>
                  <a:srgbClr val="b1ffff"/>
                </a:solidFill>
                <a:latin typeface="Times New Roman"/>
                <a:ea typeface="楷体_GB2312"/>
              </a:rPr>
              <a:t>3</a:t>
            </a:r>
            <a:r>
              <a:rPr b="1" lang="zh-CN" sz="5400" spc="-1" strike="noStrike">
                <a:solidFill>
                  <a:srgbClr val="b1ffff"/>
                </a:solidFill>
                <a:latin typeface="Times New Roman"/>
                <a:ea typeface="楷体_GB2312"/>
              </a:rPr>
              <a:t>期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3800520"/>
            <a:ext cx="838188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P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波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P-R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间期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QRS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波群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4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ST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5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T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波       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6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Q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－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T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间期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886680" y="333360"/>
            <a:ext cx="386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imes New Roman"/>
                <a:ea typeface="汉仪粗宋简"/>
              </a:rPr>
              <a:t>6.4.1“</a:t>
            </a:r>
            <a:r>
              <a:rPr b="0" lang="zh-CN" sz="4800" spc="-1" strike="noStrike">
                <a:solidFill>
                  <a:srgbClr val="ccffff"/>
                </a:solidFill>
                <a:latin typeface="Times New Roman"/>
                <a:ea typeface="汉仪粗宋简"/>
              </a:rPr>
              <a:t>缺血性”改变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9640" y="1201680"/>
            <a:ext cx="8353440" cy="39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若缺血发生于</a:t>
            </a:r>
            <a:r>
              <a:rPr b="1" lang="zh-CN" sz="4400" spc="-1" strike="noStrike">
                <a:solidFill>
                  <a:srgbClr val="b1ffff"/>
                </a:solidFill>
                <a:latin typeface="楷体_GB2312"/>
                <a:ea typeface="楷体_GB2312"/>
              </a:rPr>
              <a:t>心内膜面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，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T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波呈对称性，高而直立；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若发生于</a:t>
            </a:r>
            <a:r>
              <a:rPr b="1" lang="zh-CN" sz="4400" spc="-1" strike="noStrike">
                <a:solidFill>
                  <a:srgbClr val="b1ffff"/>
                </a:solidFill>
                <a:latin typeface="楷体_GB2312"/>
                <a:ea typeface="楷体_GB2312"/>
              </a:rPr>
              <a:t>心外膜面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，使外膜面复极延迟晚于内膜面，复极程序反常，就出现对称性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T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波倒置；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813240" y="260280"/>
            <a:ext cx="40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imes New Roman"/>
                <a:ea typeface="汉仪粗宋简"/>
              </a:rPr>
              <a:t>6.4.2 “</a:t>
            </a:r>
            <a:r>
              <a:rPr b="0" lang="zh-CN" sz="4800" spc="-1" strike="noStrike">
                <a:solidFill>
                  <a:srgbClr val="ccffff"/>
                </a:solidFill>
                <a:latin typeface="Times New Roman"/>
                <a:ea typeface="汉仪粗宋简"/>
              </a:rPr>
              <a:t>损伤性”改变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50920" y="1268280"/>
            <a:ext cx="8610480" cy="27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缺血时间进一步延长，缺血程度进一步加重，就会出现“损伤性”图形改变，主要表现为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S-T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段偏移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一般地说，</a:t>
            </a:r>
            <a:r>
              <a:rPr b="1" lang="zh-CN" sz="2800" spc="-1" strike="noStrike">
                <a:solidFill>
                  <a:srgbClr val="b1ffff"/>
                </a:solidFill>
                <a:latin typeface="Tahoma"/>
              </a:rPr>
              <a:t>损伤不会持久，要么恢复，要么进一步发生坏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533520" y="1197000"/>
            <a:ext cx="86104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内膜面或对侧心肌损伤时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S-T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段平直压低，外膜面心肌损伤时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S-T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段抬高，明显抬高可形成单相曲线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639000" y="471600"/>
            <a:ext cx="386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imes New Roman"/>
                <a:ea typeface="汉仪粗宋简"/>
              </a:rPr>
              <a:t>6.4.3“</a:t>
            </a:r>
            <a:r>
              <a:rPr b="0" lang="zh-CN" sz="4800" spc="-1" strike="noStrike">
                <a:solidFill>
                  <a:srgbClr val="ccffff"/>
                </a:solidFill>
                <a:latin typeface="Times New Roman"/>
                <a:ea typeface="汉仪粗宋简"/>
              </a:rPr>
              <a:t>坏死性”改变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520" y="1413000"/>
            <a:ext cx="8076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一般认为坏死的心肌细胞</a:t>
            </a:r>
            <a:r>
              <a:rPr b="1" lang="zh-CN" sz="4400" spc="-1" strike="noStrike">
                <a:solidFill>
                  <a:srgbClr val="b1ffff"/>
                </a:solidFill>
                <a:latin typeface="楷体_GB2312"/>
                <a:ea typeface="楷体_GB2312"/>
              </a:rPr>
              <a:t>不能恢复为极化状态和产生动作电流，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所以心电图主要表现“坏死型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Q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波，病理性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Q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波”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即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Q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波增宽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&gt;0.04s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加深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&gt;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同一导联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/3R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波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963960" y="1330200"/>
            <a:ext cx="16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  <a:ea typeface="汉仪粗宋简"/>
              </a:rPr>
              <a:t>6.4.4</a:t>
            </a:r>
            <a:r>
              <a:rPr b="0" lang="zh-CN" sz="4400" spc="-1" strike="noStrike">
                <a:solidFill>
                  <a:srgbClr val="ccffff"/>
                </a:solidFill>
                <a:latin typeface="Times New Roman"/>
                <a:ea typeface="汉仪粗宋简"/>
              </a:rPr>
              <a:t>、心肌梗塞的图形演变及分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33520" y="2438280"/>
            <a:ext cx="82296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心肌梗塞除了具有特征性图形改变外，它的图形演变也具有一定的特异性，因此随访观察心电图演变对诊断更有意义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533520" y="533520"/>
            <a:ext cx="80769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发生急性透壁性心肌梗塞时，如果观察及时，可以见到早期（也称超急性期或梗塞前期）、急性期、近期（也称亚急性期）和陈旧期（愈合期）的典型演变过程（见下图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09480" y="890640"/>
            <a:ext cx="800100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一）早期：见于急性心肌梗塞的很早期（数分钟或数小时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二）急性期：是一个发展过程，见于梗塞后数小时或数日，持续数周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685800" y="914400"/>
            <a:ext cx="7620120" cy="21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三）近期：见于梗塞后数周至数月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四）陈旧期：常出现在急性心肌梗塞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-6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个月之后或更久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781000" y="586728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急性心肌梗塞的图形演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0" y="743040"/>
            <a:ext cx="91440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04920" y="152280"/>
            <a:ext cx="876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汉仪粗宋简"/>
                <a:ea typeface="汉仪粗宋简"/>
              </a:rPr>
              <a:t>6.4.5</a:t>
            </a:r>
            <a:r>
              <a:rPr b="0" lang="zh-CN" sz="4400" spc="-1" strike="noStrike">
                <a:solidFill>
                  <a:srgbClr val="ccffff"/>
                </a:solidFill>
                <a:latin typeface="汉仪粗宋简"/>
                <a:ea typeface="汉仪粗宋简"/>
              </a:rPr>
              <a:t>、心肌梗塞的定位诊断：以“异常</a:t>
            </a:r>
            <a:r>
              <a:rPr b="0" lang="en-US" sz="4400" spc="-1" strike="noStrike">
                <a:solidFill>
                  <a:srgbClr val="ccffff"/>
                </a:solidFill>
                <a:latin typeface="汉仪粗宋简"/>
                <a:ea typeface="汉仪粗宋简"/>
              </a:rPr>
              <a:t>Q</a:t>
            </a:r>
            <a:r>
              <a:rPr b="0" lang="zh-CN" sz="4400" spc="-1" strike="noStrike">
                <a:solidFill>
                  <a:srgbClr val="ccffff"/>
                </a:solidFill>
                <a:latin typeface="汉仪粗宋简"/>
                <a:ea typeface="汉仪粗宋简"/>
              </a:rPr>
              <a:t>波”出现的导联为定位标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914400" y="1676520"/>
          <a:ext cx="6095880" cy="38178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I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II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V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V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VF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4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V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4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V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4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V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"/>
          <p:cNvSpPr/>
          <p:nvPr/>
        </p:nvSpPr>
        <p:spPr>
          <a:xfrm>
            <a:off x="1263600" y="5041800"/>
            <a:ext cx="3429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657600" y="1854360"/>
            <a:ext cx="31240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81680" y="1854360"/>
            <a:ext cx="0" cy="2133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334120" y="3987720"/>
            <a:ext cx="14475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5334120" y="2920680"/>
            <a:ext cx="0" cy="10666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657240" y="2921040"/>
            <a:ext cx="16765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657600" y="1854000"/>
            <a:ext cx="0" cy="10666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38280" y="1778040"/>
            <a:ext cx="4496040" cy="32004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143000" y="2235240"/>
            <a:ext cx="3886200" cy="2819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6857640" y="2006640"/>
            <a:ext cx="685800" cy="457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5216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汉仪粗宋简"/>
              </a:rPr>
              <a:t>下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6300360" y="5229000"/>
            <a:ext cx="838440" cy="5079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271280" y="5257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汉仪粗宋简"/>
              </a:rPr>
              <a:t>侧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95080" y="5181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汉仪粗宋简"/>
              </a:rPr>
              <a:t>前间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3048120" y="5105520"/>
            <a:ext cx="0" cy="457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673800" y="5181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汉仪粗宋简"/>
              </a:rPr>
              <a:t>前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95280" y="5943600"/>
            <a:ext cx="55627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69440" y="5943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汉仪粗宋简"/>
              </a:rPr>
              <a:t>广泛前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489800" y="2354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（膈面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187280" y="2276640"/>
            <a:ext cx="3816360" cy="27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771640" y="2060640"/>
            <a:ext cx="4176720" cy="28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332000" y="5084640"/>
            <a:ext cx="36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258920" y="5950080"/>
            <a:ext cx="5618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08360" y="1844640"/>
            <a:ext cx="30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708360" y="191628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780000" y="2924280"/>
            <a:ext cx="158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64000" y="292428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35640" y="400536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04000" y="191628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3059280" y="522936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4571640" y="4005360"/>
            <a:ext cx="252108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696080" cy="61977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963960" y="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16400" y="61722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心脏除、复极与心电图关系示意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0" y="60480"/>
            <a:ext cx="9144000" cy="67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04920" y="-17640"/>
            <a:ext cx="8534160" cy="68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-304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6868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1ffff"/>
                </a:solidFill>
                <a:latin typeface="Tahoma"/>
              </a:rPr>
              <a:t>小结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、理解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三个概念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除极     极化状态    复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二、掌握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五种心电生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速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节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心电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心脏肥大      阻滞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心肌梗塞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看心电图就按照以上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个项目的顺序进行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^_^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1ffff"/>
                </a:solidFill>
                <a:latin typeface="Tahoma"/>
              </a:rPr>
              <a:t>我们复习一遍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、心率：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0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0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6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～～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、心律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：在每个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R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波前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波；测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间期、测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R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波群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、电轴：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主要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F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三个导联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、肥大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：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波决定心房肥大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波决定右室肥厚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的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的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决定左室肥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、阻滞：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主要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间期是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小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、梗塞：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注意所有导联上的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缺血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波、损伤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段、坏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401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835280" y="2060640"/>
            <a:ext cx="5976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谢谢！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77040" y="68580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ffff"/>
                </a:solidFill>
                <a:latin typeface="Times New Roman"/>
                <a:ea typeface="汉仪粗宋简"/>
              </a:rPr>
              <a:t>（二）心电图导联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8360" y="1700280"/>
            <a:ext cx="751212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标准导联共包括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2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个导联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个肢体导联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个胸导联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47640" y="3645000"/>
            <a:ext cx="657360" cy="914400"/>
          </a:xfrm>
          <a:custGeom>
            <a:avLst/>
            <a:gdLst>
              <a:gd name="textAreaLeft" fmla="*/ 420120 w 657360"/>
              <a:gd name="textAreaRight" fmla="*/ 657720 w 657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7200" y="1752480"/>
            <a:ext cx="8229600" cy="19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7ffff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e7ffff"/>
                </a:solidFill>
                <a:latin typeface="楷体_GB2312"/>
                <a:ea typeface="楷体_GB2312"/>
              </a:rPr>
              <a:t>、肢体导联：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包括肢体导联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I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II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III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及加压肢体导联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aVR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aVL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aVF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肢体导联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： 左上肢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</a:t>
            </a:r>
            <a:r>
              <a:rPr b="0" lang="en-US" sz="3200" spc="-1" strike="noStrike">
                <a:solidFill>
                  <a:srgbClr val="996600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右上肢（—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996600"/>
                </a:solidFill>
                <a:latin typeface="Tahoma"/>
              </a:rPr>
              <a:t>： 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左下肢（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+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）</a:t>
            </a:r>
            <a:r>
              <a:rPr b="0" lang="en-US" sz="3200" spc="-1" strike="noStrike">
                <a:solidFill>
                  <a:srgbClr val="996600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右上肢（—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I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996600"/>
                </a:solidFill>
                <a:latin typeface="Tahoma"/>
              </a:rPr>
              <a:t>： 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左下肢（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+</a:t>
            </a:r>
            <a:r>
              <a:rPr b="0" lang="zh-CN" sz="3200" spc="-1" strike="noStrike">
                <a:solidFill>
                  <a:srgbClr val="3366ff"/>
                </a:solidFill>
                <a:latin typeface="Tahoma"/>
              </a:rPr>
              <a:t>）</a:t>
            </a:r>
            <a:r>
              <a:rPr b="0" lang="en-US" sz="3200" spc="-1" strike="noStrike">
                <a:solidFill>
                  <a:srgbClr val="996600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左上肢（—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导联是手术中较常用的导联，能够较好显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波，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R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波显示稍差，可发现左心室下壁的心肌缺血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加压（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增加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电压</a:t>
            </a: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）肢体导联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VL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left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——左上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R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right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——右上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VF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foot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——左下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号外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：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VF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最容易反映左心室下壁的心肌缺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68594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993080" y="639720"/>
            <a:ext cx="6714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3000" y="256320"/>
            <a:ext cx="1521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与其六轴关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肢体导联的导联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每个肢体导联从不同角度记录心电变化，电活动不变，而导联的电极时刻在变，所以每个角度记录的图形并不一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记住一个概念：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额面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958040" y="1200240"/>
            <a:ext cx="49356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第一节 临床心电图的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基本知识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934320" y="4803840"/>
            <a:ext cx="22096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412160" y="6054840"/>
            <a:ext cx="8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、胸前导联与电极的位置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781680" cy="59659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29520 w 755640"/>
              <a:gd name="textAreaRight" fmla="*/ 726120 w 75564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910" y="1350"/>
                </a:lnTo>
                <a:lnTo>
                  <a:pt x="1350" y="135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910" y="20250"/>
                </a:lnTo>
                <a:lnTo>
                  <a:pt x="32910" y="135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2910" y="2025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260" h="21600">
                <a:moveTo>
                  <a:pt x="10086" y="3756"/>
                </a:moveTo>
                <a:lnTo>
                  <a:pt x="24174" y="10800"/>
                </a:lnTo>
                <a:lnTo>
                  <a:pt x="10086" y="17844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ffff"/>
                </a:solidFill>
                <a:latin typeface="Tahoma"/>
              </a:rPr>
              <a:t>V1 </a:t>
            </a:r>
            <a:r>
              <a:rPr b="0" lang="zh-CN" sz="2000" spc="-1" strike="noStrike">
                <a:solidFill>
                  <a:srgbClr val="b1ffff"/>
                </a:solidFill>
                <a:latin typeface="Tahoma"/>
              </a:rPr>
              <a:t>（心房）</a:t>
            </a:r>
            <a:r>
              <a:rPr b="0" lang="en-US" sz="3200" spc="-1" strike="noStrike">
                <a:solidFill>
                  <a:srgbClr val="b1ffff"/>
                </a:solidFill>
                <a:latin typeface="Tahoma"/>
              </a:rPr>
              <a:t> 、</a:t>
            </a:r>
            <a:r>
              <a:rPr b="0" lang="en-US" sz="3200" spc="-1" strike="noStrike">
                <a:solidFill>
                  <a:srgbClr val="b1ffff"/>
                </a:solidFill>
                <a:latin typeface="Tahoma"/>
              </a:rPr>
              <a:t>V2</a:t>
            </a:r>
            <a:r>
              <a:rPr b="0" lang="zh-CN" sz="2000" spc="-1" strike="noStrike">
                <a:solidFill>
                  <a:srgbClr val="b1ffff"/>
                </a:solidFill>
                <a:latin typeface="Tahoma"/>
              </a:rPr>
              <a:t>（房室结）</a:t>
            </a:r>
            <a:r>
              <a:rPr b="0" lang="en-US" sz="3200" spc="-1" strike="noStrike">
                <a:solidFill>
                  <a:srgbClr val="b1ffff"/>
                </a:solidFill>
                <a:latin typeface="Tahoma"/>
              </a:rPr>
              <a:t>  右胸导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ffff"/>
                </a:solidFill>
                <a:latin typeface="Tahoma"/>
              </a:rPr>
              <a:t>V3</a:t>
            </a:r>
            <a:r>
              <a:rPr b="0" lang="zh-CN" sz="3200" spc="-1" strike="noStrike">
                <a:solidFill>
                  <a:srgbClr val="b1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b1ffff"/>
                </a:solidFill>
                <a:latin typeface="Tahoma"/>
              </a:rPr>
              <a:t>V4   </a:t>
            </a:r>
            <a:r>
              <a:rPr b="0" lang="zh-CN" sz="3200" spc="-1" strike="noStrike">
                <a:solidFill>
                  <a:srgbClr val="b1ffff"/>
                </a:solidFill>
                <a:latin typeface="Tahoma"/>
              </a:rPr>
              <a:t>对着室间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ffff"/>
                </a:solidFill>
                <a:latin typeface="Tahoma"/>
              </a:rPr>
              <a:t>V5</a:t>
            </a:r>
            <a:r>
              <a:rPr b="0" lang="zh-CN" sz="2000" spc="-1" strike="noStrike">
                <a:solidFill>
                  <a:srgbClr val="b1ffff"/>
                </a:solidFill>
                <a:latin typeface="Tahoma"/>
              </a:rPr>
              <a:t>（左心室）</a:t>
            </a:r>
            <a:r>
              <a:rPr b="0" lang="zh-CN" sz="3200" spc="-1" strike="noStrike">
                <a:solidFill>
                  <a:srgbClr val="b1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b1ffff"/>
                </a:solidFill>
                <a:latin typeface="Tahoma"/>
              </a:rPr>
              <a:t>V6   </a:t>
            </a:r>
            <a:r>
              <a:rPr b="0" lang="zh-CN" sz="3200" spc="-1" strike="noStrike">
                <a:solidFill>
                  <a:srgbClr val="b1ffff"/>
                </a:solidFill>
                <a:latin typeface="Tahoma"/>
              </a:rPr>
              <a:t>左胸导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般来说，前胸皮肤导联均为正极，患者的背面是负极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8388360" y="6381720"/>
            <a:ext cx="504720" cy="476280"/>
          </a:xfrm>
          <a:custGeom>
            <a:avLst/>
            <a:gdLst>
              <a:gd name="textAreaLeft" fmla="*/ 29520 w 504720"/>
              <a:gd name="textAreaRight" fmla="*/ 475200 w 50472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539" y="1350"/>
                </a:lnTo>
                <a:lnTo>
                  <a:pt x="1350" y="135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539" y="20250"/>
                </a:lnTo>
                <a:lnTo>
                  <a:pt x="21539" y="135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539" y="2025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2889" h="21600">
                <a:moveTo>
                  <a:pt x="4401" y="3756"/>
                </a:moveTo>
                <a:lnTo>
                  <a:pt x="18488" y="10800"/>
                </a:lnTo>
                <a:lnTo>
                  <a:pt x="4401" y="17844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20720" y="286920"/>
            <a:ext cx="439236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胸导联横界面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332000" y="809640"/>
          <a:ext cx="6697440" cy="60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809640"/>
                    <a:ext cx="6697440" cy="60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胸前导联的电极总是正极，向电极运动的除极波在心电图上描记为一个正（向上）的波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胸导联后方一般认为是负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记住一个概念：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横断面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我们的目标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、理解以下心电生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1 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速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       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2 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节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       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3 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心电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       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4 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心脏肥大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阻滞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       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5 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心肌梗塞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二、如何看心电图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964160" y="2637000"/>
            <a:ext cx="530136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第二节  心电图图形描绘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5673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352040" y="594360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心电图波形、波段的命名及测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一、速率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窦房结位于右心房的后壁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正常情况下，窦房结决定了心博速率。它发出规律的冲动，导致心房收缩，描记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波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窦房结是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市长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”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（正常心脏起博点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如果正常的起博机制不能发挥作用时，心脏其他部位就可能会取代窦房结成为起博点，我们称之为“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代理市长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代理市长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在心电图上又叫“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异位起博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9152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心房内有潜在的异位起博点，任何一个都能以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5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次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min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的速率接任“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代理市长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（起博活动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但在紧急或病理情况下，一个异位心房起博点能突然以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0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50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次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min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的极快速率激动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826920" y="3789360"/>
            <a:ext cx="752508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同样道理，房室结、心室也存在异位起博点，在血液（氧）供应不好或者紧急情况下，异位起博点能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5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次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min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极快速率激动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复习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、窦房结是正常起博点，它决定了心博速率。这样的心电图叫“窦性心电图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、在紧急情况下，心房内、房室结、心室内潜在的异位起博点就会取而代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补充：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异位兴奋灶的出现可能提示心脏疾患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61360" y="9810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ffff"/>
                </a:solidFill>
                <a:latin typeface="Times New Roman"/>
                <a:ea typeface="汉仪粗宋简"/>
              </a:rPr>
              <a:t>几个概念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98760" y="2276640"/>
            <a:ext cx="85104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、除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、极化状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、复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心率快速估算法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7427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ahoma"/>
              </a:rPr>
              <a:t>一个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RR</a:t>
            </a:r>
            <a:r>
              <a:rPr b="0" lang="zh-CN" sz="2400" spc="-1" strike="noStrike">
                <a:solidFill>
                  <a:srgbClr val="00ff00"/>
                </a:solidFill>
                <a:latin typeface="Tahoma"/>
              </a:rPr>
              <a:t>间期大格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(5</a:t>
            </a:r>
            <a:r>
              <a:rPr b="0" lang="zh-CN" sz="2400" spc="-1" strike="noStrike">
                <a:solidFill>
                  <a:srgbClr val="00ff00"/>
                </a:solidFill>
                <a:latin typeface="Tahoma"/>
              </a:rPr>
              <a:t>小格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00ff00"/>
                </a:solidFill>
                <a:latin typeface="Tahoma"/>
              </a:rPr>
              <a:t>数         心率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1                                     300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2                                     150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3                                     100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4                                     75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5                                     60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6                                     50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324000" y="4797360"/>
            <a:ext cx="824364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10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次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min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的速率叫窦性心动过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6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次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min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的速率叫窦性心动过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问题：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如何判断为窦性心律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窦性心律一定是由窦房结发出来的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窦性心律一定有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波在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F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直立，在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R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倒置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在电轴篇详细讲解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1ffff"/>
                </a:solidFill>
                <a:latin typeface="Arial"/>
              </a:rPr>
              <a:t>窦性心律</a:t>
            </a:r>
            <a:br>
              <a:rPr sz="3200"/>
            </a:b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波规律出现，后面跟有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RS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波群，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-P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间隔相等。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II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vF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导联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波直立。 通常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波的振幅在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导联和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1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导联最高，    </a:t>
            </a:r>
            <a:br>
              <a:rPr sz="2400"/>
            </a:b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、心率在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60-100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次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分，心率高于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次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分称窦性心动过速，心率低于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60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次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分时称窦性心动过缓，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9200" y="1599840"/>
            <a:ext cx="8067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295280" y="3886200"/>
            <a:ext cx="627876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二、节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6868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心脏的正常节律是有规律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换句话：正常节律就是各种同类波距离相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复习心脏传导系统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窦房结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</a:rPr>
              <a:t>（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</a:rPr>
              <a:t>）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结间束         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房室结（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停留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/10s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形成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PR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</a:rPr>
              <a:t>段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心室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</a:rPr>
              <a:t>（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QRS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）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左右束支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房室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6732720" y="393372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84360" y="364500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27640" y="3645000"/>
            <a:ext cx="1009440" cy="144360"/>
          </a:xfrm>
          <a:prstGeom prst="rightArrow">
            <a:avLst>
              <a:gd name="adj1" fmla="val 50000"/>
              <a:gd name="adj2" fmla="val 174813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19640" y="5373720"/>
            <a:ext cx="1008000" cy="216000"/>
          </a:xfrm>
          <a:prstGeom prst="leftArrow">
            <a:avLst>
              <a:gd name="adj1" fmla="val 50000"/>
              <a:gd name="adj2" fmla="val 1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84360" y="5373720"/>
            <a:ext cx="936720" cy="216000"/>
          </a:xfrm>
          <a:prstGeom prst="leftArrow">
            <a:avLst>
              <a:gd name="adj1" fmla="val 50000"/>
              <a:gd name="adj2" fmla="val 10841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窦房结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发出规律的冲动，导致心房收缩（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P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波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当心房除极的兴奋通过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房室结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时，有一个停留间歇，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/10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 心电图上表现为平坦的一条基线（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PR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段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房室结激动后将电冲动下传到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左右束支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左右束支迅速传到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两个心室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使之同时除极收缩（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QRS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波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心室复极是产生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T</a:t>
            </a: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401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24000" y="404640"/>
            <a:ext cx="8424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当心脏有疾患时，或者在非紧急的情况下，异位起博点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1800" spc="-1" strike="noStrike">
                <a:solidFill>
                  <a:srgbClr val="ff00ff"/>
                </a:solidFill>
                <a:latin typeface="Tahoma"/>
              </a:rPr>
              <a:t>代理市长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偶尔发出一个电冲动，心电图上就记录了一个心律失常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82436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bbd71"/>
                </a:solidFill>
                <a:latin typeface="Arial"/>
              </a:rPr>
              <a:t>心律失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因为冠状动脉或者心肌疾患等原因，正常的心律会被打乱，而出现心律失常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分类：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房性早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、期前收缩（早博）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室性早博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结性早博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、逸博与窦性停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、快速节律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 </a:t>
            </a:r>
            <a:r>
              <a:rPr b="0" lang="zh-CN" sz="2400" spc="-1" strike="noStrike">
                <a:solidFill>
                  <a:srgbClr val="ffff00"/>
                </a:solidFill>
                <a:latin typeface="Tahoma"/>
              </a:rPr>
              <a:t>阵发性心动过速（房性、室性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 </a:t>
            </a:r>
            <a:r>
              <a:rPr b="0" lang="zh-CN" sz="2400" spc="-1" strike="noStrike">
                <a:solidFill>
                  <a:srgbClr val="ffff00"/>
                </a:solidFill>
                <a:latin typeface="Tahoma"/>
              </a:rPr>
              <a:t>心房纤颤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心房扑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</a:t>
            </a:r>
            <a:r>
              <a:rPr b="0" lang="zh-CN" sz="2400" spc="-1" strike="noStrike">
                <a:solidFill>
                  <a:srgbClr val="ffff00"/>
                </a:solidFill>
                <a:latin typeface="Tahoma"/>
              </a:rPr>
              <a:t>心室纤颤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心室扑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无规律节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窦性心律失常、游走心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4211640" y="2637000"/>
            <a:ext cx="216000" cy="57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32000" y="4076640"/>
            <a:ext cx="358920" cy="1152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5280" y="404640"/>
            <a:ext cx="83534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1.1</a:t>
            </a:r>
            <a:r>
              <a:rPr b="0" lang="zh-CN" sz="2800" spc="-1" strike="noStrike">
                <a:solidFill>
                  <a:srgbClr val="ccffff"/>
                </a:solidFill>
                <a:latin typeface="Tahoma"/>
              </a:rPr>
              <a:t>房性早搏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特点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提前出现一个变异的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’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波，与正常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波不同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QRS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波不变形，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’-R&gt;0.12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、代偿间歇常不完全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3716280"/>
            <a:ext cx="91440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8930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1.2</a:t>
            </a:r>
            <a:r>
              <a:rPr b="1" lang="zh-CN" sz="3200" spc="-1" strike="noStrike">
                <a:solidFill>
                  <a:srgbClr val="ccffff"/>
                </a:solidFill>
                <a:latin typeface="Tahoma"/>
              </a:rPr>
              <a:t>室性早搏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特点：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提早出现一个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宽大畸形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QRS-T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波群，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            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QRS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时限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&gt;0.12s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小格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QRS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前面无相应的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波，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波方向多与主波相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、常有完全的代偿间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250920" y="4437000"/>
            <a:ext cx="853272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4000" y="-316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89308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1.3</a:t>
            </a:r>
            <a:r>
              <a:rPr b="1" lang="zh-CN" sz="3200" spc="-1" strike="noStrike">
                <a:solidFill>
                  <a:srgbClr val="ccffff"/>
                </a:solidFill>
                <a:latin typeface="Tahoma"/>
              </a:rPr>
              <a:t>（房室）交界性早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QRS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波与窦性者略有变异，因为交界区的激动也能同时逆行上传达心房，所以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QRS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波前会产生一个逆行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’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波，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’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－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R&lt;0.12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、常有完全性代偿间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、除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心肌细胞在静止状态时，细胞膜外为正电荷，膜内为负电荷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当受到电刺激时，细胞内部变为正电荷，并沿着一定的方向扩展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细胞内部由负电荷变为正电荷的过程叫除极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二、阵发性心动过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ff00"/>
                </a:solidFill>
                <a:latin typeface="Tahoma"/>
              </a:rPr>
              <a:t>来源：由异位起博点连续快速发出电冲动而形成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、阵发性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房性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心动过速            阵发性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室上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、阵发性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交界性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心动过速           心动过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、阵发性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室性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心动过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5364000" y="3213000"/>
            <a:ext cx="432000" cy="792360"/>
          </a:xfrm>
          <a:custGeom>
            <a:avLst/>
            <a:gdLst>
              <a:gd name="textAreaLeft" fmla="*/ 0 w 432000"/>
              <a:gd name="textAreaRight" fmla="*/ 155880 w 4320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65530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ffff"/>
                </a:solidFill>
                <a:latin typeface="Arial"/>
              </a:rPr>
              <a:t>2.1</a:t>
            </a:r>
            <a:r>
              <a:rPr b="1" lang="zh-CN" sz="2800" spc="-1" strike="noStrike">
                <a:solidFill>
                  <a:srgbClr val="b1ffff"/>
                </a:solidFill>
                <a:latin typeface="Arial"/>
              </a:rPr>
              <a:t>、阵发性房性心动过速：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特点：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、连续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个以上房性早博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‘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波形态与窦性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波不同，心率常在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00-150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次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分之间。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’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波形态各异，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‘- P’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、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‘-R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不规则、杂乱无章。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“多形性”或“紊乱性”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房性心动过速，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9144000" cy="25905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908000" y="595008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zh-CN" sz="1800" spc="-1" strike="noStrike">
                <a:solidFill>
                  <a:srgbClr val="ffff00"/>
                </a:solidFill>
                <a:latin typeface="Tahoma"/>
              </a:rPr>
              <a:t>常见于有肺动脉疾患的病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 rot="10800000">
            <a:off x="250920" y="-7632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2.2</a:t>
            </a:r>
            <a:r>
              <a:rPr b="1" lang="zh-CN" sz="3200" spc="-1" strike="noStrike">
                <a:solidFill>
                  <a:srgbClr val="ccffff"/>
                </a:solidFill>
                <a:latin typeface="Tahoma"/>
              </a:rPr>
              <a:t>、阵发性室上性心动过速：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ff00"/>
                </a:solidFill>
                <a:latin typeface="Tahoma"/>
              </a:rPr>
              <a:t>心率通常在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160-220bpm</a:t>
            </a:r>
            <a:r>
              <a:rPr b="1" lang="zh-CN" sz="2800" spc="-1" strike="noStrike">
                <a:solidFill>
                  <a:srgbClr val="00ff00"/>
                </a:solidFill>
                <a:latin typeface="Tahoma"/>
              </a:rPr>
              <a:t>。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P</a:t>
            </a:r>
            <a:r>
              <a:rPr b="1" lang="zh-CN" sz="2800" spc="-1" strike="noStrike">
                <a:solidFill>
                  <a:srgbClr val="00ff00"/>
                </a:solidFill>
                <a:latin typeface="Tahoma"/>
              </a:rPr>
              <a:t>可以埋藏于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QRS</a:t>
            </a:r>
            <a:r>
              <a:rPr b="1" lang="zh-CN" sz="2800" spc="-1" strike="noStrike">
                <a:solidFill>
                  <a:srgbClr val="00ff00"/>
                </a:solidFill>
                <a:latin typeface="Tahoma"/>
              </a:rPr>
              <a:t>波中而不可见，也可能为倒置的逆行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P</a:t>
            </a:r>
            <a:r>
              <a:rPr b="1" lang="zh-CN" sz="2800" spc="-1" strike="noStrike">
                <a:solidFill>
                  <a:srgbClr val="00ff00"/>
                </a:solidFill>
                <a:latin typeface="Tahoma"/>
              </a:rPr>
              <a:t>波，与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T</a:t>
            </a:r>
            <a:r>
              <a:rPr b="1" lang="zh-CN" sz="2800" spc="-1" strike="noStrike">
                <a:solidFill>
                  <a:srgbClr val="00ff00"/>
                </a:solidFill>
                <a:latin typeface="Tahoma"/>
              </a:rPr>
              <a:t>波融合。</a:t>
            </a:r>
            <a:br>
              <a:rPr sz="2800"/>
            </a:b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     理应分为</a:t>
            </a:r>
            <a:r>
              <a:rPr b="1" lang="zh-CN" sz="2800" spc="-1" strike="noStrike">
                <a:solidFill>
                  <a:srgbClr val="b1ffff"/>
                </a:solidFill>
                <a:latin typeface="Tahoma"/>
              </a:rPr>
              <a:t>房性与交界区性</a:t>
            </a:r>
            <a:r>
              <a:rPr b="1" lang="zh-CN" sz="2800" spc="-1" strike="noStrike">
                <a:solidFill>
                  <a:srgbClr val="00ff00"/>
                </a:solidFill>
                <a:latin typeface="Tahoma"/>
              </a:rPr>
              <a:t>，但因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P’</a:t>
            </a:r>
            <a:r>
              <a:rPr b="1" lang="zh-CN" sz="2800" spc="-1" strike="noStrike">
                <a:solidFill>
                  <a:srgbClr val="00ff00"/>
                </a:solidFill>
                <a:latin typeface="Tahoma"/>
              </a:rPr>
              <a:t>波常不易明辩，故将两者统称之为室上性。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817236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152280"/>
            <a:ext cx="8839080" cy="27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汉仪粗宋简"/>
                <a:ea typeface="汉仪粗宋简"/>
              </a:rPr>
              <a:t>2.3</a:t>
            </a:r>
            <a:r>
              <a:rPr b="1" lang="zh-CN" sz="2800" spc="-1" strike="noStrike">
                <a:solidFill>
                  <a:srgbClr val="ccffff"/>
                </a:solidFill>
                <a:latin typeface="汉仪粗宋简"/>
                <a:ea typeface="汉仪粗宋简"/>
              </a:rPr>
              <a:t>、阵发性室性心动过速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QRS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波宽大畸形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&gt;0.12s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ST-T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改变，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波与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QRS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主波方向相反，呈连续室性早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心室律稍不齐，频率为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40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次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3933720"/>
            <a:ext cx="914400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64818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ffff"/>
                </a:solidFill>
                <a:latin typeface="Arial"/>
              </a:rPr>
              <a:t>3.1</a:t>
            </a:r>
            <a:r>
              <a:rPr b="1" lang="zh-CN" sz="3200" spc="-1" strike="noStrike">
                <a:solidFill>
                  <a:srgbClr val="b1ffff"/>
                </a:solidFill>
                <a:latin typeface="Arial"/>
              </a:rPr>
              <a:t>心房颤动</a:t>
            </a:r>
            <a:r>
              <a:rPr b="0" lang="zh-CN" sz="3200" spc="-1" strike="noStrike">
                <a:solidFill>
                  <a:srgbClr val="b1ffff"/>
                </a:solidFill>
                <a:latin typeface="Arial"/>
              </a:rPr>
              <a:t>：</a:t>
            </a: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b1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1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b1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波消失，代之以“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f”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波（在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V1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II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导</a:t>
            </a:r>
            <a:br>
              <a:rPr sz="2400"/>
            </a:b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较易识别）</a:t>
            </a:r>
            <a:br>
              <a:rPr sz="2400"/>
            </a:b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、“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f”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波频率在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350-600bpm 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RR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绝对不等（脉搏短绌）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228240" cy="20318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7093080" y="620640"/>
            <a:ext cx="205092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735000" y="5562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心房颤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1906560"/>
            <a:ext cx="914400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59990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ffff"/>
                </a:solidFill>
                <a:latin typeface="Arial"/>
              </a:rPr>
              <a:t>3.2</a:t>
            </a:r>
            <a:r>
              <a:rPr b="1" lang="zh-CN" sz="3200" spc="-1" strike="noStrike">
                <a:solidFill>
                  <a:srgbClr val="b1ffff"/>
                </a:solidFill>
                <a:latin typeface="Arial"/>
              </a:rPr>
              <a:t>心房扑动：</a:t>
            </a:r>
            <a:br>
              <a:rPr sz="3200"/>
            </a:b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ff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房波规则，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波消失，代之以“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F”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波，呈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锯齿样。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II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III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avF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导联清晰）</a:t>
            </a:r>
            <a:br>
              <a:rPr sz="2400"/>
            </a:b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、扑动波较规则，频率在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240-430 bpm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，</a:t>
            </a:r>
            <a:br>
              <a:rPr sz="2400"/>
            </a:b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、由心房内一个固定的异位兴奋灶发出冲动。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6324480" y="685800"/>
            <a:ext cx="2320920" cy="22827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152280" y="3124080"/>
            <a:ext cx="88394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477160" y="4724280"/>
            <a:ext cx="447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心房扑动（呈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∶1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下传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11280" y="404640"/>
            <a:ext cx="7924680" cy="30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汉仪粗宋简"/>
                <a:ea typeface="汉仪粗宋简"/>
              </a:rPr>
              <a:t>3.3</a:t>
            </a:r>
            <a:r>
              <a:rPr b="1" lang="zh-CN" sz="3200" spc="-1" strike="noStrike">
                <a:solidFill>
                  <a:srgbClr val="ccffff"/>
                </a:solidFill>
                <a:latin typeface="汉仪粗宋简"/>
                <a:ea typeface="汉仪粗宋简"/>
              </a:rPr>
              <a:t>心室扑动与颤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室扑的心电图特点是无正常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QRS-T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波群，代之以连续快速而相对规则的大振幅波动，呈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正弦波，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频率达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50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次分，心脏失去排血功能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室扑常不能持久，很快便会转为室颤（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大小不等、极不匀齐的低小波，频率达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200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～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500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次分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而死亡。它的出现往往是心脏停跳前的短暂征象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377160" y="441972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心室扑动与颤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0" y="2000160"/>
            <a:ext cx="9144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3520" y="25560"/>
            <a:ext cx="8076960" cy="68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补充： 心房内游走心律：</a:t>
            </a:r>
            <a:br>
              <a:rPr sz="32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波形态各不相同，直立和倒置出现在同一导联内。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三、心电轴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心电轴     心肌细胞在除极时候的平均电势方向的强度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换言之：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电轴就是电兴奋的合力方向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401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229600" cy="61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心肌的除极是由窦房结开始，通过房室结、束支向心室方向除极，所以心脏的除极的总方向是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由右上向左下除极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窦房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                     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房室结（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2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                                         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心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755640" y="2852640"/>
            <a:ext cx="518472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028000" y="6165720"/>
            <a:ext cx="504720" cy="287640"/>
          </a:xfrm>
          <a:custGeom>
            <a:avLst/>
            <a:gdLst>
              <a:gd name="textAreaLeft" fmla="*/ 18000 w 504720"/>
              <a:gd name="textAreaRight" fmla="*/ 487080 w 504720"/>
              <a:gd name="textAreaTop" fmla="*/ 18000 h 287640"/>
              <a:gd name="textAreaBottom" fmla="*/ 270000 h 287640"/>
            </a:gdLst>
            <a:ahLst/>
            <a:rect l="textAreaLeft" t="textAreaTop" r="textAreaRight" b="textAreaBottom"/>
            <a:pathLst>
              <a:path w="37881" h="21600">
                <a:moveTo>
                  <a:pt x="0" y="0"/>
                </a:moveTo>
                <a:lnTo>
                  <a:pt x="37881" y="0"/>
                </a:lnTo>
                <a:lnTo>
                  <a:pt x="37881" y="21600"/>
                </a:lnTo>
                <a:lnTo>
                  <a:pt x="0" y="21600"/>
                </a:lnTo>
                <a:close/>
              </a:path>
              <a:path fill="lightenLess" w="37881" h="21600">
                <a:moveTo>
                  <a:pt x="0" y="0"/>
                </a:moveTo>
                <a:lnTo>
                  <a:pt x="37881" y="0"/>
                </a:lnTo>
                <a:lnTo>
                  <a:pt x="36531" y="1350"/>
                </a:lnTo>
                <a:lnTo>
                  <a:pt x="1350" y="1350"/>
                </a:lnTo>
                <a:close/>
              </a:path>
              <a:path fill="darken" w="37881" h="21600">
                <a:moveTo>
                  <a:pt x="37881" y="0"/>
                </a:moveTo>
                <a:lnTo>
                  <a:pt x="37881" y="21600"/>
                </a:lnTo>
                <a:lnTo>
                  <a:pt x="36531" y="20250"/>
                </a:lnTo>
                <a:lnTo>
                  <a:pt x="36531" y="1350"/>
                </a:lnTo>
                <a:close/>
              </a:path>
              <a:path fill="darkenLess" w="37881" h="21600">
                <a:moveTo>
                  <a:pt x="3788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531" y="20250"/>
                </a:lnTo>
                <a:close/>
              </a:path>
              <a:path fill="lighten" w="3788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881" h="21600">
                <a:moveTo>
                  <a:pt x="11897" y="10800"/>
                </a:moveTo>
                <a:lnTo>
                  <a:pt x="25984" y="3756"/>
                </a:lnTo>
                <a:lnTo>
                  <a:pt x="25984" y="17844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-401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小知识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心室比心房要肥厚，而左心室最显著，左心室位于胸腔中偏左、后、下的位置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所以，心脏除极的向量指向左后下方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2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对着房室结，它除极的方向是左后下，因为后背部是负极，所以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2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的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QRS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波一般向下（负极）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-65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1ffff"/>
                </a:solidFill>
                <a:latin typeface="Tahoma"/>
              </a:rPr>
              <a:t>注意三个导联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I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导联、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AVF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导联、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V2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导联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复习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I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导联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 （左手正极、右手负极）代表左右方向的电轴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AVF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导联（人体上半部为负极、下半部为正极）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代表上下方的电轴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V2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导联 （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V2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导联对着房室结）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所以窦房结向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V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发出电冲动时，为正向波，向后背发出电冲动时为负向波。 代表前后方向的电轴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688280" y="968400"/>
            <a:ext cx="9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汉仪粗宋简"/>
                <a:ea typeface="汉仪粗宋简"/>
              </a:rPr>
              <a:t>2</a:t>
            </a:r>
            <a:r>
              <a:rPr b="0" lang="zh-CN" sz="4800" spc="-1" strike="noStrike">
                <a:solidFill>
                  <a:srgbClr val="ccffff"/>
                </a:solidFill>
                <a:latin typeface="汉仪粗宋简"/>
                <a:ea typeface="汉仪粗宋简"/>
              </a:rPr>
              <a:t>、平均心电轴的目测法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20174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1763640" y="551664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ahoma"/>
              </a:rPr>
              <a:t>口诀：口对口左边走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,</a:t>
            </a:r>
            <a:r>
              <a:rPr b="0" lang="zh-CN" sz="2400" spc="-1" strike="noStrike">
                <a:solidFill>
                  <a:srgbClr val="00ff00"/>
                </a:solidFill>
                <a:latin typeface="Tahoma"/>
              </a:rPr>
              <a:t>尖对尖向右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7238880" cy="68486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8080200" y="-288360"/>
            <a:ext cx="911520" cy="75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正常心电轴与其偏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电轴的意义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ffff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b1ffff"/>
                </a:solidFill>
                <a:latin typeface="Tahoma"/>
              </a:rPr>
              <a:t>患一侧心室肥厚者，该侧较强的电活动，电轴就偏向该肥厚侧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ffff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b1ffff"/>
                </a:solidFill>
                <a:latin typeface="Tahoma"/>
              </a:rPr>
              <a:t>心肌梗塞时，心脏存在一个坏死区，丧失了血液供应，不能产生电兴奋，故</a:t>
            </a:r>
            <a:r>
              <a:rPr b="0" lang="en-US" sz="3200" spc="-1" strike="noStrike">
                <a:solidFill>
                  <a:srgbClr val="b1ffff"/>
                </a:solidFill>
                <a:latin typeface="Tahoma"/>
              </a:rPr>
              <a:t>QRS</a:t>
            </a:r>
            <a:r>
              <a:rPr b="0" lang="zh-CN" sz="3200" spc="-1" strike="noStrike">
                <a:solidFill>
                  <a:srgbClr val="b1ffff"/>
                </a:solidFill>
                <a:latin typeface="Tahoma"/>
              </a:rPr>
              <a:t>向量就会背离此梗死区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1ffff"/>
                </a:solidFill>
                <a:latin typeface="Tahoma"/>
              </a:rPr>
              <a:t>总结：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电轴可以用来判断心室肥大和心肌梗塞</a:t>
            </a:r>
            <a:r>
              <a:rPr b="0" lang="zh-CN" sz="3200" spc="-1" strike="noStrike">
                <a:solidFill>
                  <a:srgbClr val="b1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-304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569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Arial"/>
              </a:rPr>
              <a:t>四、肥大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ahoma"/>
              </a:rPr>
              <a:t>肥大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：指心肌壁厚度增大超过了正常的厚度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复习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波：代表两侧心房的收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R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波：代表两个心室同时的激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在心房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对着房室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6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对着心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8101080" y="6381720"/>
            <a:ext cx="574560" cy="476280"/>
          </a:xfrm>
          <a:custGeom>
            <a:avLst/>
            <a:gdLst>
              <a:gd name="textAreaLeft" fmla="*/ 29520 w 574560"/>
              <a:gd name="textAreaRight" fmla="*/ 545040 w 57456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26054" h="21600">
                <a:moveTo>
                  <a:pt x="0" y="0"/>
                </a:moveTo>
                <a:lnTo>
                  <a:pt x="26054" y="0"/>
                </a:lnTo>
                <a:lnTo>
                  <a:pt x="26054" y="21600"/>
                </a:lnTo>
                <a:lnTo>
                  <a:pt x="0" y="21600"/>
                </a:lnTo>
                <a:close/>
              </a:path>
              <a:path fill="lightenLess" w="26054" h="21600">
                <a:moveTo>
                  <a:pt x="0" y="0"/>
                </a:moveTo>
                <a:lnTo>
                  <a:pt x="26054" y="0"/>
                </a:lnTo>
                <a:lnTo>
                  <a:pt x="24704" y="1350"/>
                </a:lnTo>
                <a:lnTo>
                  <a:pt x="1350" y="1350"/>
                </a:lnTo>
                <a:close/>
              </a:path>
              <a:path fill="darken" w="26054" h="21600">
                <a:moveTo>
                  <a:pt x="26054" y="0"/>
                </a:moveTo>
                <a:lnTo>
                  <a:pt x="26054" y="21600"/>
                </a:lnTo>
                <a:lnTo>
                  <a:pt x="24704" y="20250"/>
                </a:lnTo>
                <a:lnTo>
                  <a:pt x="24704" y="1350"/>
                </a:lnTo>
                <a:close/>
              </a:path>
              <a:path fill="darkenLess" w="26054" h="21600">
                <a:moveTo>
                  <a:pt x="2605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704" y="20250"/>
                </a:lnTo>
                <a:close/>
              </a:path>
              <a:path fill="lighten" w="2605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054" h="21600">
                <a:moveTo>
                  <a:pt x="5983" y="10800"/>
                </a:moveTo>
                <a:lnTo>
                  <a:pt x="20071" y="3756"/>
                </a:lnTo>
                <a:lnTo>
                  <a:pt x="20071" y="17844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当心肌细胞内除极的正波向正的电极（皮肤）移动时，在心电图上就记录下一个正向（向上的）波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除极进展波就是：正电荷的移动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V1</a:t>
            </a:r>
            <a:r>
              <a:rPr b="1" lang="zh-CN" sz="3600" spc="-1" strike="noStrike">
                <a:solidFill>
                  <a:srgbClr val="00ff00"/>
                </a:solidFill>
                <a:latin typeface="Tahoma"/>
              </a:rPr>
              <a:t>导联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位于右侧胸骨旁第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肋间，刚好在心房上，这样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V1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的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波变为我们提供了心房肥大的最好指征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复习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：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胸部的皮肤电极均是正极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心房分为左心房、右心房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如果心房肥大，则呈现双向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波（正极和负极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出现双向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波           心房肥大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4427640" y="3213000"/>
            <a:ext cx="1224000" cy="289080"/>
          </a:xfrm>
          <a:prstGeom prst="rightArrow">
            <a:avLst>
              <a:gd name="adj1" fmla="val 50000"/>
              <a:gd name="adj2" fmla="val 105853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00000" y="486900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★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如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1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导联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波呈双向，我们便可知道一定右一侧的心房肥大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636920" y="333360"/>
            <a:ext cx="136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imes New Roman"/>
                <a:ea typeface="汉仪粗宋简"/>
              </a:rPr>
              <a:t>4.1</a:t>
            </a:r>
            <a:r>
              <a:rPr b="0" lang="zh-CN" sz="4800" spc="-1" strike="noStrike">
                <a:solidFill>
                  <a:srgbClr val="ccffff"/>
                </a:solidFill>
                <a:latin typeface="Times New Roman"/>
                <a:ea typeface="汉仪粗宋简"/>
              </a:rPr>
              <a:t>、右房肥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1600200"/>
            <a:ext cx="83628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9640" y="1413000"/>
            <a:ext cx="813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Tahoma"/>
              </a:rPr>
              <a:t>、右心房比左心房先除极，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波的宽度增加，出现双向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波，</a:t>
            </a:r>
            <a:r>
              <a:rPr b="1" lang="zh-CN" sz="3200" spc="-1" strike="noStrike">
                <a:solidFill>
                  <a:srgbClr val="00ff00"/>
                </a:solidFill>
                <a:latin typeface="Tahoma"/>
              </a:rPr>
              <a:t>并且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P</a:t>
            </a:r>
            <a:r>
              <a:rPr b="1" lang="zh-CN" sz="3200" spc="-1" strike="noStrike">
                <a:solidFill>
                  <a:srgbClr val="00ff00"/>
                </a:solidFill>
                <a:latin typeface="Tahoma"/>
              </a:rPr>
              <a:t>波的初始部分比较高大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、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波尖而高耸，其振幅≥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0.25mV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，在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I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、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II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、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VF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导联表现最突出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补充知识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：此心电图称为“肺型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波”，常见于慢性肺原性心脏病及某些先天性心脏病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925080" y="57913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右心房肥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563840" y="333360"/>
            <a:ext cx="136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imes New Roman"/>
                <a:ea typeface="汉仪粗宋简"/>
              </a:rPr>
              <a:t>4.2</a:t>
            </a:r>
            <a:r>
              <a:rPr b="0" lang="zh-CN" sz="4800" spc="-1" strike="noStrike">
                <a:solidFill>
                  <a:srgbClr val="ccffff"/>
                </a:solidFill>
                <a:latin typeface="Times New Roman"/>
                <a:ea typeface="汉仪粗宋简"/>
              </a:rPr>
              <a:t>、左房肥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50920" y="1413000"/>
            <a:ext cx="84978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心电图表现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、为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波增宽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&gt;0.11s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，呈双向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峰型，以在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V1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导联上最为显著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ff00"/>
                </a:solidFill>
                <a:latin typeface="Tahoma"/>
              </a:rPr>
              <a:t>、双向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P</a:t>
            </a:r>
            <a:r>
              <a:rPr b="1" lang="zh-CN" sz="3200" spc="-1" strike="noStrike">
                <a:solidFill>
                  <a:srgbClr val="00ff00"/>
                </a:solidFill>
                <a:latin typeface="Tahoma"/>
              </a:rPr>
              <a:t>波的</a:t>
            </a:r>
            <a:r>
              <a:rPr b="1" lang="zh-CN" sz="3200" spc="-1" strike="noStrike">
                <a:solidFill>
                  <a:srgbClr val="b1ffff"/>
                </a:solidFill>
                <a:latin typeface="Tahoma"/>
              </a:rPr>
              <a:t>终末</a:t>
            </a:r>
            <a:r>
              <a:rPr b="1" lang="zh-CN" sz="3200" spc="-1" strike="noStrike">
                <a:solidFill>
                  <a:srgbClr val="00ff00"/>
                </a:solidFill>
                <a:latin typeface="Tahoma"/>
              </a:rPr>
              <a:t>部分比较大而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补充知识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该心电图典型者多见于二尖瓣狭窄，故称为“二尖瓣型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波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590280" y="6095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左心房肥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914400" y="7920"/>
            <a:ext cx="7543800" cy="61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50560" y="404640"/>
            <a:ext cx="88930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1ffff"/>
                </a:solidFill>
                <a:latin typeface="Tahoma"/>
              </a:rPr>
              <a:t>小结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出现双向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波            心房肥大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特点：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波增宽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&gt;0.11s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，呈双向型，以在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1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导联上最为显著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P</a:t>
            </a:r>
            <a:r>
              <a:rPr b="1" lang="zh-CN" sz="3600" spc="-1" strike="noStrike">
                <a:solidFill>
                  <a:srgbClr val="00ff00"/>
                </a:solidFill>
                <a:latin typeface="Tahoma"/>
              </a:rPr>
              <a:t>波的初始部分比较大而宽           右房肥大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P</a:t>
            </a:r>
            <a:r>
              <a:rPr b="1" lang="zh-CN" sz="3600" spc="-1" strike="noStrike">
                <a:solidFill>
                  <a:srgbClr val="00ff00"/>
                </a:solidFill>
                <a:latin typeface="Tahoma"/>
              </a:rPr>
              <a:t>波的终末部分比较大而宽           左房肥大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3564000" y="1268280"/>
            <a:ext cx="1871640" cy="358920"/>
          </a:xfrm>
          <a:prstGeom prst="rightArrow">
            <a:avLst>
              <a:gd name="adj1" fmla="val 50000"/>
              <a:gd name="adj2" fmla="val 130366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4149720"/>
            <a:ext cx="1225800" cy="216000"/>
          </a:xfrm>
          <a:prstGeom prst="rightArrow">
            <a:avLst>
              <a:gd name="adj1" fmla="val 50000"/>
              <a:gd name="adj2" fmla="val 141875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5229360"/>
            <a:ext cx="1297080" cy="215640"/>
          </a:xfrm>
          <a:prstGeom prst="rightArrow">
            <a:avLst>
              <a:gd name="adj1" fmla="val 50000"/>
              <a:gd name="adj2" fmla="val 150376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195640" y="968400"/>
            <a:ext cx="136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imes New Roman"/>
                <a:ea typeface="汉仪粗宋简"/>
              </a:rPr>
              <a:t>4.3</a:t>
            </a:r>
            <a:r>
              <a:rPr b="0" lang="zh-CN" sz="4800" spc="-1" strike="noStrike">
                <a:solidFill>
                  <a:srgbClr val="ccffff"/>
                </a:solidFill>
                <a:latin typeface="Times New Roman"/>
                <a:ea typeface="汉仪粗宋简"/>
              </a:rPr>
              <a:t>、双房肥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2120" y="2209680"/>
            <a:ext cx="792468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心电图可见既异常高大，又增宽呈双峰型的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P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波，常见于风湿性心脏病及某些先天性心脏病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3506040" y="55627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双侧心房扩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847800"/>
            <a:ext cx="9144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4.4 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右室肥大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复习 ：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导联探查电极为正，然而左心室除极是背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电极的，所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导联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R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波一般以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负波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为主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右心室肥厚时，较大的正向除极波就朝着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的探查电极移动，所以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导联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R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波会出现较大的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正向波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一定要明白这一点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"/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29520 w 826920"/>
              <a:gd name="textAreaRight" fmla="*/ 797400 w 82692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140" y="1350"/>
                </a:lnTo>
                <a:lnTo>
                  <a:pt x="1350" y="135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140" y="20250"/>
                </a:lnTo>
                <a:lnTo>
                  <a:pt x="36140" y="135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140" y="2025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490" h="21600">
                <a:moveTo>
                  <a:pt x="11701" y="10800"/>
                </a:moveTo>
                <a:lnTo>
                  <a:pt x="25789" y="3756"/>
                </a:lnTo>
                <a:lnTo>
                  <a:pt x="25789" y="17844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、极化状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除极完毕时，心肌细胞膜内带正电荷，膜外为负电荷，此时称为极化状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457200"/>
            <a:ext cx="914400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1ffff"/>
                </a:solidFill>
                <a:latin typeface="楷体_GB2312"/>
                <a:ea typeface="楷体_GB2312"/>
              </a:rPr>
              <a:t>右室肥大的表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V1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导联出现正向波，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R&gt;S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V1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导联的大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R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波在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V2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～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V6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逐渐变小，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V5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导联中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S &gt; R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zh-CN" sz="1800" spc="-1" strike="noStrike">
                <a:solidFill>
                  <a:srgbClr val="ffff00"/>
                </a:solidFill>
                <a:latin typeface="Tahoma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右胸至左胸导联逐渐变小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电轴右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3276720" y="52578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右心室肥大及心肌劳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4.5 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左室肥大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复习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：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左心室是所有心腔中最厚的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除极的方向是由窦房结指向左心室，而背离右心房、右心室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ahoma"/>
              </a:rPr>
              <a:t>左心室肥厚时可产生在高度、深度都增大的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QRS</a:t>
            </a:r>
            <a:r>
              <a:rPr b="0" lang="zh-CN" sz="3600" spc="-1" strike="noStrike">
                <a:solidFill>
                  <a:srgbClr val="ffff00"/>
                </a:solidFill>
                <a:latin typeface="Tahoma"/>
              </a:rPr>
              <a:t>综合波，在胸导联中最明显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24000" y="475920"/>
            <a:ext cx="8820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1ffff"/>
                </a:solidFill>
                <a:latin typeface="Tahoma"/>
              </a:rPr>
              <a:t>我们知道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导联是面向左心室的，故左心室肥厚时，增大的除极波必然朝着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导联移动，结果就出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出现高大的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正向波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波）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面向心房，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除极的方向刚好相反，所以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导联必然会出现深深的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波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具体数字：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的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波高度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的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波深度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&gt;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35mm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时，就存在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左心室肥厚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894840" y="55627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左心室肥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560" y="0"/>
            <a:ext cx="889308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1ffff"/>
                </a:solidFill>
                <a:latin typeface="Tahoma"/>
              </a:rPr>
              <a:t>总结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阅读心电图，要想知道是否存在某侧心腔肥厚。怎么办？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首先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，要检查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V1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中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波是否是双向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第二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，检查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V1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中的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波及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波，再检查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V5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中的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波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这非常重要，请紧记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533520" y="380880"/>
            <a:ext cx="605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ffff"/>
                </a:solidFill>
                <a:latin typeface="Times New Roman"/>
                <a:ea typeface="汉仪粗宋简"/>
              </a:rPr>
              <a:t>五、传导阻滞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480" y="2133720"/>
            <a:ext cx="807732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心脏传导阻滞按发生的部位分为窦房传导阻滞、房内传导阻滞、房室传导阻滞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09480" y="380880"/>
            <a:ext cx="80010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就阻滞程度可分为</a:t>
            </a:r>
            <a:r>
              <a:rPr b="1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度（传导延缓）、</a:t>
            </a:r>
            <a:r>
              <a:rPr b="1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度（部分激动发生漏搏）、</a:t>
            </a:r>
            <a:r>
              <a:rPr b="1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度（传导完全中断）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阻滞部位有：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窦房阻滞、房室阻滞、束支阻滞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57200" y="380880"/>
            <a:ext cx="8305920" cy="23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ffff"/>
                </a:solidFill>
                <a:latin typeface="汉仪粗宋简"/>
                <a:ea typeface="汉仪粗宋简"/>
              </a:rPr>
              <a:t>（一）窦房传导阻滞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窦房阻滞使起博点至少暂停一个周期，随后又再次恢复起博活动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147120" y="46483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窦房传导阻滞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180648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255760" y="3933720"/>
            <a:ext cx="520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、复极过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简言之：复极就是回到原来的状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80880" y="14479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ffff"/>
                </a:solidFill>
                <a:latin typeface="Times New Roman"/>
                <a:ea typeface="汉仪粗宋简"/>
              </a:rPr>
              <a:t>（二）房室传导阻滞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6934320" y="4890960"/>
            <a:ext cx="220968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533520" y="457200"/>
            <a:ext cx="7924680" cy="36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、</a:t>
            </a:r>
            <a:r>
              <a:rPr b="1" lang="en-US" sz="48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I</a:t>
            </a:r>
            <a:r>
              <a:rPr b="1" lang="zh-CN" sz="48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度房室传导阻滞：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主要表现：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P-R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间期延长，在成人若 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P-R≥0.2s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5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小格），则可诊断为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I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度房室传导阻滞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889200" y="4572000"/>
            <a:ext cx="755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I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度房室传导阻滞（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P-R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间期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0.27s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 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&gt;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5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小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0" y="260280"/>
            <a:ext cx="8893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2</a:t>
            </a:r>
            <a:r>
              <a:rPr b="1" lang="zh-CN" sz="54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、</a:t>
            </a:r>
            <a:r>
              <a:rPr b="1" lang="en-US" sz="54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II</a:t>
            </a:r>
            <a:r>
              <a:rPr b="1" lang="zh-CN" sz="54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度房室传导阻滞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需要两个或多个心房激动才能兴奋心室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ahoma"/>
              </a:rPr>
              <a:t>   </a:t>
            </a:r>
            <a:r>
              <a:rPr b="1" lang="zh-CN" sz="4000" spc="-1" strike="noStrike">
                <a:solidFill>
                  <a:srgbClr val="ccffff"/>
                </a:solidFill>
                <a:latin typeface="Tahoma"/>
              </a:rPr>
              <a:t>莫氏</a:t>
            </a:r>
            <a:r>
              <a:rPr b="1" lang="en-US" sz="4000" spc="-1" strike="noStrike">
                <a:solidFill>
                  <a:srgbClr val="ccffff"/>
                </a:solidFill>
                <a:latin typeface="宋体"/>
              </a:rPr>
              <a:t>Ⅰ</a:t>
            </a:r>
            <a:r>
              <a:rPr b="1" lang="zh-CN" sz="4000" spc="-1" strike="noStrike">
                <a:solidFill>
                  <a:srgbClr val="ccffff"/>
                </a:solidFill>
                <a:latin typeface="Tahoma"/>
              </a:rPr>
              <a:t>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ahoma"/>
              </a:rPr>
              <a:t>   </a:t>
            </a:r>
            <a:r>
              <a:rPr b="1" lang="zh-CN" sz="4000" spc="-1" strike="noStrike">
                <a:solidFill>
                  <a:srgbClr val="ccffff"/>
                </a:solidFill>
                <a:latin typeface="Tahoma"/>
              </a:rPr>
              <a:t>莫氏</a:t>
            </a:r>
            <a:r>
              <a:rPr b="1" lang="en-US" sz="4000" spc="-1" strike="noStrike">
                <a:solidFill>
                  <a:srgbClr val="ccffff"/>
                </a:solidFill>
                <a:latin typeface="Tahoma"/>
              </a:rPr>
              <a:t>II</a:t>
            </a:r>
            <a:r>
              <a:rPr b="1" lang="zh-CN" sz="4000" spc="-1" strike="noStrike">
                <a:solidFill>
                  <a:srgbClr val="ccffff"/>
                </a:solidFill>
                <a:latin typeface="Tahoma"/>
              </a:rPr>
              <a:t>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55640" y="3500280"/>
            <a:ext cx="360360" cy="1441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80880" y="380880"/>
            <a:ext cx="8229600" cy="41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莫氏</a:t>
            </a:r>
            <a:r>
              <a:rPr b="1" lang="en-US" sz="48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I</a:t>
            </a:r>
            <a:r>
              <a:rPr b="1" lang="zh-CN" sz="48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型（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Morbiz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传导阻滞：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表现为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波规律地出现，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-R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间期逐渐延长。直至一个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波不能引出一个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QRS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波，即脱漏一个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QRS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波群。 周而复始。 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称为“文氏现象”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754280" y="4581360"/>
            <a:ext cx="561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II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度房室传导阻滞（莫氏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I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型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0" y="1733400"/>
            <a:ext cx="914400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0" y="549360"/>
            <a:ext cx="807732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莫氏</a:t>
            </a:r>
            <a:r>
              <a:rPr b="1" lang="en-US" sz="48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II</a:t>
            </a:r>
            <a:r>
              <a:rPr b="1" lang="zh-CN" sz="48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型（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Morbiz II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表现为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P-R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间期恒定不变，部分正常的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P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波后偶尔无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QRS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波群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莫氏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I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型</a:t>
            </a:r>
            <a:r>
              <a:rPr b="1" lang="zh-CN" sz="3200" spc="-1" strike="noStrike">
                <a:solidFill>
                  <a:srgbClr val="ccffff"/>
                </a:solidFill>
                <a:latin typeface="Tahoma"/>
              </a:rPr>
              <a:t>往往提示有严重的房室结问题或者结性传导进行性加重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726920" y="4508640"/>
            <a:ext cx="594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II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度房室传导阻滞（莫氏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II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型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1704960"/>
            <a:ext cx="914400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533520" y="609480"/>
            <a:ext cx="807696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、</a:t>
            </a:r>
            <a:r>
              <a:rPr b="1" lang="en-US" sz="48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III</a:t>
            </a:r>
            <a:r>
              <a:rPr b="1" lang="zh-CN" sz="48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度房室传导阻滞：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又称完全性房室传导阻滞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P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波与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QRS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波毫无相关性，各保持自身的节律，房率高于室率，我们称“房室分离”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2783520" y="4876920"/>
            <a:ext cx="366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III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度房室传导阻滞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1873080"/>
            <a:ext cx="914400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687200" y="1873080"/>
            <a:ext cx="564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二、临床心电图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01520" y="4114800"/>
            <a:ext cx="2313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395280" y="260280"/>
            <a:ext cx="8077320" cy="34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ffff"/>
                </a:solidFill>
                <a:latin typeface="汉仪粗宋简"/>
                <a:ea typeface="汉仪粗宋简"/>
              </a:rPr>
              <a:t>（三）束支传导阻滞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复习：束支分为左、右束支。右束支将激动迅速传到右心室，左束支将激动迅速传到左心室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任何一束支存在阻滞都会导致该侧心室的激动延迟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94920" y="476280"/>
            <a:ext cx="84978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般情况下，左右心室同时除极，产生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R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波，如果一侧心室存在阻滞，该侧除极的时间就会延长，心电图上就会出现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“增宽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QRS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波”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复习：正常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QRS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波：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0.06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～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0.10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所以，如果心电图上看到“增宽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QRS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波”≥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0.12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小格）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，则证明存在阻滞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04920" y="53352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、右束支传导阻滞（</a:t>
            </a:r>
            <a:r>
              <a:rPr b="1" lang="en-US" sz="48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RBBB</a:t>
            </a:r>
            <a:r>
              <a:rPr b="1" lang="zh-CN" sz="48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）：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QRS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波群时限≥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0.12s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小格）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在对应的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V1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V2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导联中发现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R’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导联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最有特征性的是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V1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导联，呈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rsR’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型的</a:t>
            </a:r>
            <a:r>
              <a:rPr b="1" lang="en-US" sz="4800" spc="-1" strike="noStrike">
                <a:solidFill>
                  <a:srgbClr val="b1ffff"/>
                </a:solidFill>
                <a:latin typeface="楷体_GB2312"/>
                <a:ea typeface="楷体_GB2312"/>
              </a:rPr>
              <a:t>M</a:t>
            </a:r>
            <a:r>
              <a:rPr b="1" lang="zh-CN" sz="4800" spc="-1" strike="noStrike">
                <a:solidFill>
                  <a:srgbClr val="b1ffff"/>
                </a:solidFill>
                <a:latin typeface="楷体_GB2312"/>
                <a:ea typeface="楷体_GB2312"/>
              </a:rPr>
              <a:t>波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819520" y="49528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完全性右束支传导阻滞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0" y="1978200"/>
            <a:ext cx="91440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533520" y="685800"/>
            <a:ext cx="8610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、左束支传导阻滞（</a:t>
            </a:r>
            <a:r>
              <a:rPr b="1" lang="en-US" sz="48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LBBB</a:t>
            </a:r>
            <a:r>
              <a:rPr b="1" lang="zh-CN" sz="48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）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68360" y="2060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）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QRS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时限≥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0.12s 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小格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95280" y="2924280"/>
            <a:ext cx="8748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）主波（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R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波）增宽，顶峰粗纯或有切迹，呈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R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－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R’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导联“</a:t>
            </a:r>
            <a:r>
              <a:rPr b="1" lang="zh-CN" sz="4400" spc="-1" strike="noStrike">
                <a:solidFill>
                  <a:srgbClr val="b1ffff"/>
                </a:solidFill>
                <a:latin typeface="Tahoma"/>
              </a:rPr>
              <a:t>马鞍波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”，以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V5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、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V6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导联最明显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）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T-T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方向与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QRS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主波方向相反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971800" y="533412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完全性左束支传导阻滞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0" y="2098800"/>
            <a:ext cx="9144000" cy="26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200760" y="600876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左前分支传导阻滞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30592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3124440" y="601992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左后分支传导阻滞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815364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297520" y="260280"/>
            <a:ext cx="4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1ffff"/>
                </a:solidFill>
                <a:latin typeface="汉仪粗宋简"/>
                <a:ea typeface="汉仪粗宋简"/>
              </a:rPr>
              <a:t>六、心肌缺血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281240"/>
            <a:ext cx="807732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正常情况下，心室的复极过程是从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心外膜开始向心内膜方向推进的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当心室肌某一部分发生缺血时，将影响心室复极的正常进行，从而产生心电图</a:t>
            </a:r>
            <a:r>
              <a:rPr b="1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ST-T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异常改变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370320" y="676440"/>
            <a:ext cx="136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imes New Roman"/>
                <a:ea typeface="汉仪粗宋简"/>
              </a:rPr>
              <a:t>6.1</a:t>
            </a:r>
            <a:r>
              <a:rPr b="0" lang="zh-CN" sz="4800" spc="-1" strike="noStrike">
                <a:solidFill>
                  <a:srgbClr val="ccffff"/>
                </a:solidFill>
                <a:latin typeface="Times New Roman"/>
                <a:ea typeface="汉仪粗宋简"/>
              </a:rPr>
              <a:t>、心内膜下心肌缺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62120" y="1752480"/>
            <a:ext cx="7772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心内膜缺血时，这部分心肌的复极较正常更为推迟，导致出现与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QRS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主波方向一致的高大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T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波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7T09:43:55Z</dcterms:created>
  <dc:creator>cq</dc:creator>
  <dc:description/>
  <dc:language>en-US</dc:language>
  <cp:lastModifiedBy>微软用户</cp:lastModifiedBy>
  <dcterms:modified xsi:type="dcterms:W3CDTF">2013-06-20T08:44:00Z</dcterms:modified>
  <cp:revision>30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