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394.wmf" ContentType="image/x-wmf"/>
  <Override PartName="/ppt/media/image432.wmf" ContentType="image/x-wmf"/>
  <Override PartName="/ppt/media/image256.wmf" ContentType="image/x-wmf"/>
  <Override PartName="/ppt/media/image393.wmf" ContentType="image/x-wmf"/>
  <Override PartName="/ppt/media/image431.wmf" ContentType="image/x-wmf"/>
  <Override PartName="/ppt/media/image255.wmf" ContentType="image/x-wmf"/>
  <Override PartName="/ppt/media/image392.wmf" ContentType="image/x-wmf"/>
  <Override PartName="/ppt/media/image430.wmf" ContentType="image/x-wmf"/>
  <Override PartName="/ppt/media/image254.wmf" ContentType="image/x-wmf"/>
  <Override PartName="/ppt/media/image391.wmf" ContentType="image/x-wmf"/>
  <Override PartName="/ppt/media/image253.wmf" ContentType="image/x-wmf"/>
  <Override PartName="/ppt/media/image390.wmf" ContentType="image/x-wmf"/>
  <Override PartName="/ppt/media/image419.wmf" ContentType="image/x-wmf"/>
  <Override PartName="/ppt/media/image252.wmf" ContentType="image/x-wmf"/>
  <Override PartName="/ppt/media/image418.wmf" ContentType="image/x-wmf"/>
  <Override PartName="/ppt/media/image251.wmf" ContentType="image/x-wmf"/>
  <Override PartName="/ppt/media/image417.wmf" ContentType="image/x-wmf"/>
  <Override PartName="/ppt/media/image250.wmf" ContentType="image/x-wmf"/>
  <Override PartName="/ppt/media/image416.wmf" ContentType="image/x-wmf"/>
  <Override PartName="/ppt/media/image249.wmf" ContentType="image/x-wmf"/>
  <Override PartName="/ppt/media/image121.wmf" ContentType="image/x-wmf"/>
  <Override PartName="/ppt/media/image386.wmf" ContentType="image/x-wmf"/>
  <Override PartName="/ppt/media/image424.wmf" ContentType="image/x-wmf"/>
  <Override PartName="/ppt/media/image247.wmf" ContentType="image/x-wmf"/>
  <Override PartName="/ppt/media/image384.wmf" ContentType="image/x-wmf"/>
  <Override PartName="/ppt/media/image422.wmf" ContentType="image/x-wmf"/>
  <Override PartName="/ppt/media/image246.wmf" ContentType="image/x-wmf"/>
  <Override PartName="/ppt/media/image383.wmf" ContentType="image/x-wmf"/>
  <Override PartName="/ppt/media/image421.wmf" ContentType="image/x-wmf"/>
  <Override PartName="/ppt/media/image243.wmf" ContentType="image/x-wmf"/>
  <Override PartName="/ppt/media/image380.wmf" ContentType="image/x-wmf"/>
  <Override PartName="/ppt/media/image409.wmf" ContentType="image/x-wmf"/>
  <Override PartName="/ppt/media/image242.wmf" ContentType="image/x-wmf"/>
  <Override PartName="/ppt/media/image408.wmf" ContentType="image/x-wmf"/>
  <Override PartName="/ppt/media/image241.wmf" ContentType="image/x-wmf"/>
  <Override PartName="/ppt/media/image407.wmf" ContentType="image/x-wmf"/>
  <Override PartName="/ppt/media/image240.wmf" ContentType="image/x-wmf"/>
  <Override PartName="/ppt/media/image406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8.wmf" ContentType="image/x-wmf"/>
  <Override PartName="/ppt/media/image60.png" ContentType="image/png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07.png" ContentType="image/png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0.wmf" ContentType="image/x-wmf"/>
  <Override PartName="/ppt/media/image245.wmf" ContentType="image/x-wmf"/>
  <Override PartName="/ppt/media/image382.wmf" ContentType="image/x-wmf"/>
  <Override PartName="/ppt/media/image420.wmf" ContentType="image/x-wmf"/>
  <Override PartName="/ppt/media/image199.gif" ContentType="image/gi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166.wmf" ContentType="image/x-wmf"/>
  <Override PartName="/ppt/media/image2.jpeg" ContentType="image/jpeg"/>
  <Override PartName="/ppt/media/image469.wmf" ContentType="image/x-wmf"/>
  <Override PartName="/ppt/media/image163.wmf" ContentType="image/x-wmf"/>
  <Override PartName="/ppt/media/image329.wmf" ContentType="image/x-wmf"/>
  <Override PartName="/ppt/media/image466.wmf" ContentType="image/x-wmf"/>
  <Override PartName="/ppt/media/image219.wmf" ContentType="image/x-wmf"/>
  <Override PartName="/ppt/media/image159.png" ContentType="image/png"/>
  <Override PartName="/ppt/media/image165.wmf" ContentType="image/x-wmf"/>
  <Override PartName="/ppt/media/image468.wmf" ContentType="image/x-wmf"/>
  <Override PartName="/ppt/media/image158.wmf" ContentType="image/x-wmf"/>
  <Override PartName="/ppt/media/image156.wmf" ContentType="image/x-wmf"/>
  <Override PartName="/ppt/media/image1.jpeg" ContentType="image/jpeg"/>
  <Override PartName="/ppt/media/image459.wmf" ContentType="image/x-wmf"/>
  <Override PartName="/ppt/media/image155.wmf" ContentType="image/x-wmf"/>
  <Override PartName="/ppt/media/image458.wmf" ContentType="image/x-wmf"/>
  <Override PartName="/ppt/media/image149.wmf" ContentType="image/x-wmf"/>
  <Override PartName="/ppt/media/image148.wmf" ContentType="image/x-wmf"/>
  <Override PartName="/ppt/media/image146.wmf" ContentType="image/x-wmf"/>
  <Override PartName="/ppt/media/image449.wmf" ContentType="image/x-wmf"/>
  <Override PartName="/ppt/media/image145.wmf" ContentType="image/x-wmf"/>
  <Override PartName="/ppt/media/image448.wmf" ContentType="image/x-wmf"/>
  <Override PartName="/ppt/media/image144.wmf" ContentType="image/x-wmf"/>
  <Override PartName="/ppt/media/image447.wmf" ContentType="image/x-wmf"/>
  <Override PartName="/ppt/media/image143.wmf" ContentType="image/x-wmf"/>
  <Override PartName="/ppt/media/image309.wmf" ContentType="image/x-wmf"/>
  <Override PartName="/ppt/media/image446.wmf" ContentType="image/x-wmf"/>
  <Override PartName="/ppt/media/image142.wmf" ContentType="image/x-wmf"/>
  <Override PartName="/ppt/media/image308.wmf" ContentType="image/x-wmf"/>
  <Override PartName="/ppt/media/image445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444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443.wmf" ContentType="image/x-wmf"/>
  <Override PartName="/ppt/media/image244.gif" ContentType="image/gif"/>
  <Override PartName="/ppt/media/image287.wmf" ContentType="image/x-wmf"/>
  <Override PartName="/ppt/media/image325.wmf" ContentType="image/x-wmf"/>
  <Override PartName="/ppt/media/image462.wmf" ContentType="image/x-wmf"/>
  <Override PartName="/ppt/media/image139.wmf" ContentType="image/x-wmf"/>
  <Override PartName="/ppt/media/image138.wmf" ContentType="image/x-wmf"/>
  <Override PartName="/ppt/media/image136.wmf" ContentType="image/x-wmf"/>
  <Override PartName="/ppt/media/image439.wmf" ContentType="image/x-wmf"/>
  <Override PartName="/ppt/media/image135.wmf" ContentType="image/x-wmf"/>
  <Override PartName="/ppt/media/image438.wmf" ContentType="image/x-wmf"/>
  <Override PartName="/ppt/media/image133.wmf" ContentType="image/x-wmf"/>
  <Override PartName="/ppt/media/image398.wmf" ContentType="image/x-wmf"/>
  <Override PartName="/ppt/media/image436.wmf" ContentType="image/x-wmf"/>
  <Override PartName="/ppt/media/image132.wmf" ContentType="image/x-wmf"/>
  <Override PartName="/ppt/media/image397.wmf" ContentType="image/x-wmf"/>
  <Override PartName="/ppt/media/image435.wmf" ContentType="image/x-wmf"/>
  <Override PartName="/ppt/media/image131.wmf" ContentType="image/x-wmf"/>
  <Override PartName="/ppt/media/image259.wmf" ContentType="image/x-wmf"/>
  <Override PartName="/ppt/media/image396.wmf" ContentType="image/x-wmf"/>
  <Override PartName="/ppt/media/image434.wmf" ContentType="image/x-wmf"/>
  <Override PartName="/ppt/media/image130.wmf" ContentType="image/x-wmf"/>
  <Override PartName="/ppt/media/image258.wmf" ContentType="image/x-wmf"/>
  <Override PartName="/ppt/media/image395.wmf" ContentType="image/x-wmf"/>
  <Override PartName="/ppt/media/image433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5.jpeg" ContentType="image/jpeg"/>
  <Override PartName="/ppt/media/image128.wmf" ContentType="image/x-wmf"/>
  <Override PartName="/ppt/media/image52.wmf" ContentType="image/x-wmf"/>
  <Override PartName="/ppt/media/image49.wmf" ContentType="image/x-wmf"/>
  <Override PartName="/ppt/media/image375.wmf" ContentType="image/x-wmf"/>
  <Override PartName="/ppt/media/image47.wmf" ContentType="image/x-wmf"/>
  <Override PartName="/ppt/media/image373.wmf" ContentType="image/x-wmf"/>
  <Override PartName="/ppt/media/image46.wmf" ContentType="image/x-wmf"/>
  <Override PartName="/ppt/media/image372.wmf" ContentType="image/x-wmf"/>
  <Override PartName="/ppt/media/image45.wmf" ContentType="image/x-wmf"/>
  <Override PartName="/ppt/media/image371.wmf" ContentType="image/x-wmf"/>
  <Override PartName="/ppt/media/image206.wmf" ContentType="image/x-wmf"/>
  <Override PartName="/ppt/media/image8.gif" ContentType="image/gif"/>
  <Override PartName="/ppt/media/image14.png" ContentType="image/png"/>
  <Override PartName="/ppt/media/image44.wmf" ContentType="image/x-wmf"/>
  <Override PartName="/ppt/media/image370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54.wmf" ContentType="image/x-wmf"/>
  <Override PartName="/ppt/media/image457.wmf" ContentType="image/x-wmf"/>
  <Override PartName="/ppt/media/image19.png" ContentType="image/png"/>
  <Override PartName="/ppt/media/image351.wmf" ContentType="image/x-wmf"/>
  <Override PartName="/ppt/media/image40.wmf" ContentType="image/x-wmf"/>
  <Override PartName="/ppt/media/image153.wmf" ContentType="image/x-wmf"/>
  <Override PartName="/ppt/media/image319.wmf" ContentType="image/x-wmf"/>
  <Override PartName="/ppt/media/image456.wmf" ContentType="image/x-wmf"/>
  <Override PartName="/ppt/media/image18.png" ContentType="image/png"/>
  <Override PartName="/ppt/media/image350.wmf" ContentType="image/x-wmf"/>
  <Override PartName="/ppt/media/image39.wmf" ContentType="image/x-wmf"/>
  <Override PartName="/ppt/media/image365.wmf" ContentType="image/x-wmf"/>
  <Override PartName="/ppt/media/image37.wmf" ContentType="image/x-wmf"/>
  <Override PartName="/ppt/media/image363.wmf" ContentType="image/x-wmf"/>
  <Override PartName="/ppt/media/image36.wmf" ContentType="image/x-wmf"/>
  <Override PartName="/ppt/media/image362.wmf" ContentType="image/x-wmf"/>
  <Override PartName="/ppt/media/image35.wmf" ContentType="image/x-wmf"/>
  <Override PartName="/ppt/media/image29.png" ContentType="image/png"/>
  <Override PartName="/ppt/media/image361.wmf" ContentType="image/x-wmf"/>
  <Override PartName="/ppt/media/image33.wmf" ContentType="image/x-wmf"/>
  <Override PartName="/ppt/media/image27.png" ContentType="image/png"/>
  <Override PartName="/ppt/media/image53.wmf" ContentType="image/x-wmf"/>
  <Override PartName="/ppt/media/image13.png" ContentType="image/png"/>
  <Override PartName="/ppt/media/image51.wmf" ContentType="image/x-wmf"/>
  <Override PartName="/ppt/media/image201.gif" ContentType="image/gif"/>
  <Override PartName="/ppt/media/image381.wmf" ContentType="image/x-wmf"/>
  <Override PartName="/ppt/media/image164.wmf" ContentType="image/x-wmf"/>
  <Override PartName="/ppt/media/image467.wmf" ContentType="image/x-wmf"/>
  <Override PartName="/ppt/media/image11.png" ContentType="image/png"/>
  <Override PartName="/ppt/media/image79.wmf" ContentType="image/x-wmf"/>
  <Override PartName="/ppt/media/image31.wmf" ContentType="image/x-wmf"/>
  <Override PartName="/ppt/media/image25.png" ContentType="image/png"/>
  <Override PartName="/ppt/media/image157.wmf" ContentType="image/x-wmf"/>
  <Override PartName="/ppt/media/image7.jpeg" ContentType="image/jpeg"/>
  <Override PartName="/ppt/media/image151.wmf" ContentType="image/x-wmf"/>
  <Override PartName="/ppt/media/image279.wmf" ContentType="image/x-wmf"/>
  <Override PartName="/ppt/media/image317.wmf" ContentType="image/x-wmf"/>
  <Override PartName="/ppt/media/image454.wmf" ContentType="image/x-wmf"/>
  <Override PartName="/ppt/media/image16.png" ContentType="image/png"/>
  <Override PartName="/ppt/media/image48.wmf" ContentType="image/x-wmf"/>
  <Override PartName="/ppt/media/image374.wmf" ContentType="image/x-wmf"/>
  <Override PartName="/ppt/media/image137.wmf" ContentType="image/x-wmf"/>
  <Override PartName="/ppt/media/image9.jpeg" ContentType="image/jpeg"/>
  <Override PartName="/ppt/media/image475.gif" ContentType="image/gif"/>
  <Override PartName="/ppt/media/image177.wmf" ContentType="image/x-wmf"/>
  <Override PartName="/ppt/media/image184.wmf" ContentType="image/x-wmf"/>
  <Override PartName="/ppt/media/image377.wmf" ContentType="image/x-wmf"/>
  <Override PartName="/ppt/media/image185.wmf" ContentType="image/x-wmf"/>
  <Override PartName="/ppt/media/image378.wmf" ContentType="image/x-wmf"/>
  <Override PartName="/ppt/media/image187.wmf" ContentType="image/x-wmf"/>
  <Override PartName="/ppt/media/image194.wmf" ContentType="image/x-wmf"/>
  <Override PartName="/ppt/media/image261.wmf" ContentType="image/x-wmf"/>
  <Override PartName="/ppt/media/image265.wmf" ContentType="image/x-wmf"/>
  <Override PartName="/ppt/media/image303.wmf" ContentType="image/x-wmf"/>
  <Override PartName="/ppt/media/image440.wmf" ContentType="image/x-wmf"/>
  <Override PartName="/ppt/media/image89.wmf" ContentType="image/x-wmf"/>
  <Override PartName="/ppt/media/image263.wmf" ContentType="image/x-wmf"/>
  <Override PartName="/ppt/media/image301.wmf" ContentType="image/x-wmf"/>
  <Override PartName="/ppt/media/image264.wmf" ContentType="image/x-wmf"/>
  <Override PartName="/ppt/media/image302.wmf" ContentType="image/x-wmf"/>
  <Override PartName="/ppt/media/image266.wmf" ContentType="image/x-wmf"/>
  <Override PartName="/ppt/media/image441.wmf" ContentType="image/x-wmf"/>
  <Override PartName="/ppt/media/image304.wmf" ContentType="image/x-wmf"/>
  <Override PartName="/ppt/media/image99.wmf" ContentType="image/x-wmf"/>
  <Override PartName="/ppt/media/image267.wmf" ContentType="image/x-wmf"/>
  <Override PartName="/ppt/media/image442.wmf" ContentType="image/x-wmf"/>
  <Override PartName="/ppt/media/image305.wmf" ContentType="image/x-wmf"/>
  <Override PartName="/ppt/media/image112.wmf" ContentType="image/x-wmf"/>
  <Override PartName="/ppt/media/image346.wmf" ContentType="image/x-wmf"/>
  <Override PartName="/ppt/media/image180.wmf" ContentType="image/x-wmf"/>
  <Override PartName="/ppt/media/image260.wmf" ContentType="image/x-wmf"/>
  <Override PartName="/ppt/media/image273.wmf" ContentType="image/x-wmf"/>
  <Override PartName="/ppt/media/image311.wmf" ContentType="image/x-wmf"/>
  <Override PartName="/ppt/media/image345.wmf" ContentType="image/x-wmf"/>
  <Override PartName="/ppt/media/image352.wmf" ContentType="image/x-wmf"/>
  <Override PartName="/ppt/media/image262.wmf" ContentType="image/x-wmf"/>
  <Override PartName="/ppt/media/image300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353.wmf" ContentType="image/x-wmf"/>
  <Override PartName="/ppt/media/image343.wmf" ContentType="image/x-wmf"/>
  <Override PartName="/ppt/media/image341.wmf" ContentType="image/x-wmf"/>
  <Override PartName="/ppt/media/image344.wmf" ContentType="image/x-wmf"/>
  <Override PartName="/ppt/media/image342.wmf" ContentType="image/x-wmf"/>
  <Override PartName="/ppt/media/image379.wmf" ContentType="image/x-wmf"/>
  <Override PartName="/ppt/media/image473.gif" ContentType="image/gif"/>
  <Override PartName="/ppt/media/image368.wmf" ContentType="image/x-wmf"/>
  <Override PartName="/ppt/media/image175.wmf" ContentType="image/x-wmf"/>
  <Override PartName="/ppt/media/image400.wmf" ContentType="image/x-wmf"/>
  <Override PartName="/ppt/media/image340.wmf" ContentType="image/x-wmf"/>
  <Override PartName="/ppt/media/image376.wmf" ContentType="image/x-wmf"/>
  <Override PartName="/ppt/media/image474.gif" ContentType="image/gif"/>
  <Override PartName="/ppt/media/image369.wmf" ContentType="image/x-wmf"/>
  <Override PartName="/ppt/media/image3.jpeg" ContentType="image/jpeg"/>
  <Override PartName="/ppt/media/image176.wmf" ContentType="image/x-wmf"/>
  <Override PartName="/ppt/media/image270.wmf" ContentType="image/x-wmf"/>
  <Override PartName="/ppt/media/image404.wmf" ContentType="image/x-wmf"/>
  <Override PartName="/ppt/media/image272.wmf" ContentType="image/x-wmf"/>
  <Override PartName="/ppt/media/image310.wmf" ContentType="image/x-wmf"/>
  <Override PartName="/ppt/media/image281.wmf" ContentType="image/x-wmf"/>
  <Override PartName="/ppt/media/image415.wmf" ContentType="image/x-wmf"/>
  <Override PartName="/ppt/media/image290.wmf" ContentType="image/x-wmf"/>
  <Override PartName="/ppt/media/image126.wmf" ContentType="image/x-wmf"/>
  <Override PartName="/ppt/media/image429.wmf" ContentType="image/x-wmf"/>
  <Override PartName="/ppt/media/image367.wmf" ContentType="image/x-wmf"/>
  <Override PartName="/ppt/media/image174.wmf" ContentType="image/x-wmf"/>
  <Override PartName="/ppt/media/image403.wmf" ContentType="image/x-wmf"/>
  <Override PartName="/ppt/media/image413.wmf" ContentType="image/x-wmf"/>
  <Override PartName="/ppt/media/image355.wmf" ContentType="image/x-wmf"/>
  <Override PartName="/ppt/media/image401.wmf" ContentType="image/x-wmf"/>
  <Override PartName="/ppt/media/image366.wmf" ContentType="image/x-wmf"/>
  <Override PartName="/ppt/media/image402.wmf" ContentType="image/x-wmf"/>
  <Override PartName="/ppt/media/image412.wmf" ContentType="image/x-wmf"/>
  <Override PartName="/ppt/media/image411.wmf" ContentType="image/x-wmf"/>
  <Override PartName="/ppt/media/image410.wmf" ContentType="image/x-wmf"/>
  <Override PartName="/ppt/media/image59.wmf" ContentType="image/x-wmf"/>
  <Override PartName="/ppt/media/image414.wmf" ContentType="image/x-wmf"/>
  <Override PartName="/ppt/media/image358.wmf" ContentType="image/x-wmf"/>
  <Override PartName="/ppt/media/image192.wmf" ContentType="image/x-wmf"/>
  <Override PartName="/ppt/media/image335.wmf" ContentType="image/x-wmf"/>
  <Override PartName="/ppt/media/image472.wmf" ContentType="image/x-wmf"/>
  <Override PartName="/ppt/media/image297.wmf" ContentType="image/x-wmf"/>
  <Override PartName="/ppt/media/image427.wmf" ContentType="image/x-wmf"/>
  <Override PartName="/ppt/media/image124.wmf" ContentType="image/x-wmf"/>
  <Override PartName="/ppt/media/image389.wmf" ContentType="image/x-wmf"/>
  <Override PartName="/ppt/media/image282.wmf" ContentType="image/x-wmf"/>
  <Override PartName="/ppt/media/image320.wmf" ContentType="image/x-wmf"/>
  <Override PartName="/ppt/media/image291.wmf" ContentType="image/x-wmf"/>
  <Override PartName="/ppt/media/image357.wmf" ContentType="image/x-wmf"/>
  <Override PartName="/ppt/media/image191.wmf" ContentType="image/x-wmf"/>
  <Override PartName="/ppt/media/image471.wmf" ContentType="image/x-wmf"/>
  <Override PartName="/ppt/media/image334.wmf" ContentType="image/x-wmf"/>
  <Override PartName="/ppt/media/image296.wmf" ContentType="image/x-wmf"/>
  <Override PartName="/ppt/media/image426.wmf" ContentType="image/x-wmf"/>
  <Override PartName="/ppt/media/image123.wmf" ContentType="image/x-wmf"/>
  <Override PartName="/ppt/media/image388.wmf" ContentType="image/x-wmf"/>
  <Override PartName="/ppt/media/image275.wmf" ContentType="image/x-wmf"/>
  <Override PartName="/ppt/media/image450.wmf" ContentType="image/x-wmf"/>
  <Override PartName="/ppt/media/image313.wmf" ContentType="image/x-wmf"/>
  <Override PartName="/ppt/media/image356.wmf" ContentType="image/x-wmf"/>
  <Override PartName="/ppt/media/image190.wmf" ContentType="image/x-wmf"/>
  <Override PartName="/ppt/media/image277.wmf" ContentType="image/x-wmf"/>
  <Override PartName="/ppt/media/image452.wmf" ContentType="image/x-wmf"/>
  <Override PartName="/ppt/media/image315.wmf" ContentType="image/x-wmf"/>
  <Override PartName="/ppt/media/image387.wmf" ContentType="image/x-wmf"/>
  <Override PartName="/ppt/media/image425.wmf" ContentType="image/x-wmf"/>
  <Override PartName="/ppt/media/image122.wmf" ContentType="image/x-wmf"/>
  <Override PartName="/ppt/media/image470.wmf" ContentType="image/x-wmf"/>
  <Override PartName="/ppt/media/image333.wmf" ContentType="image/x-wmf"/>
  <Override PartName="/ppt/media/image295.wmf" ContentType="image/x-wmf"/>
  <Override PartName="/ppt/media/image347.wmf" ContentType="image/x-wmf"/>
  <Override PartName="/ppt/media/image181.wmf" ContentType="image/x-wmf"/>
  <Override PartName="/ppt/media/image113.wmf" ContentType="image/x-wmf"/>
  <Override PartName="/ppt/media/image461.wmf" ContentType="image/x-wmf"/>
  <Override PartName="/ppt/media/image324.wmf" ContentType="image/x-wmf"/>
  <Override PartName="/ppt/media/image286.wmf" ContentType="image/x-wmf"/>
  <Override PartName="/ppt/media/image231.gif" ContentType="image/gif"/>
  <Override PartName="/ppt/media/image274.wmf" ContentType="image/x-wmf"/>
  <Override PartName="/ppt/media/image312.wmf" ContentType="image/x-wmf"/>
  <Override PartName="/ppt/media/image332.wmf" ContentType="image/x-wmf"/>
  <Override PartName="/ppt/media/image294.wmf" ContentType="image/x-wmf"/>
  <Override PartName="/ppt/media/image276.wmf" ContentType="image/x-wmf"/>
  <Override PartName="/ppt/media/image451.wmf" ContentType="image/x-wmf"/>
  <Override PartName="/ppt/media/image314.wmf" ContentType="image/x-wmf"/>
  <Override PartName="/ppt/media/image460.wmf" ContentType="image/x-wmf"/>
  <Override PartName="/ppt/media/image323.wmf" ContentType="image/x-wmf"/>
  <Override PartName="/ppt/media/image285.wmf" ContentType="image/x-wmf"/>
  <Override PartName="/ppt/media/image331.wmf" ContentType="image/x-wmf"/>
  <Override PartName="/ppt/media/image293.wmf" ContentType="image/x-wmf"/>
  <Override PartName="/ppt/media/image284.wmf" ContentType="image/x-wmf"/>
  <Override PartName="/ppt/media/image322.wmf" ContentType="image/x-wmf"/>
  <Override PartName="/ppt/media/image330.wmf" ContentType="image/x-wmf"/>
  <Override PartName="/ppt/media/image292.wmf" ContentType="image/x-wmf"/>
  <Override PartName="/ppt/media/image283.wmf" ContentType="image/x-wmf"/>
  <Override PartName="/ppt/media/image321.wmf" ContentType="image/x-wmf"/>
  <Override PartName="/ppt/media/image338.wmf" ContentType="image/x-wmf"/>
  <Override PartName="/ppt/media/image172.wmf" ContentType="image/x-wmf"/>
  <Override PartName="/ppt/media/image103.wmf" ContentType="image/x-wmf"/>
  <Override PartName="/ppt/media/image38.wmf" ContentType="image/x-wmf"/>
  <Override PartName="/ppt/media/image364.wmf" ContentType="image/x-wmf"/>
  <Override PartName="/ppt/media/image299.wmf" ContentType="image/x-wmf"/>
  <Override PartName="/ppt/media/image171.wmf" ContentType="image/x-wmf"/>
  <Override PartName="/ppt/media/image337.wmf" ContentType="image/x-wmf"/>
  <Override PartName="/ppt/media/image102.wmf" ContentType="image/x-wmf"/>
  <Override PartName="/ppt/media/image298.wmf" ContentType="image/x-wmf"/>
  <Override PartName="/ppt/media/image170.wmf" ContentType="image/x-wmf"/>
  <Override PartName="/ppt/media/image336.wmf" ContentType="image/x-wmf"/>
  <Override PartName="/ppt/media/image98.wmf" ContentType="image/x-wmf"/>
  <Override PartName="/ppt/media/image97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119.wmf" ContentType="image/x-wmf"/>
  <Override PartName="/ppt/media/image95.wmf" ContentType="image/x-wmf"/>
  <Override PartName="/ppt/media/image116.wmf" ContentType="image/x-wmf"/>
  <Override PartName="/ppt/media/image92.wmf" ContentType="image/x-wmf"/>
  <Override PartName="/ppt/media/image87.wmf" ContentType="image/x-wmf"/>
  <Override PartName="/ppt/media/image86.wmf" ContentType="image/x-wmf"/>
  <Override PartName="/ppt/media/image109.wmf" ContentType="image/x-wmf"/>
  <Override PartName="/ppt/media/image85.wmf" ContentType="image/x-wmf"/>
  <Override PartName="/ppt/media/image108.wmf" ContentType="image/x-wmf"/>
  <Override PartName="/ppt/media/image84.wmf" ContentType="image/x-wmf"/>
  <Override PartName="/ppt/media/image104.wmf" ContentType="image/x-wmf"/>
  <Override PartName="/ppt/media/image80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73.wmf" ContentType="image/x-wmf"/>
  <Override PartName="/ppt/media/image67.png" ContentType="image/png"/>
  <Override PartName="/ppt/media/image399.wmf" ContentType="image/x-wmf"/>
  <Override PartName="/ppt/media/image134.wmf" ContentType="image/x-wmf"/>
  <Override PartName="/ppt/media/image43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57.png" ContentType="image/png"/>
  <Override PartName="/ppt/media/image63.wmf" ContentType="image/x-wmf"/>
  <Override PartName="/ppt/media/image62.wmf" ContentType="image/x-wmf"/>
  <Override PartName="/ppt/media/image61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348.wmf" ContentType="image/x-wmf"/>
  <Override PartName="/ppt/media/image26.png" ContentType="image/png"/>
  <Override PartName="/ppt/media/image32.wmf" ContentType="image/x-wmf"/>
  <Override PartName="/ppt/media/image464.wmf" ContentType="image/x-wmf"/>
  <Override PartName="/ppt/media/image161.wmf" ContentType="image/x-wmf"/>
  <Override PartName="/ppt/media/image327.wmf" ContentType="image/x-wmf"/>
  <Override PartName="/ppt/media/image289.wmf" ContentType="image/x-wmf"/>
  <Override PartName="/ppt/media/image127.wmf" ContentType="image/x-wmf"/>
  <Override PartName="/ppt/media/image195.wmf" ContentType="image/x-wmf"/>
  <Override PartName="/ppt/media/image186.wmf" ContentType="image/x-wmf"/>
  <Override PartName="/ppt/media/image4.jpeg" ContentType="image/jpeg"/>
  <Override PartName="/ppt/media/image30.wmf" ContentType="image/x-wmf"/>
  <Override PartName="/ppt/media/image465.wmf" ContentType="image/x-wmf"/>
  <Override PartName="/ppt/media/image162.wmf" ContentType="image/x-wmf"/>
  <Override PartName="/ppt/media/image328.wmf" ContentType="image/x-wmf"/>
  <Override PartName="/ppt/media/image24.gif" ContentType="image/gif"/>
  <Override PartName="/ppt/media/image12.jpeg" ContentType="image/jpeg"/>
  <Override PartName="/ppt/media/image17.png" ContentType="image/png"/>
  <Override PartName="/ppt/media/image23.wmf" ContentType="image/x-wmf"/>
  <Override PartName="/ppt/media/image115.wmf" ContentType="image/x-wmf"/>
  <Override PartName="/ppt/media/image56.jpeg" ContentType="image/jpeg"/>
  <Override PartName="/ppt/media/image91.wmf" ContentType="image/x-wmf"/>
  <Override PartName="/ppt/media/image455.wmf" ContentType="image/x-wmf"/>
  <Override PartName="/ppt/media/image152.wmf" ContentType="image/x-wmf"/>
  <Override PartName="/ppt/media/image318.wmf" ContentType="image/x-wmf"/>
  <Override PartName="/ppt/media/image22.png" ContentType="image/png"/>
  <Override PartName="/ppt/media/image106.wmf" ContentType="image/x-wmf"/>
  <Override PartName="/ppt/media/image82.wmf" ContentType="image/x-wmf"/>
  <Override PartName="/ppt/media/image10.jpeg" ContentType="image/jpeg"/>
  <Override PartName="/ppt/media/image120.wmf" ContentType="image/x-wmf"/>
  <Override PartName="/ppt/media/image248.wmf" ContentType="image/x-wmf"/>
  <Override PartName="/ppt/media/image423.wmf" ContentType="image/x-wmf"/>
  <Override PartName="/ppt/media/image385.wmf" ContentType="image/x-wmf"/>
  <Override PartName="/ppt/media/image54.wmf" ContentType="image/x-wmf"/>
  <Override PartName="/ppt/media/image50.wmf" ContentType="image/x-wmf"/>
  <Override PartName="/ppt/media/image107.wmf" ContentType="image/x-wmf"/>
  <Override PartName="/ppt/media/image83.wmf" ContentType="image/x-wmf"/>
  <Override PartName="/ppt/media/image88.wmf" ContentType="image/x-wmf"/>
  <Override PartName="/ppt/media/image20.png" ContentType="image/png"/>
  <Override PartName="/ppt/media/image453.wmf" ContentType="image/x-wmf"/>
  <Override PartName="/ppt/media/image150.wmf" ContentType="image/x-wmf"/>
  <Override PartName="/ppt/media/image316.wmf" ContentType="image/x-wmf"/>
  <Override PartName="/ppt/media/image278.wmf" ContentType="image/x-wmf"/>
  <Override PartName="/ppt/media/image55.wmf" ContentType="image/x-wmf"/>
  <Override PartName="/ppt/media/image117.wmf" ContentType="image/x-wmf"/>
  <Override PartName="/ppt/media/image93.wmf" ContentType="image/x-wmf"/>
  <Override PartName="/ppt/media/image160.wmf" ContentType="image/x-wmf"/>
  <Override PartName="/ppt/media/image463.wmf" ContentType="image/x-wmf"/>
  <Override PartName="/ppt/media/image326.wmf" ContentType="image/x-wmf"/>
  <Override PartName="/ppt/media/image288.wmf" ContentType="image/x-wmf"/>
  <Override PartName="/ppt/media/image105.wmf" ContentType="image/x-wmf"/>
  <Override PartName="/ppt/media/image81.wmf" ContentType="image/x-wmf"/>
  <Override PartName="/ppt/media/image173.wmf" ContentType="image/x-wmf"/>
  <Override PartName="/ppt/media/image339.wmf" ContentType="image/x-wmf"/>
  <Override PartName="/ppt/media/image118.wmf" ContentType="image/x-wmf"/>
  <Override PartName="/ppt/media/image94.wmf" ContentType="image/x-wmf"/>
  <Override PartName="/ppt/media/image15.png" ContentType="image/png"/>
  <Override PartName="/ppt/media/image21.wmf" ContentType="image/x-wmf"/>
  <Override PartName="/ppt/media/image125.wmf" ContentType="image/x-wmf"/>
  <Override PartName="/ppt/media/image428.wmf" ContentType="image/x-wmf"/>
  <Override PartName="/ppt/media/image193.wmf" ContentType="image/x-wmf"/>
  <Override PartName="/ppt/media/image359.wmf" ContentType="image/x-wmf"/>
  <Override PartName="/ppt/media/image6.jpeg" ContentType="image/jpeg"/>
  <Override PartName="/ppt/media/image147.wmf" ContentType="image/x-wmf"/>
  <Override PartName="/ppt/media/image58.wmf" ContentType="image/x-wmf"/>
  <Override PartName="/ppt/media/image360.wmf" ContentType="image/x-wmf"/>
  <Override PartName="/ppt/media/image34.wmf" ContentType="image/x-wmf"/>
  <Override PartName="/ppt/media/image183.wmf" ContentType="image/x-wmf"/>
  <Override PartName="/ppt/media/image349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  <p:sldId id="317" r:id="rId83"/>
    <p:sldId id="318" r:id="rId84"/>
    <p:sldId id="319" r:id="rId85"/>
    <p:sldId id="320" r:id="rId86"/>
    <p:sldId id="321" r:id="rId87"/>
    <p:sldId id="322" r:id="rId88"/>
    <p:sldId id="323" r:id="rId89"/>
    <p:sldId id="324" r:id="rId90"/>
    <p:sldId id="325" r:id="rId91"/>
    <p:sldId id="326" r:id="rId92"/>
    <p:sldId id="327" r:id="rId93"/>
    <p:sldId id="328" r:id="rId94"/>
    <p:sldId id="329" r:id="rId95"/>
    <p:sldId id="330" r:id="rId96"/>
    <p:sldId id="331" r:id="rId97"/>
    <p:sldId id="332" r:id="rId98"/>
    <p:sldId id="333" r:id="rId99"/>
    <p:sldId id="334" r:id="rId100"/>
    <p:sldId id="335" r:id="rId101"/>
    <p:sldId id="336" r:id="rId102"/>
    <p:sldId id="337" r:id="rId103"/>
    <p:sldId id="338" r:id="rId104"/>
    <p:sldId id="339" r:id="rId105"/>
    <p:sldId id="340" r:id="rId106"/>
    <p:sldId id="341" r:id="rId107"/>
    <p:sldId id="342" r:id="rId108"/>
    <p:sldId id="343" r:id="rId109"/>
    <p:sldId id="344" r:id="rId110"/>
    <p:sldId id="345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slide" Target="slides/slide62.xml"/><Relationship Id="rId84" Type="http://schemas.openxmlformats.org/officeDocument/2006/relationships/slide" Target="slides/slide63.xml"/><Relationship Id="rId85" Type="http://schemas.openxmlformats.org/officeDocument/2006/relationships/slide" Target="slides/slide64.xml"/><Relationship Id="rId86" Type="http://schemas.openxmlformats.org/officeDocument/2006/relationships/slide" Target="slides/slide65.xml"/><Relationship Id="rId87" Type="http://schemas.openxmlformats.org/officeDocument/2006/relationships/slide" Target="slides/slide66.xml"/><Relationship Id="rId88" Type="http://schemas.openxmlformats.org/officeDocument/2006/relationships/slide" Target="slides/slide67.xml"/><Relationship Id="rId89" Type="http://schemas.openxmlformats.org/officeDocument/2006/relationships/slide" Target="slides/slide68.xml"/><Relationship Id="rId90" Type="http://schemas.openxmlformats.org/officeDocument/2006/relationships/slide" Target="slides/slide69.xml"/><Relationship Id="rId91" Type="http://schemas.openxmlformats.org/officeDocument/2006/relationships/slide" Target="slides/slide70.xml"/><Relationship Id="rId92" Type="http://schemas.openxmlformats.org/officeDocument/2006/relationships/slide" Target="slides/slide71.xml"/><Relationship Id="rId93" Type="http://schemas.openxmlformats.org/officeDocument/2006/relationships/slide" Target="slides/slide72.xml"/><Relationship Id="rId94" Type="http://schemas.openxmlformats.org/officeDocument/2006/relationships/slide" Target="slides/slide73.xml"/><Relationship Id="rId95" Type="http://schemas.openxmlformats.org/officeDocument/2006/relationships/slide" Target="slides/slide74.xml"/><Relationship Id="rId96" Type="http://schemas.openxmlformats.org/officeDocument/2006/relationships/slide" Target="slides/slide75.xml"/><Relationship Id="rId97" Type="http://schemas.openxmlformats.org/officeDocument/2006/relationships/slide" Target="slides/slide76.xml"/><Relationship Id="rId98" Type="http://schemas.openxmlformats.org/officeDocument/2006/relationships/slide" Target="slides/slide77.xml"/><Relationship Id="rId99" Type="http://schemas.openxmlformats.org/officeDocument/2006/relationships/slide" Target="slides/slide78.xml"/><Relationship Id="rId100" Type="http://schemas.openxmlformats.org/officeDocument/2006/relationships/slide" Target="slides/slide79.xml"/><Relationship Id="rId101" Type="http://schemas.openxmlformats.org/officeDocument/2006/relationships/slide" Target="slides/slide80.xml"/><Relationship Id="rId102" Type="http://schemas.openxmlformats.org/officeDocument/2006/relationships/slide" Target="slides/slide81.xml"/><Relationship Id="rId103" Type="http://schemas.openxmlformats.org/officeDocument/2006/relationships/slide" Target="slides/slide82.xml"/><Relationship Id="rId104" Type="http://schemas.openxmlformats.org/officeDocument/2006/relationships/slide" Target="slides/slide83.xml"/><Relationship Id="rId105" Type="http://schemas.openxmlformats.org/officeDocument/2006/relationships/slide" Target="slides/slide84.xml"/><Relationship Id="rId106" Type="http://schemas.openxmlformats.org/officeDocument/2006/relationships/slide" Target="slides/slide85.xml"/><Relationship Id="rId107" Type="http://schemas.openxmlformats.org/officeDocument/2006/relationships/slide" Target="slides/slide86.xml"/><Relationship Id="rId108" Type="http://schemas.openxmlformats.org/officeDocument/2006/relationships/slide" Target="slides/slide87.xml"/><Relationship Id="rId109" Type="http://schemas.openxmlformats.org/officeDocument/2006/relationships/slide" Target="slides/slide88.xml"/><Relationship Id="rId110" Type="http://schemas.openxmlformats.org/officeDocument/2006/relationships/slide" Target="slides/slide89.xml"/><Relationship Id="rId111" Type="http://schemas.openxmlformats.org/officeDocument/2006/relationships/slide" Target="slides/slide90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387-644E-401A-9107-3A73D16A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DD3-7E72-4306-895B-833030F0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53D2B-B8D6-4EAF-84EE-B5D0217A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3F187-03F2-4D6D-9F23-2E1A2DEF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F11A6-C920-45E7-8B4B-E4F901D1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FB4D3-2521-43B8-8687-68929424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60000-59EA-4CAC-8207-699EFCE8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E14D4-5327-4B7E-AB73-BEC12CC5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90CA7-2F82-41CC-A0C4-A816DD6F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973E2-4A1E-43C9-90B7-CC3A293D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B1380-846A-4B6B-B646-DDCDBE0C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E0944-6060-417F-833C-9AA7F6B4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742-54F3-4832-ACE8-D8382E5D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ABB1B-A9D3-4019-B0AB-67FE7A80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7FBC6-EFE3-494A-BB7E-BEDA4AF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F0E4D-CB88-4867-A1B3-20D83C8E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CA429-F092-4AD2-8152-DB91DC75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A3CD6-EE3D-4989-B228-AE9EDC87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85C08-C910-4FBB-AAD4-9E130DEA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20B88-0EA6-4541-A219-094DB929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2AA5F-BCB1-4750-8CF2-CE1B23D1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B0E2D-5EA8-4134-9497-8703A8DA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5ED34-0700-4559-B832-742372E4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F23-74B7-4179-88C3-F89A1ECD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A19D0-0A64-40AA-8EE8-371E2DD5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382C0-39A1-447F-9FAA-428EC3BB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BF8FE-3B63-4A91-A0D7-51EDB987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BECB0-D630-41C2-BC5C-CBDB6DC2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B76F0-DAC4-41B2-BCCE-2AF92FB2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A4AE9-60B6-4A13-A9FE-F372784C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B7044-3096-4CD3-B36F-E8F04596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4A7EF-35B5-4A66-8587-FB106973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38B71-35FB-4EDF-BA12-1729BA13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FB04A-998B-401C-82EA-F8E803D0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FEF5-71A1-4D2C-8631-49F3913F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4B3EB-771B-464D-B124-E62B744C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03151-C0A9-4761-A4B6-D3026B6D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2797B-0772-4B44-AE9A-C40FFB9B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5ADD7-E181-4A7E-87F4-9DBBF7F0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7E05E-4C0B-4D86-AFAB-42A6AC4F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04354-D41A-4E71-B53F-47274382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6B3C3-62CE-4648-B349-9C82B1EB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B2B6E-2AA6-4D16-BF7E-1B0DA0F1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785F5-3EA1-4001-877F-D2B79C35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98575-C700-45E6-BA93-B2675FBF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A8B9-74B5-4AFA-8E6A-14C6E18D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E2874-6E44-4587-87EB-E685BB06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CCE90-80BD-4A22-8318-F5ABED91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1CBAE-856A-4831-9028-4CA422E6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BF155-6DD2-418B-A09A-C96551D1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5B7CA-DAFA-4EBA-B80B-EA73B731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E9773-5653-4DF1-B075-05908839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7747C-43A6-4C75-BFA4-D532FA54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81E4A-D955-4471-85F4-3EF2BB73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51FA6-16C3-4F64-9939-125FEA38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AFA61-8B3C-4315-80D7-E39A6B25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BB9F-8F78-4C03-B3A2-029725D8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3EC8F-50CF-4519-A207-51C6181F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0AD0A-E185-4229-9C01-679D05B0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752D3-E204-41ED-BA97-70584F11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5468D-852A-4814-AA87-79BDA745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1DCC5-1CA5-4E56-A371-7A018A80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E9A00-6A6F-4F79-B00A-ED1E7979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C980F-4C31-4E46-B350-DDFBAE7B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FDF92-5576-49E3-8EDD-4EE50022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A54CD-F673-45A9-A16D-02D6C549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42FCC-2B3F-4B6B-801B-7FC35D45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7255-6F7D-48CD-B49D-5A092187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0ACE2-95A0-4240-895B-50A68418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ECCDF-C37D-4688-A08C-0EC36848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96B42-4149-4065-AFA3-38049514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56082-D0EB-4703-B730-A6B0D293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25A90-844D-4142-9E00-910B474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312D5-1D40-4F3C-BF12-A85FEA61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0D96B-4C65-4FE7-A084-5C7BC246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FA1836-3D62-4F4A-874D-CFB6CC2A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49BAD-6D87-4C78-AA45-9881C2B4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1AFDF-1945-4C93-B084-9229141C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4DA1-321B-4397-9461-5EE60A8D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D3CFF-0500-4471-AA50-BE333A07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B3EBE-B78C-48AE-941E-10B751F0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D0D581-8E59-4A92-8734-8008227A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17102-0F1E-4FD1-9735-7D8CA610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8412CE-03F3-4041-AE20-393F6D0F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D180B-D1B0-4C44-8523-1B044EFC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909A10-8ECE-41EF-ACE8-19DB68FF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35913-89CF-4632-8692-24A1ED8A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F4040-6FC6-44B2-B58D-5EBDDAFE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B8AB60-A10D-4A00-9252-66E5B5A7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363C-26F9-4238-8F45-B6B2F45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B65CF-E650-407C-A03B-513B0D44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17D27D-8F38-4B1A-A7AA-1AF26059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784AE-0B2B-405F-9523-F1C125FB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FA78D-37E7-4C9D-A3A2-D4C937FE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5875E-D6BB-4740-92CE-AF0F3044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DBF0E2-3239-4718-9ED7-40A0F7D5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97538-98FF-492C-995F-584CE6D2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0B1E4-43E0-439A-B6CF-E3A37AC7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8DE38-5879-4E76-9F36-B3BAC117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1655B6-392B-4287-85AC-DFCE9133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03CE-255E-4F88-985D-AC8C37CD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DFE90-DDE2-4B54-A7CB-2B29C291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1502C-3EB9-43AB-83EC-29013FCA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FF25F-0EF9-4771-9457-809C6BE0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8041F-39D8-462E-9EE3-0109D2D3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0DAFE-21E7-4372-9B94-B32151F8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9AE94-ABC0-4782-ADDE-1FE65D1B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05401-39F9-4A64-B100-BBCE1CE8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5B15F-CBBA-4BB2-BDA6-D08E9D8A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FCD59-F490-4FD7-BF5E-2D8F0FD9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6643C-3926-4AD1-90BC-4463E6E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8E8-43EA-4F23-9C11-3085C1A9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2664-5081-46FD-B992-F875754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2154E-56A6-4761-B5EE-B03EB255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271C4-9C75-425B-945D-096A7D09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DC699A-5B41-457F-9DF5-2ED9EC63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94C59-2487-4FD0-B6A6-05F45139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BCD5B-B0DF-48EE-AA41-0493EDE1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C6D976-3BE8-4681-BC64-8AC9D7E9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8528F-D776-479A-AF43-D86505C8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737C77-387C-4EE0-BD3E-4CB29447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C21EF5-9681-4BFC-A923-CC62D20E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8EFE6-F7E2-4D4E-857F-725C8625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F039-DDB9-4C23-8251-2588A481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1E7611-213A-4A98-ACB4-94EDCC63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A14E16-92E5-46BA-B9E6-19607821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E87A8-74D3-4668-91A4-40ADB0F4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25A0E-5A4A-4ADF-8229-32490615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0B2EE-217E-4196-A90D-F1F03CEF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60888-CF7A-40EE-94AE-89D1F9AE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70D70C-197C-4438-B340-E2527525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6DC46B-CCA8-45FF-B44E-C7966D62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BB8978-C7CE-488E-80CC-BE3E15E2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19B12-36AA-4B68-A5FF-52E30DD9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CADE-EB99-4473-A8DF-3BC7321C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D7DD8-E1EC-49BB-8C22-62F32977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BCA56-D709-4255-A021-0BD79E49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D8553-6A7A-4B99-8F7F-B187B8C2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AEE020-0369-4DD8-B91C-80E6017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8E1CE-09C1-4791-9E8F-AB4C0FF2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8FE6FD-7D73-436B-B216-29817C97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326E51-2290-429D-A4F7-46B429E5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019703-F584-4105-8FCF-C8F7CF56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F015A-84DD-4856-A64B-0777F20A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215E10-6C7B-4126-A33B-C190D818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73EF-512E-4BAD-9EF6-2AFBFDFD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EA14F4-B896-4CAF-9B37-82B7D5A9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7435D-0CE5-468B-A99B-F8849982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3C50BD-153A-4F6F-AA3F-66F3CD43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56F04-F694-4A99-B2E1-72488857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21C509-4254-4A3E-AA93-B54A26F2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220FCE-51BC-4C9F-8237-8CBA4FAB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E068F-DFF8-4A41-971F-B8A7E951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A0D56-5D55-4CC8-B587-54D0BBB4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80E9A-7840-41D6-9423-BAED771D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B8797D-33E0-448B-81DD-18AFBBE4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268E-DCB6-4D4D-AAD6-FC3E6F55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92B7D8-9A19-421E-A2C0-6F400BA8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A89C-29E8-49D1-A155-35C55F54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7B0A-63AB-4CDE-AB4C-F07BBC09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9316-A736-4C13-A5AA-90572570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5B2C4-5FC7-401B-8263-619F7401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0DA5-96AA-4556-B816-F0186AE9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52D-F025-4412-AC38-24145109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EEDA-93E1-41EA-AE4A-B0995773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BB2A8-9D51-4D97-9A5C-D53DA368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14E4-5DF1-4A68-98B3-2C0B28E5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156F-7678-42CC-9C1E-63C19EF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2A12-A161-49AF-ABED-6A45D38E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499E-289A-4D5B-ADC0-90BA9164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6BC05-E242-4DA3-A752-CC639D42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4809-D61C-4E2D-8363-54171D64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0636D-5EA1-4143-B9DB-86D6D302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C73BB-A838-4B8B-A339-94947103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DA3-8D9E-4A07-BA89-0DCC5F0D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5FCE0-7FE4-4488-88BB-FCD84139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AC4DA-C2C0-4F8F-B150-6AA61594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DFB0-81D5-4322-AE2C-9813ED6C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80A7-7743-4DD5-AA5F-ADACA2B3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2A9D-DA1E-4317-8AF3-075FDFE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6206-EE92-47B4-BED2-F10883D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ADB3E-1F1A-4680-BC55-B24A3C9F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B37A-01B4-4F9D-B5F8-0D5DD6DD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5AB68-4BCD-475D-927C-8AC135C7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DBABE-7410-4CBE-B315-BF73C704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B09-BC31-4EC1-8933-164A8BC1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3B8FC-773B-4BCC-8BC3-9047947A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ADEB6-AFE5-415B-BC4B-E4D93A6A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7856-D4DA-4C67-A48C-3B48B6BA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5E357-FA1D-40AC-858A-D424809B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899D-8192-4453-8098-7637332C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380CD-F150-4D1C-812D-AF1483BC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61448-30B0-48CB-91C2-1FC119DA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BDD35-92C9-4ADA-BEEF-F98731C5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7C7AB-EFF0-4E2F-91F6-3303ED90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CE80-E989-481B-9B7F-105CF74E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8BB-3AF8-4626-9DCC-CDB70980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832F4-30A2-4670-A94F-5337CD4A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1FCE2-1762-4642-A3CF-09C0B96D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D974-CB01-4E7E-A854-B97D0149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45B04-4168-4918-8C3F-FCE68E3F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43501-E4A5-47D0-AC47-66F4787D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EDF5-B41B-49F5-832E-D85376DB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C4FEF-620A-4D17-AC69-A68FF154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F4721-1DF4-46DF-BFD4-F4A26ED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D1355-7191-42DD-A7F2-0E1F7562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383CC-D03F-4E6D-888A-574DCA5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C2B-F441-4F72-B7DB-565EA980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290D3-E03E-4E6F-BD3B-1EDD0281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E4FEF-CA70-45BC-BFA3-8B09BFFE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9E89A-99C5-4F7A-B6F5-D3A8B62B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1BAE3-C513-499F-9649-993E1DF3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83FC6-1C1F-42A5-9521-87C2EA3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C670D-C86C-440D-94DB-E1ACAD82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6E05-CD60-47BB-8144-4099FC94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BD720-95B9-4360-8BD2-336811E8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CFBE8-B1B7-47E9-B7B8-F45CBE12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EC351-37F8-4B76-91BC-F9F2D3A4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574-76B2-4B74-9146-7DE3F541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843C3-035B-4D50-81D1-91CA1E73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132D4-312F-484F-847E-C331AED9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B0329-3DBC-4E45-A923-D2725BBB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FAC60-2EF2-42BA-8EE9-7C0561FE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0D89-59F2-4906-A0AB-29A45E5A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02AF7-401E-44A5-B713-5F3215A4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B0788-BD87-4D00-80FD-3B3EF520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CA1EA-E634-4CE9-AE1A-AD1134BD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09DDC-B646-499F-B54E-072EEFAA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0678D-76C5-49F0-AA1C-4FBFE01E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5DD-3E3F-4EA0-BA26-9383DE6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9345D-5351-4114-9A6D-00813A56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A8B42-AF6B-4759-ABDD-00589138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31F3F-A153-4422-8E41-2551EF30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E5863-DFA0-428F-8D43-4A6AB327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00CB6-B7E7-4448-BF82-D0B4451E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ED857-37E0-4B54-A276-E9F2DF75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408C0-5855-40DE-B5A6-89DBD3D4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EDD55-B2E1-439E-BEE7-655BD9B2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A2999-2AA6-4CF7-A121-A001C3D4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53704-3ED0-4D0B-BDDA-B2516E3A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034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779B-CA3A-4257-855B-06D7C11E828C}" type="datetime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49EE-EA2B-482D-B084-E15BC253B8A1}" type="slidenum"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29718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b91"/>
                </a:solidFill>
                <a:latin typeface="-윤명조240"/>
              </a:rPr>
              <a:t>Click to edit the title text format</a:t>
            </a:r>
            <a:endParaRPr b="0" lang="en-US" sz="4800" spc="-1" strike="noStrike">
              <a:solidFill>
                <a:srgbClr val="3f3b91"/>
              </a:solidFill>
              <a:latin typeface="-윤명조240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1840" cy="40892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0" y="4081320"/>
            <a:ext cx="1131840" cy="2718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06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0" y="496800"/>
            <a:ext cx="9144000" cy="5065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6"/>
          <a:stretch/>
        </p:blipFill>
        <p:spPr>
          <a:xfrm>
            <a:off x="0" y="99540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0" y="0"/>
            <a:ext cx="1123920" cy="1192320"/>
          </a:xfrm>
          <a:prstGeom prst="rect">
            <a:avLst/>
          </a:prstGeom>
          <a:solidFill>
            <a:srgbClr val="bb9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100160" cy="1179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4467240" y="1990800"/>
            <a:ext cx="808200" cy="981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 type="dt" idx="28"/>
          </p:nvPr>
        </p:nvSpPr>
        <p:spPr>
          <a:xfrm>
            <a:off x="113184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E4BA-F3A0-4F47-BAB0-12642B57A145}" type="datetime">
              <a:rPr b="0" lang="zh-CN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29"/>
          </p:nvPr>
        </p:nvSpPr>
        <p:spPr>
          <a:xfrm>
            <a:off x="32479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30"/>
          </p:nvPr>
        </p:nvSpPr>
        <p:spPr>
          <a:xfrm>
            <a:off x="6676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9244-2965-4E07-BA74-B1035C3B6EA2}" type="slidenum">
              <a: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82560" y="285480"/>
            <a:ext cx="7561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b91"/>
                </a:solidFill>
                <a:latin typeface="-윤명조240"/>
              </a:rPr>
              <a:t>Click to edit the title text format</a:t>
            </a:r>
            <a:endParaRPr b="0" lang="en-US" sz="3600" spc="-1" strike="noStrike">
              <a:solidFill>
                <a:srgbClr val="3f3b91"/>
              </a:solidFill>
              <a:latin typeface="-윤명조240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576080" y="1143000"/>
            <a:ext cx="75675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1581120" y="5952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4593-1D51-4166-A4AC-F3231F6D2D92}" type="datetime">
              <a:rPr b="0" lang="zh-CN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742920" y="59612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992640" y="596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0C61-FE21-4755-9D87-444DE9603AD4}" type="slidenum">
              <a: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43704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0" y="4361040"/>
            <a:ext cx="1079640" cy="24955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0" y="0"/>
            <a:ext cx="1057320" cy="1131840"/>
          </a:xfrm>
          <a:prstGeom prst="rect">
            <a:avLst/>
          </a:prstGeom>
          <a:solidFill>
            <a:srgbClr val="636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6589800"/>
            <a:ext cx="9159840" cy="266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1123920"/>
            <a:ext cx="9158400" cy="0"/>
          </a:xfrm>
          <a:prstGeom prst="line">
            <a:avLst/>
          </a:prstGeom>
          <a:ln w="9360">
            <a:solidFill>
              <a:srgbClr val="3f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214200" y="171360"/>
            <a:ext cx="7509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29718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b91"/>
                </a:solidFill>
                <a:latin typeface="-윤명조240"/>
              </a:rPr>
              <a:t>Click to edit the title text format</a:t>
            </a:r>
            <a:endParaRPr b="0" lang="en-US" sz="4800" spc="-1" strike="noStrike">
              <a:solidFill>
                <a:srgbClr val="3f3b91"/>
              </a:solidFill>
              <a:latin typeface="-윤명조240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1840" cy="40892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0" y="4081320"/>
            <a:ext cx="1131840" cy="27180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0652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5"/>
          <a:stretch/>
        </p:blipFill>
        <p:spPr>
          <a:xfrm>
            <a:off x="0" y="496800"/>
            <a:ext cx="9144000" cy="5065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6"/>
          <a:stretch/>
        </p:blipFill>
        <p:spPr>
          <a:xfrm>
            <a:off x="0" y="995400"/>
            <a:ext cx="9144000" cy="187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0" y="0"/>
            <a:ext cx="1123920" cy="1192320"/>
          </a:xfrm>
          <a:prstGeom prst="rect">
            <a:avLst/>
          </a:prstGeom>
          <a:solidFill>
            <a:srgbClr val="bb9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100160" cy="1179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4467240" y="1990800"/>
            <a:ext cx="808200" cy="9810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2"/>
          <p:cNvSpPr>
            <a:spLocks noGrp="1"/>
          </p:cNvSpPr>
          <p:nvPr>
            <p:ph type="dt" idx="34"/>
          </p:nvPr>
        </p:nvSpPr>
        <p:spPr>
          <a:xfrm>
            <a:off x="113184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2A35-CC20-496E-BD53-A015B18ADEFB}" type="datetime">
              <a:rPr b="0" lang="zh-CN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ftr" idx="35"/>
          </p:nvPr>
        </p:nvSpPr>
        <p:spPr>
          <a:xfrm>
            <a:off x="32479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36"/>
          </p:nvPr>
        </p:nvSpPr>
        <p:spPr>
          <a:xfrm>
            <a:off x="6676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F10A-77B4-4622-A15C-E277D6D12B43}" type="slidenum">
              <a: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97CF-399E-46D6-A031-278FE4F188D8}" type="datetime">
              <a:rPr b="0" lang="zh-CN" sz="1200" spc="-1" strike="noStrike">
                <a:solidFill>
                  <a:srgbClr val="ffffff"/>
                </a:solidFill>
                <a:latin typeface="Tahoma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C98A-7022-4660-B5E6-C5AF75552084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7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ADE-708A-4497-90A8-4B92E3EFFE6D}" type="datetime">
              <a:rPr b="0" lang="zh-CN" sz="1200" spc="-1" strike="noStrike">
                <a:solidFill>
                  <a:srgbClr val="ffffff"/>
                </a:solidFill>
                <a:latin typeface="Tahoma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3318-98BC-4B33-A980-5BF20D5C7827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4473-1E40-4D28-BC41-DD3713DB251F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285D-EF72-4D37-864F-4C49B47D443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15D0-EED1-43C2-8D0C-2FAB020F7B30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4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5C1E-9F02-4E96-896C-D4C2C6154D4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8214-5343-4E9D-A1A2-F02B36A68CA2}" type="datetime">
              <a:rPr b="0" lang="zh-CN" sz="12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4ED1-20CC-4A90-B6AE-7EA09595B57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321C-C932-467A-87BA-8390EC5C0AC6}" type="datetime">
              <a:rPr b="0" lang="zh-CN" sz="12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DC3E-E5D8-44F2-A240-0E4BEF7BB76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56F5-11DF-4F0A-A34C-7F1C601B8959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BBC8-400E-463F-ADCF-BF101A8C6C1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640" y="281916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-소망B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-소망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828800" y="632448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0A12-96F3-4A3B-A312-5D7E8E5836FD}" type="datetime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938760" y="6324480"/>
            <a:ext cx="281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892560" y="6324480"/>
            <a:ext cx="140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F150-2FC1-4AA3-9A0E-ACE937013ADD}" type="slidenum"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3ACE-7B5D-480F-94F0-E79412C5B2A4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54F2-96D3-4035-A93A-9B51982926D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3310-AD3C-4497-9A68-4F8FBFD279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C82D-78E3-43BB-9BC5-B8B8B49EA3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C38D-E688-4A1F-B689-4C4FFAA66A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4546-E2FD-4819-B4E4-A13A1A9A53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5335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e5c00"/>
                </a:solidFill>
                <a:latin typeface="-쉬리B"/>
              </a:rPr>
              <a:t>Click to edit the title text format</a:t>
            </a:r>
            <a:endParaRPr b="0" lang="en-US" sz="4400" spc="-1" strike="noStrike">
              <a:solidFill>
                <a:srgbClr val="2e5c00"/>
              </a:solidFill>
              <a:latin typeface="-쉬리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61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e5d2f"/>
              </a:buClr>
              <a:buFont typeface="-쉬리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d2f"/>
                </a:solidFill>
                <a:latin typeface="-쉬리M"/>
              </a:rPr>
              <a:t>Click to edit the outline text format</a:t>
            </a:r>
            <a:endParaRPr b="0" lang="en-US" sz="3200" spc="-1" strike="noStrike">
              <a:solidFill>
                <a:srgbClr val="5e5d2f"/>
              </a:solidFill>
              <a:latin typeface="-쉬리M"/>
            </a:endParaRPr>
          </a:p>
          <a:p>
            <a:pPr lvl="1" marL="743040" indent="-285840">
              <a:spcBef>
                <a:spcPts val="799"/>
              </a:spcBef>
              <a:buClr>
                <a:srgbClr val="5e5d2f"/>
              </a:buClr>
              <a:buFont typeface="-쉬리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d2f"/>
                </a:solidFill>
                <a:latin typeface="-쉬리M"/>
              </a:rPr>
              <a:t>Second Outline Level</a:t>
            </a:r>
            <a:endParaRPr b="0" lang="en-US" sz="3200" spc="-1" strike="noStrike">
              <a:solidFill>
                <a:srgbClr val="5e5d2f"/>
              </a:solidFill>
              <a:latin typeface="-쉬리M"/>
            </a:endParaRPr>
          </a:p>
          <a:p>
            <a:pPr lvl="2" marL="1143000" indent="-228600">
              <a:spcBef>
                <a:spcPts val="799"/>
              </a:spcBef>
              <a:buClr>
                <a:srgbClr val="5e5d2f"/>
              </a:buClr>
              <a:buFont typeface="-쉬리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d2f"/>
                </a:solidFill>
                <a:latin typeface="-쉬리M"/>
              </a:rPr>
              <a:t>Third Outline Level</a:t>
            </a:r>
            <a:endParaRPr b="0" lang="en-US" sz="3200" spc="-1" strike="noStrike">
              <a:solidFill>
                <a:srgbClr val="5e5d2f"/>
              </a:solidFill>
              <a:latin typeface="-쉬리M"/>
            </a:endParaRPr>
          </a:p>
          <a:p>
            <a:pPr lvl="3" marL="1600200" indent="-228600">
              <a:spcBef>
                <a:spcPts val="799"/>
              </a:spcBef>
              <a:buClr>
                <a:srgbClr val="5e5d2f"/>
              </a:buClr>
              <a:buFont typeface="-쉬리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d2f"/>
                </a:solidFill>
                <a:latin typeface="-쉬리M"/>
              </a:rPr>
              <a:t>Fourth Outline Level</a:t>
            </a:r>
            <a:endParaRPr b="0" lang="en-US" sz="3200" spc="-1" strike="noStrike">
              <a:solidFill>
                <a:srgbClr val="5e5d2f"/>
              </a:solidFill>
              <a:latin typeface="-쉬리M"/>
            </a:endParaRPr>
          </a:p>
          <a:p>
            <a:pPr lvl="4" marL="2057400" indent="-228600">
              <a:spcBef>
                <a:spcPts val="799"/>
              </a:spcBef>
              <a:buClr>
                <a:srgbClr val="5e5d2f"/>
              </a:buClr>
              <a:buFont typeface="-쉬리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d2f"/>
                </a:solidFill>
                <a:latin typeface="-쉬리M"/>
              </a:rPr>
              <a:t>Fifth Outline Level</a:t>
            </a:r>
            <a:endParaRPr b="0" lang="en-US" sz="3200" spc="-1" strike="noStrike">
              <a:solidFill>
                <a:srgbClr val="5e5d2f"/>
              </a:solidFill>
              <a:latin typeface="-쉬리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-쉬리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d2f"/>
                </a:solidFill>
                <a:latin typeface="-쉬리M"/>
              </a:rPr>
              <a:t>Sixth Outline Level</a:t>
            </a:r>
            <a:endParaRPr b="0" lang="en-US" sz="3200" spc="-1" strike="noStrike">
              <a:solidFill>
                <a:srgbClr val="5e5d2f"/>
              </a:solidFill>
              <a:latin typeface="-쉬리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-쉬리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5d2f"/>
                </a:solidFill>
                <a:latin typeface="-쉬리M"/>
              </a:rPr>
              <a:t>Seventh Outline Level</a:t>
            </a:r>
            <a:endParaRPr b="0" lang="en-US" sz="3200" spc="-1" strike="noStrike">
              <a:solidFill>
                <a:srgbClr val="5e5d2f"/>
              </a:solidFill>
              <a:latin typeface="-쉬리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e5d2f"/>
                </a:solidFill>
                <a:latin typeface="-쉬리M"/>
                <a:ea typeface="-쉬리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2B87-1853-4512-AF1C-58B3C170DAE1}" type="datetime">
              <a:rPr b="0" lang="zh-CN" sz="1400" spc="-1" strike="noStrike">
                <a:solidFill>
                  <a:srgbClr val="5e5d2f"/>
                </a:solidFill>
                <a:latin typeface="-쉬리M"/>
                <a:ea typeface="-쉬리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d2f"/>
                </a:solidFill>
                <a:latin typeface="-쉬리M"/>
                <a:ea typeface="-쉬리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e5d2f"/>
                </a:solidFill>
                <a:latin typeface="-쉬리M"/>
                <a:ea typeface="-쉬리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d2f"/>
                </a:solidFill>
                <a:latin typeface="-쉬리M"/>
                <a:ea typeface="-쉬리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CD35-7481-4584-8212-A4BEA9F908C4}" type="slidenum">
              <a:rPr b="0" lang="ko-KR" sz="1400" spc="-1" strike="noStrike">
                <a:solidFill>
                  <a:srgbClr val="5e5d2f"/>
                </a:solidFill>
                <a:latin typeface="-쉬리M"/>
                <a:ea typeface="-쉬리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295280" y="2751120"/>
            <a:ext cx="685800" cy="677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25905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e5c00"/>
                </a:solidFill>
                <a:latin typeface="-쉬리B"/>
              </a:rPr>
              <a:t>Click to edit the title text format</a:t>
            </a:r>
            <a:endParaRPr b="0" lang="en-US" sz="4400" spc="-1" strike="noStrike">
              <a:solidFill>
                <a:srgbClr val="2e5c00"/>
              </a:solidFill>
              <a:latin typeface="-쉬리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e5d2f"/>
                </a:solidFill>
                <a:latin typeface="-쉬리M"/>
                <a:ea typeface="-쉬리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98BD-4359-46B5-849C-3125AB6A5A44}" type="datetime">
              <a:rPr b="0" lang="zh-CN" sz="1400" spc="-1" strike="noStrike">
                <a:solidFill>
                  <a:srgbClr val="5e5d2f"/>
                </a:solidFill>
                <a:latin typeface="-쉬리M"/>
                <a:ea typeface="-쉬리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7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d2f"/>
                </a:solidFill>
                <a:latin typeface="-쉬리M"/>
                <a:ea typeface="-쉬리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e5d2f"/>
                </a:solidFill>
                <a:latin typeface="-쉬리M"/>
                <a:ea typeface="-쉬리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8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d2f"/>
                </a:solidFill>
                <a:latin typeface="-쉬리M"/>
                <a:ea typeface="-쉬리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8DCB-55FC-42A8-A226-BCAA5577CB46}" type="slidenum">
              <a:rPr b="0" lang="ko-KR" sz="1400" spc="-1" strike="noStrike">
                <a:solidFill>
                  <a:srgbClr val="5e5d2f"/>
                </a:solidFill>
                <a:latin typeface="-쉬리M"/>
                <a:ea typeface="-쉬리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050240" y="0"/>
            <a:ext cx="2093760" cy="21337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0066"/>
                </a:solidFill>
                <a:latin typeface="-소망M"/>
              </a:rPr>
              <a:t>Click to edit the title text format</a:t>
            </a:r>
            <a:endParaRPr b="0" lang="en-US" sz="3500" spc="-1" strike="noStrike">
              <a:solidFill>
                <a:srgbClr val="660066"/>
              </a:solidFill>
              <a:latin typeface="-소망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2AB-37C6-4AFE-8FBD-4D1542EC6841}" type="datetime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A4EC-0C97-4E0B-B2F5-48721793BD39}" type="slidenum"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6307200" y="1523880"/>
            <a:ext cx="2836800" cy="32767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0066"/>
                </a:solidFill>
                <a:latin typeface="-소망M"/>
              </a:rPr>
              <a:t>Click to edit the title text format</a:t>
            </a:r>
            <a:endParaRPr b="0" lang="en-US" sz="3500" spc="-1" strike="noStrike">
              <a:solidFill>
                <a:srgbClr val="660066"/>
              </a:solidFill>
              <a:latin typeface="-소망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2DC3-8CC2-4D7A-8D7F-39143C8D7AA4}" type="datetime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6657-946E-4E1F-A6CE-AD0515B10742}" type="slidenum">
              <a:rPr b="0" lang="ko-KR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2" marL="914400" algn="ctr">
              <a:spcBef>
                <a:spcPts val="55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3" marL="1371600" algn="ctr">
              <a:spcBef>
                <a:spcPts val="55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4" marL="1828800" algn="ctr">
              <a:spcBef>
                <a:spcPts val="55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66"/>
              </a:solidFill>
              <a:latin typeface="-소망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82560" y="285480"/>
            <a:ext cx="7561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b91"/>
                </a:solidFill>
                <a:latin typeface="-윤명조240"/>
              </a:rPr>
              <a:t>Click to edit the title text format</a:t>
            </a:r>
            <a:endParaRPr b="0" lang="en-US" sz="3600" spc="-1" strike="noStrike">
              <a:solidFill>
                <a:srgbClr val="3f3b91"/>
              </a:solidFill>
              <a:latin typeface="-윤명조240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576080" y="1143000"/>
            <a:ext cx="75675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1581120" y="5952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9305-39B4-4D0C-AE1C-60217EDE67B8}" type="datetime">
              <a:rPr b="0" lang="zh-CN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742920" y="59612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992640" y="596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A43E-77E2-4916-B763-B2637A89B3DA}" type="slidenum">
              <a:rPr b="0" lang="ko-KR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43704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0" y="4361040"/>
            <a:ext cx="1079640" cy="24955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0"/>
            <a:ext cx="1057320" cy="1131840"/>
          </a:xfrm>
          <a:prstGeom prst="rect">
            <a:avLst/>
          </a:prstGeom>
          <a:solidFill>
            <a:srgbClr val="636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589800"/>
            <a:ext cx="9159840" cy="266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123920"/>
            <a:ext cx="9158400" cy="0"/>
          </a:xfrm>
          <a:prstGeom prst="line">
            <a:avLst/>
          </a:prstGeom>
          <a:ln w="9360">
            <a:solidFill>
              <a:srgbClr val="3f3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214200" y="171360"/>
            <a:ext cx="7509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26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3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3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9.wmf"/><Relationship Id="rId22" Type="http://schemas.openxmlformats.org/officeDocument/2006/relationships/slideLayout" Target="../slideLayouts/slideLayout3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5.wmf"/><Relationship Id="rId15" Type="http://schemas.openxmlformats.org/officeDocument/2006/relationships/slideLayout" Target="../slideLayouts/slideLayout3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6.jpeg"/><Relationship Id="rId3" Type="http://schemas.openxmlformats.org/officeDocument/2006/relationships/image" Target="../media/image56.jpeg"/><Relationship Id="rId4" Type="http://schemas.openxmlformats.org/officeDocument/2006/relationships/image" Target="../media/image56.jpeg"/><Relationship Id="rId5" Type="http://schemas.openxmlformats.org/officeDocument/2006/relationships/image" Target="../media/image56.jpeg"/><Relationship Id="rId6" Type="http://schemas.openxmlformats.org/officeDocument/2006/relationships/image" Target="../media/image56.jpeg"/><Relationship Id="rId7" Type="http://schemas.openxmlformats.org/officeDocument/2006/relationships/image" Target="../media/image56.jpeg"/><Relationship Id="rId8" Type="http://schemas.openxmlformats.org/officeDocument/2006/relationships/image" Target="../media/image56.jpeg"/><Relationship Id="rId9" Type="http://schemas.openxmlformats.org/officeDocument/2006/relationships/image" Target="../media/image56.jpeg"/><Relationship Id="rId10" Type="http://schemas.openxmlformats.org/officeDocument/2006/relationships/image" Target="../media/image56.jpeg"/><Relationship Id="rId11" Type="http://schemas.openxmlformats.org/officeDocument/2006/relationships/image" Target="../media/image56.jpeg"/><Relationship Id="rId12" Type="http://schemas.openxmlformats.org/officeDocument/2006/relationships/image" Target="../media/image56.jpeg"/><Relationship Id="rId13" Type="http://schemas.openxmlformats.org/officeDocument/2006/relationships/image" Target="../media/image56.jpeg"/><Relationship Id="rId14" Type="http://schemas.openxmlformats.org/officeDocument/2006/relationships/image" Target="../media/image56.jpeg"/><Relationship Id="rId15" Type="http://schemas.openxmlformats.org/officeDocument/2006/relationships/image" Target="../media/image56.jpeg"/><Relationship Id="rId16" Type="http://schemas.openxmlformats.org/officeDocument/2006/relationships/image" Target="../media/image56.jpeg"/><Relationship Id="rId17" Type="http://schemas.openxmlformats.org/officeDocument/2006/relationships/image" Target="../media/image56.jpeg"/><Relationship Id="rId18" Type="http://schemas.openxmlformats.org/officeDocument/2006/relationships/image" Target="../media/image57.png"/><Relationship Id="rId19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6.jpeg"/><Relationship Id="rId3" Type="http://schemas.openxmlformats.org/officeDocument/2006/relationships/image" Target="../media/image56.jpeg"/><Relationship Id="rId4" Type="http://schemas.openxmlformats.org/officeDocument/2006/relationships/image" Target="../media/image56.jpeg"/><Relationship Id="rId5" Type="http://schemas.openxmlformats.org/officeDocument/2006/relationships/image" Target="../media/image56.jpeg"/><Relationship Id="rId6" Type="http://schemas.openxmlformats.org/officeDocument/2006/relationships/image" Target="../media/image56.jpeg"/><Relationship Id="rId7" Type="http://schemas.openxmlformats.org/officeDocument/2006/relationships/image" Target="../media/image56.jpeg"/><Relationship Id="rId8" Type="http://schemas.openxmlformats.org/officeDocument/2006/relationships/image" Target="../media/image56.jpeg"/><Relationship Id="rId9" Type="http://schemas.openxmlformats.org/officeDocument/2006/relationships/image" Target="../media/image56.jpeg"/><Relationship Id="rId10" Type="http://schemas.openxmlformats.org/officeDocument/2006/relationships/image" Target="../media/image56.jpeg"/><Relationship Id="rId11" Type="http://schemas.openxmlformats.org/officeDocument/2006/relationships/image" Target="../media/image56.jpeg"/><Relationship Id="rId12" Type="http://schemas.openxmlformats.org/officeDocument/2006/relationships/image" Target="../media/image56.jpeg"/><Relationship Id="rId13" Type="http://schemas.openxmlformats.org/officeDocument/2006/relationships/image" Target="../media/image56.jpeg"/><Relationship Id="rId14" Type="http://schemas.openxmlformats.org/officeDocument/2006/relationships/image" Target="../media/image56.jpeg"/><Relationship Id="rId15" Type="http://schemas.openxmlformats.org/officeDocument/2006/relationships/image" Target="../media/image56.jpeg"/><Relationship Id="rId16" Type="http://schemas.openxmlformats.org/officeDocument/2006/relationships/image" Target="../media/image56.jpeg"/><Relationship Id="rId17" Type="http://schemas.openxmlformats.org/officeDocument/2006/relationships/image" Target="../media/image56.jpeg"/><Relationship Id="rId18" Type="http://schemas.openxmlformats.org/officeDocument/2006/relationships/image" Target="../media/image56.jpeg"/><Relationship Id="rId19" Type="http://schemas.openxmlformats.org/officeDocument/2006/relationships/image" Target="../media/image56.jpeg"/><Relationship Id="rId20" Type="http://schemas.openxmlformats.org/officeDocument/2006/relationships/image" Target="../media/image56.jpeg"/><Relationship Id="rId2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3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3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wmf"/><Relationship Id="rId8" Type="http://schemas.openxmlformats.org/officeDocument/2006/relationships/image" Target="../media/image6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72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73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7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75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76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77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78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79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80.wmf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81.wmf"/><Relationship Id="rId37" Type="http://schemas.openxmlformats.org/officeDocument/2006/relationships/slideLayout" Target="../slideLayouts/slideLayout3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6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9.wmf"/><Relationship Id="rId9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0.wmf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4.wmf"/><Relationship Id="rId11" Type="http://schemas.openxmlformats.org/officeDocument/2006/relationships/slideLayout" Target="../slideLayouts/slideLayout3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3.wmf"/><Relationship Id="rId22" Type="http://schemas.openxmlformats.org/officeDocument/2006/relationships/slideLayout" Target="../slideLayouts/slideLayout3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207.xml"/><Relationship Id="rId10" Type="http://schemas.openxmlformats.org/officeDocument/2006/relationships/slide" Target="slide22.xml"/><Relationship Id="rId11" Type="http://schemas.openxmlformats.org/officeDocument/2006/relationships/slide" Target="slide22.xml"/><Relationship Id="rId12" Type="http://schemas.openxmlformats.org/officeDocument/2006/relationships/slide" Target="slide30.xml"/><Relationship Id="rId13" Type="http://schemas.openxmlformats.org/officeDocument/2006/relationships/slide" Target="slide30.xml"/><Relationship Id="rId14" Type="http://schemas.openxmlformats.org/officeDocument/2006/relationships/slide" Target="slide40.xml"/><Relationship Id="rId15" Type="http://schemas.openxmlformats.org/officeDocument/2006/relationships/slide" Target="slide40.xml"/><Relationship Id="rId16" Type="http://schemas.openxmlformats.org/officeDocument/2006/relationships/slide" Target="slide49.xml"/><Relationship Id="rId17" Type="http://schemas.openxmlformats.org/officeDocument/2006/relationships/slide" Target="slide50.xml"/><Relationship Id="rId18" Type="http://schemas.openxmlformats.org/officeDocument/2006/relationships/slide" Target="slide50.xml"/><Relationship Id="rId19" Type="http://schemas.openxmlformats.org/officeDocument/2006/relationships/slide" Target="slide51.xml"/><Relationship Id="rId20" Type="http://schemas.openxmlformats.org/officeDocument/2006/relationships/slide" Target="slide51.xml"/><Relationship Id="rId21" Type="http://schemas.openxmlformats.org/officeDocument/2006/relationships/slide" Target="slide64.xml"/><Relationship Id="rId22" Type="http://schemas.openxmlformats.org/officeDocument/2006/relationships/slide" Target="slide64.xml"/><Relationship Id="rId23" Type="http://schemas.openxmlformats.org/officeDocument/2006/relationships/slide" Target="slide66.xml"/><Relationship Id="rId24" Type="http://schemas.openxmlformats.org/officeDocument/2006/relationships/slide" Target="slide66.xml"/><Relationship Id="rId25" Type="http://schemas.openxmlformats.org/officeDocument/2006/relationships/slide" Target="slide80.xml"/><Relationship Id="rId26" Type="http://schemas.openxmlformats.org/officeDocument/2006/relationships/slide" Target="slide80.xml"/><Relationship Id="rId27" Type="http://schemas.openxmlformats.org/officeDocument/2006/relationships/slide" Target="slide82.xml"/><Relationship Id="rId28" Type="http://schemas.openxmlformats.org/officeDocument/2006/relationships/slide" Target="slide83.xml"/><Relationship Id="rId29" Type="http://schemas.openxmlformats.org/officeDocument/2006/relationships/slide" Target="slide83.xml"/><Relationship Id="rId30" Type="http://schemas.openxmlformats.org/officeDocument/2006/relationships/slide" Target="slide94.xml"/><Relationship Id="rId31" Type="http://schemas.openxmlformats.org/officeDocument/2006/relationships/slide" Target="slide94.xml"/><Relationship Id="rId32" Type="http://schemas.openxmlformats.org/officeDocument/2006/relationships/slide" Target="slide101.xml"/><Relationship Id="rId33" Type="http://schemas.openxmlformats.org/officeDocument/2006/relationships/slide" Target="slide101.xml"/><Relationship Id="rId34" Type="http://schemas.openxmlformats.org/officeDocument/2006/relationships/slide" Target="slide111.xml"/><Relationship Id="rId35" Type="http://schemas.openxmlformats.org/officeDocument/2006/relationships/slide" Target="slide111.xml"/><Relationship Id="rId36" Type="http://schemas.openxmlformats.org/officeDocument/2006/relationships/slideLayout" Target="../slideLayouts/slideLayout19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4.wmf"/><Relationship Id="rId7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3.wmf"/><Relationship Id="rId22" Type="http://schemas.openxmlformats.org/officeDocument/2006/relationships/slideLayout" Target="../slideLayouts/slideLayout3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9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0.wmf"/><Relationship Id="rId19" Type="http://schemas.openxmlformats.org/officeDocument/2006/relationships/slideLayout" Target="../slideLayouts/slideLayou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7.wmf"/><Relationship Id="rId19" Type="http://schemas.openxmlformats.org/officeDocument/2006/relationships/slideLayout" Target="../slideLayouts/slideLayout3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3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34.wmf"/><Relationship Id="rId19" Type="http://schemas.openxmlformats.org/officeDocument/2006/relationships/slideLayout" Target="../slideLayouts/slideLayout3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6.wmf"/><Relationship Id="rId6" Type="http://schemas.openxmlformats.org/officeDocument/2006/relationships/slideLayout" Target="../slideLayouts/slideLayout3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3.wmf"/><Relationship Id="rId16" Type="http://schemas.openxmlformats.org/officeDocument/2006/relationships/slideLayout" Target="../slideLayouts/slideLayout3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5.wmf"/><Relationship Id="rId6" Type="http://schemas.openxmlformats.org/officeDocument/2006/relationships/slideLayout" Target="../slideLayouts/slideLayout3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52.wmf"/><Relationship Id="rId16" Type="http://schemas.openxmlformats.org/officeDocument/2006/relationships/slideLayout" Target="../slideLayouts/slideLayout3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5.wmf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8.wmf"/><Relationship Id="rId9" Type="http://schemas.openxmlformats.org/officeDocument/2006/relationships/image" Target="../media/image159.png"/><Relationship Id="rId10" Type="http://schemas.openxmlformats.org/officeDocument/2006/relationships/image" Target="../media/image159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3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3.wmf"/><Relationship Id="rId10" Type="http://schemas.openxmlformats.org/officeDocument/2006/relationships/slideLayout" Target="../slideLayouts/slideLayout3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5.wmf"/><Relationship Id="rId7" Type="http://schemas.openxmlformats.org/officeDocument/2006/relationships/image" Target="../media/image166.wmf"/><Relationship Id="rId8" Type="http://schemas.openxmlformats.org/officeDocument/2006/relationships/slideLayout" Target="../slideLayouts/slideLayout3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1.wmf"/><Relationship Id="rId12" Type="http://schemas.openxmlformats.org/officeDocument/2006/relationships/slideLayout" Target="../slideLayouts/slideLayout10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8.wmf"/><Relationship Id="rId15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1.wmf"/><Relationship Id="rId5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2.wmf"/><Relationship Id="rId3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3.wmf"/><Relationship Id="rId21" Type="http://schemas.openxmlformats.org/officeDocument/2006/relationships/slideLayout" Target="../slideLayouts/slideLayout56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8.wmf"/><Relationship Id="rId12" Type="http://schemas.openxmlformats.org/officeDocument/2006/relationships/image" Target="../media/image199.gif"/><Relationship Id="rId13" Type="http://schemas.openxmlformats.org/officeDocument/2006/relationships/slideLayout" Target="../slideLayouts/slideLayout56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0.wmf"/><Relationship Id="rId4" Type="http://schemas.openxmlformats.org/officeDocument/2006/relationships/image" Target="../media/image201.gif"/><Relationship Id="rId5" Type="http://schemas.openxmlformats.org/officeDocument/2006/relationships/slideLayout" Target="../slideLayouts/slideLayout56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2.wmf"/><Relationship Id="rId3" Type="http://schemas.openxmlformats.org/officeDocument/2006/relationships/slideLayout" Target="../slideLayouts/slideLayout56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6.wmf"/><Relationship Id="rId11" Type="http://schemas.openxmlformats.org/officeDocument/2006/relationships/slideLayout" Target="../slideLayouts/slideLayout56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15.wmf"/><Relationship Id="rId18" Type="http://schemas.openxmlformats.org/officeDocument/2006/relationships/slideLayout" Target="../slideLayouts/slideLayout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3.wmf"/><Relationship Id="rId17" Type="http://schemas.openxmlformats.org/officeDocument/2006/relationships/slideLayout" Target="../slideLayouts/slideLayout5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6.wmf"/><Relationship Id="rId8" Type="http://schemas.openxmlformats.org/officeDocument/2006/relationships/image" Target="../media/image199.gif"/><Relationship Id="rId9" Type="http://schemas.openxmlformats.org/officeDocument/2006/relationships/slideLayout" Target="../slideLayouts/slideLayout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0.wmf"/><Relationship Id="rId10" Type="http://schemas.openxmlformats.org/officeDocument/2006/relationships/image" Target="../media/image231.gif"/><Relationship Id="rId11" Type="http://schemas.openxmlformats.org/officeDocument/2006/relationships/slideLayout" Target="../slideLayouts/slideLayout56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7.wmf"/><Relationship Id="rId16" Type="http://schemas.openxmlformats.org/officeDocument/2006/relationships/slideLayout" Target="../slideLayouts/slideLayout56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3.wmf"/><Relationship Id="rId13" Type="http://schemas.openxmlformats.org/officeDocument/2006/relationships/image" Target="../media/image244.gif"/><Relationship Id="rId14" Type="http://schemas.openxmlformats.org/officeDocument/2006/relationships/image" Target="../media/image57.png"/><Relationship Id="rId15" Type="http://schemas.openxmlformats.org/officeDocument/2006/relationships/slideLayout" Target="../slideLayouts/slideLayout56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5.wmf"/><Relationship Id="rId3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3.wmf"/><Relationship Id="rId19" Type="http://schemas.openxmlformats.org/officeDocument/2006/relationships/slideLayout" Target="../slideLayouts/slideLayout56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9.wmf"/><Relationship Id="rId14" Type="http://schemas.openxmlformats.org/officeDocument/2006/relationships/slideLayout" Target="../slideLayouts/slideLayout56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4.wmf"/><Relationship Id="rId11" Type="http://schemas.openxmlformats.org/officeDocument/2006/relationships/slideLayout" Target="../slideLayouts/slideLayout5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7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78.wmf"/><Relationship Id="rId29" Type="http://schemas.openxmlformats.org/officeDocument/2006/relationships/slideLayout" Target="../slideLayouts/slideLayout56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8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8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8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8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88.wmf"/><Relationship Id="rId22" Type="http://schemas.openxmlformats.org/officeDocument/2006/relationships/slideLayout" Target="../slideLayouts/slideLayout56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9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99.wmf"/><Relationship Id="rId31" Type="http://schemas.openxmlformats.org/officeDocument/2006/relationships/slideLayout" Target="../slideLayouts/slideLayout5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4.wmf"/><Relationship Id="rId12" Type="http://schemas.openxmlformats.org/officeDocument/2006/relationships/slideLayout" Target="../slideLayouts/slideLayout5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1.wmf"/><Relationship Id="rId15" Type="http://schemas.openxmlformats.org/officeDocument/2006/relationships/slideLayout" Target="../slideLayouts/slideLayout56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7.wmf"/><Relationship Id="rId14" Type="http://schemas.openxmlformats.org/officeDocument/2006/relationships/slideLayout" Target="../slideLayouts/slideLayout5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30.wmf"/><Relationship Id="rId27" Type="http://schemas.openxmlformats.org/officeDocument/2006/relationships/slideLayout" Target="../slideLayouts/slideLayout56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3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4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4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47.wmf"/><Relationship Id="rId37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6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6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6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5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6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65.wmf"/><Relationship Id="rId39" Type="http://schemas.openxmlformats.org/officeDocument/2006/relationships/slideLayout" Target="../slideLayouts/slideLayout5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7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7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7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7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76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77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78.wmf"/><Relationship Id="rId28" Type="http://schemas.openxmlformats.org/officeDocument/2006/relationships/slideLayout" Target="../slideLayouts/slideLayout56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8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8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8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8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8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88.wmf"/><Relationship Id="rId22" Type="http://schemas.openxmlformats.org/officeDocument/2006/relationships/slideLayout" Target="../slideLayouts/slideLayout56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9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96.wmf"/><Relationship Id="rId18" Type="http://schemas.openxmlformats.org/officeDocument/2006/relationships/slideLayout" Target="../slideLayouts/slideLayout5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2.wmf"/><Relationship Id="rId13" Type="http://schemas.openxmlformats.org/officeDocument/2006/relationships/slideLayout" Target="../slideLayouts/slideLayout56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0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1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1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12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13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14.wmf"/><Relationship Id="rId26" Type="http://schemas.openxmlformats.org/officeDocument/2006/relationships/slideLayout" Target="../slideLayouts/slideLayout56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6.wmf"/><Relationship Id="rId5" Type="http://schemas.openxmlformats.org/officeDocument/2006/relationships/slideLayout" Target="../slideLayouts/slideLayout56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17.wmf"/><Relationship Id="rId18" Type="http://schemas.openxmlformats.org/officeDocument/2006/relationships/slideLayout" Target="../slideLayouts/slideLayout56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2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2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27.wmf"/><Relationship Id="rId20" Type="http://schemas.openxmlformats.org/officeDocument/2006/relationships/slideLayout" Target="../slideLayouts/slideLayout56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3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4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4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4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43.wmf"/><Relationship Id="rId33" Type="http://schemas.openxmlformats.org/officeDocument/2006/relationships/slideLayout" Target="../slideLayouts/slideLayout56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4.wmf"/><Relationship Id="rId3" Type="http://schemas.openxmlformats.org/officeDocument/2006/relationships/slideLayout" Target="../slideLayouts/slideLayout5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5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5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5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5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55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56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457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458.wmf"/><Relationship Id="rId30" Type="http://schemas.openxmlformats.org/officeDocument/2006/relationships/image" Target="../media/image57.png"/><Relationship Id="rId31" Type="http://schemas.openxmlformats.org/officeDocument/2006/relationships/slideLayout" Target="../slideLayouts/slideLayout56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6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6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6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6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6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68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69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7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471.wmf"/><Relationship Id="rId28" Type="http://schemas.openxmlformats.org/officeDocument/2006/relationships/slideLayout" Target="../slideLayouts/slideLayout4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2.wmf"/><Relationship Id="rId3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73.gif"/><Relationship Id="rId2" Type="http://schemas.openxmlformats.org/officeDocument/2006/relationships/image" Target="../media/image474.gif"/><Relationship Id="rId3" Type="http://schemas.openxmlformats.org/officeDocument/2006/relationships/image" Target="../media/image475.gif"/><Relationship Id="rId4" Type="http://schemas.openxmlformats.org/officeDocument/2006/relationships/image" Target="../media/image474.gif"/><Relationship Id="rId5" Type="http://schemas.openxmlformats.org/officeDocument/2006/relationships/image" Target="../media/image474.gif"/><Relationship Id="rId6" Type="http://schemas.openxmlformats.org/officeDocument/2006/relationships/image" Target="../media/image475.gif"/><Relationship Id="rId7" Type="http://schemas.openxmlformats.org/officeDocument/2006/relationships/image" Target="../media/image475.gif"/><Relationship Id="rId8" Type="http://schemas.openxmlformats.org/officeDocument/2006/relationships/image" Target="../media/image474.gif"/><Relationship Id="rId9" Type="http://schemas.openxmlformats.org/officeDocument/2006/relationships/image" Target="../media/image474.gif"/><Relationship Id="rId10" Type="http://schemas.openxmlformats.org/officeDocument/2006/relationships/slideLayout" Target="../slideLayouts/slideLayout1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-237960" y="2197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-소망M"/>
                <a:ea typeface="宋体"/>
              </a:rPr>
              <a:t>概率论与数理统计</a:t>
            </a:r>
            <a:r>
              <a:rPr b="0" lang="zh-CN" sz="3500" spc="-1" strike="noStrike">
                <a:solidFill>
                  <a:srgbClr val="660066"/>
                </a:solidFill>
                <a:latin typeface="-소망M"/>
                <a:ea typeface="宋体"/>
              </a:rPr>
              <a:t>        </a:t>
            </a:r>
            <a:endParaRPr b="0" lang="en-US" sz="3500" spc="-1" strike="noStrike">
              <a:solidFill>
                <a:srgbClr val="660066"/>
              </a:solidFill>
              <a:latin typeface="-소망M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58760" y="142920"/>
            <a:ext cx="171432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91DF9-6652-4261-A32A-8BE3C26F48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5554DEE1-6ACF-4E52-9512-4254092312EF}" type="datetime1">
              <a:rPr lang="en-US"/>
              <a:t>07/29/26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9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600" y="3693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宋体"/>
              </a:rPr>
              <a:t>概率统计中研究的对象：随机现象的数量规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77640" y="1268280"/>
            <a:ext cx="864684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对随机现象的观察、记录、试验统称为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</a:rPr>
              <a:t>随机试验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它具有以下特性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1338120" indent="-53316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可以在相同条件下重复进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1338120" indent="-53316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事先知道可能出现的结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1338120" indent="-53316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进行试验前并不知道哪个试验结果会发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2" name="Litebulb"/>
          <p:cNvSpPr/>
          <p:nvPr/>
        </p:nvSpPr>
        <p:spPr>
          <a:xfrm>
            <a:off x="542880" y="1297080"/>
            <a:ext cx="177840" cy="23796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marL="228600" indent="-228600">
              <a:spcBef>
                <a:spcPts val="451"/>
              </a:spcBef>
              <a:buClr>
                <a:srgbClr val="007a7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800" y="3827520"/>
            <a:ext cx="86472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抛一枚硬币，观察试验结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对某路公交车某停靠站登记下车人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对某批电子产品测试其输入电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38120" indent="-53316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对听课人数进行一次登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DCA7-3F38-48CD-937A-D355907631C6}" type="slidenum">
              <a:t>10</a:t>
            </a:fld>
          </a:p>
        </p:txBody>
      </p:sp>
    </p:spTree>
  </p:cSld>
  <p:transition spd="med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07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-1365120" y="-105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宋体"/>
                <a:ea typeface="Arial"/>
              </a:rPr>
              <a:t>§2  </a:t>
            </a:r>
            <a:r>
              <a:rPr b="0" lang="zh-CN" sz="3600" spc="-1" strike="noStrike">
                <a:solidFill>
                  <a:srgbClr val="003399"/>
                </a:solidFill>
                <a:latin typeface="宋体"/>
                <a:ea typeface="Arial"/>
              </a:rPr>
              <a:t>样本空间</a:t>
            </a:r>
            <a:r>
              <a:rPr b="0" lang="zh-CN" sz="3600" spc="-1" strike="noStrike">
                <a:solidFill>
                  <a:srgbClr val="003399"/>
                </a:solidFill>
                <a:latin typeface="宋体"/>
                <a:ea typeface="Arial"/>
              </a:rPr>
              <a:t>·</a:t>
            </a:r>
            <a:r>
              <a:rPr b="0" lang="zh-CN" sz="3600" spc="-1" strike="noStrike">
                <a:solidFill>
                  <a:srgbClr val="003399"/>
                </a:solidFill>
                <a:latin typeface="宋体"/>
                <a:ea typeface="Arial"/>
              </a:rPr>
              <a:t>随机事件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3360" y="1002960"/>
            <a:ext cx="8871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一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样本空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定义：随机试验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的所有结果构成的集合称为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样本空间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，记为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S={e}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称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S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中的元素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基本事件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样本点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6" name="Litebulb"/>
          <p:cNvSpPr/>
          <p:nvPr/>
        </p:nvSpPr>
        <p:spPr>
          <a:xfrm>
            <a:off x="720720" y="1587600"/>
            <a:ext cx="225360" cy="28728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7a7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9" name=""/>
          <p:cNvSpPr/>
          <p:nvPr/>
        </p:nvSpPr>
        <p:spPr>
          <a:xfrm>
            <a:off x="2063880" y="4202280"/>
            <a:ext cx="27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宋体"/>
              </a:rPr>
              <a:t>S={0,1,2,…}</a:t>
            </a:r>
            <a:r>
              <a:rPr b="0" lang="zh-CN" sz="2800" spc="-1" strike="noStrike">
                <a:solidFill>
                  <a:srgbClr val="dc59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977360" y="32767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宋体"/>
              </a:rPr>
              <a:t>S={</a:t>
            </a:r>
            <a:r>
              <a:rPr b="0" lang="zh-CN" sz="2800" spc="-1" strike="noStrike">
                <a:solidFill>
                  <a:srgbClr val="dc5900"/>
                </a:solidFill>
                <a:latin typeface="宋体"/>
              </a:rPr>
              <a:t>正面，反面</a:t>
            </a:r>
            <a:r>
              <a:rPr b="0" lang="zh-CN" sz="2800" spc="-1" strike="noStrike">
                <a:solidFill>
                  <a:srgbClr val="dc5900"/>
                </a:solidFill>
                <a:latin typeface="宋体"/>
              </a:rPr>
              <a:t>}</a:t>
            </a:r>
            <a:r>
              <a:rPr b="0" lang="zh-CN" sz="2800" spc="-1" strike="noStrike">
                <a:solidFill>
                  <a:srgbClr val="dc59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038680" y="5154480"/>
            <a:ext cx="436860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宋体"/>
              </a:rPr>
              <a:t>S={(x,y)|T</a:t>
            </a:r>
            <a:r>
              <a:rPr b="0" lang="en-US" sz="2800" spc="-1" strike="noStrike" baseline="-15000">
                <a:solidFill>
                  <a:srgbClr val="dc5900"/>
                </a:solidFill>
                <a:latin typeface="宋体"/>
              </a:rPr>
              <a:t>0</a:t>
            </a:r>
            <a:r>
              <a:rPr b="0" lang="en-US" sz="2800" spc="-1" strike="noStrike">
                <a:solidFill>
                  <a:srgbClr val="dc5900"/>
                </a:solidFill>
                <a:latin typeface="宋体"/>
                <a:ea typeface="Arial"/>
              </a:rPr>
              <a:t>≤y</a:t>
            </a:r>
            <a:r>
              <a:rPr b="0" lang="en-US" sz="2800" spc="-1" strike="noStrike">
                <a:solidFill>
                  <a:srgbClr val="dc5900"/>
                </a:solidFill>
                <a:latin typeface="宋体"/>
              </a:rPr>
              <a:t>≤x≤T</a:t>
            </a:r>
            <a:r>
              <a:rPr b="0" lang="en-US" sz="2800" spc="-1" strike="noStrike" baseline="-15000">
                <a:solidFill>
                  <a:srgbClr val="dc5900"/>
                </a:solidFill>
                <a:latin typeface="宋体"/>
              </a:rPr>
              <a:t>1</a:t>
            </a:r>
            <a:r>
              <a:rPr b="0" lang="en-US" sz="2800" spc="-1" strike="noStrike">
                <a:solidFill>
                  <a:srgbClr val="dc5900"/>
                </a:solidFill>
                <a:latin typeface="宋体"/>
              </a:rPr>
              <a:t>}</a:t>
            </a:r>
            <a:r>
              <a:rPr b="0" lang="zh-CN" sz="2800" spc="-1" strike="noStrike">
                <a:solidFill>
                  <a:srgbClr val="dc59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287320" y="566244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宋体"/>
              </a:rPr>
              <a:t>S={ x|a≤x≤b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2880" y="3355920"/>
            <a:ext cx="8871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　记录一城市一日中发生交通事故次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2880" y="2417760"/>
            <a:ext cx="88711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　一枚硬币抛一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16000" y="4268880"/>
            <a:ext cx="88707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　记录某地一昼夜最高温度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，最低温度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16000" y="4718160"/>
            <a:ext cx="887076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　记录一批产品的寿命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3277-07B7-4480-844E-901777D7A018}" type="slidenum">
              <a:t>11</a:t>
            </a:fld>
          </a:p>
        </p:txBody>
      </p:sp>
    </p:spTree>
  </p:cSld>
  <p:transition spd="med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-360" y="158760"/>
            <a:ext cx="94489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二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)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随机事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一般我们称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S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的子集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为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机事件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，当且仅当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所包含的一个样本点发生称事件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发生。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8" name="Litebulb"/>
          <p:cNvSpPr/>
          <p:nvPr/>
        </p:nvSpPr>
        <p:spPr>
          <a:xfrm>
            <a:off x="849240" y="806400"/>
            <a:ext cx="225360" cy="30312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7a7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424560" y="1641600"/>
            <a:ext cx="249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{0,1,2,…}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1167120" y="2373480"/>
            <a:ext cx="7054200" cy="2067120"/>
            <a:chOff x="1167120" y="2373480"/>
            <a:chExt cx="7054200" cy="2067120"/>
          </a:xfrm>
        </p:grpSpPr>
        <p:graphicFrame>
          <p:nvGraphicFramePr>
            <p:cNvPr id="951" name=""/>
            <p:cNvGraphicFramePr/>
            <p:nvPr/>
          </p:nvGraphicFramePr>
          <p:xfrm>
            <a:off x="7423200" y="2545200"/>
            <a:ext cx="650880" cy="24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423200" y="2545200"/>
                      <a:ext cx="65088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167120" y="2373480"/>
              <a:ext cx="7054200" cy="20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记 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{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至少有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人候车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}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{10,11,12,…}  S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为随机事件，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可能发生，也可能不发生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	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0" y="1631880"/>
            <a:ext cx="6388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例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路公交车浙大站候车人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3703680"/>
            <a:ext cx="94489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51000" indent="-328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如果将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S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亦视作事件，则每次试验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S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总是发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故又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然事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1000" indent="-3286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为方便起见，记</a:t>
            </a:r>
            <a:r>
              <a:rPr b="0" lang="el-GR" sz="2800" spc="-1" strike="noStrike">
                <a:solidFill>
                  <a:srgbClr val="007a77"/>
                </a:solidFill>
                <a:latin typeface="宋体"/>
                <a:ea typeface="宋体"/>
              </a:rPr>
              <a:t>Φ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能事件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，</a:t>
            </a:r>
            <a:r>
              <a:rPr b="0" lang="el-GR" sz="2800" spc="-1" strike="noStrike">
                <a:solidFill>
                  <a:srgbClr val="007a77"/>
                </a:solidFill>
                <a:latin typeface="宋体"/>
                <a:ea typeface="宋体"/>
              </a:rPr>
              <a:t>Φ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不包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1000" indent="-328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  <a:ea typeface="宋体"/>
              </a:rPr>
              <a:t>任何样本点。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E9C1-16B3-4B56-89E8-51FD3CFA0A10}" type="slidenum">
              <a:t>12</a:t>
            </a:fld>
          </a:p>
        </p:txBody>
      </p:sp>
    </p:spTree>
  </p:cSld>
  <p:transition spd="med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4" dur="2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0" y="331560"/>
            <a:ext cx="8928000" cy="63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三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)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事件的关系及运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事件的关系（包含、相等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例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A={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明天天晴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B={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明天无雨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}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A={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至少有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人候车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B={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至少有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人候车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}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66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一枚硬币抛两次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A={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一次是正面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B={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至少有一次正面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}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"/>
          <p:cNvGraphicFramePr/>
          <p:nvPr/>
        </p:nvGraphicFramePr>
        <p:xfrm>
          <a:off x="666720" y="1973160"/>
          <a:ext cx="2516040" cy="85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720" y="1973160"/>
                    <a:ext cx="25160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720720" y="1333440"/>
          <a:ext cx="467028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0720" y="1333440"/>
                    <a:ext cx="46702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"/>
          <p:cNvGraphicFramePr/>
          <p:nvPr/>
        </p:nvGraphicFramePr>
        <p:xfrm>
          <a:off x="5203800" y="3508200"/>
          <a:ext cx="114300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03800" y="3508200"/>
                    <a:ext cx="1143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6799320" y="4389480"/>
          <a:ext cx="1143000" cy="37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99320" y="4389480"/>
                    <a:ext cx="11430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853920" y="5726160"/>
          <a:ext cx="1143000" cy="37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3920" y="5726160"/>
                    <a:ext cx="11430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9" name=""/>
          <p:cNvGrpSpPr/>
          <p:nvPr/>
        </p:nvGrpSpPr>
        <p:grpSpPr>
          <a:xfrm>
            <a:off x="6141960" y="1103400"/>
            <a:ext cx="2205000" cy="1089000"/>
            <a:chOff x="6141960" y="1103400"/>
            <a:chExt cx="2205000" cy="1089000"/>
          </a:xfrm>
        </p:grpSpPr>
        <p:grpSp>
          <p:nvGrpSpPr>
            <p:cNvPr id="970" name=""/>
            <p:cNvGrpSpPr/>
            <p:nvPr/>
          </p:nvGrpSpPr>
          <p:grpSpPr>
            <a:xfrm>
              <a:off x="6141960" y="1103400"/>
              <a:ext cx="2205000" cy="1089000"/>
              <a:chOff x="6141960" y="1103400"/>
              <a:chExt cx="2205000" cy="1089000"/>
            </a:xfrm>
          </p:grpSpPr>
          <p:sp>
            <p:nvSpPr>
              <p:cNvPr id="971" name=""/>
              <p:cNvSpPr/>
              <p:nvPr/>
            </p:nvSpPr>
            <p:spPr>
              <a:xfrm>
                <a:off x="6141960" y="1144800"/>
                <a:ext cx="2138400" cy="1047600"/>
              </a:xfrm>
              <a:prstGeom prst="rect">
                <a:avLst/>
              </a:prstGeom>
              <a:solidFill>
                <a:srgbClr val="ebf7ff"/>
              </a:solidFill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894800" y="1103400"/>
                <a:ext cx="45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宋体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6791400" y="1236600"/>
              <a:ext cx="914400" cy="855720"/>
              <a:chOff x="6791400" y="1236600"/>
              <a:chExt cx="914400" cy="8557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7061400" y="1447560"/>
                <a:ext cx="529920" cy="560520"/>
                <a:chOff x="7061400" y="1447560"/>
                <a:chExt cx="529920" cy="56052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7061400" y="1447560"/>
                  <a:ext cx="529920" cy="560520"/>
                </a:xfrm>
                <a:prstGeom prst="ellipse">
                  <a:avLst/>
                </a:prstGeom>
                <a:noFill/>
                <a:ln w="1908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1143000" indent="-228600" algn="ctr">
                    <a:spcBef>
                      <a:spcPts val="451"/>
                    </a:spcBef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162920" y="1533240"/>
                  <a:ext cx="36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28600" indent="-228600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66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791400" y="1236600"/>
                <a:ext cx="914400" cy="855720"/>
                <a:chOff x="6791400" y="1236600"/>
                <a:chExt cx="914400" cy="8557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791400" y="1236600"/>
                  <a:ext cx="914400" cy="855720"/>
                </a:xfrm>
                <a:prstGeom prst="ellipse">
                  <a:avLst/>
                </a:prstGeom>
                <a:noFill/>
                <a:ln w="1908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228600" indent="-228600"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865920" y="1299960"/>
                  <a:ext cx="362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28600" indent="-228600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66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DB6A-5E2B-4D8E-9CBD-C6ADEA42E08B}" type="slidenum">
              <a:t>13</a:t>
            </a:fld>
          </a:p>
        </p:txBody>
      </p:sp>
    </p:spTree>
  </p:cSld>
  <p:transition spd="med">
    <p:zoom dir="ou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9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9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9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9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/>
          </p:nvPr>
        </p:nvSpPr>
        <p:spPr>
          <a:xfrm>
            <a:off x="333000" y="0"/>
            <a:ext cx="851868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事件的运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939960" y="1179360"/>
          <a:ext cx="614988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9960" y="1179360"/>
                    <a:ext cx="61498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3" name=""/>
          <p:cNvGraphicFramePr/>
          <p:nvPr/>
        </p:nvGraphicFramePr>
        <p:xfrm>
          <a:off x="1868400" y="2709720"/>
          <a:ext cx="5019840" cy="178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68400" y="2709720"/>
                    <a:ext cx="501984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5" name=""/>
          <p:cNvSpPr/>
          <p:nvPr/>
        </p:nvSpPr>
        <p:spPr>
          <a:xfrm>
            <a:off x="576360" y="3522600"/>
            <a:ext cx="636480" cy="393840"/>
          </a:xfrm>
          <a:custGeom>
            <a:avLst/>
            <a:gdLst>
              <a:gd name="textAreaLeft" fmla="*/ 79560 w 636480"/>
              <a:gd name="textAreaRight" fmla="*/ 556920 w 636480"/>
              <a:gd name="textAreaTop" fmla="*/ 98280 h 393840"/>
              <a:gd name="textAreaBottom" fmla="*/ 295560 h 393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7358040" y="676440"/>
            <a:ext cx="1475280" cy="761400"/>
            <a:chOff x="7358040" y="676440"/>
            <a:chExt cx="1475280" cy="761400"/>
          </a:xfrm>
        </p:grpSpPr>
        <p:grpSp>
          <p:nvGrpSpPr>
            <p:cNvPr id="987" name=""/>
            <p:cNvGrpSpPr/>
            <p:nvPr/>
          </p:nvGrpSpPr>
          <p:grpSpPr>
            <a:xfrm>
              <a:off x="7358040" y="676440"/>
              <a:ext cx="1475280" cy="761400"/>
              <a:chOff x="7358040" y="676440"/>
              <a:chExt cx="1475280" cy="76140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7358040" y="676440"/>
                <a:ext cx="1475280" cy="761400"/>
                <a:chOff x="7358040" y="676440"/>
                <a:chExt cx="1475280" cy="76140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7358040" y="726840"/>
                  <a:ext cx="1320840" cy="711000"/>
                </a:xfrm>
                <a:prstGeom prst="rect">
                  <a:avLst/>
                </a:prstGeom>
                <a:solidFill>
                  <a:srgbClr val="ebf7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920000" y="884160"/>
                  <a:ext cx="401760" cy="418680"/>
                </a:xfrm>
                <a:prstGeom prst="ellipse">
                  <a:avLst/>
                </a:prstGeom>
                <a:noFill/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518240" y="852480"/>
                  <a:ext cx="528840" cy="528120"/>
                </a:xfrm>
                <a:prstGeom prst="ellipse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059680" y="676440"/>
                  <a:ext cx="77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28600" indent="-228600"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7546680" y="866880"/>
                <a:ext cx="758880" cy="497520"/>
                <a:chOff x="7546680" y="866880"/>
                <a:chExt cx="758880" cy="497520"/>
              </a:xfrm>
            </p:grpSpPr>
            <p:sp>
              <p:nvSpPr>
                <p:cNvPr id="994" name=""/>
                <p:cNvSpPr/>
                <p:nvPr/>
              </p:nvSpPr>
              <p:spPr>
                <a:xfrm flipH="1">
                  <a:off x="7546680" y="866880"/>
                  <a:ext cx="160200" cy="38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>
                  <a:off x="7635600" y="892080"/>
                  <a:ext cx="176040" cy="41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>
                  <a:off x="7724520" y="901440"/>
                  <a:ext cx="191880" cy="46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>
                  <a:off x="8178480" y="1023840"/>
                  <a:ext cx="127080" cy="27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>
                  <a:off x="8076960" y="920520"/>
                  <a:ext cx="160200" cy="38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7851600" y="933120"/>
                  <a:ext cx="176400" cy="41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>
                  <a:off x="7947000" y="901440"/>
                  <a:ext cx="176400" cy="41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1" name=""/>
            <p:cNvSpPr/>
            <p:nvPr/>
          </p:nvSpPr>
          <p:spPr>
            <a:xfrm>
              <a:off x="7775640" y="9522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81800" y="96012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353360" y="1860480"/>
            <a:ext cx="1475280" cy="762120"/>
            <a:chOff x="7353360" y="1860480"/>
            <a:chExt cx="1475280" cy="762120"/>
          </a:xfrm>
        </p:grpSpPr>
        <p:grpSp>
          <p:nvGrpSpPr>
            <p:cNvPr id="1004" name=""/>
            <p:cNvGrpSpPr/>
            <p:nvPr/>
          </p:nvGrpSpPr>
          <p:grpSpPr>
            <a:xfrm>
              <a:off x="7353360" y="1860480"/>
              <a:ext cx="1475280" cy="762120"/>
              <a:chOff x="7353360" y="1860480"/>
              <a:chExt cx="1475280" cy="76212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7353360" y="1860480"/>
                <a:ext cx="1475280" cy="762120"/>
                <a:chOff x="7353360" y="1860480"/>
                <a:chExt cx="1475280" cy="7621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7353360" y="1911240"/>
                  <a:ext cx="1320840" cy="711360"/>
                </a:xfrm>
                <a:prstGeom prst="rect">
                  <a:avLst/>
                </a:prstGeom>
                <a:solidFill>
                  <a:srgbClr val="ebf7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915320" y="2068560"/>
                  <a:ext cx="401760" cy="419040"/>
                </a:xfrm>
                <a:prstGeom prst="ellipse">
                  <a:avLst/>
                </a:prstGeom>
                <a:noFill/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513560" y="2036880"/>
                  <a:ext cx="528840" cy="528480"/>
                </a:xfrm>
                <a:prstGeom prst="ellipse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8055000" y="1860480"/>
                  <a:ext cx="77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28600" indent="-228600"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7913160" y="2151000"/>
                <a:ext cx="120960" cy="265320"/>
                <a:chOff x="7913160" y="2151000"/>
                <a:chExt cx="120960" cy="265320"/>
              </a:xfrm>
            </p:grpSpPr>
            <p:sp>
              <p:nvSpPr>
                <p:cNvPr id="1011" name=""/>
                <p:cNvSpPr/>
                <p:nvPr/>
              </p:nvSpPr>
              <p:spPr>
                <a:xfrm flipH="1">
                  <a:off x="7913160" y="2151000"/>
                  <a:ext cx="79560" cy="11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>
                  <a:off x="7954920" y="2303640"/>
                  <a:ext cx="79200" cy="11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7932240" y="2233800"/>
                  <a:ext cx="79560" cy="11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"/>
            <p:cNvSpPr/>
            <p:nvPr/>
          </p:nvSpPr>
          <p:spPr>
            <a:xfrm>
              <a:off x="7380360" y="212076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770960" y="209844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359480" y="4819680"/>
            <a:ext cx="1522800" cy="762120"/>
            <a:chOff x="7359480" y="4819680"/>
            <a:chExt cx="1522800" cy="762120"/>
          </a:xfrm>
        </p:grpSpPr>
        <p:grpSp>
          <p:nvGrpSpPr>
            <p:cNvPr id="1017" name=""/>
            <p:cNvGrpSpPr/>
            <p:nvPr/>
          </p:nvGrpSpPr>
          <p:grpSpPr>
            <a:xfrm>
              <a:off x="7359480" y="4870440"/>
              <a:ext cx="1320840" cy="711360"/>
              <a:chOff x="7359480" y="4870440"/>
              <a:chExt cx="1320840" cy="711360"/>
            </a:xfrm>
          </p:grpSpPr>
          <p:sp>
            <p:nvSpPr>
              <p:cNvPr id="1018" name=""/>
              <p:cNvSpPr/>
              <p:nvPr/>
            </p:nvSpPr>
            <p:spPr>
              <a:xfrm>
                <a:off x="7359480" y="4870440"/>
                <a:ext cx="1320840" cy="711360"/>
              </a:xfrm>
              <a:prstGeom prst="rect">
                <a:avLst/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207280" y="5091120"/>
                <a:ext cx="401760" cy="419040"/>
              </a:xfrm>
              <a:prstGeom prst="ellipse">
                <a:avLst/>
              </a:prstGeom>
              <a:noFill/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520040" y="5011560"/>
                <a:ext cx="528480" cy="528840"/>
              </a:xfrm>
              <a:prstGeom prst="ellipse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7386840" y="4819680"/>
              <a:ext cx="1495440" cy="650160"/>
              <a:chOff x="7386840" y="4819680"/>
              <a:chExt cx="1495440" cy="650160"/>
            </a:xfrm>
          </p:grpSpPr>
          <p:sp>
            <p:nvSpPr>
              <p:cNvPr id="1022" name=""/>
              <p:cNvSpPr/>
              <p:nvPr/>
            </p:nvSpPr>
            <p:spPr>
              <a:xfrm>
                <a:off x="8108640" y="4819680"/>
                <a:ext cx="77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035920" y="5132520"/>
                <a:ext cx="784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86840" y="5106960"/>
                <a:ext cx="784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5" name=""/>
          <p:cNvGrpSpPr/>
          <p:nvPr/>
        </p:nvGrpSpPr>
        <p:grpSpPr>
          <a:xfrm>
            <a:off x="704520" y="635040"/>
            <a:ext cx="3708720" cy="459720"/>
            <a:chOff x="704520" y="635040"/>
            <a:chExt cx="3708720" cy="459720"/>
          </a:xfrm>
        </p:grpSpPr>
        <p:graphicFrame>
          <p:nvGraphicFramePr>
            <p:cNvPr id="1026" name=""/>
            <p:cNvGraphicFramePr/>
            <p:nvPr/>
          </p:nvGraphicFramePr>
          <p:xfrm>
            <a:off x="3606840" y="736560"/>
            <a:ext cx="806400" cy="317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606840" y="736560"/>
                      <a:ext cx="80640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8" name=""/>
            <p:cNvSpPr/>
            <p:nvPr/>
          </p:nvSpPr>
          <p:spPr>
            <a:xfrm>
              <a:off x="704520" y="635040"/>
              <a:ext cx="256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601"/>
                </a:spcBef>
                <a:buClr>
                  <a:srgbClr val="dc5900"/>
                </a:buClr>
                <a:buSzPct val="8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与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的和事件，记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697320" y="1622520"/>
            <a:ext cx="4978080" cy="480960"/>
            <a:chOff x="697320" y="1622520"/>
            <a:chExt cx="4978080" cy="480960"/>
          </a:xfrm>
        </p:grpSpPr>
        <p:graphicFrame>
          <p:nvGraphicFramePr>
            <p:cNvPr id="1030" name=""/>
            <p:cNvGraphicFramePr/>
            <p:nvPr/>
          </p:nvGraphicFramePr>
          <p:xfrm>
            <a:off x="3576600" y="1706400"/>
            <a:ext cx="2098800" cy="397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3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576600" y="1706400"/>
                      <a:ext cx="209880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2" name=""/>
            <p:cNvSpPr/>
            <p:nvPr/>
          </p:nvSpPr>
          <p:spPr>
            <a:xfrm>
              <a:off x="697320" y="1622520"/>
              <a:ext cx="256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601"/>
                </a:spcBef>
                <a:buClr>
                  <a:srgbClr val="dc5900"/>
                </a:buClr>
                <a:buSzPct val="8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与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的积事件，记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3" name=""/>
          <p:cNvGraphicFramePr/>
          <p:nvPr/>
        </p:nvGraphicFramePr>
        <p:xfrm>
          <a:off x="996840" y="2147760"/>
          <a:ext cx="5569200" cy="411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6840" y="2147760"/>
                    <a:ext cx="55692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"/>
          <p:cNvSpPr/>
          <p:nvPr/>
        </p:nvSpPr>
        <p:spPr>
          <a:xfrm>
            <a:off x="393840" y="4854600"/>
            <a:ext cx="85183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=</a:t>
            </a:r>
            <a:r>
              <a:rPr b="1" lang="el-GR" sz="2400" spc="-1" strike="noStrike">
                <a:solidFill>
                  <a:srgbClr val="000000"/>
                </a:solidFill>
                <a:latin typeface="宋体"/>
              </a:rPr>
              <a:t>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称事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相容的，或互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DDF08-7BDA-41C0-B4F0-3037B6535E81}" type="slidenum">
              <a:t>14</a:t>
            </a:fld>
          </a:p>
        </p:txBody>
      </p:sp>
    </p:spTree>
  </p:cSld>
  <p:transition spd="med"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autoRev="1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78035E-007 L 0.0816 -5.78035E-007 E">
                                      <p:cBhvr>
                                        <p:cTn id="328" dur="20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10405E-006 L 0.08507 -4.10405E-006 E">
                                      <p:cBhvr>
                                        <p:cTn id="335" dur="20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/>
          </p:nvPr>
        </p:nvSpPr>
        <p:spPr>
          <a:xfrm>
            <a:off x="200160" y="2403000"/>
            <a:ext cx="87199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和”、“交”关系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5369040" y="3259080"/>
          <a:ext cx="310176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9040" y="3259080"/>
                    <a:ext cx="31017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9" name=""/>
          <p:cNvGraphicFramePr/>
          <p:nvPr/>
        </p:nvGraphicFramePr>
        <p:xfrm>
          <a:off x="1066680" y="3286080"/>
          <a:ext cx="4089600" cy="83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3286080"/>
                    <a:ext cx="4089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1298520" y="4653000"/>
          <a:ext cx="1268640" cy="41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8520" y="4653000"/>
                    <a:ext cx="12686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3" name=""/>
          <p:cNvGraphicFramePr/>
          <p:nvPr/>
        </p:nvGraphicFramePr>
        <p:xfrm>
          <a:off x="1311120" y="5119560"/>
          <a:ext cx="1246320" cy="455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11120" y="5119560"/>
                    <a:ext cx="12463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5" name=""/>
          <p:cNvGraphicFramePr/>
          <p:nvPr/>
        </p:nvGraphicFramePr>
        <p:xfrm>
          <a:off x="1319040" y="5521320"/>
          <a:ext cx="2097360" cy="54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19040" y="5521320"/>
                    <a:ext cx="2097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7" name=""/>
          <p:cNvGraphicFramePr/>
          <p:nvPr/>
        </p:nvGraphicFramePr>
        <p:xfrm>
          <a:off x="1308240" y="5991120"/>
          <a:ext cx="2076480" cy="530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4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08240" y="5991120"/>
                    <a:ext cx="20764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9" name=""/>
          <p:cNvGrpSpPr/>
          <p:nvPr/>
        </p:nvGrpSpPr>
        <p:grpSpPr>
          <a:xfrm>
            <a:off x="6337440" y="541440"/>
            <a:ext cx="1487160" cy="761400"/>
            <a:chOff x="6337440" y="541440"/>
            <a:chExt cx="1487160" cy="761400"/>
          </a:xfrm>
        </p:grpSpPr>
        <p:grpSp>
          <p:nvGrpSpPr>
            <p:cNvPr id="1050" name=""/>
            <p:cNvGrpSpPr/>
            <p:nvPr/>
          </p:nvGrpSpPr>
          <p:grpSpPr>
            <a:xfrm>
              <a:off x="6350040" y="541440"/>
              <a:ext cx="1474560" cy="761400"/>
              <a:chOff x="6350040" y="541440"/>
              <a:chExt cx="1474560" cy="7614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6350040" y="541440"/>
                <a:ext cx="1474560" cy="761400"/>
                <a:chOff x="6350040" y="541440"/>
                <a:chExt cx="1474560" cy="7614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350040" y="591840"/>
                  <a:ext cx="1320480" cy="711000"/>
                </a:xfrm>
                <a:prstGeom prst="rect">
                  <a:avLst/>
                </a:prstGeom>
                <a:solidFill>
                  <a:srgbClr val="ebf7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911640" y="749160"/>
                  <a:ext cx="401400" cy="418680"/>
                </a:xfrm>
                <a:prstGeom prst="ellipse">
                  <a:avLst/>
                </a:prstGeom>
                <a:noFill/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509880" y="717480"/>
                  <a:ext cx="528480" cy="528120"/>
                </a:xfrm>
                <a:prstGeom prst="ellipse">
                  <a:avLst/>
                </a:prstGeom>
                <a:noFill/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050960" y="541440"/>
                  <a:ext cx="77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28600" indent="-228600"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6533640" y="730080"/>
                <a:ext cx="432000" cy="515160"/>
                <a:chOff x="6533640" y="730080"/>
                <a:chExt cx="432000" cy="515160"/>
              </a:xfrm>
            </p:grpSpPr>
            <p:sp>
              <p:nvSpPr>
                <p:cNvPr id="1057" name=""/>
                <p:cNvSpPr/>
                <p:nvPr/>
              </p:nvSpPr>
              <p:spPr>
                <a:xfrm flipH="1">
                  <a:off x="6533640" y="755280"/>
                  <a:ext cx="112680" cy="35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6621120" y="730080"/>
                  <a:ext cx="161640" cy="46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H="1">
                  <a:off x="6725880" y="769320"/>
                  <a:ext cx="176040" cy="46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H="1">
                  <a:off x="6828840" y="1051920"/>
                  <a:ext cx="79560" cy="19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 flipH="1">
                  <a:off x="6902280" y="1109160"/>
                  <a:ext cx="63360" cy="8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2" name=""/>
            <p:cNvSpPr/>
            <p:nvPr/>
          </p:nvSpPr>
          <p:spPr>
            <a:xfrm>
              <a:off x="6337440" y="82368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761520" y="79992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6350040" y="2367000"/>
            <a:ext cx="1475280" cy="771120"/>
            <a:chOff x="6350040" y="2367000"/>
            <a:chExt cx="1475280" cy="771120"/>
          </a:xfrm>
        </p:grpSpPr>
        <p:grpSp>
          <p:nvGrpSpPr>
            <p:cNvPr id="1065" name=""/>
            <p:cNvGrpSpPr/>
            <p:nvPr/>
          </p:nvGrpSpPr>
          <p:grpSpPr>
            <a:xfrm>
              <a:off x="6350040" y="2367000"/>
              <a:ext cx="1475280" cy="761760"/>
              <a:chOff x="6350040" y="2367000"/>
              <a:chExt cx="1475280" cy="761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350040" y="2417760"/>
                <a:ext cx="1320840" cy="711000"/>
              </a:xfrm>
              <a:prstGeom prst="rect">
                <a:avLst/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845400" y="2412720"/>
                <a:ext cx="304560" cy="704880"/>
              </a:xfrm>
              <a:custGeom>
                <a:avLst/>
                <a:gdLst/>
                <a:ahLst/>
                <a:rect l="l" t="t" r="r" b="b"/>
                <a:pathLst>
                  <a:path w="192" h="444">
                    <a:moveTo>
                      <a:pt x="192" y="0"/>
                    </a:moveTo>
                    <a:cubicBezTo>
                      <a:pt x="154" y="56"/>
                      <a:pt x="116" y="113"/>
                      <a:pt x="101" y="172"/>
                    </a:cubicBezTo>
                    <a:cubicBezTo>
                      <a:pt x="86" y="231"/>
                      <a:pt x="118" y="308"/>
                      <a:pt x="101" y="353"/>
                    </a:cubicBezTo>
                    <a:cubicBezTo>
                      <a:pt x="84" y="398"/>
                      <a:pt x="42" y="421"/>
                      <a:pt x="0" y="4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6459480" y="2367000"/>
                <a:ext cx="1365840" cy="644400"/>
                <a:chOff x="6459480" y="2367000"/>
                <a:chExt cx="1365840" cy="644400"/>
              </a:xfrm>
            </p:grpSpPr>
            <p:graphicFrame>
              <p:nvGraphicFramePr>
                <p:cNvPr id="1069" name=""/>
                <p:cNvGraphicFramePr/>
                <p:nvPr/>
              </p:nvGraphicFramePr>
              <p:xfrm>
                <a:off x="7178760" y="2674800"/>
                <a:ext cx="299880" cy="325440"/>
              </p:xfrm>
              <a:graphic>
                <a:graphicData uri="http://schemas.openxmlformats.org/presentationml/2006/ole">
                  <p:oleObj r:id="rId14" spid="">
                    <p:embed/>
                    <p:pic>
                      <p:nvPicPr>
                        <p:cNvPr id="1070" name="" descr="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7178760" y="2674800"/>
                          <a:ext cx="299880" cy="325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071" name=""/>
                <p:cNvSpPr/>
                <p:nvPr/>
              </p:nvSpPr>
              <p:spPr>
                <a:xfrm>
                  <a:off x="7051680" y="2367000"/>
                  <a:ext cx="77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28600" indent="-228600"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72" name=""/>
                <p:cNvGraphicFramePr/>
                <p:nvPr/>
              </p:nvGraphicFramePr>
              <p:xfrm>
                <a:off x="6459480" y="2660400"/>
                <a:ext cx="324000" cy="351000"/>
              </p:xfrm>
              <a:graphic>
                <a:graphicData uri="http://schemas.openxmlformats.org/presentationml/2006/ole">
                  <p:oleObj r:id="rId16" spid="">
                    <p:embed/>
                    <p:pic>
                      <p:nvPicPr>
                        <p:cNvPr id="1073" name="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459480" y="2660400"/>
                          <a:ext cx="324000" cy="351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074" name=""/>
            <p:cNvGrpSpPr/>
            <p:nvPr/>
          </p:nvGrpSpPr>
          <p:grpSpPr>
            <a:xfrm>
              <a:off x="6923160" y="2428920"/>
              <a:ext cx="745920" cy="709200"/>
              <a:chOff x="6923160" y="2428920"/>
              <a:chExt cx="745920" cy="709200"/>
            </a:xfrm>
          </p:grpSpPr>
          <p:sp>
            <p:nvSpPr>
              <p:cNvPr id="1075" name=""/>
              <p:cNvSpPr/>
              <p:nvPr/>
            </p:nvSpPr>
            <p:spPr>
              <a:xfrm flipH="1">
                <a:off x="7036920" y="2428920"/>
                <a:ext cx="30492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7014960" y="2436480"/>
                <a:ext cx="60948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6923160" y="2620800"/>
                <a:ext cx="738000" cy="44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7106760" y="2803320"/>
                <a:ext cx="51300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7364520" y="2930400"/>
                <a:ext cx="30456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0" name=""/>
          <p:cNvGrpSpPr/>
          <p:nvPr/>
        </p:nvGrpSpPr>
        <p:grpSpPr>
          <a:xfrm>
            <a:off x="183960" y="552600"/>
            <a:ext cx="4580280" cy="464400"/>
            <a:chOff x="183960" y="552600"/>
            <a:chExt cx="4580280" cy="464400"/>
          </a:xfrm>
        </p:grpSpPr>
        <p:graphicFrame>
          <p:nvGraphicFramePr>
            <p:cNvPr id="1081" name=""/>
            <p:cNvGraphicFramePr/>
            <p:nvPr/>
          </p:nvGraphicFramePr>
          <p:xfrm>
            <a:off x="615960" y="552600"/>
            <a:ext cx="4148280" cy="436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8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15960" y="552600"/>
                      <a:ext cx="4148280" cy="43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3" name=""/>
            <p:cNvSpPr/>
            <p:nvPr/>
          </p:nvSpPr>
          <p:spPr>
            <a:xfrm>
              <a:off x="183960" y="557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spcBef>
                  <a:spcPts val="601"/>
                </a:spcBef>
                <a:buClr>
                  <a:srgbClr val="dc5900"/>
                </a:buClr>
                <a:buSzPct val="8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90080" y="1581120"/>
            <a:ext cx="8280720" cy="971640"/>
            <a:chOff x="190080" y="1581120"/>
            <a:chExt cx="8280720" cy="971640"/>
          </a:xfrm>
        </p:grpSpPr>
        <p:graphicFrame>
          <p:nvGraphicFramePr>
            <p:cNvPr id="1085" name=""/>
            <p:cNvGraphicFramePr/>
            <p:nvPr/>
          </p:nvGraphicFramePr>
          <p:xfrm>
            <a:off x="576000" y="1581120"/>
            <a:ext cx="7894800" cy="9716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086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76000" y="1581120"/>
                      <a:ext cx="789480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7" name=""/>
            <p:cNvSpPr/>
            <p:nvPr/>
          </p:nvSpPr>
          <p:spPr>
            <a:xfrm>
              <a:off x="190080" y="18003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spcBef>
                  <a:spcPts val="601"/>
                </a:spcBef>
                <a:buClr>
                  <a:srgbClr val="dc5900"/>
                </a:buClr>
                <a:buSzPct val="8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352440" y="4103640"/>
            <a:ext cx="8720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：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{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甲来听课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={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来听课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658960" y="45734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{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甲、乙至少有一人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733840" y="500688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{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甲、乙都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424320" y="554832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{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甲、乙都不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368520" y="602280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{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甲、乙至少有一人不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D4BF-508F-48B8-AF57-1790C9142750}" type="slidenum">
              <a:t>15</a:t>
            </a:fld>
          </a:p>
        </p:txBody>
      </p:sp>
    </p:spTree>
  </p:cSld>
  <p:transition spd="med"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-2147760" y="-7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§</a:t>
            </a:r>
            <a:r>
              <a:rPr b="0" lang="zh-CN" sz="4000" spc="-1" strike="noStrike">
                <a:solidFill>
                  <a:srgbClr val="003399"/>
                </a:solidFill>
                <a:latin typeface="宋体"/>
                <a:ea typeface="宋体"/>
              </a:rPr>
              <a:t>3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 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频率与概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77840" y="966960"/>
            <a:ext cx="87710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一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频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定义：记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其中     —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发生的次数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频数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；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n—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总试验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     数。称      为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在这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次试验中发生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频率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中国国家足球队，“冲击亚洲”共进行了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次，其中成功了一次，则在这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次试验中“冲击亚洲”这事件发生的频率为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某人一共听了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7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次“概率统计”课，其中有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次迟到，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A={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听课迟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，则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#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频率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   反映了事件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发生的频繁程度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2573280" y="1913040"/>
          <a:ext cx="57456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3280" y="1913040"/>
                    <a:ext cx="574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7" name=""/>
          <p:cNvGraphicFramePr/>
          <p:nvPr/>
        </p:nvGraphicFramePr>
        <p:xfrm>
          <a:off x="2287440" y="1227240"/>
          <a:ext cx="138456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7440" y="1227240"/>
                    <a:ext cx="13845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9" name=""/>
          <p:cNvGraphicFramePr/>
          <p:nvPr/>
        </p:nvGraphicFramePr>
        <p:xfrm>
          <a:off x="2849400" y="2355840"/>
          <a:ext cx="7207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9400" y="2355840"/>
                    <a:ext cx="72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8086680" y="3527280"/>
          <a:ext cx="620640" cy="47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86680" y="3527280"/>
                    <a:ext cx="6206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3" name=""/>
          <p:cNvGraphicFramePr/>
          <p:nvPr/>
        </p:nvGraphicFramePr>
        <p:xfrm>
          <a:off x="3510000" y="4761000"/>
          <a:ext cx="2484360" cy="43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10000" y="4761000"/>
                    <a:ext cx="2484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5" name=""/>
          <p:cNvGraphicFramePr/>
          <p:nvPr/>
        </p:nvGraphicFramePr>
        <p:xfrm>
          <a:off x="1604880" y="5572080"/>
          <a:ext cx="72072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5572080"/>
                    <a:ext cx="72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7" name="Litebulb"/>
          <p:cNvSpPr/>
          <p:nvPr/>
        </p:nvSpPr>
        <p:spPr>
          <a:xfrm>
            <a:off x="558720" y="1519200"/>
            <a:ext cx="209520" cy="27144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marL="228600" indent="-228600">
              <a:spcBef>
                <a:spcPts val="451"/>
              </a:spcBef>
              <a:buClr>
                <a:srgbClr val="007a7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C0D0-C39A-4573-AD26-F12EC85D192F}" type="slidenum">
              <a:t>16</a:t>
            </a:fld>
          </a:p>
        </p:txBody>
      </p:sp>
    </p:spTree>
  </p:cSld>
  <p:transition spd="med"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08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2000"/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8" name=""/>
          <p:cNvGraphicFramePr/>
          <p:nvPr/>
        </p:nvGraphicFramePr>
        <p:xfrm>
          <a:off x="1166760" y="1828800"/>
          <a:ext cx="7567560" cy="4476600"/>
        </p:xfrm>
        <a:graphic>
          <a:graphicData uri="http://schemas.openxmlformats.org/drawingml/2006/table">
            <a:tbl>
              <a:tblPr/>
              <a:tblGrid>
                <a:gridCol w="1082520"/>
                <a:gridCol w="1079640"/>
                <a:gridCol w="1081080"/>
                <a:gridCol w="1081080"/>
                <a:gridCol w="1081080"/>
                <a:gridCol w="1079280"/>
                <a:gridCol w="1082880"/>
              </a:tblGrid>
              <a:tr h="39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试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=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=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=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n</a:t>
                      </a:r>
                      <a:r>
                        <a:rPr b="0" lang="zh-CN" sz="2000" spc="-1" strike="noStrike" baseline="-25000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n</a:t>
                      </a:r>
                      <a:r>
                        <a:rPr b="0" lang="zh-CN" sz="2000" spc="-1" strike="noStrike" baseline="-25000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n</a:t>
                      </a:r>
                      <a:r>
                        <a:rPr b="0" lang="zh-CN" sz="2000" spc="-1" strike="noStrike" baseline="-25000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7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09" name=""/>
          <p:cNvSpPr/>
          <p:nvPr/>
        </p:nvSpPr>
        <p:spPr>
          <a:xfrm>
            <a:off x="4388400" y="12542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宋体"/>
              </a:rPr>
              <a:t>表 </a:t>
            </a:r>
            <a:r>
              <a:rPr b="1" lang="zh-CN" sz="2400" spc="-1" strike="noStrike">
                <a:solidFill>
                  <a:srgbClr val="9966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255680" y="552600"/>
            <a:ext cx="6367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-윤명조240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-윤명조240"/>
              </a:rPr>
              <a:t>例：抛硬币出现的正面的频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1" name=""/>
          <p:cNvGraphicFramePr/>
          <p:nvPr/>
        </p:nvGraphicFramePr>
        <p:xfrm>
          <a:off x="1103400" y="1819440"/>
          <a:ext cx="7404120" cy="3547800"/>
        </p:xfrm>
        <a:graphic>
          <a:graphicData uri="http://schemas.openxmlformats.org/drawingml/2006/table">
            <a:tbl>
              <a:tblPr/>
              <a:tblGrid>
                <a:gridCol w="1850760"/>
                <a:gridCol w="1851120"/>
                <a:gridCol w="1851120"/>
                <a:gridCol w="185112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-윤명조240"/>
                          <a:ea typeface="-윤명조240"/>
                        </a:rPr>
                        <a:t>实验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n</a:t>
                      </a:r>
                      <a:r>
                        <a:rPr b="0" lang="zh-CN" sz="2000" spc="-1" strike="noStrike" baseline="-25000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德</a:t>
                      </a:r>
                      <a:r>
                        <a:rPr b="0" lang="el-GR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·</a:t>
                      </a:r>
                      <a:r>
                        <a:rPr b="0" lang="zh-CN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摩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10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b23f6"/>
                          </a:solidFill>
                          <a:latin typeface="-윤명조240"/>
                          <a:ea typeface="-윤명조240"/>
                        </a:rPr>
                        <a:t>蒲 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4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宋体"/>
                        </a:rPr>
                        <a:t>0.50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b23f6"/>
                          </a:solidFill>
                          <a:latin typeface="宋体"/>
                          <a:ea typeface="宋体"/>
                        </a:rPr>
                        <a:t>K</a:t>
                      </a:r>
                      <a:r>
                        <a:rPr b="0" lang="el-GR" sz="2000" spc="-1" strike="noStrike">
                          <a:solidFill>
                            <a:srgbClr val="fb23f6"/>
                          </a:solidFill>
                          <a:latin typeface="宋体"/>
                          <a:ea typeface="宋体"/>
                        </a:rPr>
                        <a:t>·</a:t>
                      </a:r>
                      <a:r>
                        <a:rPr b="0" lang="zh-CN" sz="2000" spc="-1" strike="noStrike">
                          <a:solidFill>
                            <a:srgbClr val="fb23f6"/>
                          </a:solidFill>
                          <a:latin typeface="宋体"/>
                          <a:ea typeface="宋体"/>
                        </a:rPr>
                        <a:t>皮尔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6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b23f6"/>
                          </a:solidFill>
                          <a:latin typeface="宋体"/>
                          <a:ea typeface="宋体"/>
                        </a:rPr>
                        <a:t>K</a:t>
                      </a:r>
                      <a:r>
                        <a:rPr b="0" lang="el-GR" sz="2000" spc="-1" strike="noStrike">
                          <a:solidFill>
                            <a:srgbClr val="fb23f6"/>
                          </a:solidFill>
                          <a:latin typeface="宋体"/>
                          <a:ea typeface="宋体"/>
                        </a:rPr>
                        <a:t>·</a:t>
                      </a:r>
                      <a:r>
                        <a:rPr b="0" lang="zh-CN" sz="2000" spc="-1" strike="noStrike">
                          <a:solidFill>
                            <a:srgbClr val="fb23f6"/>
                          </a:solidFill>
                          <a:latin typeface="宋体"/>
                          <a:ea typeface="宋体"/>
                        </a:rPr>
                        <a:t>皮尔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2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-윤명조240"/>
                          <a:ea typeface="-윤명조240"/>
                        </a:rPr>
                        <a:t>1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onotype Corsiva"/>
                          <a:ea typeface="-윤명조240"/>
                        </a:rPr>
                        <a:t>0.5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12" name=""/>
          <p:cNvSpPr/>
          <p:nvPr/>
        </p:nvSpPr>
        <p:spPr>
          <a:xfrm>
            <a:off x="4312080" y="12700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宋体"/>
              </a:rPr>
              <a:t>表 </a:t>
            </a:r>
            <a:r>
              <a:rPr b="1" lang="zh-CN" sz="2400" spc="-1" strike="noStrike">
                <a:solidFill>
                  <a:srgbClr val="9966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D0714-49DC-49C8-8FF1-B1E40A349B7E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358920" y="588960"/>
            <a:ext cx="858816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宋体"/>
              </a:rPr>
              <a:t>** </a:t>
            </a:r>
            <a:r>
              <a:rPr b="0" lang="zh-CN" sz="2800" spc="-1" strike="noStrike">
                <a:solidFill>
                  <a:srgbClr val="996600"/>
                </a:solidFill>
                <a:latin typeface="宋体"/>
              </a:rPr>
              <a:t>频率的性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且     随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的增大渐趋稳定，记稳定值为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p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6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830160" y="4795920"/>
          <a:ext cx="792360" cy="4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0160" y="4795920"/>
                    <a:ext cx="792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6" name=""/>
          <p:cNvGraphicFramePr/>
          <p:nvPr/>
        </p:nvGraphicFramePr>
        <p:xfrm>
          <a:off x="922320" y="2195640"/>
          <a:ext cx="7845480" cy="198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2320" y="2195640"/>
                    <a:ext cx="78454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8" name=""/>
          <p:cNvSpPr/>
          <p:nvPr/>
        </p:nvSpPr>
        <p:spPr>
          <a:xfrm>
            <a:off x="735120" y="2138400"/>
            <a:ext cx="8116920" cy="2117520"/>
          </a:xfrm>
          <a:prstGeom prst="rect">
            <a:avLst/>
          </a:prstGeom>
          <a:noFill/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C909-BFCD-4055-ADE4-1338E8F167E8}" type="slidenum">
              <a:t>19</a:t>
            </a:fld>
          </a:p>
        </p:txBody>
      </p:sp>
    </p:spTree>
  </p:cSld>
  <p:transition spd="med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autoRev="1" nodeType="withEffect" fill="hold" presetClass="emph" presetID="7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443" dur="5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735120" y="2036880"/>
            <a:ext cx="811512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Arial"/>
              </a:rPr>
              <a:t>概率论与数理统计是研究随机现象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Arial"/>
              </a:rPr>
              <a:t>数量规律的一门学科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C2200-8422-4C9A-B2B8-14A6AB9490B3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304920" y="2365200"/>
            <a:ext cx="8407440" cy="312912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39760" y="499680"/>
            <a:ext cx="868824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二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)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概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定义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：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 的稳定值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定义为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的概率，记为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P(A)=p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定义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：将概率视为测度，且满足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称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P(A)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为事件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的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  <a:ea typeface="宋体"/>
              </a:rPr>
              <a:t>概率</a:t>
            </a:r>
            <a:r>
              <a:rPr b="0" lang="zh-CN" sz="2800" spc="-1" strike="noStrike">
                <a:solidFill>
                  <a:srgbClr val="9966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21" name=""/>
          <p:cNvGraphicFramePr/>
          <p:nvPr/>
        </p:nvGraphicFramePr>
        <p:xfrm>
          <a:off x="1703520" y="1320840"/>
          <a:ext cx="81756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3520" y="132084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3" name="Litebulb"/>
          <p:cNvSpPr/>
          <p:nvPr/>
        </p:nvSpPr>
        <p:spPr>
          <a:xfrm>
            <a:off x="431640" y="1374840"/>
            <a:ext cx="173160" cy="22212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4" name=""/>
          <p:cNvGraphicFramePr/>
          <p:nvPr/>
        </p:nvGraphicFramePr>
        <p:xfrm>
          <a:off x="1411200" y="2776680"/>
          <a:ext cx="2016360" cy="46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1200" y="2776680"/>
                    <a:ext cx="20163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6" name=""/>
          <p:cNvGraphicFramePr/>
          <p:nvPr/>
        </p:nvGraphicFramePr>
        <p:xfrm>
          <a:off x="1362240" y="3602160"/>
          <a:ext cx="1589040" cy="4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62240" y="3602160"/>
                    <a:ext cx="1589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8" name=""/>
          <p:cNvGraphicFramePr/>
          <p:nvPr/>
        </p:nvGraphicFramePr>
        <p:xfrm>
          <a:off x="1386000" y="4270320"/>
          <a:ext cx="70610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86000" y="4270320"/>
                    <a:ext cx="70610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0" name="Litebulb"/>
          <p:cNvSpPr/>
          <p:nvPr/>
        </p:nvSpPr>
        <p:spPr>
          <a:xfrm>
            <a:off x="455760" y="2233440"/>
            <a:ext cx="172800" cy="22248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3CD3-259B-4F78-B98E-B640C643C06E}" type="slidenum">
              <a:t>20</a:t>
            </a:fld>
          </a:p>
        </p:txBody>
      </p:sp>
    </p:spTree>
  </p:cSld>
  <p:transition spd="med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49" dur="2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51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1" name=""/>
          <p:cNvGraphicFramePr/>
          <p:nvPr/>
        </p:nvGraphicFramePr>
        <p:xfrm>
          <a:off x="949320" y="1762200"/>
          <a:ext cx="7934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9320" y="1762200"/>
                    <a:ext cx="7934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3" name=""/>
          <p:cNvGraphicFramePr/>
          <p:nvPr/>
        </p:nvGraphicFramePr>
        <p:xfrm>
          <a:off x="1054080" y="3201840"/>
          <a:ext cx="7297920" cy="48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54080" y="3201840"/>
                    <a:ext cx="72979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5" name=""/>
          <p:cNvGraphicFramePr/>
          <p:nvPr/>
        </p:nvGraphicFramePr>
        <p:xfrm>
          <a:off x="968400" y="785880"/>
          <a:ext cx="2840040" cy="47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68400" y="785880"/>
                    <a:ext cx="28400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7" name=""/>
          <p:cNvSpPr/>
          <p:nvPr/>
        </p:nvSpPr>
        <p:spPr>
          <a:xfrm>
            <a:off x="-337320" y="3589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1378080" y="1300320"/>
          <a:ext cx="1342800" cy="37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8080" y="1300320"/>
                    <a:ext cx="13428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0" name=""/>
          <p:cNvGraphicFramePr/>
          <p:nvPr/>
        </p:nvGraphicFramePr>
        <p:xfrm>
          <a:off x="2851200" y="1297080"/>
          <a:ext cx="2068560" cy="39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51200" y="1297080"/>
                    <a:ext cx="20685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"/>
          <p:cNvGraphicFramePr/>
          <p:nvPr/>
        </p:nvGraphicFramePr>
        <p:xfrm>
          <a:off x="5111640" y="1343160"/>
          <a:ext cx="1363680" cy="352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11640" y="1343160"/>
                    <a:ext cx="13636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"/>
          <p:cNvGraphicFramePr/>
          <p:nvPr/>
        </p:nvGraphicFramePr>
        <p:xfrm>
          <a:off x="1379520" y="2284560"/>
          <a:ext cx="1519200" cy="37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79520" y="2284560"/>
                    <a:ext cx="15192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2998800" y="2279520"/>
          <a:ext cx="2685960" cy="397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98800" y="2279520"/>
                    <a:ext cx="26859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1817640" y="2738520"/>
          <a:ext cx="4294080" cy="396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17640" y="2738520"/>
                    <a:ext cx="429408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6292800" y="2797200"/>
          <a:ext cx="1741680" cy="352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92800" y="2797200"/>
                    <a:ext cx="17416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2" name=""/>
          <p:cNvGraphicFramePr/>
          <p:nvPr/>
        </p:nvGraphicFramePr>
        <p:xfrm>
          <a:off x="1393920" y="3722760"/>
          <a:ext cx="2531880" cy="353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393920" y="3722760"/>
                    <a:ext cx="253188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4" name=""/>
          <p:cNvGraphicFramePr/>
          <p:nvPr/>
        </p:nvGraphicFramePr>
        <p:xfrm>
          <a:off x="3986280" y="3724200"/>
          <a:ext cx="3522600" cy="352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86280" y="3724200"/>
                    <a:ext cx="35226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"/>
          <p:cNvGraphicFramePr/>
          <p:nvPr/>
        </p:nvGraphicFramePr>
        <p:xfrm>
          <a:off x="1103400" y="4129200"/>
          <a:ext cx="5394240" cy="395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103400" y="4129200"/>
                    <a:ext cx="53942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8" name=""/>
          <p:cNvGraphicFramePr/>
          <p:nvPr/>
        </p:nvGraphicFramePr>
        <p:xfrm>
          <a:off x="1496880" y="4587840"/>
          <a:ext cx="3897360" cy="352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5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496880" y="4587840"/>
                    <a:ext cx="38973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0" name=""/>
          <p:cNvGraphicFramePr/>
          <p:nvPr/>
        </p:nvGraphicFramePr>
        <p:xfrm>
          <a:off x="880920" y="5175360"/>
          <a:ext cx="1300320" cy="3744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6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80920" y="5175360"/>
                    <a:ext cx="130032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2" name=""/>
          <p:cNvGraphicFramePr/>
          <p:nvPr/>
        </p:nvGraphicFramePr>
        <p:xfrm>
          <a:off x="2739960" y="5016600"/>
          <a:ext cx="4930920" cy="1587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739960" y="5016600"/>
                    <a:ext cx="493092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4" name=""/>
          <p:cNvGrpSpPr/>
          <p:nvPr/>
        </p:nvGrpSpPr>
        <p:grpSpPr>
          <a:xfrm>
            <a:off x="6218280" y="0"/>
            <a:ext cx="1909800" cy="801360"/>
            <a:chOff x="6218280" y="0"/>
            <a:chExt cx="1909800" cy="801360"/>
          </a:xfrm>
        </p:grpSpPr>
        <p:sp>
          <p:nvSpPr>
            <p:cNvPr id="1165" name=""/>
            <p:cNvSpPr/>
            <p:nvPr/>
          </p:nvSpPr>
          <p:spPr>
            <a:xfrm>
              <a:off x="6222960" y="0"/>
              <a:ext cx="1876680" cy="801360"/>
            </a:xfrm>
            <a:prstGeom prst="wedgeRoundRectCallout">
              <a:avLst>
                <a:gd name="adj1" fmla="val -54060"/>
                <a:gd name="adj2" fmla="val 110000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143000" indent="-228600" algn="ctr"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6" name=""/>
            <p:cNvGraphicFramePr/>
            <p:nvPr/>
          </p:nvGraphicFramePr>
          <p:xfrm>
            <a:off x="6218280" y="144360"/>
            <a:ext cx="1909800" cy="56844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167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218280" y="144360"/>
                      <a:ext cx="190980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6534-6D94-4901-A58A-1B56BE2FCE1A}" type="slidenum">
              <a:t>21</a:t>
            </a:fld>
          </a:p>
        </p:txBody>
      </p:sp>
    </p:spTree>
  </p:cSld>
  <p:transition spd="med">
    <p:zoom dir="ou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2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-841320" y="-127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宋体"/>
              </a:rPr>
              <a:t>§4 </a:t>
            </a:r>
            <a:r>
              <a:rPr b="0" lang="zh-CN" sz="4000" spc="-1" strike="noStrike">
                <a:solidFill>
                  <a:srgbClr val="003399"/>
                </a:solidFill>
                <a:latin typeface="宋体"/>
              </a:rPr>
              <a:t>等可能概型（古典概型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398160" y="1278000"/>
            <a:ext cx="86662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e1169"/>
                </a:solidFill>
                <a:latin typeface="宋体"/>
              </a:rPr>
              <a:t>定义：若试验</a:t>
            </a:r>
            <a:r>
              <a:rPr b="0" lang="zh-CN" sz="3200" spc="-1" strike="noStrike">
                <a:solidFill>
                  <a:srgbClr val="1e1169"/>
                </a:solidFill>
                <a:latin typeface="宋体"/>
              </a:rPr>
              <a:t>E</a:t>
            </a:r>
            <a:r>
              <a:rPr b="0" lang="zh-CN" sz="3200" spc="-1" strike="noStrike">
                <a:solidFill>
                  <a:srgbClr val="1e1169"/>
                </a:solidFill>
                <a:latin typeface="宋体"/>
              </a:rPr>
              <a:t>满足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2535120" indent="-3808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90000"/>
              <a:buFont typeface="宋体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S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中样本点有限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有限性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3" marL="2535120" indent="-3808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90000"/>
              <a:buFont typeface="宋体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出现每一样本点的概率相等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等可能性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3" marL="2535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095560" y="3100320"/>
            <a:ext cx="4603680" cy="9302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2230560" y="3164040"/>
          <a:ext cx="4133880" cy="75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30560" y="3164040"/>
                    <a:ext cx="41338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2990880" y="4681440"/>
            <a:ext cx="49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称这种试验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可能概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古典概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tebulb"/>
          <p:cNvSpPr/>
          <p:nvPr/>
        </p:nvSpPr>
        <p:spPr>
          <a:xfrm>
            <a:off x="285840" y="1422360"/>
            <a:ext cx="209520" cy="27144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marL="228600" indent="-228600">
              <a:spcBef>
                <a:spcPts val="451"/>
              </a:spcBef>
              <a:buClr>
                <a:srgbClr val="007a7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DA614-0F5C-4C89-BBD1-2CBFB8747744}" type="slidenum">
              <a:t>22</a:t>
            </a:fld>
          </a:p>
        </p:txBody>
      </p:sp>
    </p:spTree>
  </p:cSld>
  <p:transition spd="med">
    <p:zoom dir="ou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568" dur="2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155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1155" fill="hold"/>
                                        <p:tgtEl>
                                          <p:spTgt spid="1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0" dur="1155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2" dur="1155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/>
          </p:nvPr>
        </p:nvSpPr>
        <p:spPr>
          <a:xfrm>
            <a:off x="301680" y="595080"/>
            <a:ext cx="8842320" cy="57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：一袋中有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个球，编号为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，其中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号为红球，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号为黄球，设摸到每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球的可能性相等，从中随机摸一球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记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A={ 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摸到红球 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}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，求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P(A)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．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	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44400" y="3244680"/>
            <a:ext cx="7053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解：    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S={1,2,…,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3399"/>
                </a:solidFill>
                <a:latin typeface="宋体"/>
              </a:rPr>
              <a:t>A={1,2,3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2390760" y="4905360"/>
          <a:ext cx="20080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0760" y="4905360"/>
                    <a:ext cx="20080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914E-E082-4F5E-A628-525DCADFCEBD}" type="slidenum">
              <a:t>23</a:t>
            </a:fld>
          </a:p>
        </p:txBody>
      </p:sp>
    </p:spTree>
  </p:cSld>
  <p:transition spd="med">
    <p:zoom dir="ou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/>
          </p:nvPr>
        </p:nvSpPr>
        <p:spPr>
          <a:xfrm>
            <a:off x="285840" y="509400"/>
            <a:ext cx="854064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：从上例的袋中不放回的摸两球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记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A={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恰是一红一黄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}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，求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P(A)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解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1746360" y="1666800"/>
          <a:ext cx="374148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360" y="1666800"/>
                    <a:ext cx="37414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2" name=""/>
          <p:cNvSpPr/>
          <p:nvPr/>
        </p:nvSpPr>
        <p:spPr>
          <a:xfrm>
            <a:off x="1695600" y="4576680"/>
            <a:ext cx="4684680" cy="690480"/>
          </a:xfrm>
          <a:prstGeom prst="rect">
            <a:avLst/>
          </a:prstGeom>
          <a:solidFill>
            <a:srgbClr val="cc99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3" name=""/>
          <p:cNvGraphicFramePr/>
          <p:nvPr/>
        </p:nvGraphicFramePr>
        <p:xfrm>
          <a:off x="1797120" y="4629240"/>
          <a:ext cx="4437000" cy="49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7120" y="4629240"/>
                    <a:ext cx="44370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5" name=""/>
          <p:cNvGrpSpPr/>
          <p:nvPr/>
        </p:nvGrpSpPr>
        <p:grpSpPr>
          <a:xfrm>
            <a:off x="2071080" y="5529240"/>
            <a:ext cx="4030200" cy="459720"/>
            <a:chOff x="2071080" y="5529240"/>
            <a:chExt cx="4030200" cy="459720"/>
          </a:xfrm>
        </p:grpSpPr>
        <p:graphicFrame>
          <p:nvGraphicFramePr>
            <p:cNvPr id="1186" name=""/>
            <p:cNvGraphicFramePr/>
            <p:nvPr/>
          </p:nvGraphicFramePr>
          <p:xfrm>
            <a:off x="5276520" y="5589720"/>
            <a:ext cx="739440" cy="390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76520" y="5589720"/>
                      <a:ext cx="73944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8" name=""/>
            <p:cNvSpPr/>
            <p:nvPr/>
          </p:nvSpPr>
          <p:spPr>
            <a:xfrm>
              <a:off x="2071080" y="5529240"/>
              <a:ext cx="40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（注：当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L&gt;m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或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L&lt;0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时，记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438120" y="2846520"/>
            <a:ext cx="854064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例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：有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N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件产品，其中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D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件是次品，从中不放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  回的取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n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记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A</a:t>
            </a:r>
            <a:r>
              <a:rPr b="0" lang="zh-CN" sz="3200" spc="-1" strike="noStrike" baseline="-25000">
                <a:solidFill>
                  <a:srgbClr val="996600"/>
                </a:solidFill>
                <a:latin typeface="宋体"/>
              </a:rPr>
              <a:t>k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＝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{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恰有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k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件次品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}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，求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P(A</a:t>
            </a:r>
            <a:r>
              <a:rPr b="0" lang="zh-CN" sz="3200" spc="-1" strike="noStrike" baseline="-25000">
                <a:solidFill>
                  <a:srgbClr val="996600"/>
                </a:solidFill>
                <a:latin typeface="宋体"/>
              </a:rPr>
              <a:t>k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)</a:t>
            </a:r>
            <a:r>
              <a:rPr b="0" lang="zh-CN" sz="3200" spc="-1" strike="noStrike">
                <a:solidFill>
                  <a:srgbClr val="9966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F798D-F912-4707-B2FD-830275779A54}" type="slidenum">
              <a:t>24</a:t>
            </a:fld>
          </a:p>
        </p:txBody>
      </p:sp>
    </p:spTree>
  </p:cSld>
  <p:transition spd="med">
    <p:zoom dir="out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77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7" dur="770" fill="hold"/>
                                        <p:tgtEl>
                                          <p:spTgt spid="1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9" dur="77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1" dur="77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287280" y="477360"/>
            <a:ext cx="8540640" cy="17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：将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个不同的球，投入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个不同的盒中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n≤N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设每一球落入各盒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的概率相同，且各盒可放的球数不限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记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＝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{ 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恰有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个盒子各有一球 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}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求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P(A)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．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解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1328760" y="1717560"/>
            <a:ext cx="2655720" cy="1100520"/>
            <a:chOff x="1328760" y="1717560"/>
            <a:chExt cx="2655720" cy="1100520"/>
          </a:xfrm>
        </p:grpSpPr>
        <p:grpSp>
          <p:nvGrpSpPr>
            <p:cNvPr id="1192" name=""/>
            <p:cNvGrpSpPr/>
            <p:nvPr/>
          </p:nvGrpSpPr>
          <p:grpSpPr>
            <a:xfrm>
              <a:off x="2639880" y="1717560"/>
              <a:ext cx="322560" cy="398880"/>
              <a:chOff x="2639880" y="1717560"/>
              <a:chExt cx="322560" cy="398880"/>
            </a:xfrm>
          </p:grpSpPr>
          <p:sp>
            <p:nvSpPr>
              <p:cNvPr id="1193" name=""/>
              <p:cNvSpPr/>
              <p:nvPr/>
            </p:nvSpPr>
            <p:spPr>
              <a:xfrm>
                <a:off x="2666880" y="1808280"/>
                <a:ext cx="243000" cy="24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639880" y="17175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1328760" y="1757160"/>
              <a:ext cx="2655720" cy="1060920"/>
              <a:chOff x="1328760" y="1757160"/>
              <a:chExt cx="2655720" cy="1060920"/>
            </a:xfrm>
          </p:grpSpPr>
          <p:grpSp>
            <p:nvGrpSpPr>
              <p:cNvPr id="1196" name=""/>
              <p:cNvGrpSpPr/>
              <p:nvPr/>
            </p:nvGrpSpPr>
            <p:grpSpPr>
              <a:xfrm>
                <a:off x="1328760" y="2232000"/>
                <a:ext cx="2655720" cy="586080"/>
                <a:chOff x="1328760" y="2232000"/>
                <a:chExt cx="2655720" cy="586080"/>
              </a:xfrm>
            </p:grpSpPr>
            <p:grpSp>
              <p:nvGrpSpPr>
                <p:cNvPr id="1197" name=""/>
                <p:cNvGrpSpPr/>
                <p:nvPr/>
              </p:nvGrpSpPr>
              <p:grpSpPr>
                <a:xfrm>
                  <a:off x="1464840" y="2232000"/>
                  <a:ext cx="2087280" cy="216000"/>
                  <a:chOff x="1464840" y="2232000"/>
                  <a:chExt cx="2087280" cy="21600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>
                    <a:off x="1464840" y="2448000"/>
                    <a:ext cx="208728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1464840" y="223200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1760040" y="223200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120400" y="223200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01480" y="223200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552120" y="223200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4" name=""/>
                <p:cNvSpPr/>
                <p:nvPr/>
              </p:nvSpPr>
              <p:spPr>
                <a:xfrm>
                  <a:off x="1328760" y="2419200"/>
                  <a:ext cx="2655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   2                     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5" name=""/>
              <p:cNvSpPr/>
              <p:nvPr/>
            </p:nvSpPr>
            <p:spPr>
              <a:xfrm>
                <a:off x="1585080" y="1757160"/>
                <a:ext cx="1217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① ②…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6" name=""/>
          <p:cNvGrpSpPr/>
          <p:nvPr/>
        </p:nvGrpSpPr>
        <p:grpSpPr>
          <a:xfrm>
            <a:off x="5000760" y="1689120"/>
            <a:ext cx="2655720" cy="1115280"/>
            <a:chOff x="5000760" y="1689120"/>
            <a:chExt cx="2655720" cy="1115280"/>
          </a:xfrm>
        </p:grpSpPr>
        <p:grpSp>
          <p:nvGrpSpPr>
            <p:cNvPr id="1207" name=""/>
            <p:cNvGrpSpPr/>
            <p:nvPr/>
          </p:nvGrpSpPr>
          <p:grpSpPr>
            <a:xfrm>
              <a:off x="5000760" y="1689120"/>
              <a:ext cx="2655720" cy="1115280"/>
              <a:chOff x="5000760" y="1689120"/>
              <a:chExt cx="2655720" cy="1115280"/>
            </a:xfrm>
          </p:grpSpPr>
          <p:sp>
            <p:nvSpPr>
              <p:cNvPr id="1208" name=""/>
              <p:cNvSpPr/>
              <p:nvPr/>
            </p:nvSpPr>
            <p:spPr>
              <a:xfrm>
                <a:off x="5137200" y="2448000"/>
                <a:ext cx="208764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9" name=""/>
              <p:cNvGrpSpPr/>
              <p:nvPr/>
            </p:nvGrpSpPr>
            <p:grpSpPr>
              <a:xfrm>
                <a:off x="5000760" y="1689120"/>
                <a:ext cx="2655720" cy="1115280"/>
                <a:chOff x="5000760" y="1689120"/>
                <a:chExt cx="2655720" cy="111528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5978520" y="1689120"/>
                  <a:ext cx="409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②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000760" y="1882440"/>
                  <a:ext cx="2655720" cy="921960"/>
                  <a:chOff x="5000760" y="1882440"/>
                  <a:chExt cx="2655720" cy="921960"/>
                </a:xfrm>
              </p:grpSpPr>
              <p:grpSp>
                <p:nvGrpSpPr>
                  <p:cNvPr id="1212" name=""/>
                  <p:cNvGrpSpPr/>
                  <p:nvPr/>
                </p:nvGrpSpPr>
                <p:grpSpPr>
                  <a:xfrm>
                    <a:off x="5000760" y="2115360"/>
                    <a:ext cx="2655720" cy="689040"/>
                    <a:chOff x="5000760" y="2115360"/>
                    <a:chExt cx="2655720" cy="689040"/>
                  </a:xfrm>
                </p:grpSpPr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5495760" y="2218320"/>
                      <a:ext cx="0" cy="215640"/>
                    </a:xfrm>
                    <a:prstGeom prst="line">
                      <a:avLst/>
                    </a:prstGeom>
                    <a:ln w="93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5856120" y="2218320"/>
                      <a:ext cx="0" cy="215640"/>
                    </a:xfrm>
                    <a:prstGeom prst="line">
                      <a:avLst/>
                    </a:prstGeom>
                    <a:ln w="93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>
                      <a:off x="6864480" y="2218320"/>
                      <a:ext cx="0" cy="215640"/>
                    </a:xfrm>
                    <a:prstGeom prst="line">
                      <a:avLst/>
                    </a:prstGeom>
                    <a:ln w="93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>
                      <a:off x="7224840" y="2218320"/>
                      <a:ext cx="0" cy="215640"/>
                    </a:xfrm>
                    <a:prstGeom prst="line">
                      <a:avLst/>
                    </a:prstGeom>
                    <a:ln w="93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>
                      <a:off x="5000760" y="2405520"/>
                      <a:ext cx="2655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2                   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5131080" y="2115360"/>
                      <a:ext cx="4093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9" name=""/>
                  <p:cNvSpPr/>
                  <p:nvPr/>
                </p:nvSpPr>
                <p:spPr>
                  <a:xfrm>
                    <a:off x="6372360" y="1882440"/>
                    <a:ext cx="69192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" h="242">
                        <a:moveTo>
                          <a:pt x="0" y="0"/>
                        </a:moveTo>
                        <a:cubicBezTo>
                          <a:pt x="108" y="3"/>
                          <a:pt x="217" y="7"/>
                          <a:pt x="296" y="47"/>
                        </a:cubicBezTo>
                        <a:cubicBezTo>
                          <a:pt x="375" y="87"/>
                          <a:pt x="435" y="212"/>
                          <a:pt x="475" y="24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7a77"/>
                    </a:solidFill>
                    <a:round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308560" y="1907640"/>
                    <a:ext cx="630360" cy="296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210">
                        <a:moveTo>
                          <a:pt x="420" y="0"/>
                        </a:moveTo>
                        <a:cubicBezTo>
                          <a:pt x="311" y="9"/>
                          <a:pt x="202" y="19"/>
                          <a:pt x="132" y="54"/>
                        </a:cubicBezTo>
                        <a:cubicBezTo>
                          <a:pt x="62" y="89"/>
                          <a:pt x="22" y="183"/>
                          <a:pt x="0" y="21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7a77"/>
                    </a:solidFill>
                    <a:round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5680080" y="1982160"/>
                    <a:ext cx="34596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203">
                        <a:moveTo>
                          <a:pt x="241" y="0"/>
                        </a:moveTo>
                        <a:cubicBezTo>
                          <a:pt x="179" y="10"/>
                          <a:pt x="117" y="21"/>
                          <a:pt x="77" y="55"/>
                        </a:cubicBezTo>
                        <a:cubicBezTo>
                          <a:pt x="37" y="89"/>
                          <a:pt x="13" y="184"/>
                          <a:pt x="0" y="20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7a77"/>
                    </a:solidFill>
                    <a:round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22" name=""/>
            <p:cNvSpPr/>
            <p:nvPr/>
          </p:nvSpPr>
          <p:spPr>
            <a:xfrm>
              <a:off x="5127480" y="2233800"/>
              <a:ext cx="0" cy="215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1339920" y="2822400"/>
            <a:ext cx="2655720" cy="1116360"/>
            <a:chOff x="1339920" y="2822400"/>
            <a:chExt cx="2655720" cy="1116360"/>
          </a:xfrm>
        </p:grpSpPr>
        <p:sp>
          <p:nvSpPr>
            <p:cNvPr id="1224" name=""/>
            <p:cNvSpPr/>
            <p:nvPr/>
          </p:nvSpPr>
          <p:spPr>
            <a:xfrm>
              <a:off x="2317680" y="2822400"/>
              <a:ext cx="40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1339920" y="3016080"/>
              <a:ext cx="2655720" cy="922680"/>
              <a:chOff x="1339920" y="3016080"/>
              <a:chExt cx="2655720" cy="922680"/>
            </a:xfrm>
          </p:grpSpPr>
          <p:sp>
            <p:nvSpPr>
              <p:cNvPr id="1226" name=""/>
              <p:cNvSpPr/>
              <p:nvPr/>
            </p:nvSpPr>
            <p:spPr>
              <a:xfrm>
                <a:off x="2195280" y="3352680"/>
                <a:ext cx="0" cy="21600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1339920" y="3016080"/>
                <a:ext cx="2655720" cy="922680"/>
                <a:chOff x="1339920" y="3016080"/>
                <a:chExt cx="2655720" cy="92268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1476360" y="3249360"/>
                  <a:ext cx="2087640" cy="398880"/>
                  <a:chOff x="1476360" y="3249360"/>
                  <a:chExt cx="2087640" cy="39888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1476360" y="3581280"/>
                    <a:ext cx="208764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203640" y="335268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564000" y="335268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1797120" y="3249360"/>
                    <a:ext cx="409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" name=""/>
                <p:cNvGrpSpPr/>
                <p:nvPr/>
              </p:nvGrpSpPr>
              <p:grpSpPr>
                <a:xfrm>
                  <a:off x="1339920" y="3016080"/>
                  <a:ext cx="2655720" cy="922680"/>
                  <a:chOff x="1339920" y="3016080"/>
                  <a:chExt cx="2655720" cy="922680"/>
                </a:xfrm>
              </p:grpSpPr>
              <p:sp>
                <p:nvSpPr>
                  <p:cNvPr id="1234" name=""/>
                  <p:cNvSpPr/>
                  <p:nvPr/>
                </p:nvSpPr>
                <p:spPr>
                  <a:xfrm>
                    <a:off x="1834920" y="335268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1339920" y="3016080"/>
                    <a:ext cx="2655720" cy="922680"/>
                    <a:chOff x="1339920" y="3016080"/>
                    <a:chExt cx="2655720" cy="922680"/>
                  </a:xfrm>
                </p:grpSpPr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1339920" y="3539880"/>
                      <a:ext cx="26557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2                   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>
                      <a:off x="2711520" y="3016080"/>
                      <a:ext cx="691920" cy="33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5" h="242">
                          <a:moveTo>
                            <a:pt x="0" y="0"/>
                          </a:moveTo>
                          <a:cubicBezTo>
                            <a:pt x="108" y="3"/>
                            <a:pt x="217" y="7"/>
                            <a:pt x="296" y="47"/>
                          </a:cubicBezTo>
                          <a:cubicBezTo>
                            <a:pt x="375" y="87"/>
                            <a:pt x="435" y="212"/>
                            <a:pt x="475" y="2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7a77"/>
                      </a:solidFill>
                      <a:round/>
                      <a:tailEnd len="lg" type="arrow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8" name=""/>
                    <p:cNvSpPr/>
                    <p:nvPr/>
                  </p:nvSpPr>
                  <p:spPr>
                    <a:xfrm>
                      <a:off x="1647720" y="3041640"/>
                      <a:ext cx="630360" cy="29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210">
                          <a:moveTo>
                            <a:pt x="420" y="0"/>
                          </a:moveTo>
                          <a:cubicBezTo>
                            <a:pt x="311" y="9"/>
                            <a:pt x="202" y="19"/>
                            <a:pt x="132" y="54"/>
                          </a:cubicBezTo>
                          <a:cubicBezTo>
                            <a:pt x="62" y="89"/>
                            <a:pt x="22" y="183"/>
                            <a:pt x="0" y="21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7a77"/>
                      </a:solidFill>
                      <a:round/>
                      <a:tailEnd len="lg" type="arrow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2019240" y="3116160"/>
                      <a:ext cx="34596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203">
                          <a:moveTo>
                            <a:pt x="241" y="0"/>
                          </a:moveTo>
                          <a:cubicBezTo>
                            <a:pt x="179" y="10"/>
                            <a:pt x="117" y="21"/>
                            <a:pt x="77" y="55"/>
                          </a:cubicBezTo>
                          <a:cubicBezTo>
                            <a:pt x="37" y="89"/>
                            <a:pt x="13" y="184"/>
                            <a:pt x="0" y="20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7a77"/>
                      </a:solidFill>
                      <a:round/>
                      <a:tailEnd len="lg" type="arrow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0" name=""/>
                  <p:cNvSpPr/>
                  <p:nvPr/>
                </p:nvSpPr>
                <p:spPr>
                  <a:xfrm>
                    <a:off x="1466640" y="336672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41" name=""/>
          <p:cNvGrpSpPr/>
          <p:nvPr/>
        </p:nvGrpSpPr>
        <p:grpSpPr>
          <a:xfrm>
            <a:off x="3884040" y="2828880"/>
            <a:ext cx="3763080" cy="1116360"/>
            <a:chOff x="3884040" y="2828880"/>
            <a:chExt cx="3763080" cy="1116360"/>
          </a:xfrm>
        </p:grpSpPr>
        <p:grpSp>
          <p:nvGrpSpPr>
            <p:cNvPr id="1242" name=""/>
            <p:cNvGrpSpPr/>
            <p:nvPr/>
          </p:nvGrpSpPr>
          <p:grpSpPr>
            <a:xfrm>
              <a:off x="4991040" y="2828880"/>
              <a:ext cx="2656080" cy="1116360"/>
              <a:chOff x="4991040" y="2828880"/>
              <a:chExt cx="2656080" cy="1116360"/>
            </a:xfrm>
          </p:grpSpPr>
          <p:sp>
            <p:nvSpPr>
              <p:cNvPr id="1243" name=""/>
              <p:cNvSpPr/>
              <p:nvPr/>
            </p:nvSpPr>
            <p:spPr>
              <a:xfrm>
                <a:off x="6870960" y="3255840"/>
                <a:ext cx="40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4" name=""/>
              <p:cNvGrpSpPr/>
              <p:nvPr/>
            </p:nvGrpSpPr>
            <p:grpSpPr>
              <a:xfrm>
                <a:off x="4991040" y="2828880"/>
                <a:ext cx="2656080" cy="1116360"/>
                <a:chOff x="4991040" y="2828880"/>
                <a:chExt cx="2656080" cy="111636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5119920" y="3587400"/>
                  <a:ext cx="208728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7215480" y="3358800"/>
                  <a:ext cx="0" cy="2160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"/>
                <p:cNvGrpSpPr/>
                <p:nvPr/>
              </p:nvGrpSpPr>
              <p:grpSpPr>
                <a:xfrm>
                  <a:off x="4991040" y="2828880"/>
                  <a:ext cx="2656080" cy="1116360"/>
                  <a:chOff x="4991040" y="2828880"/>
                  <a:chExt cx="2656080" cy="1116360"/>
                </a:xfrm>
              </p:grpSpPr>
              <p:sp>
                <p:nvSpPr>
                  <p:cNvPr id="1248" name=""/>
                  <p:cNvSpPr/>
                  <p:nvPr/>
                </p:nvSpPr>
                <p:spPr>
                  <a:xfrm>
                    <a:off x="5486400" y="335880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5846760" y="335880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6855120" y="335880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1" name=""/>
                  <p:cNvGrpSpPr/>
                  <p:nvPr/>
                </p:nvGrpSpPr>
                <p:grpSpPr>
                  <a:xfrm>
                    <a:off x="4991040" y="2828880"/>
                    <a:ext cx="2656080" cy="1116360"/>
                    <a:chOff x="4991040" y="2828880"/>
                    <a:chExt cx="2656080" cy="1116360"/>
                  </a:xfrm>
                </p:grpSpPr>
                <p:sp>
                  <p:nvSpPr>
                    <p:cNvPr id="1252" name=""/>
                    <p:cNvSpPr/>
                    <p:nvPr/>
                  </p:nvSpPr>
                  <p:spPr>
                    <a:xfrm>
                      <a:off x="5961240" y="2828880"/>
                      <a:ext cx="40932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>
                      <a:off x="4991040" y="3546360"/>
                      <a:ext cx="26560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2                   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>
                      <a:off x="6354720" y="3022560"/>
                      <a:ext cx="692280" cy="33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5" h="242">
                          <a:moveTo>
                            <a:pt x="0" y="0"/>
                          </a:moveTo>
                          <a:cubicBezTo>
                            <a:pt x="108" y="3"/>
                            <a:pt x="217" y="7"/>
                            <a:pt x="296" y="47"/>
                          </a:cubicBezTo>
                          <a:cubicBezTo>
                            <a:pt x="375" y="87"/>
                            <a:pt x="435" y="212"/>
                            <a:pt x="475" y="2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7a77"/>
                      </a:solidFill>
                      <a:round/>
                      <a:tailEnd len="lg" type="arrow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>
                      <a:off x="5291280" y="3047760"/>
                      <a:ext cx="63036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210">
                          <a:moveTo>
                            <a:pt x="420" y="0"/>
                          </a:moveTo>
                          <a:cubicBezTo>
                            <a:pt x="311" y="9"/>
                            <a:pt x="202" y="19"/>
                            <a:pt x="132" y="54"/>
                          </a:cubicBezTo>
                          <a:cubicBezTo>
                            <a:pt x="62" y="89"/>
                            <a:pt x="22" y="183"/>
                            <a:pt x="0" y="21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7a77"/>
                      </a:solidFill>
                      <a:round/>
                      <a:tailEnd len="lg" type="arrow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>
                      <a:off x="5662800" y="3122280"/>
                      <a:ext cx="345960" cy="28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203">
                          <a:moveTo>
                            <a:pt x="241" y="0"/>
                          </a:moveTo>
                          <a:cubicBezTo>
                            <a:pt x="179" y="10"/>
                            <a:pt x="117" y="21"/>
                            <a:pt x="77" y="55"/>
                          </a:cubicBezTo>
                          <a:cubicBezTo>
                            <a:pt x="37" y="89"/>
                            <a:pt x="13" y="184"/>
                            <a:pt x="0" y="203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7a77"/>
                      </a:solidFill>
                      <a:round/>
                      <a:tailEnd len="lg" type="arrow" w="lg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7" name=""/>
                  <p:cNvSpPr/>
                  <p:nvPr/>
                </p:nvSpPr>
                <p:spPr>
                  <a:xfrm>
                    <a:off x="5118120" y="3373200"/>
                    <a:ext cx="0" cy="21600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58" name=""/>
            <p:cNvSpPr/>
            <p:nvPr/>
          </p:nvSpPr>
          <p:spPr>
            <a:xfrm>
              <a:off x="3884040" y="325764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9" name=""/>
          <p:cNvGraphicFramePr/>
          <p:nvPr/>
        </p:nvGraphicFramePr>
        <p:xfrm>
          <a:off x="4799160" y="4414680"/>
          <a:ext cx="1150920" cy="5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9160" y="4414680"/>
                    <a:ext cx="11509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1" name=""/>
          <p:cNvGraphicFramePr/>
          <p:nvPr/>
        </p:nvGraphicFramePr>
        <p:xfrm>
          <a:off x="6002280" y="4414680"/>
          <a:ext cx="2830680" cy="5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02280" y="4414680"/>
                    <a:ext cx="28306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3" name=""/>
          <p:cNvGraphicFramePr/>
          <p:nvPr/>
        </p:nvGraphicFramePr>
        <p:xfrm>
          <a:off x="3692520" y="5149800"/>
          <a:ext cx="3903840" cy="46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92520" y="5149800"/>
                    <a:ext cx="3903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5" name=""/>
          <p:cNvSpPr/>
          <p:nvPr/>
        </p:nvSpPr>
        <p:spPr>
          <a:xfrm>
            <a:off x="285840" y="4157640"/>
            <a:ext cx="861516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即当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时，共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样本点；一般地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球放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个盒子中，总样本点数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 baseline="30000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使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生的样本点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28480" y="5616720"/>
            <a:ext cx="86155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解析为一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的班上，至少有两人在同一天过生日的概率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99.7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255680" y="5172120"/>
            <a:ext cx="23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若取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CEC3E-0907-4DE2-B42D-5FD10BE2DF78}" type="slidenum">
              <a:t>25</a:t>
            </a:fld>
          </a:p>
        </p:txBody>
      </p:sp>
    </p:spTree>
  </p:cSld>
  <p:transition spd="med">
    <p:zoom dir="out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673200" y="525600"/>
            <a:ext cx="786744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一单位有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个员工，一星期共七天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老板让每位员工独立地挑一天休息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求不出现至少有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人在同一天休息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概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：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员工看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不同的球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看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不同的盒子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={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在同一天休息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则由上例知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2378160" y="5138640"/>
          <a:ext cx="3098880" cy="9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8160" y="5138640"/>
                    <a:ext cx="309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F2DD-FE9F-4244-B489-2323446CBD51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512640" y="1925640"/>
            <a:ext cx="642960" cy="415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/>
          </p:nvPr>
        </p:nvSpPr>
        <p:spPr>
          <a:xfrm>
            <a:off x="0" y="316080"/>
            <a:ext cx="89517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6: (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抽签问题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一袋中有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红球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白球，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设每次摸到各球的概率相等，每次从袋中摸一球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不放回地摸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设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{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次摸到红球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,2,…,n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．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1360440" y="1514520"/>
          <a:ext cx="74628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1514520"/>
                    <a:ext cx="7462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5" name=""/>
          <p:cNvGraphicFramePr/>
          <p:nvPr/>
        </p:nvGraphicFramePr>
        <p:xfrm>
          <a:off x="7278840" y="1541520"/>
          <a:ext cx="87624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8840" y="1541520"/>
                    <a:ext cx="8762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7" name=""/>
          <p:cNvGrpSpPr/>
          <p:nvPr/>
        </p:nvGrpSpPr>
        <p:grpSpPr>
          <a:xfrm>
            <a:off x="1433880" y="4740120"/>
            <a:ext cx="1378440" cy="404640"/>
            <a:chOff x="1433880" y="4740120"/>
            <a:chExt cx="1378440" cy="404640"/>
          </a:xfrm>
        </p:grpSpPr>
        <p:grpSp>
          <p:nvGrpSpPr>
            <p:cNvPr id="1278" name=""/>
            <p:cNvGrpSpPr/>
            <p:nvPr/>
          </p:nvGrpSpPr>
          <p:grpSpPr>
            <a:xfrm>
              <a:off x="1433880" y="4776480"/>
              <a:ext cx="1324800" cy="368280"/>
              <a:chOff x="1433880" y="4776480"/>
              <a:chExt cx="1324800" cy="368280"/>
            </a:xfrm>
          </p:grpSpPr>
          <p:sp>
            <p:nvSpPr>
              <p:cNvPr id="1279" name=""/>
              <p:cNvSpPr/>
              <p:nvPr/>
            </p:nvSpPr>
            <p:spPr>
              <a:xfrm>
                <a:off x="1433880" y="4776480"/>
                <a:ext cx="88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① ②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516040" y="4825800"/>
                <a:ext cx="242640" cy="24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2505240" y="4740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1629720" y="2730600"/>
            <a:ext cx="1136880" cy="419040"/>
            <a:chOff x="1629720" y="2730600"/>
            <a:chExt cx="1136880" cy="419040"/>
          </a:xfrm>
        </p:grpSpPr>
        <p:sp>
          <p:nvSpPr>
            <p:cNvPr id="1283" name=""/>
            <p:cNvSpPr/>
            <p:nvPr/>
          </p:nvSpPr>
          <p:spPr>
            <a:xfrm>
              <a:off x="1629720" y="2781360"/>
              <a:ext cx="9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① —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4" name=""/>
            <p:cNvGrpSpPr/>
            <p:nvPr/>
          </p:nvGrpSpPr>
          <p:grpSpPr>
            <a:xfrm>
              <a:off x="2459520" y="2730600"/>
              <a:ext cx="307080" cy="368280"/>
              <a:chOff x="2459520" y="2730600"/>
              <a:chExt cx="307080" cy="368280"/>
            </a:xfrm>
          </p:grpSpPr>
          <p:sp>
            <p:nvSpPr>
              <p:cNvPr id="1285" name=""/>
              <p:cNvSpPr/>
              <p:nvPr/>
            </p:nvSpPr>
            <p:spPr>
              <a:xfrm>
                <a:off x="2479680" y="2830680"/>
                <a:ext cx="243000" cy="24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459520" y="2730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287" name=""/>
          <p:cNvGraphicFramePr/>
          <p:nvPr/>
        </p:nvGraphicFramePr>
        <p:xfrm>
          <a:off x="969840" y="3170160"/>
          <a:ext cx="2570400" cy="87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69840" y="3170160"/>
                    <a:ext cx="25704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9" name=""/>
          <p:cNvGrpSpPr/>
          <p:nvPr/>
        </p:nvGrpSpPr>
        <p:grpSpPr>
          <a:xfrm>
            <a:off x="4367160" y="2335320"/>
            <a:ext cx="1363320" cy="419040"/>
            <a:chOff x="4367160" y="2335320"/>
            <a:chExt cx="1363320" cy="419040"/>
          </a:xfrm>
        </p:grpSpPr>
        <p:grpSp>
          <p:nvGrpSpPr>
            <p:cNvPr id="1290" name=""/>
            <p:cNvGrpSpPr/>
            <p:nvPr/>
          </p:nvGrpSpPr>
          <p:grpSpPr>
            <a:xfrm>
              <a:off x="4367160" y="2386080"/>
              <a:ext cx="1325520" cy="368280"/>
              <a:chOff x="4367160" y="2386080"/>
              <a:chExt cx="1325520" cy="368280"/>
            </a:xfrm>
          </p:grpSpPr>
          <p:sp>
            <p:nvSpPr>
              <p:cNvPr id="1291" name=""/>
              <p:cNvSpPr/>
              <p:nvPr/>
            </p:nvSpPr>
            <p:spPr>
              <a:xfrm>
                <a:off x="4367160" y="2386080"/>
                <a:ext cx="100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① ② 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450040" y="2435400"/>
                <a:ext cx="242640" cy="24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5423400" y="233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94" name=""/>
          <p:cNvGraphicFramePr/>
          <p:nvPr/>
        </p:nvGraphicFramePr>
        <p:xfrm>
          <a:off x="1082520" y="5688000"/>
          <a:ext cx="3252960" cy="77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2520" y="5688000"/>
                    <a:ext cx="32529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6" name=""/>
          <p:cNvGrpSpPr/>
          <p:nvPr/>
        </p:nvGrpSpPr>
        <p:grpSpPr>
          <a:xfrm>
            <a:off x="2629440" y="3130560"/>
            <a:ext cx="5307840" cy="1440000"/>
            <a:chOff x="2629440" y="3130560"/>
            <a:chExt cx="5307840" cy="1440000"/>
          </a:xfrm>
        </p:grpSpPr>
        <p:grpSp>
          <p:nvGrpSpPr>
            <p:cNvPr id="1297" name=""/>
            <p:cNvGrpSpPr/>
            <p:nvPr/>
          </p:nvGrpSpPr>
          <p:grpSpPr>
            <a:xfrm>
              <a:off x="2629440" y="3293640"/>
              <a:ext cx="2985480" cy="324000"/>
              <a:chOff x="2629440" y="3293640"/>
              <a:chExt cx="2985480" cy="324000"/>
            </a:xfrm>
          </p:grpSpPr>
          <p:sp>
            <p:nvSpPr>
              <p:cNvPr id="1298" name=""/>
              <p:cNvSpPr/>
              <p:nvPr/>
            </p:nvSpPr>
            <p:spPr>
              <a:xfrm flipH="1" flipV="1">
                <a:off x="2629440" y="3367080"/>
                <a:ext cx="2791440" cy="25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2697840" y="3293640"/>
                <a:ext cx="291708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5129280" y="3130560"/>
              <a:ext cx="2808000" cy="1440000"/>
              <a:chOff x="5129280" y="3130560"/>
              <a:chExt cx="2808000" cy="1440000"/>
            </a:xfrm>
          </p:grpSpPr>
          <p:sp>
            <p:nvSpPr>
              <p:cNvPr id="1301" name="Cloud"/>
              <p:cNvSpPr/>
              <p:nvPr/>
            </p:nvSpPr>
            <p:spPr>
              <a:xfrm>
                <a:off x="5129280" y="3130560"/>
                <a:ext cx="2808000" cy="144000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66"/>
                    </a:solidFill>
                    <a:latin typeface="Arial"/>
                  </a:rPr>
                  <a:t>可以是①号球，亦可以是②号球……是     号球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2" name=""/>
              <p:cNvGrpSpPr/>
              <p:nvPr/>
            </p:nvGrpSpPr>
            <p:grpSpPr>
              <a:xfrm>
                <a:off x="6326640" y="3903840"/>
                <a:ext cx="764280" cy="368280"/>
                <a:chOff x="6326640" y="3903840"/>
                <a:chExt cx="764280" cy="36828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6580080" y="3962520"/>
                  <a:ext cx="247320" cy="247680"/>
                </a:xfrm>
                <a:prstGeom prst="ellipse">
                  <a:avLst/>
                </a:prstGeom>
                <a:noFill/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6326640" y="3903840"/>
                  <a:ext cx="76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28600" indent="-228600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66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05" name=""/>
          <p:cNvSpPr/>
          <p:nvPr/>
        </p:nvSpPr>
        <p:spPr>
          <a:xfrm>
            <a:off x="3274200" y="2703600"/>
            <a:ext cx="47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号球为红球，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人也编号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,2,…,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044680" y="5803920"/>
            <a:ext cx="25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------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2316240"/>
            <a:ext cx="89517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设想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球进行编号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0" y="4703760"/>
            <a:ext cx="895176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的任一排列为一个样本点，每点出现的概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B0F3-600F-4C45-B8AB-9146E1F8595C}" type="slidenum">
              <a:t>27</a:t>
            </a:fld>
          </a:p>
        </p:txBody>
      </p:sp>
    </p:spTree>
  </p:cSld>
  <p:transition spd="med">
    <p:zoom dir="out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2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8dee6"/>
                                      </p:to>
                                    </p:animClr>
                                    <p:set>
                                      <p:cBhvr>
                                        <p:cTn id="693" dur="2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2000"/>
                                        <p:tgtEl>
                                          <p:spTgt spid="1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2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287280" y="4940280"/>
            <a:ext cx="642960" cy="415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79360" y="3038400"/>
            <a:ext cx="642960" cy="41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89080" y="225360"/>
            <a:ext cx="642960" cy="41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178920" y="2977920"/>
            <a:ext cx="871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将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次摸到的球号作为一样本点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1600200" y="1019160"/>
          <a:ext cx="1835280" cy="71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019160"/>
                    <a:ext cx="18352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7" name=""/>
          <p:cNvGraphicFramePr/>
          <p:nvPr/>
        </p:nvGraphicFramePr>
        <p:xfrm>
          <a:off x="3406680" y="2193840"/>
          <a:ext cx="3673440" cy="86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06680" y="2193840"/>
                    <a:ext cx="36734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9" name=""/>
          <p:cNvGraphicFramePr/>
          <p:nvPr/>
        </p:nvGraphicFramePr>
        <p:xfrm>
          <a:off x="4857840" y="5940360"/>
          <a:ext cx="2233440" cy="460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57840" y="5940360"/>
                    <a:ext cx="22334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1" name=""/>
          <p:cNvGraphicFramePr/>
          <p:nvPr/>
        </p:nvGraphicFramePr>
        <p:xfrm>
          <a:off x="598320" y="4226040"/>
          <a:ext cx="2808360" cy="836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8320" y="4226040"/>
                    <a:ext cx="2808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3" name=""/>
          <p:cNvGrpSpPr/>
          <p:nvPr/>
        </p:nvGrpSpPr>
        <p:grpSpPr>
          <a:xfrm>
            <a:off x="4389480" y="3429000"/>
            <a:ext cx="3409920" cy="2617920"/>
            <a:chOff x="4389480" y="3429000"/>
            <a:chExt cx="3409920" cy="2617920"/>
          </a:xfrm>
        </p:grpSpPr>
        <p:sp>
          <p:nvSpPr>
            <p:cNvPr id="1324" name="Document"/>
            <p:cNvSpPr/>
            <p:nvPr/>
          </p:nvSpPr>
          <p:spPr>
            <a:xfrm>
              <a:off x="5999040" y="3429000"/>
              <a:ext cx="1800360" cy="17683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33cccc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此值不仅与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无关，且与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都无关，若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呢？对吗？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66"/>
                  </a:solidFill>
                  <a:latin typeface="Arial"/>
                </a:rPr>
                <a:t>为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89480" y="4724280"/>
              <a:ext cx="1741320" cy="1322640"/>
            </a:xfrm>
            <a:custGeom>
              <a:avLst/>
              <a:gdLst>
                <a:gd name="textAreaLeft" fmla="*/ 0 w 1741320"/>
                <a:gd name="textAreaRight" fmla="*/ 1741680 w 1741320"/>
                <a:gd name="textAreaTop" fmla="*/ 0 h 1322640"/>
                <a:gd name="textAreaBottom" fmla="*/ 1323000 h 132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011" stAng="10800000" swAng="5400000"/>
                  <a:lnTo>
                    <a:pt x="12427" y="4149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8009"/>
                  </a:lnTo>
                  <a:lnTo>
                    <a:pt x="12427" y="8009"/>
                  </a:lnTo>
                  <a:arcTo wR="8567" hR="4151" stAng="16200000" swAng="-5400000"/>
                  <a:lnTo>
                    <a:pt x="3860" y="21600"/>
                  </a:lnTo>
                  <a:close/>
                </a:path>
              </a:pathLst>
            </a:custGeom>
            <a:solidFill>
              <a:srgbClr val="ebf7ff">
                <a:alpha val="55000"/>
              </a:srgbClr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"/>
          <p:cNvSpPr/>
          <p:nvPr/>
        </p:nvSpPr>
        <p:spPr>
          <a:xfrm>
            <a:off x="8008920" y="3198960"/>
            <a:ext cx="23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30072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8244000" y="2924280"/>
            <a:ext cx="43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原来这不是等可能概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1681560" y="1744560"/>
            <a:ext cx="6508440" cy="966960"/>
            <a:chOff x="1681560" y="1744560"/>
            <a:chExt cx="6508440" cy="966960"/>
          </a:xfrm>
        </p:grpSpPr>
        <p:graphicFrame>
          <p:nvGraphicFramePr>
            <p:cNvPr id="1330" name=""/>
            <p:cNvGraphicFramePr/>
            <p:nvPr/>
          </p:nvGraphicFramePr>
          <p:xfrm>
            <a:off x="7540560" y="1746360"/>
            <a:ext cx="649440" cy="5364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33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540560" y="1746360"/>
                      <a:ext cx="64944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32" name=""/>
            <p:cNvGrpSpPr/>
            <p:nvPr/>
          </p:nvGrpSpPr>
          <p:grpSpPr>
            <a:xfrm>
              <a:off x="1681560" y="1744560"/>
              <a:ext cx="5770800" cy="966960"/>
              <a:chOff x="1681560" y="1744560"/>
              <a:chExt cx="5770800" cy="966960"/>
            </a:xfrm>
          </p:grpSpPr>
          <p:graphicFrame>
            <p:nvGraphicFramePr>
              <p:cNvPr id="1333" name=""/>
              <p:cNvGraphicFramePr/>
              <p:nvPr/>
            </p:nvGraphicFramePr>
            <p:xfrm>
              <a:off x="2470320" y="1744560"/>
              <a:ext cx="448920" cy="53352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334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470320" y="1744560"/>
                        <a:ext cx="448920" cy="53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335" name=""/>
              <p:cNvGrpSpPr/>
              <p:nvPr/>
            </p:nvGrpSpPr>
            <p:grpSpPr>
              <a:xfrm>
                <a:off x="1681560" y="1798560"/>
                <a:ext cx="5770800" cy="912960"/>
                <a:chOff x="1681560" y="1798560"/>
                <a:chExt cx="5770800" cy="912960"/>
              </a:xfrm>
            </p:grpSpPr>
            <p:graphicFrame>
              <p:nvGraphicFramePr>
                <p:cNvPr id="1336" name=""/>
                <p:cNvGraphicFramePr/>
                <p:nvPr/>
              </p:nvGraphicFramePr>
              <p:xfrm>
                <a:off x="1873080" y="2143080"/>
                <a:ext cx="474840" cy="568440"/>
              </p:xfrm>
              <a:graphic>
                <a:graphicData uri="http://schemas.openxmlformats.org/presentationml/2006/ole">
                  <p:oleObj r:id="rId16" spid="">
                    <p:embed/>
                    <p:pic>
                      <p:nvPicPr>
                        <p:cNvPr id="1337" name="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1873080" y="2143080"/>
                          <a:ext cx="474840" cy="568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338" name=""/>
                <p:cNvSpPr/>
                <p:nvPr/>
              </p:nvSpPr>
              <p:spPr>
                <a:xfrm>
                  <a:off x="1681560" y="1798560"/>
                  <a:ext cx="5770800" cy="82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28600" indent="-228600"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总样本点数为      ，每点出现的概率相等，而其中有        个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228600" indent="-228600"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样本点使       发生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9" name=""/>
          <p:cNvGrpSpPr/>
          <p:nvPr/>
        </p:nvGrpSpPr>
        <p:grpSpPr>
          <a:xfrm>
            <a:off x="867240" y="3909960"/>
            <a:ext cx="2494080" cy="459720"/>
            <a:chOff x="867240" y="3909960"/>
            <a:chExt cx="2494080" cy="459720"/>
          </a:xfrm>
        </p:grpSpPr>
        <p:grpSp>
          <p:nvGrpSpPr>
            <p:cNvPr id="1340" name=""/>
            <p:cNvGrpSpPr/>
            <p:nvPr/>
          </p:nvGrpSpPr>
          <p:grpSpPr>
            <a:xfrm>
              <a:off x="1338120" y="3994200"/>
              <a:ext cx="1782720" cy="368280"/>
              <a:chOff x="1338120" y="3994200"/>
              <a:chExt cx="1782720" cy="368280"/>
            </a:xfrm>
          </p:grpSpPr>
          <p:sp>
            <p:nvSpPr>
              <p:cNvPr id="1341" name=""/>
              <p:cNvSpPr/>
              <p:nvPr/>
            </p:nvSpPr>
            <p:spPr>
              <a:xfrm>
                <a:off x="1338120" y="3994200"/>
                <a:ext cx="178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①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，②，…，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703600" y="4043520"/>
                <a:ext cx="277560" cy="24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3" name=""/>
            <p:cNvSpPr/>
            <p:nvPr/>
          </p:nvSpPr>
          <p:spPr>
            <a:xfrm>
              <a:off x="867240" y="390996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S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{           }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3352680" y="3927600"/>
            <a:ext cx="2595960" cy="517320"/>
            <a:chOff x="3352680" y="3927600"/>
            <a:chExt cx="2595960" cy="517320"/>
          </a:xfrm>
        </p:grpSpPr>
        <p:graphicFrame>
          <p:nvGraphicFramePr>
            <p:cNvPr id="1345" name=""/>
            <p:cNvGraphicFramePr/>
            <p:nvPr/>
          </p:nvGraphicFramePr>
          <p:xfrm>
            <a:off x="3352680" y="3927600"/>
            <a:ext cx="719280" cy="517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34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352680" y="3927600"/>
                      <a:ext cx="71928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7" name=""/>
            <p:cNvGrpSpPr/>
            <p:nvPr/>
          </p:nvGrpSpPr>
          <p:grpSpPr>
            <a:xfrm>
              <a:off x="4165560" y="3927600"/>
              <a:ext cx="1783080" cy="459720"/>
              <a:chOff x="4165560" y="3927600"/>
              <a:chExt cx="1783080" cy="45972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4165560" y="4010040"/>
                <a:ext cx="1783080" cy="368280"/>
                <a:chOff x="4165560" y="4010040"/>
                <a:chExt cx="1783080" cy="36828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4165560" y="4010040"/>
                  <a:ext cx="1783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①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，②，…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546880" y="4059360"/>
                  <a:ext cx="277920" cy="242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>
                <a:off x="4174200" y="3927600"/>
                <a:ext cx="174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宋体"/>
                  </a:rPr>
                  <a:t>{         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2" name=""/>
          <p:cNvGrpSpPr/>
          <p:nvPr/>
        </p:nvGrpSpPr>
        <p:grpSpPr>
          <a:xfrm>
            <a:off x="2973240" y="5869080"/>
            <a:ext cx="1897560" cy="539640"/>
            <a:chOff x="2973240" y="5869080"/>
            <a:chExt cx="1897560" cy="539640"/>
          </a:xfrm>
        </p:grpSpPr>
        <p:graphicFrame>
          <p:nvGraphicFramePr>
            <p:cNvPr id="1353" name=""/>
            <p:cNvGraphicFramePr/>
            <p:nvPr/>
          </p:nvGraphicFramePr>
          <p:xfrm>
            <a:off x="2973240" y="5869080"/>
            <a:ext cx="749160" cy="5396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35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973240" y="5869080"/>
                      <a:ext cx="74916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5" name=""/>
            <p:cNvSpPr/>
            <p:nvPr/>
          </p:nvSpPr>
          <p:spPr>
            <a:xfrm>
              <a:off x="3489120" y="589608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{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红色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243000" y="223920"/>
            <a:ext cx="8470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视哪几次摸到红球为一样本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79280" y="4883040"/>
            <a:ext cx="87138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记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次摸到的球的颜色为一样本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红色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白色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8307-24E8-4341-8240-3AD26A7C3AD1}" type="slidenum">
              <a:t>28</a:t>
            </a:fld>
          </a:p>
        </p:txBody>
      </p:sp>
    </p:spTree>
  </p:cSld>
  <p:transition spd="med">
    <p:zoom dir="out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8dee6"/>
                                      </p:to>
                                    </p:animClr>
                                    <p:set>
                                      <p:cBhvr>
                                        <p:cTn id="751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8dee6"/>
                                      </p:to>
                                    </p:animClr>
                                    <p:set>
                                      <p:cBhvr>
                                        <p:cTn id="754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2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8dee6"/>
                                      </p:to>
                                    </p:animClr>
                                    <p:set>
                                      <p:cBhvr>
                                        <p:cTn id="757" dur="2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2000"/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2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/>
          </p:nvPr>
        </p:nvSpPr>
        <p:spPr>
          <a:xfrm>
            <a:off x="360360" y="1752480"/>
            <a:ext cx="832968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解：假设接待站的接待时间没有规定，而各来访者在一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的任一天中去接待站是等可能的，那么，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次接待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访者都是在周二、周四的概率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2</a:t>
            </a:r>
            <a:r>
              <a:rPr b="0" lang="zh-CN" sz="2400" spc="-1" strike="noStrike" baseline="30000">
                <a:solidFill>
                  <a:srgbClr val="003399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/7</a:t>
            </a:r>
            <a:r>
              <a:rPr b="0" lang="zh-CN" sz="2400" spc="-1" strike="noStrike" baseline="30000">
                <a:solidFill>
                  <a:srgbClr val="003399"/>
                </a:solidFill>
                <a:latin typeface="宋体"/>
              </a:rPr>
              <a:t>12 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=0.000 000 3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52360" y="506520"/>
            <a:ext cx="85726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：某接待站在某一周曾接待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次来访，已知所有这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次接待都是在周二和周四进行的，问是否可以推断接待时间是有规定的</a:t>
            </a:r>
            <a:r>
              <a:rPr b="0" lang="zh-CN" sz="2400" spc="-1" strike="noStrike">
                <a:solidFill>
                  <a:srgbClr val="003399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43080" y="3879720"/>
            <a:ext cx="85168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人们在长期的实践中总结得到“概率很小的事件在一次试验中实际上几乎是不发生的”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称之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实际推断原理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现在概率很小的事件在一次试验中竟然发生了，因此有理由怀疑假设的正确性，从而推断接待站不是每天都接待来访者，即认为其接待时间是有规定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F04F-1D30-421B-BAFC-0AA7FE46D3F8}" type="slidenum">
              <a:t>29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/>
          </p:nvPr>
        </p:nvSpPr>
        <p:spPr>
          <a:xfrm>
            <a:off x="705960" y="196560"/>
            <a:ext cx="7394760" cy="66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09960" indent="-309960">
              <a:lnSpc>
                <a:spcPct val="100000"/>
              </a:lnSpc>
              <a:spcBef>
                <a:spcPts val="9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2" action="ppaction://hlinksldjump"/>
              </a:rPr>
              <a:t>第一章  概率论的基本概念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3" action="ppaction://hlinksldjump"/>
              </a:rPr>
              <a:t>1.1 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4" action="ppaction://hlinksldjump"/>
              </a:rPr>
              <a:t>随机试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5" action="ppaction://hlinksldjump"/>
              </a:rPr>
              <a:t>1.2 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6" action="ppaction://hlinksldjump"/>
              </a:rPr>
              <a:t>样本空间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7" action="ppaction://hlinksldjump"/>
              </a:rPr>
              <a:t>1.3 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8" action="ppaction://hlinksldjump"/>
              </a:rPr>
              <a:t>概率和频率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9" action="ppaction://hlinksldjump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10" action="ppaction://hlinksldjump"/>
              </a:rPr>
              <a:t>1.4 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11" action="ppaction://hlinksldjump"/>
              </a:rPr>
              <a:t>等可能概型（古典概型）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12" action="ppaction://hlinksldjump"/>
              </a:rPr>
              <a:t>1.5 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13" action="ppaction://hlinksldjump"/>
              </a:rPr>
              <a:t>条件概率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14" action="ppaction://hlinksldjump"/>
              </a:rPr>
              <a:t>1.6 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15" action="ppaction://hlinksldjump"/>
              </a:rPr>
              <a:t>独立性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9960" indent="-309960">
              <a:lnSpc>
                <a:spcPct val="100000"/>
              </a:lnSpc>
              <a:spcBef>
                <a:spcPts val="9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16" action="ppaction://hlinksldjump"/>
              </a:rPr>
              <a:t>第二章  随机变量及其分布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17" action="ppaction://hlinksldjump"/>
              </a:rPr>
              <a:t>2.1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18" action="ppaction://hlinksldjump"/>
              </a:rPr>
              <a:t>随机变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19" action="ppaction://hlinksldjump"/>
              </a:rPr>
              <a:t>2.2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20" action="ppaction://hlinksldjump"/>
              </a:rPr>
              <a:t>离散型随机变量及其分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21" action="ppaction://hlinksldjump"/>
              </a:rPr>
              <a:t>2.3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22" action="ppaction://hlinksldjump"/>
              </a:rPr>
              <a:t>随机变量的分布函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23" action="ppaction://hlinksldjump"/>
              </a:rPr>
              <a:t>2.4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24" action="ppaction://hlinksldjump"/>
              </a:rPr>
              <a:t>连续型随机变量及其概率密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25" action="ppaction://hlinksldjump"/>
              </a:rPr>
              <a:t>2.5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26" action="ppaction://hlinksldjump"/>
              </a:rPr>
              <a:t>随机变量的函数的分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9960" indent="-309960">
              <a:lnSpc>
                <a:spcPct val="100000"/>
              </a:lnSpc>
              <a:spcBef>
                <a:spcPts val="9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27" action="ppaction://hlinksldjump"/>
              </a:rPr>
              <a:t>第三章  多维随机变量及其分布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28" action="ppaction://hlinksldjump"/>
              </a:rPr>
              <a:t>3.1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29" action="ppaction://hlinksldjump"/>
              </a:rPr>
              <a:t>二维随机变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30" action="ppaction://hlinksldjump"/>
              </a:rPr>
              <a:t>3.2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31" action="ppaction://hlinksldjump"/>
              </a:rPr>
              <a:t>边缘分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32" action="ppaction://hlinksldjump"/>
              </a:rPr>
              <a:t>3.3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33" action="ppaction://hlinksldjump"/>
              </a:rPr>
              <a:t>条件分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34" action="ppaction://hlinksldjump"/>
              </a:rPr>
              <a:t>3.4 </a:t>
            </a:r>
            <a:r>
              <a:rPr b="0" lang="zh-CN" sz="2100" spc="-1" strike="noStrike" u="sng">
                <a:solidFill>
                  <a:srgbClr val="336699"/>
                </a:solidFill>
                <a:uFillTx/>
                <a:latin typeface="宋体"/>
                <a:ea typeface="宋体"/>
                <a:hlinkClick r:id="rId35" action="ppaction://hlinksldjump"/>
              </a:rPr>
              <a:t>相互独立的随机变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861120" indent="-26064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3.5 </a:t>
            </a:r>
            <a:r>
              <a:rPr b="0" lang="zh-CN" sz="2100" spc="-1" strike="noStrike">
                <a:solidFill>
                  <a:srgbClr val="000000"/>
                </a:solidFill>
                <a:latin typeface="宋体"/>
                <a:ea typeface="宋体"/>
              </a:rPr>
              <a:t>两个随机变量的函数的分布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B0B9D-6BDF-4B94-B933-F970A76F8E00}" type="slidenum">
              <a:t>3</a:t>
            </a:fld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-541800" y="107640"/>
            <a:ext cx="48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宋体"/>
              </a:rPr>
              <a:t>§5  </a:t>
            </a:r>
            <a:r>
              <a:rPr b="0" lang="zh-CN" sz="4000" spc="-1" strike="noStrike">
                <a:solidFill>
                  <a:srgbClr val="003399"/>
                </a:solidFill>
                <a:latin typeface="宋体"/>
              </a:rPr>
              <a:t>条件概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8920" y="828360"/>
            <a:ext cx="89647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例：有一批产品，其合格率为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90%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，合格品中有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95%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为 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优质品，从中任取一件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记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A={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取到一件合格品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B={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取到一件优质品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则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P(A)=90% 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而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P(B)=85.5%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记：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P(B|A)=95%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1434960" indent="-53316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P(A)=0.90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是将整批产品记作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时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的测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1434960" indent="-53316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P(B|A)=0.95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是将合格品记作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时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的测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1434960" indent="-53316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宋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由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P(B|A)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的意义，其实可将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P(A)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记为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P(A|S)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而这里的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S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常常省略而已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P(A)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也可视为条件概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14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分析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14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6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5" name=""/>
          <p:cNvGrpSpPr/>
          <p:nvPr/>
        </p:nvGrpSpPr>
        <p:grpSpPr>
          <a:xfrm>
            <a:off x="6951600" y="5535720"/>
            <a:ext cx="1944720" cy="863640"/>
            <a:chOff x="6951600" y="5535720"/>
            <a:chExt cx="1944720" cy="863640"/>
          </a:xfrm>
        </p:grpSpPr>
        <p:grpSp>
          <p:nvGrpSpPr>
            <p:cNvPr id="1366" name=""/>
            <p:cNvGrpSpPr/>
            <p:nvPr/>
          </p:nvGrpSpPr>
          <p:grpSpPr>
            <a:xfrm>
              <a:off x="6951600" y="5535720"/>
              <a:ext cx="1944720" cy="863640"/>
              <a:chOff x="6951600" y="5535720"/>
              <a:chExt cx="1944720" cy="863640"/>
            </a:xfrm>
          </p:grpSpPr>
          <p:sp>
            <p:nvSpPr>
              <p:cNvPr id="1367" name=""/>
              <p:cNvSpPr/>
              <p:nvPr/>
            </p:nvSpPr>
            <p:spPr>
              <a:xfrm>
                <a:off x="6951600" y="5535720"/>
                <a:ext cx="1944720" cy="8636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8" name=""/>
              <p:cNvGrpSpPr/>
              <p:nvPr/>
            </p:nvGrpSpPr>
            <p:grpSpPr>
              <a:xfrm>
                <a:off x="7381440" y="5680440"/>
                <a:ext cx="1009440" cy="649080"/>
                <a:chOff x="7381440" y="5680440"/>
                <a:chExt cx="1009440" cy="649080"/>
              </a:xfrm>
            </p:grpSpPr>
            <p:sp>
              <p:nvSpPr>
                <p:cNvPr id="1369" name=""/>
                <p:cNvSpPr/>
                <p:nvPr/>
              </p:nvSpPr>
              <p:spPr>
                <a:xfrm flipH="1">
                  <a:off x="7454880" y="5680440"/>
                  <a:ext cx="216000" cy="50472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0" name=""/>
                <p:cNvGrpSpPr/>
                <p:nvPr/>
              </p:nvGrpSpPr>
              <p:grpSpPr>
                <a:xfrm>
                  <a:off x="7526520" y="5680440"/>
                  <a:ext cx="504720" cy="647640"/>
                  <a:chOff x="7526520" y="5680440"/>
                  <a:chExt cx="504720" cy="647640"/>
                </a:xfrm>
              </p:grpSpPr>
              <p:grpSp>
                <p:nvGrpSpPr>
                  <p:cNvPr id="1371" name=""/>
                  <p:cNvGrpSpPr/>
                  <p:nvPr/>
                </p:nvGrpSpPr>
                <p:grpSpPr>
                  <a:xfrm>
                    <a:off x="7526520" y="5680440"/>
                    <a:ext cx="504720" cy="647640"/>
                    <a:chOff x="7526520" y="5680440"/>
                    <a:chExt cx="504720" cy="647640"/>
                  </a:xfrm>
                </p:grpSpPr>
                <p:sp>
                  <p:nvSpPr>
                    <p:cNvPr id="1372" name=""/>
                    <p:cNvSpPr/>
                    <p:nvPr/>
                  </p:nvSpPr>
                  <p:spPr>
                    <a:xfrm flipH="1">
                      <a:off x="7526520" y="5680440"/>
                      <a:ext cx="288720" cy="574560"/>
                    </a:xfrm>
                    <a:prstGeom prst="line">
                      <a:avLst/>
                    </a:prstGeom>
                    <a:ln w="93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3" name=""/>
                    <p:cNvSpPr/>
                    <p:nvPr/>
                  </p:nvSpPr>
                  <p:spPr>
                    <a:xfrm flipH="1">
                      <a:off x="7815240" y="5896080"/>
                      <a:ext cx="216000" cy="432000"/>
                    </a:xfrm>
                    <a:prstGeom prst="line">
                      <a:avLst/>
                    </a:prstGeom>
                    <a:ln w="93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"/>
                    <p:cNvSpPr/>
                    <p:nvPr/>
                  </p:nvSpPr>
                  <p:spPr>
                    <a:xfrm flipH="1">
                      <a:off x="7598880" y="5751720"/>
                      <a:ext cx="289080" cy="576360"/>
                    </a:xfrm>
                    <a:prstGeom prst="line">
                      <a:avLst/>
                    </a:prstGeom>
                    <a:ln w="93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 flipH="1">
                      <a:off x="7727040" y="5832360"/>
                      <a:ext cx="248760" cy="488160"/>
                    </a:xfrm>
                    <a:prstGeom prst="line">
                      <a:avLst/>
                    </a:prstGeom>
                    <a:ln w="9360">
                      <a:solidFill>
                        <a:srgbClr val="007a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6" name=""/>
                  <p:cNvSpPr/>
                  <p:nvPr/>
                </p:nvSpPr>
                <p:spPr>
                  <a:xfrm>
                    <a:off x="7959600" y="5824800"/>
                    <a:ext cx="0" cy="36036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7" name=""/>
                <p:cNvGrpSpPr/>
                <p:nvPr/>
              </p:nvGrpSpPr>
              <p:grpSpPr>
                <a:xfrm>
                  <a:off x="7381440" y="5680440"/>
                  <a:ext cx="1009440" cy="649080"/>
                  <a:chOff x="7381440" y="5680440"/>
                  <a:chExt cx="1009440" cy="649080"/>
                </a:xfrm>
              </p:grpSpPr>
              <p:sp>
                <p:nvSpPr>
                  <p:cNvPr id="1378" name=""/>
                  <p:cNvSpPr/>
                  <p:nvPr/>
                </p:nvSpPr>
                <p:spPr>
                  <a:xfrm flipH="1">
                    <a:off x="7381440" y="5751720"/>
                    <a:ext cx="144360" cy="36036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79" name=""/>
                  <p:cNvGrpSpPr/>
                  <p:nvPr/>
                </p:nvGrpSpPr>
                <p:grpSpPr>
                  <a:xfrm>
                    <a:off x="7381800" y="5680440"/>
                    <a:ext cx="1009080" cy="649080"/>
                    <a:chOff x="7381800" y="5680440"/>
                    <a:chExt cx="1009080" cy="649080"/>
                  </a:xfrm>
                </p:grpSpPr>
                <p:sp>
                  <p:nvSpPr>
                    <p:cNvPr id="1380" name=""/>
                    <p:cNvSpPr/>
                    <p:nvPr/>
                  </p:nvSpPr>
                  <p:spPr>
                    <a:xfrm>
                      <a:off x="8043840" y="5824800"/>
                      <a:ext cx="3452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81" name=""/>
                    <p:cNvGrpSpPr/>
                    <p:nvPr/>
                  </p:nvGrpSpPr>
                  <p:grpSpPr>
                    <a:xfrm>
                      <a:off x="7381800" y="5680440"/>
                      <a:ext cx="1009080" cy="649080"/>
                      <a:chOff x="7381800" y="5680440"/>
                      <a:chExt cx="1009080" cy="649080"/>
                    </a:xfrm>
                  </p:grpSpPr>
                  <p:grpSp>
                    <p:nvGrpSpPr>
                      <p:cNvPr id="1382" name=""/>
                      <p:cNvGrpSpPr/>
                      <p:nvPr/>
                    </p:nvGrpSpPr>
                    <p:grpSpPr>
                      <a:xfrm>
                        <a:off x="7381800" y="5680440"/>
                        <a:ext cx="1009080" cy="649080"/>
                        <a:chOff x="7381800" y="5680440"/>
                        <a:chExt cx="1009080" cy="649080"/>
                      </a:xfrm>
                    </p:grpSpPr>
                    <p:sp>
                      <p:nvSpPr>
                        <p:cNvPr id="1383" name=""/>
                        <p:cNvSpPr/>
                        <p:nvPr/>
                      </p:nvSpPr>
                      <p:spPr>
                        <a:xfrm>
                          <a:off x="7381800" y="5680440"/>
                          <a:ext cx="649080" cy="64908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7a77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4" name=""/>
                        <p:cNvSpPr/>
                        <p:nvPr/>
                      </p:nvSpPr>
                      <p:spPr>
                        <a:xfrm>
                          <a:off x="7886520" y="5751720"/>
                          <a:ext cx="504360" cy="50472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7a77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85" name=""/>
                      <p:cNvSpPr/>
                      <p:nvPr/>
                    </p:nvSpPr>
                    <p:spPr>
                      <a:xfrm>
                        <a:off x="7385040" y="575172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386" name=""/>
            <p:cNvSpPr/>
            <p:nvPr/>
          </p:nvSpPr>
          <p:spPr>
            <a:xfrm>
              <a:off x="8537760" y="5607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1204920" y="5278320"/>
            <a:ext cx="5614920" cy="1531800"/>
            <a:chOff x="1204920" y="5278320"/>
            <a:chExt cx="5614920" cy="1531800"/>
          </a:xfrm>
        </p:grpSpPr>
        <p:sp>
          <p:nvSpPr>
            <p:cNvPr id="1388" name=""/>
            <p:cNvSpPr/>
            <p:nvPr/>
          </p:nvSpPr>
          <p:spPr>
            <a:xfrm>
              <a:off x="1204920" y="5278320"/>
              <a:ext cx="5614920" cy="1531800"/>
            </a:xfrm>
            <a:prstGeom prst="horizontalScroll">
              <a:avLst>
                <a:gd name="adj" fmla="val 12500"/>
              </a:avLst>
            </a:prstGeom>
            <a:solidFill>
              <a:srgbClr val="cc99ff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89" name=""/>
            <p:cNvGraphicFramePr/>
            <p:nvPr/>
          </p:nvGraphicFramePr>
          <p:xfrm>
            <a:off x="2638440" y="5891040"/>
            <a:ext cx="1432080" cy="77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38440" y="5891040"/>
                      <a:ext cx="143208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1" name=""/>
            <p:cNvSpPr/>
            <p:nvPr/>
          </p:nvSpPr>
          <p:spPr>
            <a:xfrm>
              <a:off x="1233000" y="5487840"/>
              <a:ext cx="5214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若记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P(B|A)=x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则应有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P(A):P(AB)=1: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得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2000"/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2000"/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2000"/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209520" y="4781520"/>
            <a:ext cx="8694720" cy="1716120"/>
          </a:xfrm>
          <a:prstGeom prst="rect">
            <a:avLst/>
          </a:prstGeom>
          <a:solidFill>
            <a:srgbClr val="ff99cc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93963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一、条件概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定义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由上面讨论知，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P(B|A)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应具有概率的所有性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例如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9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6" name=""/>
          <p:cNvGraphicFramePr/>
          <p:nvPr/>
        </p:nvGraphicFramePr>
        <p:xfrm>
          <a:off x="1476360" y="1846440"/>
          <a:ext cx="2894040" cy="47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1846440"/>
                    <a:ext cx="28940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8" name=""/>
          <p:cNvGraphicFramePr/>
          <p:nvPr/>
        </p:nvGraphicFramePr>
        <p:xfrm>
          <a:off x="1467000" y="2470320"/>
          <a:ext cx="5976720" cy="42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67000" y="2470320"/>
                    <a:ext cx="59767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0" name=""/>
          <p:cNvGrpSpPr/>
          <p:nvPr/>
        </p:nvGrpSpPr>
        <p:grpSpPr>
          <a:xfrm>
            <a:off x="1467000" y="3040200"/>
            <a:ext cx="4154040" cy="421920"/>
            <a:chOff x="1467000" y="3040200"/>
            <a:chExt cx="4154040" cy="421920"/>
          </a:xfrm>
        </p:grpSpPr>
        <p:graphicFrame>
          <p:nvGraphicFramePr>
            <p:cNvPr id="1401" name=""/>
            <p:cNvGraphicFramePr/>
            <p:nvPr/>
          </p:nvGraphicFramePr>
          <p:xfrm>
            <a:off x="1467000" y="3040200"/>
            <a:ext cx="985680" cy="360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67000" y="3040200"/>
                      <a:ext cx="98568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3" name=""/>
            <p:cNvGraphicFramePr/>
            <p:nvPr/>
          </p:nvGraphicFramePr>
          <p:xfrm>
            <a:off x="2523600" y="3057840"/>
            <a:ext cx="3097440" cy="404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523600" y="3057840"/>
                      <a:ext cx="3097440" cy="40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05" name=""/>
          <p:cNvGraphicFramePr/>
          <p:nvPr/>
        </p:nvGraphicFramePr>
        <p:xfrm>
          <a:off x="236520" y="4835520"/>
          <a:ext cx="5653080" cy="453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6520" y="4835520"/>
                    <a:ext cx="565308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7" name=""/>
          <p:cNvGraphicFramePr/>
          <p:nvPr/>
        </p:nvGraphicFramePr>
        <p:xfrm>
          <a:off x="230040" y="5400720"/>
          <a:ext cx="4826160" cy="458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0040" y="5400720"/>
                    <a:ext cx="48261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9" name=""/>
          <p:cNvGraphicFramePr/>
          <p:nvPr/>
        </p:nvGraphicFramePr>
        <p:xfrm>
          <a:off x="196920" y="5896080"/>
          <a:ext cx="8588160" cy="5238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1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6920" y="5896080"/>
                    <a:ext cx="8588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1" name=""/>
          <p:cNvGrpSpPr/>
          <p:nvPr/>
        </p:nvGrpSpPr>
        <p:grpSpPr>
          <a:xfrm>
            <a:off x="1625760" y="582480"/>
            <a:ext cx="3600360" cy="774720"/>
            <a:chOff x="1625760" y="582480"/>
            <a:chExt cx="3600360" cy="774720"/>
          </a:xfrm>
        </p:grpSpPr>
        <p:graphicFrame>
          <p:nvGraphicFramePr>
            <p:cNvPr id="1412" name=""/>
            <p:cNvGraphicFramePr/>
            <p:nvPr/>
          </p:nvGraphicFramePr>
          <p:xfrm>
            <a:off x="1625760" y="582480"/>
            <a:ext cx="2087640" cy="7747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41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625760" y="582480"/>
                      <a:ext cx="2087640" cy="77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4" name=""/>
            <p:cNvGraphicFramePr/>
            <p:nvPr/>
          </p:nvGraphicFramePr>
          <p:xfrm>
            <a:off x="4146840" y="798480"/>
            <a:ext cx="1079280" cy="3747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415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146840" y="798480"/>
                      <a:ext cx="10792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16" name="Litebulb"/>
          <p:cNvSpPr/>
          <p:nvPr/>
        </p:nvSpPr>
        <p:spPr>
          <a:xfrm>
            <a:off x="225360" y="758880"/>
            <a:ext cx="185760" cy="25884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476360" y="609480"/>
            <a:ext cx="3897360" cy="690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0" y="3830760"/>
            <a:ext cx="9144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乘法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下面的条件概率都有意义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0C47-FD12-46B6-933C-324F2234DCC2}" type="slidenum">
              <a:t>31</a:t>
            </a:fld>
          </a:p>
        </p:txBody>
      </p:sp>
    </p:spTree>
  </p:cSld>
  <p:transition spd="med">
    <p:zoom dir="out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5" dur="3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2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2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/>
          </p:nvPr>
        </p:nvSpPr>
        <p:spPr>
          <a:xfrm>
            <a:off x="169920" y="404640"/>
            <a:ext cx="8578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6840" indent="-96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例：某厂生产的产品能直接出厂的概率为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70%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，余下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 的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30%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的产品要调试后再定，已知调试后有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80%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的产品可以出厂，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20%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的产品要报废。求该厂产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</a:rPr>
              <a:t> 品的报废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5969160" y="3330720"/>
          <a:ext cx="17110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9160" y="3330720"/>
                    <a:ext cx="1711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4" name=""/>
          <p:cNvGraphicFramePr/>
          <p:nvPr/>
        </p:nvGraphicFramePr>
        <p:xfrm>
          <a:off x="1325520" y="3819600"/>
          <a:ext cx="2824200" cy="49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25520" y="3819600"/>
                    <a:ext cx="282420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6" name=""/>
          <p:cNvGraphicFramePr/>
          <p:nvPr/>
        </p:nvGraphicFramePr>
        <p:xfrm>
          <a:off x="1986120" y="4446720"/>
          <a:ext cx="4505040" cy="49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6120" y="4446720"/>
                    <a:ext cx="450504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8" name=""/>
          <p:cNvGraphicFramePr/>
          <p:nvPr/>
        </p:nvGraphicFramePr>
        <p:xfrm>
          <a:off x="2030400" y="4973760"/>
          <a:ext cx="3468600" cy="39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30400" y="4973760"/>
                    <a:ext cx="3468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0" name=""/>
          <p:cNvGrpSpPr/>
          <p:nvPr/>
        </p:nvGrpSpPr>
        <p:grpSpPr>
          <a:xfrm>
            <a:off x="4257720" y="1946160"/>
            <a:ext cx="4264920" cy="2020680"/>
            <a:chOff x="4257720" y="1946160"/>
            <a:chExt cx="4264920" cy="2020680"/>
          </a:xfrm>
        </p:grpSpPr>
        <p:graphicFrame>
          <p:nvGraphicFramePr>
            <p:cNvPr id="1431" name=""/>
            <p:cNvGraphicFramePr/>
            <p:nvPr/>
          </p:nvGraphicFramePr>
          <p:xfrm>
            <a:off x="7584120" y="2184120"/>
            <a:ext cx="433440" cy="267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3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84120" y="2184120"/>
                      <a:ext cx="433440" cy="2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33" name=""/>
            <p:cNvGrpSpPr/>
            <p:nvPr/>
          </p:nvGrpSpPr>
          <p:grpSpPr>
            <a:xfrm>
              <a:off x="4257720" y="1946160"/>
              <a:ext cx="4264920" cy="2020680"/>
              <a:chOff x="4257720" y="1946160"/>
              <a:chExt cx="4264920" cy="2020680"/>
            </a:xfrm>
          </p:grpSpPr>
          <p:sp>
            <p:nvSpPr>
              <p:cNvPr id="1434" name=""/>
              <p:cNvSpPr/>
              <p:nvPr/>
            </p:nvSpPr>
            <p:spPr>
              <a:xfrm>
                <a:off x="5993280" y="1946160"/>
                <a:ext cx="2529360" cy="1069920"/>
              </a:xfrm>
              <a:prstGeom prst="irregularSeal2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∵</a:t>
                </a:r>
                <a:r>
                  <a:rPr b="1" lang="zh-CN" sz="2400" spc="-1" strike="noStrike">
                    <a:solidFill>
                      <a:srgbClr val="ff0066"/>
                    </a:solidFill>
                    <a:latin typeface="宋体"/>
                  </a:rPr>
                  <a:t>AB</a:t>
                </a:r>
                <a:r>
                  <a:rPr b="0" lang="zh-CN" sz="2400" spc="-1" strike="noStrike">
                    <a:solidFill>
                      <a:srgbClr val="ff0066"/>
                    </a:solidFill>
                    <a:latin typeface="宋体"/>
                  </a:rPr>
                  <a:t>与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66"/>
                    </a:solidFill>
                    <a:latin typeface="宋体"/>
                  </a:rPr>
                  <a:t>不相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4257720" y="2837880"/>
                <a:ext cx="2312280" cy="1128960"/>
                <a:chOff x="4257720" y="2837880"/>
                <a:chExt cx="2312280" cy="1128960"/>
              </a:xfrm>
            </p:grpSpPr>
            <p:sp>
              <p:nvSpPr>
                <p:cNvPr id="1436" name=""/>
                <p:cNvSpPr/>
                <p:nvPr/>
              </p:nvSpPr>
              <p:spPr>
                <a:xfrm flipV="1">
                  <a:off x="4257720" y="2898000"/>
                  <a:ext cx="2312280" cy="10684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V="1">
                  <a:off x="4257720" y="2837880"/>
                  <a:ext cx="1952280" cy="11289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8" name=""/>
          <p:cNvSpPr/>
          <p:nvPr/>
        </p:nvSpPr>
        <p:spPr>
          <a:xfrm>
            <a:off x="317520" y="5834160"/>
            <a:ext cx="1440000" cy="753840"/>
          </a:xfrm>
          <a:prstGeom prst="cloudCallout">
            <a:avLst>
              <a:gd name="adj1" fmla="val 77893"/>
              <a:gd name="adj2" fmla="val -128314"/>
            </a:avLst>
          </a:prstGeom>
          <a:solidFill>
            <a:srgbClr val="ebf7ff">
              <a:alpha val="50000"/>
            </a:srgbClr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利用乘法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4146480" y="3836880"/>
          <a:ext cx="2451240" cy="495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46480" y="3836880"/>
                    <a:ext cx="24512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228600" y="2217600"/>
            <a:ext cx="85788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6840" indent="-96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：设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={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生产的产品要报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={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生产的产品要调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P(B)=0.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P(A|B)=0.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2" name=""/>
          <p:cNvGraphicFramePr/>
          <p:nvPr/>
        </p:nvGraphicFramePr>
        <p:xfrm>
          <a:off x="1758960" y="5423040"/>
          <a:ext cx="6808680" cy="1155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58960" y="5423040"/>
                    <a:ext cx="680868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938B-F009-4C4E-A92A-3198B7D89901}" type="slidenum">
              <a:t>32</a:t>
            </a:fld>
          </a:p>
        </p:txBody>
      </p:sp>
    </p:spTree>
  </p:cSld>
  <p:transition spd="med">
    <p:zoom dir="out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2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/>
          </p:nvPr>
        </p:nvSpPr>
        <p:spPr>
          <a:xfrm>
            <a:off x="142560" y="259920"/>
            <a:ext cx="8677080" cy="19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例：某行业进行专业劳动技能考核，一个月安排一次，每人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最多参加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次；某人第一次参加能通过的概率为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60%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；如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果第一次未通过就去参加第二次，这时能通过的概率为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80%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；如果第二次再未通过，则去参加第三次，此时能通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过的概率为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90%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。求这人能通过考核的概率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45" name=""/>
          <p:cNvGraphicFramePr/>
          <p:nvPr/>
        </p:nvGraphicFramePr>
        <p:xfrm>
          <a:off x="4781520" y="3086280"/>
          <a:ext cx="273384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1520" y="3086280"/>
                    <a:ext cx="273384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9" name=""/>
          <p:cNvGraphicFramePr/>
          <p:nvPr/>
        </p:nvGraphicFramePr>
        <p:xfrm>
          <a:off x="1057320" y="3575160"/>
          <a:ext cx="438156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57320" y="3575160"/>
                    <a:ext cx="43815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1" name=""/>
          <p:cNvGraphicFramePr/>
          <p:nvPr/>
        </p:nvGraphicFramePr>
        <p:xfrm>
          <a:off x="1733400" y="4140360"/>
          <a:ext cx="6177240" cy="46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33400" y="4140360"/>
                    <a:ext cx="61772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3" name=""/>
          <p:cNvGraphicFramePr/>
          <p:nvPr/>
        </p:nvGraphicFramePr>
        <p:xfrm>
          <a:off x="1731960" y="4721400"/>
          <a:ext cx="5137200" cy="35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31960" y="4721400"/>
                    <a:ext cx="51372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5" name=""/>
          <p:cNvGraphicFramePr/>
          <p:nvPr/>
        </p:nvGraphicFramePr>
        <p:xfrm>
          <a:off x="569880" y="5388120"/>
          <a:ext cx="8244000" cy="501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9880" y="5388120"/>
                    <a:ext cx="82440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7" name=""/>
          <p:cNvGraphicFramePr/>
          <p:nvPr/>
        </p:nvGraphicFramePr>
        <p:xfrm>
          <a:off x="1295280" y="5956200"/>
          <a:ext cx="3376800" cy="37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5956200"/>
                    <a:ext cx="337680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9" name=""/>
          <p:cNvGrpSpPr/>
          <p:nvPr/>
        </p:nvGrpSpPr>
        <p:grpSpPr>
          <a:xfrm>
            <a:off x="7172280" y="2209680"/>
            <a:ext cx="1440000" cy="936720"/>
            <a:chOff x="7172280" y="2209680"/>
            <a:chExt cx="1440000" cy="936720"/>
          </a:xfrm>
        </p:grpSpPr>
        <p:sp>
          <p:nvSpPr>
            <p:cNvPr id="1460" name=""/>
            <p:cNvSpPr/>
            <p:nvPr/>
          </p:nvSpPr>
          <p:spPr>
            <a:xfrm>
              <a:off x="7172280" y="2209680"/>
              <a:ext cx="1440000" cy="936720"/>
            </a:xfrm>
            <a:prstGeom prst="wedgeRoundRectCallout">
              <a:avLst>
                <a:gd name="adj1" fmla="val -70949"/>
                <a:gd name="adj2" fmla="val 158814"/>
                <a:gd name="adj3" fmla="val 16667"/>
              </a:avLst>
            </a:prstGeom>
            <a:noFill/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1" name=""/>
            <p:cNvGraphicFramePr/>
            <p:nvPr/>
          </p:nvGraphicFramePr>
          <p:xfrm>
            <a:off x="7355160" y="2249280"/>
            <a:ext cx="1042920" cy="816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6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355160" y="2249280"/>
                      <a:ext cx="1042920" cy="8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63" name=""/>
          <p:cNvSpPr/>
          <p:nvPr/>
        </p:nvSpPr>
        <p:spPr>
          <a:xfrm>
            <a:off x="295200" y="2185920"/>
            <a:ext cx="86774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{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人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次通过考核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=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={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人通过考核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06440" y="4799160"/>
            <a:ext cx="11383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亦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48E2-E010-42A9-92C0-6EF8BDF597BD}" type="slidenum">
              <a:t>33</a:t>
            </a:fld>
          </a:p>
        </p:txBody>
      </p:sp>
    </p:spTree>
  </p:cSld>
  <p:transition spd="med">
    <p:zoom dir="out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2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2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2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2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2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/>
          </p:nvPr>
        </p:nvSpPr>
        <p:spPr>
          <a:xfrm>
            <a:off x="415440" y="464760"/>
            <a:ext cx="87282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例：从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张牌中任取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张，采用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(1)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放回抽样，（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）不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回抽样，求恰是“一红一黑”的概率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1380960" y="2571840"/>
          <a:ext cx="300204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0960" y="2571840"/>
                    <a:ext cx="3002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0" name=""/>
          <p:cNvGraphicFramePr/>
          <p:nvPr/>
        </p:nvGraphicFramePr>
        <p:xfrm>
          <a:off x="2274840" y="3174840"/>
          <a:ext cx="495936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74840" y="3174840"/>
                    <a:ext cx="49593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2" name=""/>
          <p:cNvGraphicFramePr/>
          <p:nvPr/>
        </p:nvGraphicFramePr>
        <p:xfrm>
          <a:off x="3591000" y="4681440"/>
          <a:ext cx="459108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91000" y="4681440"/>
                    <a:ext cx="45910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4" name=""/>
          <p:cNvGraphicFramePr/>
          <p:nvPr/>
        </p:nvGraphicFramePr>
        <p:xfrm>
          <a:off x="3598920" y="5497560"/>
          <a:ext cx="5149800" cy="77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98920" y="5497560"/>
                    <a:ext cx="51498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6" name=""/>
          <p:cNvSpPr/>
          <p:nvPr/>
        </p:nvSpPr>
        <p:spPr>
          <a:xfrm flipH="1" flipV="1">
            <a:off x="559800" y="3795120"/>
            <a:ext cx="1347480" cy="647640"/>
          </a:xfrm>
          <a:prstGeom prst="wedgeEllipseCallout">
            <a:avLst>
              <a:gd name="adj1" fmla="val -86634"/>
              <a:gd name="adj2" fmla="val 855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利用乘法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6197760" y="1398600"/>
            <a:ext cx="2017440" cy="1008000"/>
            <a:chOff x="6197760" y="1398600"/>
            <a:chExt cx="2017440" cy="1008000"/>
          </a:xfrm>
        </p:grpSpPr>
        <p:sp>
          <p:nvSpPr>
            <p:cNvPr id="1478" name=""/>
            <p:cNvSpPr/>
            <p:nvPr/>
          </p:nvSpPr>
          <p:spPr>
            <a:xfrm>
              <a:off x="6197760" y="1398600"/>
              <a:ext cx="2017440" cy="1008000"/>
            </a:xfrm>
            <a:prstGeom prst="cloudCallout">
              <a:avLst>
                <a:gd name="adj1" fmla="val -122935"/>
                <a:gd name="adj2" fmla="val 77875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不相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6391080" y="1469880"/>
              <a:ext cx="1627920" cy="473040"/>
              <a:chOff x="6391080" y="1469880"/>
              <a:chExt cx="1627920" cy="473040"/>
            </a:xfrm>
          </p:grpSpPr>
          <p:graphicFrame>
            <p:nvGraphicFramePr>
              <p:cNvPr id="1480" name=""/>
              <p:cNvGraphicFramePr/>
              <p:nvPr/>
            </p:nvGraphicFramePr>
            <p:xfrm>
              <a:off x="6391080" y="1469880"/>
              <a:ext cx="618840" cy="4712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481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91080" y="1469880"/>
                        <a:ext cx="618840" cy="47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82" name=""/>
              <p:cNvGraphicFramePr/>
              <p:nvPr/>
            </p:nvGraphicFramePr>
            <p:xfrm>
              <a:off x="7398360" y="1469880"/>
              <a:ext cx="620640" cy="4730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48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398360" y="1469880"/>
                        <a:ext cx="620640" cy="473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484" name=""/>
          <p:cNvGraphicFramePr/>
          <p:nvPr/>
        </p:nvGraphicFramePr>
        <p:xfrm>
          <a:off x="4532400" y="2562120"/>
          <a:ext cx="2682720" cy="505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32400" y="2562120"/>
                    <a:ext cx="26827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6" name=""/>
          <p:cNvSpPr/>
          <p:nvPr/>
        </p:nvSpPr>
        <p:spPr>
          <a:xfrm>
            <a:off x="0" y="4705200"/>
            <a:ext cx="87282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若为放回抽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0" y="5543640"/>
            <a:ext cx="8728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若为不放回抽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76200" y="1289160"/>
            <a:ext cx="872820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{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次取到红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i=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={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张恰是一红一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E30E-3AE5-44C2-A492-E1860540D243}" type="slidenum">
              <a:t>34</a:t>
            </a:fld>
          </a:p>
        </p:txBody>
      </p:sp>
    </p:spTree>
  </p:cSld>
  <p:transition spd="med">
    <p:zoom dir="out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2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2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2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-419040" y="-12600"/>
            <a:ext cx="697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宋体"/>
              </a:rPr>
              <a:t>三、全概率公式与</a:t>
            </a:r>
            <a:r>
              <a:rPr b="0" lang="zh-CN" sz="3600" spc="-1" strike="noStrike">
                <a:solidFill>
                  <a:srgbClr val="003399"/>
                </a:solidFill>
                <a:latin typeface="宋体"/>
              </a:rPr>
              <a:t>Baye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宋体"/>
              </a:rPr>
              <a:t>公式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24000" y="74124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定义：设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S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为试验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的样本空间，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B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,B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,…,B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   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       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为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的一组事件。若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5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534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则称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B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,B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,…,B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为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S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划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或称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组完备事件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91" name=""/>
          <p:cNvGraphicFramePr/>
          <p:nvPr/>
        </p:nvGraphicFramePr>
        <p:xfrm>
          <a:off x="1432080" y="1789200"/>
          <a:ext cx="354780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2080" y="1789200"/>
                    <a:ext cx="3547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3" name=""/>
          <p:cNvGraphicFramePr/>
          <p:nvPr/>
        </p:nvGraphicFramePr>
        <p:xfrm>
          <a:off x="1415880" y="2462040"/>
          <a:ext cx="4988160" cy="52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15880" y="2462040"/>
                    <a:ext cx="4988160" cy="5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5" name=""/>
          <p:cNvGrpSpPr/>
          <p:nvPr/>
        </p:nvGrpSpPr>
        <p:grpSpPr>
          <a:xfrm>
            <a:off x="468360" y="4863960"/>
            <a:ext cx="2735280" cy="1301760"/>
            <a:chOff x="468360" y="4863960"/>
            <a:chExt cx="2735280" cy="1301760"/>
          </a:xfrm>
        </p:grpSpPr>
        <p:grpSp>
          <p:nvGrpSpPr>
            <p:cNvPr id="1496" name=""/>
            <p:cNvGrpSpPr/>
            <p:nvPr/>
          </p:nvGrpSpPr>
          <p:grpSpPr>
            <a:xfrm>
              <a:off x="468360" y="4870440"/>
              <a:ext cx="2735280" cy="1295280"/>
              <a:chOff x="468360" y="4870440"/>
              <a:chExt cx="2735280" cy="1295280"/>
            </a:xfrm>
          </p:grpSpPr>
          <p:sp>
            <p:nvSpPr>
              <p:cNvPr id="1497" name=""/>
              <p:cNvSpPr/>
              <p:nvPr/>
            </p:nvSpPr>
            <p:spPr>
              <a:xfrm>
                <a:off x="468360" y="4870440"/>
                <a:ext cx="2735280" cy="12952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8" name=""/>
              <p:cNvGrpSpPr/>
              <p:nvPr/>
            </p:nvGrpSpPr>
            <p:grpSpPr>
              <a:xfrm>
                <a:off x="468360" y="4870440"/>
                <a:ext cx="2735280" cy="1295280"/>
                <a:chOff x="468360" y="4870440"/>
                <a:chExt cx="2735280" cy="1295280"/>
              </a:xfrm>
            </p:grpSpPr>
            <p:sp>
              <p:nvSpPr>
                <p:cNvPr id="1499" name=""/>
                <p:cNvSpPr/>
                <p:nvPr/>
              </p:nvSpPr>
              <p:spPr>
                <a:xfrm>
                  <a:off x="468360" y="4870440"/>
                  <a:ext cx="1008000" cy="647640"/>
                </a:xfrm>
                <a:custGeom>
                  <a:avLst/>
                  <a:gdLst/>
                  <a:ahLst/>
                  <a:rect l="l" t="t" r="r" b="b"/>
                  <a:pathLst>
                    <a:path w="635" h="408">
                      <a:moveTo>
                        <a:pt x="0" y="408"/>
                      </a:moveTo>
                      <a:cubicBezTo>
                        <a:pt x="105" y="396"/>
                        <a:pt x="211" y="385"/>
                        <a:pt x="317" y="317"/>
                      </a:cubicBezTo>
                      <a:cubicBezTo>
                        <a:pt x="423" y="249"/>
                        <a:pt x="590" y="30"/>
                        <a:pt x="635" y="0"/>
                      </a:cubicBezTo>
                    </a:path>
                  </a:pathLst>
                </a:custGeom>
                <a:noFill/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826920" y="5373720"/>
                  <a:ext cx="239760" cy="792000"/>
                </a:xfrm>
                <a:custGeom>
                  <a:avLst/>
                  <a:gdLst/>
                  <a:ahLst/>
                  <a:rect l="l" t="t" r="r" b="b"/>
                  <a:pathLst>
                    <a:path w="151" h="499">
                      <a:moveTo>
                        <a:pt x="91" y="0"/>
                      </a:moveTo>
                      <a:cubicBezTo>
                        <a:pt x="121" y="72"/>
                        <a:pt x="151" y="144"/>
                        <a:pt x="136" y="227"/>
                      </a:cubicBezTo>
                      <a:cubicBezTo>
                        <a:pt x="121" y="310"/>
                        <a:pt x="30" y="454"/>
                        <a:pt x="0" y="499"/>
                      </a:cubicBezTo>
                    </a:path>
                  </a:pathLst>
                </a:custGeom>
                <a:noFill/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1187280" y="5157720"/>
                  <a:ext cx="792360" cy="1008000"/>
                </a:xfrm>
                <a:custGeom>
                  <a:avLst/>
                  <a:gdLst/>
                  <a:ahLst/>
                  <a:rect l="l" t="t" r="r" b="b"/>
                  <a:pathLst>
                    <a:path w="499" h="635">
                      <a:moveTo>
                        <a:pt x="0" y="0"/>
                      </a:moveTo>
                      <a:cubicBezTo>
                        <a:pt x="117" y="38"/>
                        <a:pt x="235" y="76"/>
                        <a:pt x="318" y="182"/>
                      </a:cubicBezTo>
                      <a:cubicBezTo>
                        <a:pt x="401" y="288"/>
                        <a:pt x="454" y="560"/>
                        <a:pt x="499" y="635"/>
                      </a:cubicBezTo>
                    </a:path>
                  </a:pathLst>
                </a:custGeom>
                <a:noFill/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1763640" y="4870440"/>
                  <a:ext cx="936720" cy="647640"/>
                </a:xfrm>
                <a:custGeom>
                  <a:avLst/>
                  <a:gdLst/>
                  <a:ahLst/>
                  <a:rect l="l" t="t" r="r" b="b"/>
                  <a:pathLst>
                    <a:path w="590" h="408">
                      <a:moveTo>
                        <a:pt x="0" y="408"/>
                      </a:moveTo>
                      <a:cubicBezTo>
                        <a:pt x="132" y="396"/>
                        <a:pt x="265" y="385"/>
                        <a:pt x="363" y="317"/>
                      </a:cubicBezTo>
                      <a:cubicBezTo>
                        <a:pt x="461" y="249"/>
                        <a:pt x="537" y="45"/>
                        <a:pt x="590" y="0"/>
                      </a:cubicBezTo>
                    </a:path>
                  </a:pathLst>
                </a:custGeom>
                <a:noFill/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2411280" y="5302080"/>
                  <a:ext cx="792360" cy="576360"/>
                </a:xfrm>
                <a:custGeom>
                  <a:avLst/>
                  <a:gdLst/>
                  <a:ahLst/>
                  <a:rect l="l" t="t" r="r" b="b"/>
                  <a:pathLst>
                    <a:path w="499" h="363">
                      <a:moveTo>
                        <a:pt x="0" y="0"/>
                      </a:moveTo>
                      <a:cubicBezTo>
                        <a:pt x="211" y="147"/>
                        <a:pt x="423" y="295"/>
                        <a:pt x="499" y="363"/>
                      </a:cubicBezTo>
                    </a:path>
                  </a:pathLst>
                </a:custGeom>
                <a:noFill/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2411280" y="5591160"/>
                  <a:ext cx="360360" cy="574560"/>
                </a:xfrm>
                <a:custGeom>
                  <a:avLst/>
                  <a:gdLst/>
                  <a:ahLst/>
                  <a:rect l="l" t="t" r="r" b="b"/>
                  <a:pathLst>
                    <a:path w="227" h="362">
                      <a:moveTo>
                        <a:pt x="227" y="0"/>
                      </a:moveTo>
                      <a:cubicBezTo>
                        <a:pt x="136" y="147"/>
                        <a:pt x="45" y="294"/>
                        <a:pt x="0" y="362"/>
                      </a:cubicBezTo>
                    </a:path>
                  </a:pathLst>
                </a:custGeom>
                <a:noFill/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5" name=""/>
            <p:cNvGrpSpPr/>
            <p:nvPr/>
          </p:nvGrpSpPr>
          <p:grpSpPr>
            <a:xfrm>
              <a:off x="468360" y="4863960"/>
              <a:ext cx="2709360" cy="1275840"/>
              <a:chOff x="468360" y="4863960"/>
              <a:chExt cx="2709360" cy="127584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468360" y="4863960"/>
                <a:ext cx="574560" cy="1275840"/>
                <a:chOff x="468360" y="4863960"/>
                <a:chExt cx="574560" cy="127584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468360" y="4863960"/>
                  <a:ext cx="574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66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 baseline="-25000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475560" y="573408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66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 baseline="-25000">
                      <a:solidFill>
                        <a:srgbClr val="ff0066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2635560" y="4941720"/>
                <a:ext cx="542160" cy="1198080"/>
                <a:chOff x="2635560" y="4941720"/>
                <a:chExt cx="542160" cy="11980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2635560" y="5734080"/>
                  <a:ext cx="425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66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 baseline="-25000">
                      <a:solidFill>
                        <a:srgbClr val="ff0066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2844720" y="494172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66"/>
                      </a:solidFill>
                      <a:latin typeface="Arial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"/>
          <p:cNvSpPr/>
          <p:nvPr/>
        </p:nvSpPr>
        <p:spPr>
          <a:xfrm>
            <a:off x="5055480" y="5021280"/>
            <a:ext cx="245268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即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B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…,B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至少有一发生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然的，两两同时发生又是不可能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tebulb"/>
          <p:cNvSpPr/>
          <p:nvPr/>
        </p:nvSpPr>
        <p:spPr>
          <a:xfrm>
            <a:off x="152280" y="835200"/>
            <a:ext cx="214560" cy="27936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F7F2-E366-4AA8-8874-360AC0A3E1F9}" type="slidenum">
              <a:t>35</a:t>
            </a:fld>
          </a:p>
        </p:txBody>
      </p:sp>
    </p:spTree>
  </p:cSld>
  <p:transition spd="med">
    <p:zoom dir="out"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6" dur="3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2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2000"/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>
            <a:off x="3786120" y="4765680"/>
            <a:ext cx="3818160" cy="1314360"/>
          </a:xfrm>
          <a:prstGeom prst="rect">
            <a:avLst/>
          </a:prstGeom>
          <a:solidFill>
            <a:srgbClr val="ff99cc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165400" y="1235160"/>
            <a:ext cx="5262480" cy="817560"/>
          </a:xfrm>
          <a:prstGeom prst="rect">
            <a:avLst/>
          </a:prstGeom>
          <a:solidFill>
            <a:srgbClr val="ff99cc"/>
          </a:solidFill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/>
          </p:nvPr>
        </p:nvSpPr>
        <p:spPr>
          <a:xfrm>
            <a:off x="92160" y="378000"/>
            <a:ext cx="8928000" cy="15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定理：设试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的样本空间为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S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为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的事件。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B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,B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,…,B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为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S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的一个划分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P(B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)&gt;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i=1,2,…,n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12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则称：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17" name=""/>
          <p:cNvGraphicFramePr/>
          <p:nvPr/>
        </p:nvGraphicFramePr>
        <p:xfrm>
          <a:off x="3038400" y="2717640"/>
          <a:ext cx="4365720" cy="4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8400" y="2717640"/>
                    <a:ext cx="436572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9" name=""/>
          <p:cNvGraphicFramePr/>
          <p:nvPr/>
        </p:nvGraphicFramePr>
        <p:xfrm>
          <a:off x="3794040" y="4884840"/>
          <a:ext cx="3691080" cy="126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94040" y="4884840"/>
                    <a:ext cx="369108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1" name=""/>
          <p:cNvGrpSpPr/>
          <p:nvPr/>
        </p:nvGrpSpPr>
        <p:grpSpPr>
          <a:xfrm>
            <a:off x="7010280" y="3795840"/>
            <a:ext cx="1800360" cy="863640"/>
            <a:chOff x="7010280" y="3795840"/>
            <a:chExt cx="1800360" cy="863640"/>
          </a:xfrm>
        </p:grpSpPr>
        <p:sp>
          <p:nvSpPr>
            <p:cNvPr id="1522" name=""/>
            <p:cNvSpPr/>
            <p:nvPr/>
          </p:nvSpPr>
          <p:spPr>
            <a:xfrm>
              <a:off x="7010280" y="3795840"/>
              <a:ext cx="1800360" cy="863640"/>
            </a:xfrm>
            <a:prstGeom prst="cloudCallout">
              <a:avLst>
                <a:gd name="adj1" fmla="val -154231"/>
                <a:gd name="adj2" fmla="val 109925"/>
              </a:avLst>
            </a:prstGeom>
            <a:solidFill>
              <a:srgbClr val="ccffcc">
                <a:alpha val="70000"/>
              </a:srgbClr>
            </a:soli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23" name=""/>
            <p:cNvGraphicFramePr/>
            <p:nvPr/>
          </p:nvGraphicFramePr>
          <p:xfrm>
            <a:off x="7010280" y="3940200"/>
            <a:ext cx="1656000" cy="581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2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3940200"/>
                      <a:ext cx="165600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5" name="Litebulb"/>
          <p:cNvSpPr/>
          <p:nvPr/>
        </p:nvSpPr>
        <p:spPr>
          <a:xfrm>
            <a:off x="263520" y="311040"/>
            <a:ext cx="198360" cy="24768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5187960" y="1833480"/>
            <a:ext cx="1855800" cy="757440"/>
            <a:chOff x="5187960" y="1833480"/>
            <a:chExt cx="1855800" cy="757440"/>
          </a:xfrm>
        </p:grpSpPr>
        <p:sp>
          <p:nvSpPr>
            <p:cNvPr id="1527" name=""/>
            <p:cNvSpPr/>
            <p:nvPr/>
          </p:nvSpPr>
          <p:spPr>
            <a:xfrm>
              <a:off x="5187960" y="1833480"/>
              <a:ext cx="1855800" cy="743040"/>
            </a:xfrm>
            <a:prstGeom prst="wedgeEllipseCallout">
              <a:avLst>
                <a:gd name="adj1" fmla="val -110736"/>
                <a:gd name="adj2" fmla="val 186967"/>
              </a:avLst>
            </a:prstGeom>
            <a:noFill/>
            <a:ln w="190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28" name=""/>
            <p:cNvGraphicFramePr/>
            <p:nvPr/>
          </p:nvGraphicFramePr>
          <p:xfrm>
            <a:off x="5607000" y="1949400"/>
            <a:ext cx="1155600" cy="641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2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607000" y="1949400"/>
                      <a:ext cx="1155600" cy="6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30" name="Litebulb"/>
          <p:cNvSpPr/>
          <p:nvPr/>
        </p:nvSpPr>
        <p:spPr>
          <a:xfrm>
            <a:off x="398520" y="5102280"/>
            <a:ext cx="196920" cy="26352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 marL="228600" indent="-228600">
              <a:spcBef>
                <a:spcPts val="601"/>
              </a:spcBef>
              <a:buClr>
                <a:srgbClr val="007a7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154240" y="1195560"/>
            <a:ext cx="5036760" cy="833400"/>
            <a:chOff x="2154240" y="1195560"/>
            <a:chExt cx="5036760" cy="833400"/>
          </a:xfrm>
        </p:grpSpPr>
        <p:graphicFrame>
          <p:nvGraphicFramePr>
            <p:cNvPr id="1532" name=""/>
            <p:cNvGraphicFramePr/>
            <p:nvPr/>
          </p:nvGraphicFramePr>
          <p:xfrm>
            <a:off x="2154240" y="1195560"/>
            <a:ext cx="3166920" cy="833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3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154240" y="1195560"/>
                      <a:ext cx="3166920" cy="8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4" name=""/>
            <p:cNvSpPr/>
            <p:nvPr/>
          </p:nvSpPr>
          <p:spPr>
            <a:xfrm>
              <a:off x="5455800" y="131616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为</a:t>
              </a: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全概率公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35" name=""/>
          <p:cNvGraphicFramePr/>
          <p:nvPr/>
        </p:nvGraphicFramePr>
        <p:xfrm>
          <a:off x="3040200" y="3240000"/>
          <a:ext cx="2490480" cy="862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40200" y="3240000"/>
                    <a:ext cx="249048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7" name=""/>
          <p:cNvGraphicFramePr/>
          <p:nvPr/>
        </p:nvGraphicFramePr>
        <p:xfrm>
          <a:off x="5530680" y="3249720"/>
          <a:ext cx="2589480" cy="861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3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30680" y="3249720"/>
                    <a:ext cx="2589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9" name=""/>
          <p:cNvGrpSpPr/>
          <p:nvPr/>
        </p:nvGrpSpPr>
        <p:grpSpPr>
          <a:xfrm>
            <a:off x="214200" y="2297160"/>
            <a:ext cx="2592360" cy="1720800"/>
            <a:chOff x="214200" y="2297160"/>
            <a:chExt cx="2592360" cy="1720800"/>
          </a:xfrm>
        </p:grpSpPr>
        <p:grpSp>
          <p:nvGrpSpPr>
            <p:cNvPr id="1540" name=""/>
            <p:cNvGrpSpPr/>
            <p:nvPr/>
          </p:nvGrpSpPr>
          <p:grpSpPr>
            <a:xfrm>
              <a:off x="214200" y="2297160"/>
              <a:ext cx="2592360" cy="1720800"/>
              <a:chOff x="214200" y="2297160"/>
              <a:chExt cx="2592360" cy="1720800"/>
            </a:xfrm>
          </p:grpSpPr>
          <p:grpSp>
            <p:nvGrpSpPr>
              <p:cNvPr id="1541" name=""/>
              <p:cNvGrpSpPr/>
              <p:nvPr/>
            </p:nvGrpSpPr>
            <p:grpSpPr>
              <a:xfrm>
                <a:off x="214200" y="2297160"/>
                <a:ext cx="2592360" cy="1720800"/>
                <a:chOff x="214200" y="2297160"/>
                <a:chExt cx="2592360" cy="172080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214200" y="2297160"/>
                  <a:ext cx="2592360" cy="1717920"/>
                </a:xfrm>
                <a:prstGeom prst="rect">
                  <a:avLst/>
                </a:prstGeom>
                <a:solidFill>
                  <a:srgbClr val="ebf7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3" name=""/>
                <p:cNvGrpSpPr/>
                <p:nvPr/>
              </p:nvGrpSpPr>
              <p:grpSpPr>
                <a:xfrm>
                  <a:off x="214200" y="2300400"/>
                  <a:ext cx="2592360" cy="1717560"/>
                  <a:chOff x="214200" y="2300400"/>
                  <a:chExt cx="2592360" cy="171756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>
                    <a:off x="214200" y="2300400"/>
                    <a:ext cx="955800" cy="858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408">
                        <a:moveTo>
                          <a:pt x="0" y="408"/>
                        </a:moveTo>
                        <a:cubicBezTo>
                          <a:pt x="105" y="396"/>
                          <a:pt x="211" y="385"/>
                          <a:pt x="317" y="317"/>
                        </a:cubicBezTo>
                        <a:cubicBezTo>
                          <a:pt x="423" y="249"/>
                          <a:pt x="590" y="30"/>
                          <a:pt x="635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7a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554040" y="2967120"/>
                    <a:ext cx="227160" cy="10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99">
                        <a:moveTo>
                          <a:pt x="91" y="0"/>
                        </a:moveTo>
                        <a:cubicBezTo>
                          <a:pt x="121" y="72"/>
                          <a:pt x="151" y="144"/>
                          <a:pt x="136" y="227"/>
                        </a:cubicBezTo>
                        <a:cubicBezTo>
                          <a:pt x="121" y="310"/>
                          <a:pt x="30" y="454"/>
                          <a:pt x="0" y="49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7a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895320" y="2681280"/>
                    <a:ext cx="750960" cy="13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635">
                        <a:moveTo>
                          <a:pt x="0" y="0"/>
                        </a:moveTo>
                        <a:cubicBezTo>
                          <a:pt x="117" y="38"/>
                          <a:pt x="235" y="76"/>
                          <a:pt x="318" y="182"/>
                        </a:cubicBezTo>
                        <a:cubicBezTo>
                          <a:pt x="401" y="288"/>
                          <a:pt x="454" y="560"/>
                          <a:pt x="499" y="635"/>
                        </a:cubicBezTo>
                      </a:path>
                    </a:pathLst>
                  </a:custGeom>
                  <a:noFill/>
                  <a:ln w="9360">
                    <a:solidFill>
                      <a:srgbClr val="007a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1441440" y="2300400"/>
                    <a:ext cx="888840" cy="85896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408">
                        <a:moveTo>
                          <a:pt x="0" y="408"/>
                        </a:moveTo>
                        <a:cubicBezTo>
                          <a:pt x="132" y="396"/>
                          <a:pt x="265" y="385"/>
                          <a:pt x="363" y="317"/>
                        </a:cubicBezTo>
                        <a:cubicBezTo>
                          <a:pt x="461" y="249"/>
                          <a:pt x="537" y="45"/>
                          <a:pt x="59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7a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2055960" y="2873520"/>
                    <a:ext cx="750600" cy="76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363">
                        <a:moveTo>
                          <a:pt x="0" y="0"/>
                        </a:moveTo>
                        <a:cubicBezTo>
                          <a:pt x="211" y="147"/>
                          <a:pt x="423" y="295"/>
                          <a:pt x="499" y="36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7a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2055960" y="3256200"/>
                    <a:ext cx="341280" cy="76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362">
                        <a:moveTo>
                          <a:pt x="227" y="0"/>
                        </a:moveTo>
                        <a:cubicBezTo>
                          <a:pt x="136" y="147"/>
                          <a:pt x="45" y="294"/>
                          <a:pt x="0" y="36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7a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0" name=""/>
              <p:cNvGrpSpPr/>
              <p:nvPr/>
            </p:nvGrpSpPr>
            <p:grpSpPr>
              <a:xfrm>
                <a:off x="214200" y="2387880"/>
                <a:ext cx="2585880" cy="1558080"/>
                <a:chOff x="214200" y="2387880"/>
                <a:chExt cx="2585880" cy="155808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214200" y="2387880"/>
                  <a:ext cx="544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66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221400" y="3540240"/>
                  <a:ext cx="406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66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ff0066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2267640" y="3540240"/>
                  <a:ext cx="4060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66"/>
                      </a:solidFill>
                      <a:latin typeface="Arial"/>
                    </a:rPr>
                    <a:t>B</a:t>
                  </a:r>
                  <a:r>
                    <a:rPr b="0" lang="en-US" sz="1800" spc="-1" strike="noStrike" baseline="-25000">
                      <a:solidFill>
                        <a:srgbClr val="ff0066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2467080" y="249084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66"/>
                      </a:solidFill>
                      <a:latin typeface="Arial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5" name=""/>
            <p:cNvGrpSpPr/>
            <p:nvPr/>
          </p:nvGrpSpPr>
          <p:grpSpPr>
            <a:xfrm>
              <a:off x="585720" y="2384280"/>
              <a:ext cx="1719360" cy="1519200"/>
              <a:chOff x="585720" y="2384280"/>
              <a:chExt cx="1719360" cy="1519200"/>
            </a:xfrm>
          </p:grpSpPr>
          <p:sp>
            <p:nvSpPr>
              <p:cNvPr id="1556" name=""/>
              <p:cNvSpPr/>
              <p:nvPr/>
            </p:nvSpPr>
            <p:spPr>
              <a:xfrm flipH="1">
                <a:off x="711000" y="2422440"/>
                <a:ext cx="569880" cy="10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1528560" y="2793960"/>
                <a:ext cx="571320" cy="10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1044720" y="2489040"/>
                <a:ext cx="690480" cy="12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85720" y="2384280"/>
                <a:ext cx="1719360" cy="1519200"/>
              </a:xfrm>
              <a:prstGeom prst="ellipse">
                <a:avLst/>
              </a:prstGeom>
              <a:noFill/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000800" y="286848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1235160" y="2577960"/>
                <a:ext cx="690480" cy="12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828720" y="2400120"/>
                <a:ext cx="690480" cy="12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612720" y="2473200"/>
                <a:ext cx="426960" cy="8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1806480" y="2955960"/>
                <a:ext cx="42696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5" name=""/>
          <p:cNvSpPr/>
          <p:nvPr/>
        </p:nvSpPr>
        <p:spPr>
          <a:xfrm>
            <a:off x="216000" y="1890720"/>
            <a:ext cx="8928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16000" y="4989600"/>
            <a:ext cx="8928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理：接上定理条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1000" indent="-12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称此式为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Bayes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公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A3E3-5DF7-4297-97AF-B42CD466A224}" type="slidenum">
              <a:t>36</a:t>
            </a:fld>
          </a:p>
        </p:txBody>
      </p:sp>
    </p:spTree>
  </p:cSld>
  <p:transition spd="med">
    <p:zoom dir="out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6" dur="2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2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77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6" dur="770" fill="hold"/>
                                        <p:tgtEl>
                                          <p:spTgt spid="15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8" dur="77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0" dur="77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7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2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1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/>
          </p:nvPr>
        </p:nvSpPr>
        <p:spPr>
          <a:xfrm>
            <a:off x="682200" y="475920"/>
            <a:ext cx="8053560" cy="59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宋体"/>
              </a:rPr>
              <a:t>*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全概率公式可由以下框图表示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设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P(B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j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)=p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j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, P(A|B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j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)=q</a:t>
            </a:r>
            <a:r>
              <a:rPr b="0" lang="zh-CN" sz="2800" spc="-1" strike="noStrike" baseline="-25000">
                <a:solidFill>
                  <a:srgbClr val="007a77"/>
                </a:solidFill>
                <a:latin typeface="宋体"/>
              </a:rPr>
              <a:t>j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, j=1,2,…,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易知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68" name=""/>
          <p:cNvGraphicFramePr/>
          <p:nvPr/>
        </p:nvGraphicFramePr>
        <p:xfrm>
          <a:off x="2311560" y="1600200"/>
          <a:ext cx="1523880" cy="115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1560" y="1600200"/>
                    <a:ext cx="1523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0" name=""/>
          <p:cNvSpPr/>
          <p:nvPr/>
        </p:nvSpPr>
        <p:spPr>
          <a:xfrm>
            <a:off x="3906720" y="3233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044720" y="3960720"/>
            <a:ext cx="647640" cy="6476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1692360" y="3527280"/>
            <a:ext cx="1079280" cy="6494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694880" y="4270320"/>
            <a:ext cx="1076040" cy="101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629720" y="4446720"/>
            <a:ext cx="1204560" cy="1260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777040" y="331164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79a5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7979a5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2764440" y="41403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79a5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7979a5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828880" y="5516640"/>
            <a:ext cx="43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979a5"/>
                </a:solidFill>
                <a:latin typeface="Arial"/>
              </a:rPr>
              <a:t>P</a:t>
            </a:r>
            <a:r>
              <a:rPr b="1" lang="zh-CN" sz="2000" spc="-1" strike="noStrike" baseline="-25000">
                <a:solidFill>
                  <a:srgbClr val="7979a5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803680" y="4292640"/>
            <a:ext cx="25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354480" y="41767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3354480" y="3354480"/>
            <a:ext cx="517680" cy="2741400"/>
            <a:chOff x="3354480" y="3354480"/>
            <a:chExt cx="517680" cy="2741400"/>
          </a:xfrm>
        </p:grpSpPr>
        <p:sp>
          <p:nvSpPr>
            <p:cNvPr id="1581" name=""/>
            <p:cNvSpPr/>
            <p:nvPr/>
          </p:nvSpPr>
          <p:spPr>
            <a:xfrm>
              <a:off x="3354480" y="3354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r>
                <a:rPr b="1" lang="en-US" sz="20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417120" y="544176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r>
                <a:rPr b="1" lang="en-US" sz="2000" spc="-1" strike="noStrike" baseline="-25000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478320" y="4356000"/>
              <a:ext cx="257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4" name=""/>
          <p:cNvSpPr/>
          <p:nvPr/>
        </p:nvSpPr>
        <p:spPr>
          <a:xfrm>
            <a:off x="3708360" y="3529080"/>
            <a:ext cx="2879640" cy="936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782880" y="4379760"/>
            <a:ext cx="2730960" cy="172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3780000" y="4610160"/>
            <a:ext cx="2808000" cy="936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722840" y="4105440"/>
            <a:ext cx="418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1" lang="en-US" sz="2000" spc="-1" strike="noStrike" baseline="-50000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722840" y="3565440"/>
            <a:ext cx="418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1" lang="en-US" sz="2000" spc="-1" strike="noStrike" baseline="-50000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723920" y="5041800"/>
            <a:ext cx="426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1" lang="en-US" sz="2000" spc="-1" strike="noStrike" baseline="-50000">
                <a:solidFill>
                  <a:srgbClr val="003366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6732720" y="4292640"/>
            <a:ext cx="573480" cy="459720"/>
            <a:chOff x="6732720" y="4292640"/>
            <a:chExt cx="573480" cy="459720"/>
          </a:xfrm>
        </p:grpSpPr>
        <p:sp>
          <p:nvSpPr>
            <p:cNvPr id="1591" name=""/>
            <p:cNvSpPr/>
            <p:nvPr/>
          </p:nvSpPr>
          <p:spPr>
            <a:xfrm>
              <a:off x="6732720" y="4437000"/>
              <a:ext cx="215640" cy="21600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05880" y="4292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3203640" y="3456000"/>
            <a:ext cx="73080" cy="7308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205080" y="4321080"/>
            <a:ext cx="73080" cy="7308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276720" y="5616720"/>
            <a:ext cx="73080" cy="7272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rot="7206600">
            <a:off x="5832720" y="2527920"/>
            <a:ext cx="1727280" cy="360360"/>
          </a:xfrm>
          <a:custGeom>
            <a:avLst/>
            <a:gdLst>
              <a:gd name="textAreaLeft" fmla="*/ 269640 w 1727280"/>
              <a:gd name="textAreaRight" fmla="*/ 1511640 w 1727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4951440" y="5586480"/>
          <a:ext cx="3456000" cy="869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1440" y="5586480"/>
                    <a:ext cx="34560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5951-95E3-48D3-9C5B-3C0856DCF7CA}" type="slidenum">
              <a:t>37</a:t>
            </a:fld>
          </a:p>
        </p:txBody>
      </p:sp>
    </p:spTree>
  </p:cSld>
  <p:transition spd="med">
    <p:zoom dir="out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2" presetSubtype="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2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/>
          </p:nvPr>
        </p:nvSpPr>
        <p:spPr>
          <a:xfrm>
            <a:off x="0" y="566640"/>
            <a:ext cx="90360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例：一单位有甲、乙两人，已知甲近期出差的概率为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80%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若甲出差，则乙出差的概率为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20%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；若甲不出差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则乙出差的概率为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90%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(1)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求近期乙出差的概率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(2)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若已知乙近期出差在外，求甲出差的概率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00" name=""/>
          <p:cNvGraphicFramePr/>
          <p:nvPr/>
        </p:nvGraphicFramePr>
        <p:xfrm>
          <a:off x="1258920" y="2905200"/>
          <a:ext cx="6053040" cy="4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2905200"/>
                    <a:ext cx="60530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2" name=""/>
          <p:cNvGraphicFramePr/>
          <p:nvPr/>
        </p:nvGraphicFramePr>
        <p:xfrm>
          <a:off x="830160" y="3544920"/>
          <a:ext cx="2745000" cy="45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0160" y="3544920"/>
                    <a:ext cx="27450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4" name=""/>
          <p:cNvGraphicFramePr/>
          <p:nvPr/>
        </p:nvGraphicFramePr>
        <p:xfrm>
          <a:off x="2038320" y="4119480"/>
          <a:ext cx="3522600" cy="42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38320" y="4119480"/>
                    <a:ext cx="35226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6" name=""/>
          <p:cNvGraphicFramePr/>
          <p:nvPr/>
        </p:nvGraphicFramePr>
        <p:xfrm>
          <a:off x="2133720" y="4710240"/>
          <a:ext cx="2908080" cy="358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710240"/>
                    <a:ext cx="29080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8" name=""/>
          <p:cNvGraphicFramePr/>
          <p:nvPr/>
        </p:nvGraphicFramePr>
        <p:xfrm>
          <a:off x="1322280" y="5205240"/>
          <a:ext cx="5029200" cy="846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322280" y="5205240"/>
                    <a:ext cx="502920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0" name=""/>
          <p:cNvGrpSpPr/>
          <p:nvPr/>
        </p:nvGrpSpPr>
        <p:grpSpPr>
          <a:xfrm>
            <a:off x="5094360" y="2370240"/>
            <a:ext cx="2376360" cy="576000"/>
            <a:chOff x="5094360" y="2370240"/>
            <a:chExt cx="2376360" cy="576000"/>
          </a:xfrm>
        </p:grpSpPr>
        <p:sp>
          <p:nvSpPr>
            <p:cNvPr id="1611" name=""/>
            <p:cNvSpPr/>
            <p:nvPr/>
          </p:nvSpPr>
          <p:spPr>
            <a:xfrm>
              <a:off x="5094360" y="2370240"/>
              <a:ext cx="2376360" cy="576000"/>
            </a:xfrm>
            <a:prstGeom prst="cloudCallout">
              <a:avLst>
                <a:gd name="adj1" fmla="val -102574"/>
                <a:gd name="adj2" fmla="val 143388"/>
              </a:avLst>
            </a:prstGeom>
            <a:solidFill>
              <a:srgbClr val="ebf7ff">
                <a:alpha val="50000"/>
              </a:srgbClr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12" name=""/>
            <p:cNvGraphicFramePr/>
            <p:nvPr/>
          </p:nvGraphicFramePr>
          <p:xfrm>
            <a:off x="5319360" y="2436480"/>
            <a:ext cx="1973160" cy="414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61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319360" y="2436480"/>
                      <a:ext cx="197316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14" name=""/>
          <p:cNvSpPr/>
          <p:nvPr/>
        </p:nvSpPr>
        <p:spPr>
          <a:xfrm rot="10866600">
            <a:off x="425160" y="6024600"/>
            <a:ext cx="1596960" cy="573120"/>
          </a:xfrm>
          <a:prstGeom prst="wedgeEllipseCallout">
            <a:avLst>
              <a:gd name="adj1" fmla="val -32018"/>
              <a:gd name="adj2" fmla="val 9689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Arial"/>
              </a:rPr>
              <a:t>Bayes</a:t>
            </a:r>
            <a:r>
              <a:rPr b="0" lang="zh-CN" sz="1400" spc="-1" strike="noStrike">
                <a:solidFill>
                  <a:srgbClr val="ff0066"/>
                </a:solidFill>
                <a:latin typeface="Arial"/>
              </a:rPr>
              <a:t>公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rot="268200">
            <a:off x="0" y="4557600"/>
            <a:ext cx="1487520" cy="876240"/>
          </a:xfrm>
          <a:prstGeom prst="cloudCallout">
            <a:avLst>
              <a:gd name="adj1" fmla="val 105620"/>
              <a:gd name="adj2" fmla="val -695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全概率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6" name=""/>
          <p:cNvGraphicFramePr/>
          <p:nvPr/>
        </p:nvGraphicFramePr>
        <p:xfrm>
          <a:off x="3632040" y="3552840"/>
          <a:ext cx="2070360" cy="419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1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632040" y="3552840"/>
                    <a:ext cx="2070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8" name=""/>
          <p:cNvSpPr/>
          <p:nvPr/>
        </p:nvSpPr>
        <p:spPr>
          <a:xfrm>
            <a:off x="725400" y="2211480"/>
            <a:ext cx="4523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解：设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A={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甲出差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B={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乙出差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7B79-3DF1-4AC3-A930-1C724D7C5501}" type="slidenum">
              <a:t>38</a:t>
            </a:fld>
          </a:p>
        </p:txBody>
      </p:sp>
    </p:spTree>
  </p:cSld>
  <p:transition spd="med">
    <p:zoom dir="out"/>
  </p:transition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0"/>
                                        <p:tgtEl>
                                          <p:spTgt spid="1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2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2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2" dur="3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3" dur="1500" autoRev="1" fill="hold"/>
                                        <p:tgtEl>
                                          <p:spTgt spid="16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2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2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3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6" dur="1500" autoRev="1" fill="hold"/>
                                        <p:tgtEl>
                                          <p:spTgt spid="16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2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/>
          </p:nvPr>
        </p:nvSpPr>
        <p:spPr>
          <a:xfrm>
            <a:off x="202680" y="348840"/>
            <a:ext cx="865836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例：根据以往的临床记录，某种诊断癌症的试验具有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5%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的假阳性及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5%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的假阴性：若设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A={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试验反应是阳性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C={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被诊断患有癌症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}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则有：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已知某一群体</a:t>
            </a:r>
            <a:br>
              <a:rPr sz="2400"/>
            </a:b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P(C)=0.005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，问这种方法能否用于普查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20" name=""/>
          <p:cNvGraphicFramePr/>
          <p:nvPr/>
        </p:nvGraphicFramePr>
        <p:xfrm>
          <a:off x="1897200" y="1625760"/>
          <a:ext cx="3797280" cy="46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7200" y="1625760"/>
                    <a:ext cx="379728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2" name=""/>
          <p:cNvGraphicFramePr/>
          <p:nvPr/>
        </p:nvGraphicFramePr>
        <p:xfrm>
          <a:off x="1380960" y="2940120"/>
          <a:ext cx="21924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0960" y="2940120"/>
                    <a:ext cx="21924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4" name=""/>
          <p:cNvGraphicFramePr/>
          <p:nvPr/>
        </p:nvGraphicFramePr>
        <p:xfrm>
          <a:off x="2403360" y="3929040"/>
          <a:ext cx="5273640" cy="89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3360" y="3929040"/>
                    <a:ext cx="52736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6" name=""/>
          <p:cNvSpPr/>
          <p:nvPr/>
        </p:nvSpPr>
        <p:spPr>
          <a:xfrm>
            <a:off x="5824800" y="2852640"/>
            <a:ext cx="2694960" cy="9169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P(C)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较大，不妨设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P(C)=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推出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P(C|A)=0.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说明这种试验方法可在医院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55680" y="2368440"/>
            <a:ext cx="86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：考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(C|A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355680" y="4998960"/>
            <a:ext cx="8658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若用于普查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阳性病人中被诊断患有癌症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约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.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，所以不宜用于普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BD82-2EDC-4160-9AAA-6511EB62B4A5}" type="slidenum">
              <a:t>39</a:t>
            </a:fld>
          </a:p>
        </p:txBody>
      </p:sp>
    </p:spTree>
  </p:cSld>
  <p:transition spd="med">
    <p:zoom dir="out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2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2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1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650520" y="676080"/>
            <a:ext cx="7372440" cy="57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第四章  随机变量的数字特征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99"/>
                </a:solidFill>
                <a:latin typeface="宋体"/>
                <a:ea typeface="宋体"/>
              </a:rPr>
              <a:t>4.1 </a:t>
            </a:r>
            <a:r>
              <a:rPr b="0" lang="zh-CN" sz="2000" spc="-1" strike="noStrike">
                <a:solidFill>
                  <a:srgbClr val="336699"/>
                </a:solidFill>
                <a:latin typeface="宋体"/>
                <a:ea typeface="宋体"/>
              </a:rPr>
              <a:t>数学期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99"/>
                </a:solidFill>
                <a:latin typeface="宋体"/>
                <a:ea typeface="宋体"/>
              </a:rPr>
              <a:t>4.2 </a:t>
            </a:r>
            <a:r>
              <a:rPr b="0" lang="zh-CN" sz="2000" spc="-1" strike="noStrike">
                <a:solidFill>
                  <a:srgbClr val="336699"/>
                </a:solidFill>
                <a:latin typeface="宋体"/>
                <a:ea typeface="宋体"/>
              </a:rPr>
              <a:t>方差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.3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协方差及相关系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.4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矩、协方差矩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第五章  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  <a:ea typeface="宋体"/>
              </a:rPr>
              <a:t>大数定律和中心极限定理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.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大数定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.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心极限定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第六章  数理统计的基本概念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6.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总体和样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6.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用的分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B7F24-91A1-4B95-B2E4-34907E9D026E}" type="slidenum">
              <a:t>4</a:t>
            </a:fld>
          </a:p>
        </p:txBody>
      </p:sp>
    </p:spTree>
  </p:cSld>
  <p:transition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-2413080" y="-15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宋体"/>
              </a:rPr>
              <a:t>§6  </a:t>
            </a:r>
            <a:r>
              <a:rPr b="0" lang="zh-CN" sz="4000" spc="-1" strike="noStrike">
                <a:solidFill>
                  <a:srgbClr val="003399"/>
                </a:solidFill>
                <a:latin typeface="宋体"/>
              </a:rPr>
              <a:t>独立性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235080" y="779400"/>
            <a:ext cx="857088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例：有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件产品，其中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件为正品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件为次品。从中取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次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每次取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件，设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={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次取到正品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i=1,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31" name=""/>
          <p:cNvGraphicFramePr/>
          <p:nvPr/>
        </p:nvGraphicFramePr>
        <p:xfrm>
          <a:off x="3848040" y="1790640"/>
          <a:ext cx="309096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8040" y="1790640"/>
                    <a:ext cx="30909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3" name=""/>
          <p:cNvGraphicFramePr/>
          <p:nvPr/>
        </p:nvGraphicFramePr>
        <p:xfrm>
          <a:off x="3786120" y="2671920"/>
          <a:ext cx="2708280" cy="73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6120" y="2671920"/>
                    <a:ext cx="2708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5" name=""/>
          <p:cNvGraphicFramePr/>
          <p:nvPr/>
        </p:nvGraphicFramePr>
        <p:xfrm>
          <a:off x="4614840" y="4714920"/>
          <a:ext cx="2409840" cy="41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14840" y="4714920"/>
                    <a:ext cx="24098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Litebulb"/>
          <p:cNvSpPr/>
          <p:nvPr/>
        </p:nvSpPr>
        <p:spPr>
          <a:xfrm>
            <a:off x="533520" y="4741920"/>
            <a:ext cx="193680" cy="271440"/>
          </a:xfrm>
          <a:prstGeom prst="pi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 marL="228600" indent="-228600">
              <a:spcBef>
                <a:spcPts val="451"/>
              </a:spcBef>
              <a:buClr>
                <a:srgbClr val="007a7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387360" y="1612800"/>
            <a:ext cx="857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576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放回抽样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387360" y="2041560"/>
            <a:ext cx="857088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宋体"/>
              <a:buAutoNum type="arabicParenR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576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63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回抽样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87360" y="3325680"/>
            <a:ext cx="857088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即放回抽样时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发生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发生概率不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同样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发生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发生概率不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87360" y="4687920"/>
            <a:ext cx="85708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定义：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两随机事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(B|A)=P(B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 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(AB)=P(A)*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P(A|B)=P(A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，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相互独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7ADB6-4E77-4E9B-AE74-DC9C94ADF54D}" type="slidenum">
              <a:t>40</a:t>
            </a:fld>
          </a:p>
        </p:txBody>
      </p:sp>
    </p:spTree>
  </p:cSld>
  <p:transition spd="med">
    <p:zoom dir="out"/>
  </p:transition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06" dur="2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2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2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/>
          </p:nvPr>
        </p:nvSpPr>
        <p:spPr>
          <a:xfrm>
            <a:off x="71280" y="236520"/>
            <a:ext cx="88012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注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43" name=""/>
          <p:cNvGraphicFramePr/>
          <p:nvPr/>
        </p:nvGraphicFramePr>
        <p:xfrm>
          <a:off x="882720" y="492120"/>
          <a:ext cx="6653160" cy="146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492120"/>
                    <a:ext cx="665316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5" name=""/>
          <p:cNvGraphicFramePr/>
          <p:nvPr/>
        </p:nvGraphicFramePr>
        <p:xfrm>
          <a:off x="920880" y="2147760"/>
          <a:ext cx="5905440" cy="15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0880" y="2147760"/>
                    <a:ext cx="590544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7" name=""/>
          <p:cNvGraphicFramePr/>
          <p:nvPr/>
        </p:nvGraphicFramePr>
        <p:xfrm>
          <a:off x="1762200" y="4746600"/>
          <a:ext cx="334332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62200" y="4746600"/>
                    <a:ext cx="33433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9" name=""/>
          <p:cNvSpPr/>
          <p:nvPr/>
        </p:nvSpPr>
        <p:spPr>
          <a:xfrm>
            <a:off x="679320" y="458640"/>
            <a:ext cx="6861240" cy="412920"/>
          </a:xfrm>
          <a:prstGeom prst="rect">
            <a:avLst/>
          </a:prstGeom>
          <a:noFill/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tebulb"/>
          <p:cNvSpPr/>
          <p:nvPr/>
        </p:nvSpPr>
        <p:spPr>
          <a:xfrm>
            <a:off x="646200" y="2176560"/>
            <a:ext cx="209520" cy="25560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 marL="228600" indent="-228600">
              <a:spcBef>
                <a:spcPts val="451"/>
              </a:spcBef>
              <a:buClr>
                <a:srgbClr val="007a7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1" name=""/>
          <p:cNvGraphicFramePr/>
          <p:nvPr/>
        </p:nvGraphicFramePr>
        <p:xfrm>
          <a:off x="1730520" y="5376960"/>
          <a:ext cx="6252840" cy="779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30520" y="5376960"/>
                    <a:ext cx="62528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6DC0B-6766-485B-A3F1-2C0B55019B3C}" type="slidenum">
              <a:t>41</a:t>
            </a:fld>
          </a:p>
        </p:txBody>
      </p:sp>
    </p:spTree>
  </p:cSld>
  <p:transition spd="med">
    <p:zoom dir="out"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32" dur="2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2000"/>
                                        <p:tgtEl>
                                          <p:spTgt spid="1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2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/>
          </p:nvPr>
        </p:nvSpPr>
        <p:spPr>
          <a:xfrm>
            <a:off x="275760" y="525600"/>
            <a:ext cx="8597880" cy="58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例：甲、乙两人同时向一目标射击，甲击中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率为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0.8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，乙击中率为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0.7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，求目标被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击中的概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54" name=""/>
          <p:cNvGraphicFramePr/>
          <p:nvPr/>
        </p:nvGraphicFramePr>
        <p:xfrm>
          <a:off x="1646280" y="3884760"/>
          <a:ext cx="6792840" cy="50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6280" y="3884760"/>
                    <a:ext cx="679284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6" name=""/>
          <p:cNvGraphicFramePr/>
          <p:nvPr/>
        </p:nvGraphicFramePr>
        <p:xfrm>
          <a:off x="1109520" y="5664240"/>
          <a:ext cx="518652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9520" y="5664240"/>
                    <a:ext cx="51865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8" name="" descr=""/>
          <p:cNvPicPr/>
          <p:nvPr/>
        </p:nvPicPr>
        <p:blipFill>
          <a:blip r:embed="rId7"/>
          <a:stretch/>
        </p:blipFill>
        <p:spPr>
          <a:xfrm>
            <a:off x="363600" y="1665360"/>
            <a:ext cx="709560" cy="745920"/>
          </a:xfrm>
          <a:prstGeom prst="rect">
            <a:avLst/>
          </a:prstGeom>
          <a:ln w="0">
            <a:noFill/>
          </a:ln>
        </p:spPr>
      </p:pic>
      <p:sp>
        <p:nvSpPr>
          <p:cNvPr id="1659" name=""/>
          <p:cNvSpPr/>
          <p:nvPr/>
        </p:nvSpPr>
        <p:spPr>
          <a:xfrm>
            <a:off x="428760" y="2133720"/>
            <a:ext cx="85978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设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={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甲击中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},B={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乙击中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={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目标被击中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28760" y="4448160"/>
            <a:ext cx="85978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∵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甲、乙同时射击，其结果互不影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5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相互独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8F8C-F083-4C85-9CD7-45D3DA4CC26F}" type="slidenum">
              <a:t>42</a:t>
            </a:fld>
          </a:p>
        </p:txBody>
      </p:sp>
    </p:spTree>
  </p:cSld>
  <p:transition spd="med">
    <p:zoom dir="out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2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/>
          </p:nvPr>
        </p:nvSpPr>
        <p:spPr>
          <a:xfrm>
            <a:off x="998640" y="102960"/>
            <a:ext cx="7974000" cy="62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398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例：有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独立元件构成的系统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如图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设每个元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件能正常运行的概率为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求系统正常运行的</a:t>
            </a:r>
            <a:endParaRPr b="0" lang="en-US" sz="2500" spc="-1" strike="noStrike">
              <a:solidFill>
                <a:srgbClr val="000000"/>
              </a:solidFill>
              <a:latin typeface="-윤명조240"/>
            </a:endParaRPr>
          </a:p>
          <a:p>
            <a:pPr indent="0">
              <a:lnSpc>
                <a:spcPts val="23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概率。</a:t>
            </a:r>
            <a:endParaRPr b="0" lang="en-US" sz="2500" spc="-1" strike="noStrike">
              <a:solidFill>
                <a:srgbClr val="000000"/>
              </a:solidFill>
              <a:latin typeface="-윤명조240"/>
            </a:endParaRPr>
          </a:p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-윤명조240"/>
            </a:endParaRPr>
          </a:p>
        </p:txBody>
      </p:sp>
      <p:graphicFrame>
        <p:nvGraphicFramePr>
          <p:cNvPr id="1662" name=""/>
          <p:cNvGraphicFramePr/>
          <p:nvPr/>
        </p:nvGraphicFramePr>
        <p:xfrm>
          <a:off x="1515960" y="1224000"/>
          <a:ext cx="58453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5960" y="1224000"/>
                    <a:ext cx="58453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4" name=""/>
          <p:cNvGrpSpPr/>
          <p:nvPr/>
        </p:nvGrpSpPr>
        <p:grpSpPr>
          <a:xfrm>
            <a:off x="785880" y="5122800"/>
            <a:ext cx="4606920" cy="1123920"/>
            <a:chOff x="785880" y="5122800"/>
            <a:chExt cx="4606920" cy="1123920"/>
          </a:xfrm>
        </p:grpSpPr>
        <p:sp>
          <p:nvSpPr>
            <p:cNvPr id="1665" name=""/>
            <p:cNvSpPr/>
            <p:nvPr/>
          </p:nvSpPr>
          <p:spPr>
            <a:xfrm>
              <a:off x="785880" y="572760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70160" y="5557680"/>
              <a:ext cx="622440" cy="287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92600" y="5715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89240" y="527688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289240" y="52718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416480" y="5267160"/>
              <a:ext cx="4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353040" y="5271840"/>
              <a:ext cx="44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127680" y="5959440"/>
              <a:ext cx="622080" cy="287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800520" y="5127480"/>
              <a:ext cx="623880" cy="287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29160" y="5122800"/>
              <a:ext cx="623880" cy="287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72240" y="5702040"/>
              <a:ext cx="52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759480" y="6156360"/>
              <a:ext cx="11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2279520" y="6154560"/>
              <a:ext cx="84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864320" y="5268960"/>
              <a:ext cx="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5986080" y="5450040"/>
            <a:ext cx="26388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注意：这里系统的概念与电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66"/>
                </a:solidFill>
                <a:latin typeface="Arial"/>
              </a:rPr>
              <a:t>中的系统概念不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0" name=""/>
          <p:cNvGraphicFramePr/>
          <p:nvPr/>
        </p:nvGraphicFramePr>
        <p:xfrm>
          <a:off x="2214720" y="2281320"/>
          <a:ext cx="2993760" cy="51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14720" y="2281320"/>
                    <a:ext cx="29937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2" name=""/>
          <p:cNvGraphicFramePr/>
          <p:nvPr/>
        </p:nvGraphicFramePr>
        <p:xfrm>
          <a:off x="2228760" y="2847960"/>
          <a:ext cx="4278240" cy="45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28760" y="2847960"/>
                    <a:ext cx="42782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4" name=""/>
          <p:cNvGraphicFramePr/>
          <p:nvPr/>
        </p:nvGraphicFramePr>
        <p:xfrm>
          <a:off x="1890720" y="3368520"/>
          <a:ext cx="6294600" cy="50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90720" y="3368520"/>
                    <a:ext cx="62946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6" name=""/>
          <p:cNvGrpSpPr/>
          <p:nvPr/>
        </p:nvGrpSpPr>
        <p:grpSpPr>
          <a:xfrm>
            <a:off x="1276200" y="4157640"/>
            <a:ext cx="7529400" cy="514440"/>
            <a:chOff x="1276200" y="4157640"/>
            <a:chExt cx="7529400" cy="514440"/>
          </a:xfrm>
        </p:grpSpPr>
        <p:graphicFrame>
          <p:nvGraphicFramePr>
            <p:cNvPr id="1687" name=""/>
            <p:cNvGraphicFramePr/>
            <p:nvPr/>
          </p:nvGraphicFramePr>
          <p:xfrm>
            <a:off x="1496880" y="4157640"/>
            <a:ext cx="7308720" cy="5144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8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496880" y="4157640"/>
                      <a:ext cx="7308720" cy="5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9" name="Litebulb"/>
            <p:cNvSpPr/>
            <p:nvPr/>
          </p:nvSpPr>
          <p:spPr>
            <a:xfrm>
              <a:off x="1276200" y="4168800"/>
              <a:ext cx="172800" cy="22212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B92DA-1FAF-412B-9892-DD657C85E7A9}" type="slidenum">
              <a:t>43</a:t>
            </a:fld>
          </a:p>
        </p:txBody>
      </p:sp>
    </p:spTree>
  </p:cSld>
  <p:transition spd="med">
    <p:zoom dir="out"/>
  </p:transition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2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2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2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2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/>
          </p:nvPr>
        </p:nvSpPr>
        <p:spPr>
          <a:xfrm>
            <a:off x="1031760" y="528120"/>
            <a:ext cx="10432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499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</p:txBody>
      </p:sp>
      <p:graphicFrame>
        <p:nvGraphicFramePr>
          <p:cNvPr id="1691" name=""/>
          <p:cNvGraphicFramePr/>
          <p:nvPr/>
        </p:nvGraphicFramePr>
        <p:xfrm>
          <a:off x="1467000" y="487440"/>
          <a:ext cx="767700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487440"/>
                    <a:ext cx="767700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3" name=""/>
          <p:cNvGraphicFramePr/>
          <p:nvPr/>
        </p:nvGraphicFramePr>
        <p:xfrm>
          <a:off x="1287360" y="1994040"/>
          <a:ext cx="623268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7360" y="1994040"/>
                    <a:ext cx="623268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5" name=""/>
          <p:cNvGraphicFramePr/>
          <p:nvPr/>
        </p:nvGraphicFramePr>
        <p:xfrm>
          <a:off x="1884240" y="2478240"/>
          <a:ext cx="1839960" cy="47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4240" y="2478240"/>
                    <a:ext cx="183996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7" name=""/>
          <p:cNvGraphicFramePr/>
          <p:nvPr/>
        </p:nvGraphicFramePr>
        <p:xfrm>
          <a:off x="1339920" y="2887560"/>
          <a:ext cx="706896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9920" y="2887560"/>
                    <a:ext cx="70689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9" name=""/>
          <p:cNvGraphicFramePr/>
          <p:nvPr/>
        </p:nvGraphicFramePr>
        <p:xfrm>
          <a:off x="1746360" y="5724360"/>
          <a:ext cx="3481200" cy="538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46360" y="5724360"/>
                    <a:ext cx="34812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1" name=""/>
          <p:cNvGraphicFramePr/>
          <p:nvPr/>
        </p:nvGraphicFramePr>
        <p:xfrm>
          <a:off x="1333440" y="3884760"/>
          <a:ext cx="7810560" cy="144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3440" y="3884760"/>
                    <a:ext cx="7810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3" name=""/>
          <p:cNvGraphicFramePr/>
          <p:nvPr/>
        </p:nvGraphicFramePr>
        <p:xfrm>
          <a:off x="5326200" y="5330880"/>
          <a:ext cx="2639880" cy="1263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26200" y="5330880"/>
                    <a:ext cx="263988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D4C35-6746-4EC1-BAA5-D56977E1262A}" type="slidenum">
              <a:t>44</a:t>
            </a:fld>
          </a:p>
        </p:txBody>
      </p:sp>
    </p:spTree>
  </p:cSld>
  <p:transition spd="med">
    <p:zoom dir="out"/>
  </p:transition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5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0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2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6280" y="317160"/>
            <a:ext cx="7561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b91"/>
                </a:solidFill>
                <a:latin typeface="-윤명조240"/>
              </a:rPr>
              <a:t>总结：</a:t>
            </a:r>
            <a:endParaRPr b="0" lang="en-US" sz="3600" spc="-1" strike="noStrike">
              <a:solidFill>
                <a:srgbClr val="3f3b91"/>
              </a:solidFill>
              <a:latin typeface="-윤명조240"/>
            </a:endParaRPr>
          </a:p>
        </p:txBody>
      </p:sp>
      <p:graphicFrame>
        <p:nvGraphicFramePr>
          <p:cNvPr id="1706" name=""/>
          <p:cNvGraphicFramePr/>
          <p:nvPr/>
        </p:nvGraphicFramePr>
        <p:xfrm>
          <a:off x="1077840" y="1158840"/>
          <a:ext cx="5465880" cy="54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158840"/>
                    <a:ext cx="5465880" cy="54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4522F-DA3A-4EBD-A15B-0E214B958BEF}" type="slidenum">
              <a:t>45</a:t>
            </a:fld>
          </a:p>
        </p:txBody>
      </p: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052640" y="204480"/>
            <a:ext cx="27604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b91"/>
                </a:solidFill>
                <a:latin typeface="宋体"/>
                <a:ea typeface="宋体"/>
              </a:rPr>
              <a:t>复习思考题 </a:t>
            </a:r>
            <a:r>
              <a:rPr b="1" lang="zh-CN" sz="2400" spc="-1" strike="noStrike">
                <a:solidFill>
                  <a:srgbClr val="3f3b91"/>
                </a:solidFill>
                <a:latin typeface="宋体"/>
                <a:ea typeface="宋体"/>
              </a:rPr>
              <a:t>1</a:t>
            </a:r>
            <a:endParaRPr b="0" lang="en-US" sz="2400" spc="-1" strike="noStrike">
              <a:solidFill>
                <a:srgbClr val="3f3b91"/>
              </a:solidFill>
              <a:latin typeface="-윤명조240"/>
            </a:endParaRPr>
          </a:p>
        </p:txBody>
      </p:sp>
      <p:graphicFrame>
        <p:nvGraphicFramePr>
          <p:cNvPr id="1709" name=""/>
          <p:cNvGraphicFramePr/>
          <p:nvPr/>
        </p:nvGraphicFramePr>
        <p:xfrm>
          <a:off x="1104840" y="2295360"/>
          <a:ext cx="7742160" cy="11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295360"/>
                    <a:ext cx="7742160" cy="11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033200" y="1128600"/>
            <a:ext cx="754380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宋体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事件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不发生，则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Ф</a:t>
            </a:r>
            <a:r>
              <a:rPr b="0" i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对吗？试举例证明之。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宋体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事件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互不相容，即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B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Ф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则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互逆”，对吗？  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反之成立吗？试举例说明之。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宋体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甲、乙两人同时猜一谜，设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甲猜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=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{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乙猜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则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∪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={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甲、乙两人至少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人猜中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}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若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(A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=0.7,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(B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=0.8,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则“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(A∪B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=0.7+0.8=1.5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对吗？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宋体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满足什么条件的试验问题称为古典概型问题？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</p:txBody>
      </p:sp>
      <p:graphicFrame>
        <p:nvGraphicFramePr>
          <p:cNvPr id="1712" name=""/>
          <p:cNvGraphicFramePr/>
          <p:nvPr/>
        </p:nvGraphicFramePr>
        <p:xfrm>
          <a:off x="1106640" y="5261040"/>
          <a:ext cx="694188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6640" y="5261040"/>
                    <a:ext cx="69418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9C36A-0FEA-47DA-AFC3-7D696F370AB0}" type="slidenum">
              <a:t>46</a:t>
            </a:fld>
          </a:p>
        </p:txBody>
      </p: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/>
          </p:nvPr>
        </p:nvSpPr>
        <p:spPr>
          <a:xfrm>
            <a:off x="1055160" y="1066680"/>
            <a:ext cx="783756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宋体"/>
                <a:ea typeface="宋体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何理解样本点是两两互不相容的？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宋体"/>
                <a:ea typeface="宋体"/>
              </a:rPr>
              <a:t>8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两随机事件，试举例说明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(AB)=P(B|A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表示不同的意义。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宋体"/>
                <a:ea typeface="宋体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什么条件下称两事件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相互独立？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什么条件下称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事件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…,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相互独立？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宋体"/>
                <a:ea typeface="宋体"/>
              </a:rPr>
              <a:t>11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设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两事件，且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(A)≠0,P(B)≠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相互独立、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互不相容能否同时成立？试举例说明之。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宋体"/>
                <a:ea typeface="宋体"/>
              </a:rPr>
              <a:t>12.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设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两事件，且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(A)=a,P(B)=b,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：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(1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独立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(A∪B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何值？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互不相容时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(A∪B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何值？</a:t>
            </a: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-윤명조240"/>
            </a:endParaRPr>
          </a:p>
        </p:txBody>
      </p:sp>
      <p:graphicFrame>
        <p:nvGraphicFramePr>
          <p:cNvPr id="1715" name=""/>
          <p:cNvGraphicFramePr/>
          <p:nvPr/>
        </p:nvGraphicFramePr>
        <p:xfrm>
          <a:off x="1111320" y="2290680"/>
          <a:ext cx="7373880" cy="8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2290680"/>
                    <a:ext cx="737388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1348E-E773-4525-B873-950A369530DA}" type="slidenum">
              <a:t>47</a:t>
            </a:fld>
          </a:p>
        </p:txBody>
      </p:sp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1166400" y="1209240"/>
            <a:ext cx="756756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1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当满足什么条件时称事件组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,…,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i="1" lang="zh-CN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样为本空间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一个划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1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设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,B,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为三随机事件，当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≠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且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(A)≠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(B)≠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(C|A)+P(C|B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意义吗？试举例说明。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15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设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,B,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为三随机事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且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(C)≠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(A∪B|C)=P(A|C)+P(B|C)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(AB|C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否成立？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成立，与概率的加法公式比较之。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C1227-4AC5-4D1B-B016-F030099E4F19}" type="slidenum">
              <a:t>48</a:t>
            </a:fld>
          </a:p>
        </p:txBody>
      </p:sp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525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-소망B"/>
                <a:ea typeface="宋体"/>
              </a:rPr>
              <a:t>第二章  随机变量及其分布</a:t>
            </a:r>
            <a:endParaRPr b="0" lang="en-US" sz="3200" spc="-1" strike="noStrike">
              <a:solidFill>
                <a:srgbClr val="000066"/>
              </a:solidFill>
              <a:latin typeface="-소망B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7034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关键词：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-소망M"/>
                <a:ea typeface="宋体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-소망M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随机变量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概率分布函数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离散型随机变量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连续型随机变量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          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随机变量的函数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720" name="Sound"/>
          <p:cNvSpPr/>
          <p:nvPr/>
        </p:nvSpPr>
        <p:spPr>
          <a:xfrm>
            <a:off x="804960" y="1436760"/>
            <a:ext cx="257040" cy="2570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1" name="ShockwaveFlash1"/>
          <p:cNvGraphicFramePr/>
          <p:nvPr/>
        </p:nvGraphicFramePr>
        <p:xfrm>
          <a:off x="6616800" y="4565520"/>
          <a:ext cx="144288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6800" y="4565520"/>
                    <a:ext cx="1442880" cy="147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B9A-F845-4840-AE99-B9E32C8DFD0C}" type="slidenum">
              <a:t>49</a:t>
            </a:fld>
          </a:p>
        </p:txBody>
      </p:sp>
    </p:spTree>
  </p:cSld>
  <p:transition spd="med">
    <p:strips dir="rd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8.33333E-007 -1.48148E-006 C 0.06892 -1.48148E-006 0.125 0.02847 0.125 0.06389 C 0.125 0.09908 0.06892 0.12778 8.33333E-007 0.12778 C -0.0691 0.12778 -0.125 0.09908 -0.125 0.06389 C -0.125 0.02847 -0.0691 -1.48148E-006 8.33333E-007 -1.48148E-006 Z">
                                      <p:cBhvr>
                                        <p:cTn id="1447" dur="1000" fill="hold"/>
                                        <p:tgtEl>
                                          <p:spTgt spid="1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2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537840" y="-360"/>
            <a:ext cx="818820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758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75840" indent="-375840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第七章  参数估计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7.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参数的点估计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7.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计量的评选标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7.3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区间估计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75840" indent="-375840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第八章  假设检验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8.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假设检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8.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态总体均值的假设检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8.3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态总体方差的假设检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8.4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置信区间与假设检验之间的关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8.5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样本容量的选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8.6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布拟合检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8.7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秩和检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5840" indent="-375840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第九章  方差分析及回归分析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9.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单因素试验的方差分析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9.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双因素试验的方差分析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9.3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元线性回归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-3096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9.4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多元线性回归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5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B0474-B644-42DC-B628-379213A582DF}" type="slidenum">
              <a:t>5</a:t>
            </a:fld>
          </a:p>
        </p:txBody>
      </p:sp>
    </p:spTree>
  </p:cSld>
  <p:transition>
    <p:cover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903240" y="0"/>
            <a:ext cx="69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e5c00"/>
                </a:solidFill>
                <a:latin typeface="宋体"/>
                <a:ea typeface="宋体"/>
              </a:rPr>
              <a:t>§1  </a:t>
            </a:r>
            <a:r>
              <a:rPr b="0" lang="zh-CN" sz="4000" spc="-1" strike="noStrike">
                <a:solidFill>
                  <a:srgbClr val="2e5c00"/>
                </a:solidFill>
                <a:latin typeface="宋体"/>
                <a:ea typeface="宋体"/>
              </a:rPr>
              <a:t>随机变量</a:t>
            </a:r>
            <a:endParaRPr b="0" lang="en-US" sz="4000" spc="-1" strike="noStrike">
              <a:solidFill>
                <a:srgbClr val="2e5c00"/>
              </a:solidFill>
              <a:latin typeface="-쉬리B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  <a:ea typeface="宋体"/>
              </a:rPr>
              <a:t>*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常见的两类试验结果：</a:t>
            </a:r>
            <a:endParaRPr b="0" lang="en-US" sz="3200" spc="-1" strike="noStrike">
              <a:solidFill>
                <a:srgbClr val="5e5d2f"/>
              </a:solidFill>
              <a:latin typeface="-쉬리M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971640" y="1844640"/>
            <a:ext cx="6397920" cy="1081440"/>
            <a:chOff x="971640" y="1844640"/>
            <a:chExt cx="6397920" cy="1081440"/>
          </a:xfrm>
        </p:grpSpPr>
        <p:sp>
          <p:nvSpPr>
            <p:cNvPr id="1726" name=""/>
            <p:cNvSpPr/>
            <p:nvPr/>
          </p:nvSpPr>
          <p:spPr>
            <a:xfrm>
              <a:off x="971640" y="2009880"/>
              <a:ext cx="225360" cy="76968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19800 h 769680"/>
                <a:gd name="textAreaBottom" fmla="*/ 74988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200320" y="1844640"/>
              <a:ext cx="410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示数的——降雨量；候车人数；发生交通事故的次数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434320" y="2527200"/>
              <a:ext cx="49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示性的——明天天气（晴，多云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）；化验结果（阳性，阴性）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971640" y="3571920"/>
            <a:ext cx="3763080" cy="936720"/>
            <a:chOff x="971640" y="3571920"/>
            <a:chExt cx="3763080" cy="936720"/>
          </a:xfrm>
        </p:grpSpPr>
        <p:grpSp>
          <p:nvGrpSpPr>
            <p:cNvPr id="1730" name=""/>
            <p:cNvGrpSpPr/>
            <p:nvPr/>
          </p:nvGrpSpPr>
          <p:grpSpPr>
            <a:xfrm>
              <a:off x="971640" y="3571920"/>
              <a:ext cx="2925000" cy="936720"/>
              <a:chOff x="971640" y="3571920"/>
              <a:chExt cx="2925000" cy="936720"/>
            </a:xfrm>
          </p:grpSpPr>
          <p:grpSp>
            <p:nvGrpSpPr>
              <p:cNvPr id="1731" name=""/>
              <p:cNvGrpSpPr/>
              <p:nvPr/>
            </p:nvGrpSpPr>
            <p:grpSpPr>
              <a:xfrm>
                <a:off x="1017000" y="3716280"/>
                <a:ext cx="2089080" cy="792360"/>
                <a:chOff x="1017000" y="3716280"/>
                <a:chExt cx="2089080" cy="792360"/>
              </a:xfrm>
            </p:grpSpPr>
            <p:sp>
              <p:nvSpPr>
                <p:cNvPr id="1732" name=""/>
                <p:cNvSpPr/>
                <p:nvPr/>
              </p:nvSpPr>
              <p:spPr>
                <a:xfrm>
                  <a:off x="1017000" y="3716280"/>
                  <a:ext cx="2089080" cy="7923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2032920" y="3835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66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4" name=""/>
              <p:cNvSpPr/>
              <p:nvPr/>
            </p:nvSpPr>
            <p:spPr>
              <a:xfrm>
                <a:off x="971640" y="3571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457000" y="3990960"/>
                <a:ext cx="1439640" cy="157320"/>
              </a:xfrm>
              <a:custGeom>
                <a:avLst/>
                <a:gdLst/>
                <a:ahLst/>
                <a:rect l="l" t="t" r="r" b="b"/>
                <a:pathLst>
                  <a:path w="907" h="99">
                    <a:moveTo>
                      <a:pt x="0" y="53"/>
                    </a:moveTo>
                    <a:cubicBezTo>
                      <a:pt x="151" y="26"/>
                      <a:pt x="302" y="0"/>
                      <a:pt x="453" y="8"/>
                    </a:cubicBezTo>
                    <a:cubicBezTo>
                      <a:pt x="604" y="16"/>
                      <a:pt x="755" y="57"/>
                      <a:pt x="907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6" name=""/>
            <p:cNvSpPr/>
            <p:nvPr/>
          </p:nvSpPr>
          <p:spPr>
            <a:xfrm>
              <a:off x="3320640" y="41482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401720" y="371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4987800" y="5607000"/>
            <a:ext cx="1220400" cy="979200"/>
            <a:chOff x="4987800" y="5607000"/>
            <a:chExt cx="1220400" cy="979200"/>
          </a:xfrm>
        </p:grpSpPr>
        <p:sp>
          <p:nvSpPr>
            <p:cNvPr id="1739" name=""/>
            <p:cNvSpPr/>
            <p:nvPr/>
          </p:nvSpPr>
          <p:spPr>
            <a:xfrm>
              <a:off x="4987800" y="5733720"/>
              <a:ext cx="168840" cy="768600"/>
            </a:xfrm>
            <a:custGeom>
              <a:avLst/>
              <a:gdLst>
                <a:gd name="textAreaLeft" fmla="*/ 108000 w 168840"/>
                <a:gd name="textAreaRight" fmla="*/ 169200 w 168840"/>
                <a:gd name="textAreaTop" fmla="*/ 19800 h 768600"/>
                <a:gd name="textAreaBottom" fmla="*/ 748800 h 76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478840" y="560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离散型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478840" y="6217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连续型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2" name=""/>
          <p:cNvSpPr/>
          <p:nvPr/>
        </p:nvSpPr>
        <p:spPr>
          <a:xfrm>
            <a:off x="5272560" y="3933720"/>
            <a:ext cx="32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=f(e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－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的单值函数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实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471600" y="295272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*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</a:rPr>
              <a:t>中心问题：将试验结果数量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88880" y="4632480"/>
            <a:ext cx="8229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*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</a:rPr>
              <a:t>定义：随试验结果而变的量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</a:rPr>
              <a:t>X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</a:rPr>
              <a:t>为随机变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71600" y="5770440"/>
            <a:ext cx="8229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*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</a:rPr>
              <a:t>常见的两类随机变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C3061-E6D5-487C-9621-8346A43C3F18}" type="slidenum">
              <a:t>50</a:t>
            </a:fld>
          </a:p>
        </p:txBody>
      </p:sp>
    </p:spTree>
  </p:cSld>
  <p:transition spd="med">
    <p:diamond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934920" y="-85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e5c00"/>
                </a:solidFill>
                <a:latin typeface="宋体"/>
                <a:ea typeface="宋体"/>
              </a:rPr>
              <a:t>§2  </a:t>
            </a:r>
            <a:r>
              <a:rPr b="0" lang="zh-CN" sz="4000" spc="-1" strike="noStrike">
                <a:solidFill>
                  <a:srgbClr val="2e5c00"/>
                </a:solidFill>
                <a:latin typeface="宋体"/>
                <a:ea typeface="宋体"/>
              </a:rPr>
              <a:t>离散型随机变量及其分布</a:t>
            </a:r>
            <a:endParaRPr b="0" lang="en-US" sz="4000" spc="-1" strike="noStrike">
              <a:solidFill>
                <a:srgbClr val="2e5c00"/>
              </a:solidFill>
              <a:latin typeface="-쉬리B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定义：取值可数的随机变量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离散量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离散量的概率分布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布律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6600960" y="2076480"/>
          <a:ext cx="18032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2076480"/>
                    <a:ext cx="18032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0" name=""/>
          <p:cNvGrpSpPr/>
          <p:nvPr/>
        </p:nvGrpSpPr>
        <p:grpSpPr>
          <a:xfrm>
            <a:off x="1442880" y="3162240"/>
            <a:ext cx="6140520" cy="1812960"/>
            <a:chOff x="1442880" y="3162240"/>
            <a:chExt cx="6140520" cy="1812960"/>
          </a:xfrm>
        </p:grpSpPr>
        <p:sp>
          <p:nvSpPr>
            <p:cNvPr id="1751" name=""/>
            <p:cNvSpPr/>
            <p:nvPr/>
          </p:nvSpPr>
          <p:spPr>
            <a:xfrm>
              <a:off x="1606680" y="3162240"/>
              <a:ext cx="5976720" cy="1812960"/>
            </a:xfrm>
            <a:prstGeom prst="horizontalScroll">
              <a:avLst>
                <a:gd name="adj" fmla="val 125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442880" y="3421080"/>
              <a:ext cx="571680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样本空间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{ X=x</a:t>
              </a:r>
              <a:r>
                <a:rPr b="0" lang="zh-CN" sz="1800" spc="-1" strike="noStrike" baseline="-5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X=x</a:t>
              </a:r>
              <a:r>
                <a:rPr b="0" lang="zh-CN" sz="1800" spc="-1" strike="noStrike" baseline="-5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…，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X=x</a:t>
              </a:r>
              <a:r>
                <a:rPr b="0" lang="zh-CN" sz="1800" spc="-1" strike="noStrike" baseline="-5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…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由于样本点两两不相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53" name=""/>
            <p:cNvGraphicFramePr/>
            <p:nvPr/>
          </p:nvGraphicFramePr>
          <p:xfrm>
            <a:off x="2432160" y="3913200"/>
            <a:ext cx="3808440" cy="855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2160" y="3913200"/>
                      <a:ext cx="3808440" cy="85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55" name=""/>
          <p:cNvGrpSpPr/>
          <p:nvPr/>
        </p:nvGrpSpPr>
        <p:grpSpPr>
          <a:xfrm>
            <a:off x="2382840" y="5114880"/>
            <a:ext cx="5122800" cy="1015920"/>
            <a:chOff x="2382840" y="5114880"/>
            <a:chExt cx="5122800" cy="1015920"/>
          </a:xfrm>
        </p:grpSpPr>
        <p:sp>
          <p:nvSpPr>
            <p:cNvPr id="1756" name=""/>
            <p:cNvSpPr/>
            <p:nvPr/>
          </p:nvSpPr>
          <p:spPr>
            <a:xfrm>
              <a:off x="2382840" y="5208480"/>
              <a:ext cx="152640" cy="9144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48080" y="5114880"/>
              <a:ext cx="4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、写出可能取值－－即写出了样本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714840" y="5762520"/>
              <a:ext cx="37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、写出相应的概率－－即写出了每一个样本点出现的概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9" name="Litebulb"/>
          <p:cNvSpPr/>
          <p:nvPr/>
        </p:nvSpPr>
        <p:spPr>
          <a:xfrm>
            <a:off x="609480" y="1028880"/>
            <a:ext cx="204840" cy="25704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1047600" y="2106720"/>
            <a:ext cx="4808520" cy="925560"/>
            <a:chOff x="1047600" y="2106720"/>
            <a:chExt cx="4808520" cy="925560"/>
          </a:xfrm>
        </p:grpSpPr>
        <p:graphicFrame>
          <p:nvGraphicFramePr>
            <p:cNvPr id="1761" name=""/>
            <p:cNvGraphicFramePr/>
            <p:nvPr/>
          </p:nvGraphicFramePr>
          <p:xfrm>
            <a:off x="1090440" y="2577960"/>
            <a:ext cx="339840" cy="368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90440" y="2577960"/>
                      <a:ext cx="339840" cy="3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63" name=""/>
            <p:cNvGrpSpPr/>
            <p:nvPr/>
          </p:nvGrpSpPr>
          <p:grpSpPr>
            <a:xfrm>
              <a:off x="1047600" y="2106720"/>
              <a:ext cx="4808520" cy="925560"/>
              <a:chOff x="1047600" y="2106720"/>
              <a:chExt cx="4808520" cy="925560"/>
            </a:xfrm>
          </p:grpSpPr>
          <p:sp>
            <p:nvSpPr>
              <p:cNvPr id="1764" name=""/>
              <p:cNvSpPr/>
              <p:nvPr/>
            </p:nvSpPr>
            <p:spPr>
              <a:xfrm>
                <a:off x="1047600" y="2551320"/>
                <a:ext cx="480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528920" y="2166840"/>
                <a:ext cx="0" cy="86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052800" y="2116080"/>
                <a:ext cx="76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591080" y="2116080"/>
                <a:ext cx="77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068640" y="2503440"/>
                <a:ext cx="76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4606920" y="2487600"/>
                <a:ext cx="77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70" name=""/>
              <p:cNvGraphicFramePr/>
              <p:nvPr/>
            </p:nvGraphicFramePr>
            <p:xfrm>
              <a:off x="1787400" y="2106720"/>
              <a:ext cx="290520" cy="434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7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87400" y="2106720"/>
                        <a:ext cx="290520" cy="43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2" name=""/>
              <p:cNvGraphicFramePr/>
              <p:nvPr/>
            </p:nvGraphicFramePr>
            <p:xfrm>
              <a:off x="2638440" y="2109960"/>
              <a:ext cx="315720" cy="434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77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638440" y="2109960"/>
                        <a:ext cx="315720" cy="43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4" name=""/>
              <p:cNvGraphicFramePr/>
              <p:nvPr/>
            </p:nvGraphicFramePr>
            <p:xfrm>
              <a:off x="4048200" y="2108160"/>
              <a:ext cx="290520" cy="4348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77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048200" y="2108160"/>
                        <a:ext cx="290520" cy="43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6" name=""/>
              <p:cNvGraphicFramePr/>
              <p:nvPr/>
            </p:nvGraphicFramePr>
            <p:xfrm>
              <a:off x="1752480" y="2497320"/>
              <a:ext cx="338400" cy="4348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77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1752480" y="2497320"/>
                        <a:ext cx="338400" cy="43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8" name=""/>
              <p:cNvGraphicFramePr/>
              <p:nvPr/>
            </p:nvGraphicFramePr>
            <p:xfrm>
              <a:off x="2620800" y="2502000"/>
              <a:ext cx="365400" cy="4348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77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620800" y="2502000"/>
                        <a:ext cx="365400" cy="43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0" name=""/>
              <p:cNvGraphicFramePr/>
              <p:nvPr/>
            </p:nvGraphicFramePr>
            <p:xfrm>
              <a:off x="4041720" y="2503440"/>
              <a:ext cx="314280" cy="4348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781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041720" y="2503440"/>
                        <a:ext cx="314280" cy="43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2" name=""/>
              <p:cNvGraphicFramePr/>
              <p:nvPr/>
            </p:nvGraphicFramePr>
            <p:xfrm>
              <a:off x="1085760" y="2124000"/>
              <a:ext cx="395280" cy="3682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783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1085760" y="2124000"/>
                        <a:ext cx="39528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784" name=""/>
          <p:cNvSpPr/>
          <p:nvPr/>
        </p:nvSpPr>
        <p:spPr>
          <a:xfrm>
            <a:off x="403200" y="4998960"/>
            <a:ext cx="864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e5d2f"/>
                </a:solidFill>
                <a:latin typeface="宋体"/>
              </a:rPr>
              <a:t>#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概率分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05B7E-2D0D-475B-82ED-4A2153345461}" type="slidenum">
              <a:t>51</a:t>
            </a:fld>
          </a:p>
        </p:txBody>
      </p:sp>
    </p:spTree>
  </p:cSld>
  <p:transition spd="med">
    <p:diamond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2" dur="2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2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/>
          </p:nvPr>
        </p:nvSpPr>
        <p:spPr>
          <a:xfrm>
            <a:off x="839880" y="355680"/>
            <a:ext cx="8028000" cy="16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例：某人骑自行车从学校到火车站，一路上要经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 过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个独立的交通灯，设各灯工作独立，且设 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 各灯为红灯的概率为</a:t>
            </a:r>
            <a:r>
              <a:rPr b="0" i="1" lang="zh-CN" sz="2400" spc="-1" strike="noStrike">
                <a:solidFill>
                  <a:srgbClr val="1e1169"/>
                </a:solidFill>
                <a:latin typeface="Times New Roman"/>
                <a:ea typeface="宋体"/>
              </a:rPr>
              <a:t>p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，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0</a:t>
            </a:r>
            <a:r>
              <a:rPr b="0" i="1" lang="zh-CN" sz="2400" spc="-1" strike="noStrike">
                <a:solidFill>
                  <a:srgbClr val="1e1169"/>
                </a:solidFill>
                <a:latin typeface="Times New Roman"/>
                <a:ea typeface="宋体"/>
              </a:rPr>
              <a:t>&lt;p&lt;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，以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表示首次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 停车时所通过的交通灯数，求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的概率分布律。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1786" name=""/>
          <p:cNvGraphicFramePr/>
          <p:nvPr/>
        </p:nvGraphicFramePr>
        <p:xfrm>
          <a:off x="1552680" y="3487680"/>
          <a:ext cx="2800080" cy="43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2680" y="3487680"/>
                    <a:ext cx="28000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8" name=""/>
          <p:cNvGraphicFramePr/>
          <p:nvPr/>
        </p:nvGraphicFramePr>
        <p:xfrm>
          <a:off x="4883040" y="3486240"/>
          <a:ext cx="3867120" cy="47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83040" y="3486240"/>
                    <a:ext cx="38671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0" name=""/>
          <p:cNvGraphicFramePr/>
          <p:nvPr/>
        </p:nvGraphicFramePr>
        <p:xfrm>
          <a:off x="1522440" y="3998880"/>
          <a:ext cx="4610160" cy="49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440" y="3998880"/>
                    <a:ext cx="46101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2" name=""/>
          <p:cNvGraphicFramePr/>
          <p:nvPr/>
        </p:nvGraphicFramePr>
        <p:xfrm>
          <a:off x="1509840" y="4581360"/>
          <a:ext cx="4495680" cy="490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09840" y="4581360"/>
                    <a:ext cx="44956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4" name=""/>
          <p:cNvGrpSpPr/>
          <p:nvPr/>
        </p:nvGrpSpPr>
        <p:grpSpPr>
          <a:xfrm>
            <a:off x="2027160" y="5508720"/>
            <a:ext cx="4105080" cy="987480"/>
            <a:chOff x="2027160" y="5508720"/>
            <a:chExt cx="4105080" cy="987480"/>
          </a:xfrm>
        </p:grpSpPr>
        <p:grpSp>
          <p:nvGrpSpPr>
            <p:cNvPr id="1795" name=""/>
            <p:cNvGrpSpPr/>
            <p:nvPr/>
          </p:nvGrpSpPr>
          <p:grpSpPr>
            <a:xfrm>
              <a:off x="2027160" y="5508720"/>
              <a:ext cx="3889440" cy="987480"/>
              <a:chOff x="2027160" y="5508720"/>
              <a:chExt cx="3889440" cy="987480"/>
            </a:xfrm>
          </p:grpSpPr>
          <p:sp>
            <p:nvSpPr>
              <p:cNvPr id="1796" name=""/>
              <p:cNvSpPr/>
              <p:nvPr/>
            </p:nvSpPr>
            <p:spPr>
              <a:xfrm>
                <a:off x="2512800" y="5630760"/>
                <a:ext cx="0" cy="86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051280" y="6015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8" name=""/>
              <p:cNvGrpSpPr/>
              <p:nvPr/>
            </p:nvGrpSpPr>
            <p:grpSpPr>
              <a:xfrm>
                <a:off x="2027160" y="5508720"/>
                <a:ext cx="3889440" cy="395280"/>
                <a:chOff x="2027160" y="5508720"/>
                <a:chExt cx="3889440" cy="39528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2027160" y="553572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2724480" y="553572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3619800" y="55245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4527000" y="55245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146560" y="5508720"/>
                  <a:ext cx="770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4" name=""/>
            <p:cNvGrpSpPr/>
            <p:nvPr/>
          </p:nvGrpSpPr>
          <p:grpSpPr>
            <a:xfrm>
              <a:off x="2031840" y="6012000"/>
              <a:ext cx="4100400" cy="378000"/>
              <a:chOff x="2031840" y="6012000"/>
              <a:chExt cx="4100400" cy="378000"/>
            </a:xfrm>
          </p:grpSpPr>
          <p:sp>
            <p:nvSpPr>
              <p:cNvPr id="1805" name=""/>
              <p:cNvSpPr/>
              <p:nvPr/>
            </p:nvSpPr>
            <p:spPr>
              <a:xfrm flipV="1">
                <a:off x="2031840" y="6019560"/>
                <a:ext cx="4100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52920" y="6012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346920" y="6019920"/>
                <a:ext cx="78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(1-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267080" y="6021720"/>
                <a:ext cx="86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1-p)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124240" y="601992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1-p)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0" name=""/>
          <p:cNvGrpSpPr/>
          <p:nvPr/>
        </p:nvGrpSpPr>
        <p:grpSpPr>
          <a:xfrm>
            <a:off x="6303960" y="4843080"/>
            <a:ext cx="2590920" cy="1125720"/>
            <a:chOff x="6303960" y="4843080"/>
            <a:chExt cx="2590920" cy="1125720"/>
          </a:xfrm>
        </p:grpSpPr>
        <p:sp>
          <p:nvSpPr>
            <p:cNvPr id="1811" name=""/>
            <p:cNvSpPr/>
            <p:nvPr/>
          </p:nvSpPr>
          <p:spPr>
            <a:xfrm flipV="1">
              <a:off x="6303960" y="4842720"/>
              <a:ext cx="2590920" cy="1125720"/>
            </a:xfrm>
            <a:prstGeom prst="cloudCallout">
              <a:avLst>
                <a:gd name="adj1" fmla="val -56314"/>
                <a:gd name="adj2" fmla="val 96120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12" name=""/>
            <p:cNvGraphicFramePr/>
            <p:nvPr/>
          </p:nvGraphicFramePr>
          <p:xfrm>
            <a:off x="6343560" y="5153040"/>
            <a:ext cx="2354400" cy="611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81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343560" y="5153040"/>
                      <a:ext cx="2354400" cy="61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14" name="" descr=""/>
          <p:cNvPicPr/>
          <p:nvPr/>
        </p:nvPicPr>
        <p:blipFill>
          <a:blip r:embed="rId12"/>
          <a:stretch/>
        </p:blipFill>
        <p:spPr>
          <a:xfrm>
            <a:off x="1282680" y="923760"/>
            <a:ext cx="371520" cy="943200"/>
          </a:xfrm>
          <a:prstGeom prst="rect">
            <a:avLst/>
          </a:prstGeom>
          <a:ln w="0">
            <a:noFill/>
          </a:ln>
        </p:spPr>
      </p:pic>
      <p:sp>
        <p:nvSpPr>
          <p:cNvPr id="1815" name=""/>
          <p:cNvSpPr/>
          <p:nvPr/>
        </p:nvSpPr>
        <p:spPr>
          <a:xfrm>
            <a:off x="992160" y="1927080"/>
            <a:ext cx="80280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设</a:t>
            </a:r>
            <a:r>
              <a:rPr b="0" i="1" lang="zh-CN" sz="2400" spc="-1" strike="noStrike">
                <a:solidFill>
                  <a:srgbClr val="5e5d2f"/>
                </a:solidFill>
                <a:latin typeface="Times New Roman"/>
              </a:rPr>
              <a:t>A</a:t>
            </a:r>
            <a:r>
              <a:rPr b="0" i="1" lang="zh-CN" sz="2400" spc="-1" strike="noStrike" baseline="-25000">
                <a:solidFill>
                  <a:srgbClr val="5e5d2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={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第</a:t>
            </a:r>
            <a:r>
              <a:rPr b="0" i="1" lang="zh-CN" sz="2400" spc="-1" strike="noStrike">
                <a:solidFill>
                  <a:srgbClr val="5e5d2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个灯为红灯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，则</a:t>
            </a:r>
            <a:r>
              <a:rPr b="0" i="1" lang="zh-CN" sz="2400" spc="-1" strike="noStrike">
                <a:solidFill>
                  <a:srgbClr val="5e5d2f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(</a:t>
            </a:r>
            <a:r>
              <a:rPr b="0" i="1" lang="zh-CN" sz="2400" spc="-1" strike="noStrike">
                <a:solidFill>
                  <a:srgbClr val="5e5d2f"/>
                </a:solidFill>
                <a:latin typeface="Times New Roman"/>
              </a:rPr>
              <a:t>A</a:t>
            </a:r>
            <a:r>
              <a:rPr b="0" i="1" lang="zh-CN" sz="2400" spc="-1" strike="noStrike" baseline="-25000">
                <a:solidFill>
                  <a:srgbClr val="5e5d2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)=</a:t>
            </a:r>
            <a:r>
              <a:rPr b="0" i="1" lang="zh-CN" sz="2400" spc="-1" strike="noStrike">
                <a:solidFill>
                  <a:srgbClr val="5e5d2f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，</a:t>
            </a:r>
            <a:r>
              <a:rPr b="0" i="1" lang="zh-CN" sz="2400" spc="-1" strike="noStrike">
                <a:solidFill>
                  <a:srgbClr val="5e5d2f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=1,2,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且</a:t>
            </a:r>
            <a:r>
              <a:rPr b="0" i="1" lang="zh-CN" sz="2400" spc="-1" strike="noStrike">
                <a:solidFill>
                  <a:srgbClr val="5e5d2f"/>
                </a:solidFill>
                <a:latin typeface="Times New Roman"/>
              </a:rPr>
              <a:t>A</a:t>
            </a:r>
            <a:r>
              <a:rPr b="0" i="1" lang="zh-CN" sz="2400" spc="-1" strike="noStrike" baseline="-25000">
                <a:solidFill>
                  <a:srgbClr val="5e5d2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,</a:t>
            </a:r>
            <a:r>
              <a:rPr b="0" i="1" lang="zh-CN" sz="2400" spc="-1" strike="noStrike">
                <a:solidFill>
                  <a:srgbClr val="5e5d2f"/>
                </a:solidFill>
                <a:latin typeface="Times New Roman"/>
              </a:rPr>
              <a:t>A</a:t>
            </a:r>
            <a:r>
              <a:rPr b="0" i="1" lang="zh-CN" sz="2400" spc="-1" strike="noStrike" baseline="-25000">
                <a:solidFill>
                  <a:srgbClr val="5e5d2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,</a:t>
            </a:r>
            <a:r>
              <a:rPr b="0" i="1" lang="zh-CN" sz="2400" spc="-1" strike="noStrike">
                <a:solidFill>
                  <a:srgbClr val="5e5d2f"/>
                </a:solidFill>
                <a:latin typeface="Times New Roman"/>
              </a:rPr>
              <a:t>A</a:t>
            </a:r>
            <a:r>
              <a:rPr b="0" i="1" lang="zh-CN" sz="2400" spc="-1" strike="noStrike" baseline="-25000">
                <a:solidFill>
                  <a:srgbClr val="5e5d2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相互独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4FD5F-A5B9-4413-AD86-213144C11E34}" type="slidenum">
              <a:t>52</a:t>
            </a:fld>
          </a:p>
        </p:txBody>
      </p:sp>
    </p:spTree>
  </p:cSld>
  <p:transition spd="med">
    <p:diamond/>
  </p:transition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10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4" dur="1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10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3" dur="2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10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/>
          </p:nvPr>
        </p:nvSpPr>
        <p:spPr>
          <a:xfrm>
            <a:off x="1000080" y="340920"/>
            <a:ext cx="79120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例：从生产线上随机抽产品进行检测，设产品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的次品率为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p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，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0&lt;p&lt;1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，若查到一只次品就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得停机检修，设停机时已检测到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只产品，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试写出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的概率分布律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1817" name=""/>
          <p:cNvGraphicFramePr/>
          <p:nvPr/>
        </p:nvGraphicFramePr>
        <p:xfrm>
          <a:off x="1666800" y="3803760"/>
          <a:ext cx="6948720" cy="50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6800" y="3803760"/>
                    <a:ext cx="69487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9" name="" descr=""/>
          <p:cNvPicPr/>
          <p:nvPr/>
        </p:nvPicPr>
        <p:blipFill>
          <a:blip r:embed="rId4"/>
          <a:stretch/>
        </p:blipFill>
        <p:spPr>
          <a:xfrm>
            <a:off x="6721560" y="5195880"/>
            <a:ext cx="1468440" cy="1162080"/>
          </a:xfrm>
          <a:prstGeom prst="rect">
            <a:avLst/>
          </a:prstGeom>
          <a:ln w="0">
            <a:noFill/>
          </a:ln>
        </p:spPr>
      </p:pic>
      <p:sp>
        <p:nvSpPr>
          <p:cNvPr id="1820" name=""/>
          <p:cNvSpPr/>
          <p:nvPr/>
        </p:nvSpPr>
        <p:spPr>
          <a:xfrm>
            <a:off x="1152360" y="2397240"/>
            <a:ext cx="791244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解：设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A</a:t>
            </a:r>
            <a:r>
              <a:rPr b="0" lang="zh-CN" sz="2800" spc="-1" strike="noStrike" baseline="-25000">
                <a:solidFill>
                  <a:srgbClr val="5e5d2f"/>
                </a:solidFill>
                <a:latin typeface="宋体"/>
              </a:rPr>
              <a:t>i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={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第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i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次抽到正品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}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，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i=1,2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则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A</a:t>
            </a:r>
            <a:r>
              <a:rPr b="0" lang="zh-CN" sz="2800" spc="-1" strike="noStrike" baseline="-25000">
                <a:solidFill>
                  <a:srgbClr val="5e5d2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,A</a:t>
            </a:r>
            <a:r>
              <a:rPr b="0" lang="zh-CN" sz="2800" spc="-1" strike="noStrike" baseline="-25000">
                <a:solidFill>
                  <a:srgbClr val="5e5d2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,…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相互独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152360" y="4711680"/>
            <a:ext cx="7912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亦称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为服从参数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p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几何分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58577-5AF7-4CD3-A568-A682FB3F193A}" type="slidenum">
              <a:t>53</a:t>
            </a:fld>
          </a:p>
        </p:txBody>
      </p:sp>
    </p:spTree>
  </p:cSld>
  <p:transition spd="med">
    <p:diamond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2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2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20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0" dur="2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/>
          </p:nvPr>
        </p:nvSpPr>
        <p:spPr>
          <a:xfrm>
            <a:off x="-360" y="310680"/>
            <a:ext cx="875988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三个主要的离散型随机变量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－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1(p)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分布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二项分布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</p:txBody>
      </p:sp>
      <p:grpSp>
        <p:nvGrpSpPr>
          <p:cNvPr id="1823" name=""/>
          <p:cNvGrpSpPr/>
          <p:nvPr/>
        </p:nvGrpSpPr>
        <p:grpSpPr>
          <a:xfrm>
            <a:off x="4287960" y="1189080"/>
            <a:ext cx="2304720" cy="745200"/>
            <a:chOff x="4287960" y="1189080"/>
            <a:chExt cx="2304720" cy="745200"/>
          </a:xfrm>
        </p:grpSpPr>
        <p:sp>
          <p:nvSpPr>
            <p:cNvPr id="1824" name=""/>
            <p:cNvSpPr/>
            <p:nvPr/>
          </p:nvSpPr>
          <p:spPr>
            <a:xfrm>
              <a:off x="4933800" y="1279440"/>
              <a:ext cx="0" cy="65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287960" y="1607040"/>
              <a:ext cx="23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"/>
            <p:cNvGrpSpPr/>
            <p:nvPr/>
          </p:nvGrpSpPr>
          <p:grpSpPr>
            <a:xfrm>
              <a:off x="4519440" y="1189080"/>
              <a:ext cx="1870560" cy="706680"/>
              <a:chOff x="4519440" y="1189080"/>
              <a:chExt cx="1870560" cy="706680"/>
            </a:xfrm>
          </p:grpSpPr>
          <p:sp>
            <p:nvSpPr>
              <p:cNvPr id="1827" name=""/>
              <p:cNvSpPr/>
              <p:nvPr/>
            </p:nvSpPr>
            <p:spPr>
              <a:xfrm>
                <a:off x="4519440" y="1189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32040" y="152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344920" y="1525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360400" y="1189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082920" y="1196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082920" y="1525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3" name=""/>
          <p:cNvSpPr/>
          <p:nvPr/>
        </p:nvSpPr>
        <p:spPr>
          <a:xfrm>
            <a:off x="6004080" y="299880"/>
            <a:ext cx="2338200" cy="584280"/>
          </a:xfrm>
          <a:prstGeom prst="wedgeEllipseCallout">
            <a:avLst>
              <a:gd name="adj1" fmla="val -64254"/>
              <a:gd name="adj2" fmla="val 89129"/>
            </a:avLst>
          </a:prstGeom>
          <a:noFill/>
          <a:ln cap="rnd" w="3168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80"/>
                </a:solidFill>
                <a:latin typeface="Arial"/>
              </a:rPr>
              <a:t>样本空间中只有两个样本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1727280" y="4811040"/>
            <a:ext cx="2504880" cy="708120"/>
          </a:xfrm>
          <a:prstGeom prst="wedgeRoundRectCallout">
            <a:avLst>
              <a:gd name="adj1" fmla="val -45439"/>
              <a:gd name="adj2" fmla="val 142148"/>
              <a:gd name="adj3" fmla="val 16667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即每次试验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互不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6070680" y="4452840"/>
            <a:ext cx="2774880" cy="1014480"/>
          </a:xfrm>
          <a:prstGeom prst="wedgeRoundRectCallout">
            <a:avLst>
              <a:gd name="adj1" fmla="val 29518"/>
              <a:gd name="adj2" fmla="val 114472"/>
              <a:gd name="adj3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在相同条件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重复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6956280" y="131616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d2f"/>
                </a:solidFill>
                <a:latin typeface="宋体"/>
              </a:rPr>
              <a:t>(p+q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7" name=""/>
          <p:cNvGrpSpPr/>
          <p:nvPr/>
        </p:nvGrpSpPr>
        <p:grpSpPr>
          <a:xfrm>
            <a:off x="1297440" y="2790720"/>
            <a:ext cx="7423200" cy="1343880"/>
            <a:chOff x="1297440" y="2790720"/>
            <a:chExt cx="7423200" cy="1343880"/>
          </a:xfrm>
        </p:grpSpPr>
        <p:graphicFrame>
          <p:nvGraphicFramePr>
            <p:cNvPr id="1838" name=""/>
            <p:cNvGraphicFramePr/>
            <p:nvPr/>
          </p:nvGraphicFramePr>
          <p:xfrm>
            <a:off x="8075520" y="2801520"/>
            <a:ext cx="645120" cy="45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75520" y="2801520"/>
                      <a:ext cx="645120" cy="45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0" name=""/>
            <p:cNvSpPr/>
            <p:nvPr/>
          </p:nvSpPr>
          <p:spPr>
            <a:xfrm>
              <a:off x="1297440" y="2790720"/>
              <a:ext cx="66024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*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 n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重贝努利试验：设试验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E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只有两个可能的结果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p(A)=p,0&lt;p&lt;1,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将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E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独立地重复进行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次，则称这一串</a:t>
              </a:r>
              <a:r>
                <a:rPr b="1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重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的</a:t>
              </a:r>
              <a:r>
                <a:rPr b="1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独立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试验为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n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重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贝努利试验</a:t>
              </a:r>
              <a:r>
                <a:rPr b="0" lang="zh-CN" sz="2400" spc="-1" strike="noStrike">
                  <a:solidFill>
                    <a:srgbClr val="5e5d2f"/>
                  </a:solidFill>
                  <a:latin typeface="宋体"/>
                  <a:ea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2DBAE-4A27-4556-9DE6-B273BF5105A1}" type="slidenum">
              <a:t>54</a:t>
            </a:fld>
          </a:p>
        </p:txBody>
      </p:sp>
    </p:spTree>
  </p:cSld>
  <p:transition spd="med">
    <p:diamond/>
  </p:transition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2000"/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2" dur="2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2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2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6" dur="2000"/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2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2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2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6" dur="2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2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2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6" dur="2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/>
          </p:nvPr>
        </p:nvSpPr>
        <p:spPr>
          <a:xfrm>
            <a:off x="-360" y="961920"/>
            <a:ext cx="87598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例：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lvl="2" marL="161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1.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独立重复地抛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n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次硬币，每次只有两个可能的结果：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lvl="2" marL="161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正面，反面，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</p:txBody>
      </p:sp>
      <p:sp>
        <p:nvSpPr>
          <p:cNvPr id="1842" name=""/>
          <p:cNvSpPr/>
          <p:nvPr/>
        </p:nvSpPr>
        <p:spPr>
          <a:xfrm>
            <a:off x="3500280" y="4538520"/>
            <a:ext cx="723960" cy="681120"/>
          </a:xfrm>
          <a:prstGeom prst="line">
            <a:avLst/>
          </a:prstGeom>
          <a:ln w="2232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4255920" y="547848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是不放回抽样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4" name=""/>
          <p:cNvGraphicFramePr/>
          <p:nvPr/>
        </p:nvGraphicFramePr>
        <p:xfrm>
          <a:off x="3595680" y="3400560"/>
          <a:ext cx="7779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5680" y="3400560"/>
                    <a:ext cx="777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"/>
          <p:cNvGraphicFramePr/>
          <p:nvPr/>
        </p:nvGraphicFramePr>
        <p:xfrm>
          <a:off x="4427640" y="4624560"/>
          <a:ext cx="8856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624560"/>
                    <a:ext cx="8856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"/>
          <p:cNvGraphicFramePr/>
          <p:nvPr/>
        </p:nvGraphicFramePr>
        <p:xfrm>
          <a:off x="4416480" y="1963800"/>
          <a:ext cx="2514600" cy="5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6480" y="1963800"/>
                    <a:ext cx="25146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0" name=""/>
          <p:cNvGraphicFramePr/>
          <p:nvPr/>
        </p:nvGraphicFramePr>
        <p:xfrm>
          <a:off x="4952880" y="3440160"/>
          <a:ext cx="149400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3440160"/>
                    <a:ext cx="1494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2" name=""/>
          <p:cNvGraphicFramePr/>
          <p:nvPr/>
        </p:nvGraphicFramePr>
        <p:xfrm>
          <a:off x="5645160" y="4759200"/>
          <a:ext cx="1454040" cy="50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45160" y="4759200"/>
                    <a:ext cx="1454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"/>
          <p:cNvSpPr/>
          <p:nvPr/>
        </p:nvSpPr>
        <p:spPr>
          <a:xfrm>
            <a:off x="0" y="2700360"/>
            <a:ext cx="875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将一颗骰子抛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次，设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A={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得到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点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，则每次试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只有两个结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52280" y="3949560"/>
            <a:ext cx="8759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从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52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张牌中</a:t>
            </a:r>
            <a:r>
              <a:rPr b="0" lang="zh-CN" sz="2400" spc="-1" strike="noStrike" u="sng">
                <a:solidFill>
                  <a:srgbClr val="5e5d2f"/>
                </a:solidFill>
                <a:uFillTx/>
                <a:latin typeface="宋体"/>
              </a:rPr>
              <a:t>有放回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地取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次，设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A={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取到红牌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        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每次只有两个结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491DA-EEAD-4C09-AC99-CC386169D7E5}" type="slidenum">
              <a:t>55</a:t>
            </a:fld>
          </a:p>
        </p:txBody>
      </p:sp>
    </p:spTree>
  </p:cSld>
  <p:transition spd="med">
    <p:diamond/>
  </p:transition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2000"/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8" dur="2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2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2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2000"/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2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2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7" dur="2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2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2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2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7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2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/>
          </p:nvPr>
        </p:nvSpPr>
        <p:spPr>
          <a:xfrm>
            <a:off x="998640" y="336600"/>
            <a:ext cx="74419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设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在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n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重贝努利试验中发生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次，则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并称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服从参数为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p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项分布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，记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1857" name=""/>
          <p:cNvGraphicFramePr/>
          <p:nvPr/>
        </p:nvGraphicFramePr>
        <p:xfrm>
          <a:off x="1444680" y="893880"/>
          <a:ext cx="563724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4680" y="893880"/>
                    <a:ext cx="56372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9" name=""/>
          <p:cNvGraphicFramePr/>
          <p:nvPr/>
        </p:nvGraphicFramePr>
        <p:xfrm>
          <a:off x="6564240" y="1422360"/>
          <a:ext cx="1844640" cy="46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64240" y="1422360"/>
                    <a:ext cx="1844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1" name=""/>
          <p:cNvGraphicFramePr/>
          <p:nvPr/>
        </p:nvGraphicFramePr>
        <p:xfrm>
          <a:off x="2178000" y="3075120"/>
          <a:ext cx="366552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78000" y="3075120"/>
                    <a:ext cx="366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3" name=""/>
          <p:cNvGraphicFramePr/>
          <p:nvPr/>
        </p:nvGraphicFramePr>
        <p:xfrm>
          <a:off x="2101680" y="4952880"/>
          <a:ext cx="3327480" cy="465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01680" y="4952880"/>
                    <a:ext cx="3327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"/>
          <p:cNvGraphicFramePr/>
          <p:nvPr/>
        </p:nvGraphicFramePr>
        <p:xfrm>
          <a:off x="2135160" y="4365720"/>
          <a:ext cx="6662880" cy="436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5160" y="4365720"/>
                    <a:ext cx="66628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7" name=""/>
          <p:cNvGraphicFramePr/>
          <p:nvPr/>
        </p:nvGraphicFramePr>
        <p:xfrm>
          <a:off x="2160720" y="3753000"/>
          <a:ext cx="6715080" cy="45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60720" y="3753000"/>
                    <a:ext cx="6715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9" name=""/>
          <p:cNvGraphicFramePr/>
          <p:nvPr/>
        </p:nvGraphicFramePr>
        <p:xfrm>
          <a:off x="109440" y="5729400"/>
          <a:ext cx="6929640" cy="555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7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9440" y="5729400"/>
                    <a:ext cx="69296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1" name=""/>
          <p:cNvGraphicFramePr/>
          <p:nvPr/>
        </p:nvGraphicFramePr>
        <p:xfrm>
          <a:off x="4165560" y="1816200"/>
          <a:ext cx="4079880" cy="622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7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65560" y="1816200"/>
                    <a:ext cx="407988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3" name=""/>
          <p:cNvSpPr/>
          <p:nvPr/>
        </p:nvSpPr>
        <p:spPr>
          <a:xfrm rot="2741400">
            <a:off x="3501720" y="1384200"/>
            <a:ext cx="963720" cy="249120"/>
          </a:xfrm>
          <a:custGeom>
            <a:avLst/>
            <a:gdLst>
              <a:gd name="textAreaLeft" fmla="*/ 150480 w 963720"/>
              <a:gd name="textAreaRight" fmla="*/ 843480 w 96372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150920" y="2374920"/>
            <a:ext cx="7442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推导：设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A</a:t>
            </a:r>
            <a:r>
              <a:rPr b="1" lang="zh-CN" sz="2800" spc="-1" strike="noStrike" baseline="-25000">
                <a:solidFill>
                  <a:srgbClr val="5e5d2f"/>
                </a:solidFill>
                <a:latin typeface="宋体"/>
              </a:rPr>
              <a:t>i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={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第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i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次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发生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}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，先设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n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B3612-007D-4DBE-8657-129BAE24C1D7}" type="slidenum">
              <a:t>56</a:t>
            </a:fld>
          </a:p>
        </p:txBody>
      </p:sp>
    </p:spTree>
  </p:cSld>
  <p:transition spd="med">
    <p:diamond/>
  </p:transition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0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3812E-006 L 0.02708 0.0387 E">
                                      <p:cBhvr>
                                        <p:cTn id="1688" dur="2000" fill="hold"/>
                                        <p:tgtEl>
                                          <p:spTgt spid="1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3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/>
          </p:nvPr>
        </p:nvSpPr>
        <p:spPr>
          <a:xfrm>
            <a:off x="984240" y="822240"/>
            <a:ext cx="770112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例：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设有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80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台同类型设备，各台工作是相互独立的，发生故障的概率都是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0.01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，且一台设备的故障能有一个人处理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考虑两种配备维修工人的方法，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其一是由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个人维护，每人负责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20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台；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其二是由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个人共同维护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80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台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0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试比较这两种方法在设备发生故障时不能及时维修的概率的大小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2090-B886-4BE4-8F90-2965124054DF}" type="slidenum">
              <a:t>57</a:t>
            </a:fld>
          </a:p>
        </p:txBody>
      </p:sp>
    </p:spTree>
  </p:cSld>
  <p:transition spd="med">
    <p:diamond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6" name=""/>
          <p:cNvGraphicFramePr/>
          <p:nvPr/>
        </p:nvGraphicFramePr>
        <p:xfrm>
          <a:off x="1077840" y="509760"/>
          <a:ext cx="8066160" cy="17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509760"/>
                    <a:ext cx="806616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8" name=""/>
          <p:cNvGraphicFramePr/>
          <p:nvPr/>
        </p:nvGraphicFramePr>
        <p:xfrm>
          <a:off x="1711440" y="2357280"/>
          <a:ext cx="587520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1440" y="2357280"/>
                    <a:ext cx="58752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0" name=""/>
          <p:cNvGraphicFramePr/>
          <p:nvPr/>
        </p:nvGraphicFramePr>
        <p:xfrm>
          <a:off x="1692360" y="2870280"/>
          <a:ext cx="299088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870280"/>
                    <a:ext cx="299088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2" name=""/>
          <p:cNvGraphicFramePr/>
          <p:nvPr/>
        </p:nvGraphicFramePr>
        <p:xfrm>
          <a:off x="1289160" y="3294000"/>
          <a:ext cx="3157560" cy="77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89160" y="3294000"/>
                    <a:ext cx="31575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4" name=""/>
          <p:cNvGraphicFramePr/>
          <p:nvPr/>
        </p:nvGraphicFramePr>
        <p:xfrm>
          <a:off x="4533840" y="3284640"/>
          <a:ext cx="4610160" cy="7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3840" y="3284640"/>
                    <a:ext cx="46101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6" name=""/>
          <p:cNvGraphicFramePr/>
          <p:nvPr/>
        </p:nvGraphicFramePr>
        <p:xfrm>
          <a:off x="1487520" y="4079880"/>
          <a:ext cx="5105520" cy="54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87520" y="4079880"/>
                    <a:ext cx="5105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8" name=""/>
          <p:cNvGraphicFramePr/>
          <p:nvPr/>
        </p:nvGraphicFramePr>
        <p:xfrm>
          <a:off x="1604880" y="4624560"/>
          <a:ext cx="6408720" cy="121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4624560"/>
                    <a:ext cx="640872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0" name=""/>
          <p:cNvGraphicFramePr/>
          <p:nvPr/>
        </p:nvGraphicFramePr>
        <p:xfrm>
          <a:off x="1641600" y="5811840"/>
          <a:ext cx="5719680" cy="80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41600" y="5811840"/>
                    <a:ext cx="57196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81F1E-47F5-4AB3-8669-BE6F0888A7B4}" type="slidenum">
              <a:t>58</a:t>
            </a:fld>
          </a:p>
        </p:txBody>
      </p:sp>
    </p:spTree>
  </p:cSld>
  <p:transition spd="med">
    <p:diamond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/>
          </p:nvPr>
        </p:nvSpPr>
        <p:spPr>
          <a:xfrm>
            <a:off x="911160" y="378000"/>
            <a:ext cx="781200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例：某人骑了自行车从学校到火车站，一路上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要经过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个独立的交通灯，设各灯工作独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立，且设各灯为红灯的概率为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p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，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0&lt;p&lt;1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，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以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Y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表示一路上遇到红灯的次数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(1)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求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Y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的概率分布律；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(2)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求恰好遇到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次红灯的概率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1893" name=""/>
          <p:cNvGraphicFramePr/>
          <p:nvPr/>
        </p:nvGraphicFramePr>
        <p:xfrm>
          <a:off x="5838840" y="3781440"/>
          <a:ext cx="1762200" cy="51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38840" y="3781440"/>
                    <a:ext cx="176220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5" name=""/>
          <p:cNvGraphicFramePr/>
          <p:nvPr/>
        </p:nvGraphicFramePr>
        <p:xfrm>
          <a:off x="2335320" y="4743360"/>
          <a:ext cx="6137280" cy="59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35320" y="4743360"/>
                    <a:ext cx="6137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7" name=""/>
          <p:cNvGraphicFramePr/>
          <p:nvPr/>
        </p:nvGraphicFramePr>
        <p:xfrm>
          <a:off x="2266920" y="5618160"/>
          <a:ext cx="4127400" cy="60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6920" y="5618160"/>
                    <a:ext cx="41274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9" name="" descr=""/>
          <p:cNvPicPr/>
          <p:nvPr/>
        </p:nvPicPr>
        <p:blipFill>
          <a:blip r:embed="rId8"/>
          <a:stretch/>
        </p:blipFill>
        <p:spPr>
          <a:xfrm>
            <a:off x="8026560" y="2076480"/>
            <a:ext cx="371160" cy="942840"/>
          </a:xfrm>
          <a:prstGeom prst="rect">
            <a:avLst/>
          </a:prstGeom>
          <a:ln w="0">
            <a:noFill/>
          </a:ln>
        </p:spPr>
      </p:pic>
      <p:sp>
        <p:nvSpPr>
          <p:cNvPr id="1900" name=""/>
          <p:cNvSpPr/>
          <p:nvPr/>
        </p:nvSpPr>
        <p:spPr>
          <a:xfrm>
            <a:off x="1063800" y="3720960"/>
            <a:ext cx="7812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解：这是三重贝努利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8AE36-4C6A-4222-A1C4-18BEF57C3BB6}" type="slidenum">
              <a:t>59</a:t>
            </a:fld>
          </a:p>
        </p:txBody>
      </p:sp>
    </p:spTree>
  </p:cSld>
  <p:transition spd="med">
    <p:diamond/>
  </p:transition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2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2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2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2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698040" y="800280"/>
            <a:ext cx="74437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第十章  随机过程及其统计描述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507320" indent="-344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0.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随机过程的概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07320" indent="-344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0.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随机过程的统计描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07320" indent="-344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0.3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泊松过程及维纳过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073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第十一章  马尔可夫链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507320" indent="-344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1.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马尔可夫过程及其概率分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07320" indent="-344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1.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多步转移概率的确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07320" indent="-344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1.3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遍历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675"/>
              </a:spcBef>
              <a:buClr>
                <a:srgbClr val="ff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第十二章  平稳随机过程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3" marL="1507320" indent="-344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2.1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平稳随机过程的概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07320" indent="-344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2.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各态历经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07320" indent="-344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2.3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关函数的性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07320" indent="-34452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2.4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平稳过程的功率谱密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7D74B-FB4B-4842-A2FE-795871A3104D}" type="slidenum">
              <a:t>6</a:t>
            </a:fld>
          </a:p>
        </p:txBody>
      </p:sp>
    </p:spTree>
  </p:cSld>
  <p:transition>
    <p:cover dir="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/>
          </p:nvPr>
        </p:nvSpPr>
        <p:spPr>
          <a:xfrm>
            <a:off x="907920" y="457200"/>
            <a:ext cx="804096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例：某人独立射击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n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次，设每次命中率为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p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，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0&lt;p&lt;1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，设命中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次，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(1)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求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的概率分布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律；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(2)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求至少有一次命中的概率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1902" name=""/>
          <p:cNvGraphicFramePr/>
          <p:nvPr/>
        </p:nvGraphicFramePr>
        <p:xfrm>
          <a:off x="5537160" y="1979640"/>
          <a:ext cx="2257560" cy="49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37160" y="1979640"/>
                    <a:ext cx="22575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4" name=""/>
          <p:cNvGraphicFramePr/>
          <p:nvPr/>
        </p:nvGraphicFramePr>
        <p:xfrm>
          <a:off x="1952640" y="2536920"/>
          <a:ext cx="6245280" cy="57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2640" y="2536920"/>
                    <a:ext cx="6245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6" name=""/>
          <p:cNvGraphicFramePr/>
          <p:nvPr/>
        </p:nvGraphicFramePr>
        <p:xfrm>
          <a:off x="1908000" y="3149640"/>
          <a:ext cx="5604120" cy="56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8000" y="3149640"/>
                    <a:ext cx="56041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"/>
          <p:cNvGraphicFramePr/>
          <p:nvPr/>
        </p:nvGraphicFramePr>
        <p:xfrm>
          <a:off x="3181320" y="3986280"/>
          <a:ext cx="2440080" cy="628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81320" y="3986280"/>
                    <a:ext cx="24400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0" name=""/>
          <p:cNvSpPr/>
          <p:nvPr/>
        </p:nvSpPr>
        <p:spPr>
          <a:xfrm>
            <a:off x="557280" y="5099040"/>
            <a:ext cx="371520" cy="263520"/>
          </a:xfrm>
          <a:custGeom>
            <a:avLst/>
            <a:gdLst>
              <a:gd name="textAreaLeft" fmla="*/ 92880 w 371520"/>
              <a:gd name="textAreaRight" fmla="*/ 278640 w 371520"/>
              <a:gd name="textAreaTop" fmla="*/ 0 h 263520"/>
              <a:gd name="textAreaBottom" fmla="*/ 230760 h 2635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1" name="" descr=""/>
          <p:cNvPicPr/>
          <p:nvPr/>
        </p:nvPicPr>
        <p:blipFill>
          <a:blip r:embed="rId10"/>
          <a:stretch/>
        </p:blipFill>
        <p:spPr>
          <a:xfrm>
            <a:off x="677880" y="1252440"/>
            <a:ext cx="755640" cy="647640"/>
          </a:xfrm>
          <a:prstGeom prst="rect">
            <a:avLst/>
          </a:prstGeom>
          <a:ln w="0">
            <a:noFill/>
          </a:ln>
        </p:spPr>
      </p:pic>
      <p:sp>
        <p:nvSpPr>
          <p:cNvPr id="1912" name=""/>
          <p:cNvSpPr/>
          <p:nvPr/>
        </p:nvSpPr>
        <p:spPr>
          <a:xfrm>
            <a:off x="1060560" y="1935000"/>
            <a:ext cx="804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解：这是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n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重贝努利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1060560" y="3949560"/>
            <a:ext cx="80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同时可知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60560" y="5032440"/>
            <a:ext cx="8040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上式的意义为：若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较小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p≠0,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只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充分大，至少有一次命中的概率很大。即“小概率事件”在大量试验中“至少有一次发生”几乎是必然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6B955-BB80-4963-8914-B21D2ACCCEF3}" type="slidenum">
              <a:t>60</a:t>
            </a:fld>
          </a:p>
        </p:txBody>
      </p:sp>
    </p:spTree>
  </p:cSld>
  <p:transition spd="med">
    <p:diamond/>
  </p:transition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2000"/>
                                        <p:tgtEl>
                                          <p:spTgt spid="1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2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20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7" dur="20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2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6715080" y="3259080"/>
            <a:ext cx="2428920" cy="1154160"/>
          </a:xfrm>
          <a:prstGeom prst="rect">
            <a:avLst/>
          </a:prstGeom>
          <a:noFill/>
          <a:ln w="31680">
            <a:solidFill>
              <a:srgbClr val="00808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/>
          </p:nvPr>
        </p:nvSpPr>
        <p:spPr>
          <a:xfrm>
            <a:off x="742680" y="306360"/>
            <a:ext cx="8421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例：有一大批产品，其验收方案如下：先作第一次检验，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从中任取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10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件，经检验无次品接受这批产品，次品数大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于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拒收；否则作第二次检验，从中任取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件，仅当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件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中无次品便接受这批产品，设产品的次品率为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p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．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求这批产品能被接受的概率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L(p)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．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1917" name=""/>
          <p:cNvGraphicFramePr/>
          <p:nvPr/>
        </p:nvGraphicFramePr>
        <p:xfrm>
          <a:off x="985680" y="4338720"/>
          <a:ext cx="965520" cy="41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4338720"/>
                    <a:ext cx="9655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"/>
          <p:cNvSpPr/>
          <p:nvPr/>
        </p:nvSpPr>
        <p:spPr>
          <a:xfrm flipV="1">
            <a:off x="206280" y="5052240"/>
            <a:ext cx="1663920" cy="825480"/>
          </a:xfrm>
          <a:prstGeom prst="wedgeEllipseCallout">
            <a:avLst>
              <a:gd name="adj1" fmla="val 12018"/>
              <a:gd name="adj2" fmla="val 7980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228600" indent="-228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L(P)=P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2" name=""/>
          <p:cNvGraphicFramePr/>
          <p:nvPr/>
        </p:nvGraphicFramePr>
        <p:xfrm>
          <a:off x="6718320" y="3343320"/>
          <a:ext cx="2174760" cy="10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18320" y="3343320"/>
                    <a:ext cx="21747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4" name=""/>
          <p:cNvSpPr/>
          <p:nvPr/>
        </p:nvSpPr>
        <p:spPr>
          <a:xfrm>
            <a:off x="7401240" y="3570840"/>
            <a:ext cx="768960" cy="1070280"/>
          </a:xfrm>
          <a:prstGeom prst="line">
            <a:avLst/>
          </a:prstGeom>
          <a:ln w="3168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1881360" y="4330800"/>
          <a:ext cx="2947680" cy="417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81360" y="4330800"/>
                    <a:ext cx="29476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7" name=""/>
          <p:cNvGraphicFramePr/>
          <p:nvPr/>
        </p:nvGraphicFramePr>
        <p:xfrm>
          <a:off x="4809960" y="4338720"/>
          <a:ext cx="3965760" cy="417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4338720"/>
                    <a:ext cx="39657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9" name=""/>
          <p:cNvGraphicFramePr/>
          <p:nvPr/>
        </p:nvGraphicFramePr>
        <p:xfrm>
          <a:off x="2338560" y="4889520"/>
          <a:ext cx="3155760" cy="417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38560" y="4889520"/>
                    <a:ext cx="31557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1" name=""/>
          <p:cNvGraphicFramePr/>
          <p:nvPr/>
        </p:nvGraphicFramePr>
        <p:xfrm>
          <a:off x="1733400" y="5291280"/>
          <a:ext cx="6102360" cy="469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3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33400" y="5291280"/>
                    <a:ext cx="61023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3" name=""/>
          <p:cNvSpPr/>
          <p:nvPr/>
        </p:nvSpPr>
        <p:spPr>
          <a:xfrm>
            <a:off x="722160" y="2287440"/>
            <a:ext cx="842184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设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为第一次抽得的次品数，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为第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次抽得的次品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则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b(10,p)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～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b(5,p)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且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{X=i}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与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{Y=j}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独立。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A={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接受该批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}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10236-3437-4D1D-B655-EC1AC6701FFC}" type="slidenum">
              <a:t>61</a:t>
            </a:fld>
          </a:p>
        </p:txBody>
      </p:sp>
    </p:spTree>
  </p:cSld>
  <p:transition spd="med">
    <p:diamond/>
  </p:transition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2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2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2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7" dur="2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2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2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2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2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2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77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5" dur="770" fill="hold"/>
                                        <p:tgtEl>
                                          <p:spTgt spid="19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7" dur="77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9" dur="77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5" dur="20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2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/>
          </p:nvPr>
        </p:nvSpPr>
        <p:spPr>
          <a:xfrm>
            <a:off x="506520" y="340920"/>
            <a:ext cx="819792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7760" indent="-285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泊松分布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(Poisson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分布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若随机变量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的概率分布律为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称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服从参数为</a:t>
            </a:r>
            <a:r>
              <a:rPr b="0" lang="el-GR" sz="2800" spc="-1" strike="noStrike">
                <a:solidFill>
                  <a:srgbClr val="5e5d2f"/>
                </a:solidFill>
                <a:latin typeface="宋体"/>
                <a:ea typeface="宋体"/>
              </a:rPr>
              <a:t>λ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泊松分布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，记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1935" name=""/>
          <p:cNvGraphicFramePr/>
          <p:nvPr/>
        </p:nvGraphicFramePr>
        <p:xfrm>
          <a:off x="1057320" y="1378080"/>
          <a:ext cx="471024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7320" y="1378080"/>
                    <a:ext cx="47102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7" name=""/>
          <p:cNvGraphicFramePr/>
          <p:nvPr/>
        </p:nvGraphicFramePr>
        <p:xfrm>
          <a:off x="5800680" y="2276640"/>
          <a:ext cx="136836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0680" y="2276640"/>
                    <a:ext cx="1368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9" name=""/>
          <p:cNvGraphicFramePr/>
          <p:nvPr/>
        </p:nvGraphicFramePr>
        <p:xfrm>
          <a:off x="1650960" y="4467240"/>
          <a:ext cx="41036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50960" y="4467240"/>
                    <a:ext cx="41036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1" name=""/>
          <p:cNvGraphicFramePr/>
          <p:nvPr/>
        </p:nvGraphicFramePr>
        <p:xfrm>
          <a:off x="1177920" y="5264280"/>
          <a:ext cx="736272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77920" y="5264280"/>
                    <a:ext cx="7362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3" name=""/>
          <p:cNvGraphicFramePr/>
          <p:nvPr/>
        </p:nvGraphicFramePr>
        <p:xfrm>
          <a:off x="1106640" y="5800680"/>
          <a:ext cx="5368680" cy="8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6640" y="5800680"/>
                    <a:ext cx="53686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5" name=""/>
          <p:cNvGraphicFramePr/>
          <p:nvPr/>
        </p:nvGraphicFramePr>
        <p:xfrm>
          <a:off x="4917960" y="3208320"/>
          <a:ext cx="2190960" cy="39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17960" y="3208320"/>
                    <a:ext cx="21909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7" name="" descr=""/>
          <p:cNvPicPr/>
          <p:nvPr/>
        </p:nvPicPr>
        <p:blipFill>
          <a:blip r:embed="rId13"/>
          <a:stretch/>
        </p:blipFill>
        <p:spPr>
          <a:xfrm>
            <a:off x="7139160" y="107460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948" name=""/>
          <p:cNvSpPr/>
          <p:nvPr/>
        </p:nvSpPr>
        <p:spPr>
          <a:xfrm>
            <a:off x="658800" y="3181320"/>
            <a:ext cx="81979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例：设某汽车停靠站候车人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(1)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求至少有两人候车的概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(2)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已知至少有两人候车，求恰有两人候车的概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59BA8-0C26-48E0-86BC-0F2D36EC717A}" type="slidenum">
              <a:t>62</a:t>
            </a:fld>
          </a:p>
        </p:txBody>
      </p:sp>
    </p:spTree>
  </p:cSld>
  <p:transition spd="med">
    <p:diamond/>
  </p:transition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7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7" dur="20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9" name=""/>
          <p:cNvGraphicFramePr/>
          <p:nvPr/>
        </p:nvGraphicFramePr>
        <p:xfrm>
          <a:off x="1135080" y="1309680"/>
          <a:ext cx="655488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5080" y="1309680"/>
                    <a:ext cx="655488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1" name=""/>
          <p:cNvSpPr/>
          <p:nvPr/>
        </p:nvSpPr>
        <p:spPr>
          <a:xfrm>
            <a:off x="1593720" y="2133720"/>
            <a:ext cx="6207120" cy="16858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D8F85-521B-494A-8D26-0C102E4586D3}" type="slidenum">
              <a:t>63</a:t>
            </a:fld>
          </a:p>
        </p:txBody>
      </p:sp>
    </p:spTree>
  </p:cSld>
  <p:transition spd="med">
    <p:diamond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/>
          </p:nvPr>
        </p:nvSpPr>
        <p:spPr>
          <a:xfrm>
            <a:off x="844560" y="252360"/>
            <a:ext cx="7832880" cy="63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e5d2f"/>
                </a:solidFill>
                <a:latin typeface="宋体"/>
                <a:ea typeface="宋体"/>
              </a:rPr>
              <a:t>§3 </a:t>
            </a:r>
            <a:r>
              <a:rPr b="0" lang="zh-CN" sz="4000" spc="-1" strike="noStrike">
                <a:solidFill>
                  <a:srgbClr val="5e5d2f"/>
                </a:solidFill>
                <a:latin typeface="宋体"/>
                <a:ea typeface="宋体"/>
              </a:rPr>
              <a:t>随机变量的分布函数</a:t>
            </a:r>
            <a:endParaRPr b="0" lang="en-US" sz="40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1953" name=""/>
          <p:cNvGraphicFramePr/>
          <p:nvPr/>
        </p:nvGraphicFramePr>
        <p:xfrm>
          <a:off x="884160" y="1030320"/>
          <a:ext cx="657540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30320"/>
                    <a:ext cx="65754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5" name=""/>
          <p:cNvGraphicFramePr/>
          <p:nvPr/>
        </p:nvGraphicFramePr>
        <p:xfrm>
          <a:off x="922320" y="1514520"/>
          <a:ext cx="789948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2320" y="1514520"/>
                    <a:ext cx="78994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7" name=""/>
          <p:cNvGraphicFramePr/>
          <p:nvPr/>
        </p:nvGraphicFramePr>
        <p:xfrm>
          <a:off x="2490840" y="5962680"/>
          <a:ext cx="4505400" cy="43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0840" y="5962680"/>
                    <a:ext cx="450540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9" name=""/>
          <p:cNvGraphicFramePr/>
          <p:nvPr/>
        </p:nvGraphicFramePr>
        <p:xfrm>
          <a:off x="754200" y="2835360"/>
          <a:ext cx="24127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200" y="2835360"/>
                    <a:ext cx="2412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1" name="Litebulb"/>
          <p:cNvSpPr/>
          <p:nvPr/>
        </p:nvSpPr>
        <p:spPr>
          <a:xfrm>
            <a:off x="720720" y="1587600"/>
            <a:ext cx="184320" cy="26028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2" name=""/>
          <p:cNvGraphicFramePr/>
          <p:nvPr/>
        </p:nvGraphicFramePr>
        <p:xfrm>
          <a:off x="2147760" y="4915080"/>
          <a:ext cx="1791000" cy="37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7760" y="4915080"/>
                    <a:ext cx="17910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4" name=""/>
          <p:cNvGrpSpPr/>
          <p:nvPr/>
        </p:nvGrpSpPr>
        <p:grpSpPr>
          <a:xfrm>
            <a:off x="2103480" y="2693880"/>
            <a:ext cx="4618080" cy="1650960"/>
            <a:chOff x="2103480" y="2693880"/>
            <a:chExt cx="4618080" cy="1650960"/>
          </a:xfrm>
        </p:grpSpPr>
        <p:sp>
          <p:nvSpPr>
            <p:cNvPr id="1965" name=""/>
            <p:cNvSpPr/>
            <p:nvPr/>
          </p:nvSpPr>
          <p:spPr>
            <a:xfrm>
              <a:off x="3343320" y="2936880"/>
              <a:ext cx="712800" cy="976320"/>
            </a:xfrm>
            <a:custGeom>
              <a:avLst/>
              <a:gdLst/>
              <a:ahLst/>
              <a:rect l="l" t="t" r="r" b="b"/>
              <a:pathLst>
                <a:path w="449" h="615">
                  <a:moveTo>
                    <a:pt x="449" y="0"/>
                  </a:moveTo>
                  <a:cubicBezTo>
                    <a:pt x="364" y="42"/>
                    <a:pt x="280" y="84"/>
                    <a:pt x="205" y="186"/>
                  </a:cubicBezTo>
                  <a:cubicBezTo>
                    <a:pt x="130" y="288"/>
                    <a:pt x="23" y="519"/>
                    <a:pt x="0" y="615"/>
                  </a:cubicBezTo>
                </a:path>
              </a:pathLst>
            </a:custGeom>
            <a:noFill/>
            <a:ln w="2556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6" name=""/>
            <p:cNvGraphicFramePr/>
            <p:nvPr/>
          </p:nvGraphicFramePr>
          <p:xfrm>
            <a:off x="4438800" y="3959280"/>
            <a:ext cx="350640" cy="385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38800" y="3959280"/>
                      <a:ext cx="35064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68" name=""/>
            <p:cNvGrpSpPr/>
            <p:nvPr/>
          </p:nvGrpSpPr>
          <p:grpSpPr>
            <a:xfrm>
              <a:off x="2103480" y="3520800"/>
              <a:ext cx="4618080" cy="443520"/>
              <a:chOff x="2103480" y="3520800"/>
              <a:chExt cx="4618080" cy="443520"/>
            </a:xfrm>
          </p:grpSpPr>
          <p:sp>
            <p:nvSpPr>
              <p:cNvPr id="1969" name=""/>
              <p:cNvSpPr/>
              <p:nvPr/>
            </p:nvSpPr>
            <p:spPr>
              <a:xfrm>
                <a:off x="2103480" y="3948120"/>
                <a:ext cx="461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0" name=""/>
              <p:cNvGrpSpPr/>
              <p:nvPr/>
            </p:nvGrpSpPr>
            <p:grpSpPr>
              <a:xfrm>
                <a:off x="2268000" y="3520800"/>
                <a:ext cx="2359800" cy="443520"/>
                <a:chOff x="2268000" y="3520800"/>
                <a:chExt cx="2359800" cy="443520"/>
              </a:xfrm>
            </p:grpSpPr>
            <p:sp>
              <p:nvSpPr>
                <p:cNvPr id="1971" name=""/>
                <p:cNvSpPr/>
                <p:nvPr/>
              </p:nvSpPr>
              <p:spPr>
                <a:xfrm>
                  <a:off x="2333880" y="3544920"/>
                  <a:ext cx="229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616640" y="3556080"/>
                  <a:ext cx="0" cy="37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2268000" y="3528720"/>
                  <a:ext cx="254520" cy="41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 flipH="1">
                  <a:off x="2545920" y="3526920"/>
                  <a:ext cx="254880" cy="41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flipH="1">
                  <a:off x="3443040" y="3524040"/>
                  <a:ext cx="254880" cy="41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3752640" y="3538080"/>
                  <a:ext cx="254880" cy="41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 flipH="1">
                  <a:off x="4060440" y="3536640"/>
                  <a:ext cx="254880" cy="41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 flipH="1">
                  <a:off x="4336560" y="3552480"/>
                  <a:ext cx="254520" cy="41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3147480" y="3524040"/>
                  <a:ext cx="254520" cy="41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 flipH="1">
                  <a:off x="2850840" y="3520800"/>
                  <a:ext cx="254880" cy="41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1981" name=""/>
            <p:cNvGraphicFramePr/>
            <p:nvPr/>
          </p:nvGraphicFramePr>
          <p:xfrm>
            <a:off x="4006800" y="2693880"/>
            <a:ext cx="442800" cy="409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8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06800" y="2693880"/>
                      <a:ext cx="44280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83" name=""/>
          <p:cNvGraphicFramePr/>
          <p:nvPr/>
        </p:nvGraphicFramePr>
        <p:xfrm>
          <a:off x="809640" y="4314960"/>
          <a:ext cx="177012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09640" y="4314960"/>
                    <a:ext cx="177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5" name=""/>
          <p:cNvGraphicFramePr/>
          <p:nvPr/>
        </p:nvGraphicFramePr>
        <p:xfrm>
          <a:off x="2097000" y="5408640"/>
          <a:ext cx="5276880" cy="40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97000" y="5408640"/>
                    <a:ext cx="52768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5B180-E278-4307-A89B-1A32FDDF8435}" type="slidenum">
              <a:t>64</a:t>
            </a:fld>
          </a:p>
        </p:txBody>
      </p:sp>
    </p:spTree>
  </p:cSld>
  <p:transition spd="med">
    <p:diamond/>
  </p:transition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0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3" dur="2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2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3" dur="2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8" dur="2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/>
          </p:nvPr>
        </p:nvSpPr>
        <p:spPr>
          <a:xfrm>
            <a:off x="1023480" y="441360"/>
            <a:ext cx="7704360" cy="58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例：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解：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1988" name=""/>
          <p:cNvGraphicFramePr/>
          <p:nvPr/>
        </p:nvGraphicFramePr>
        <p:xfrm>
          <a:off x="1593720" y="2465280"/>
          <a:ext cx="4337280" cy="14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3720" y="2465280"/>
                    <a:ext cx="433728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0" name=""/>
          <p:cNvGrpSpPr/>
          <p:nvPr/>
        </p:nvGrpSpPr>
        <p:grpSpPr>
          <a:xfrm>
            <a:off x="2117880" y="314280"/>
            <a:ext cx="2268360" cy="853560"/>
            <a:chOff x="2117880" y="314280"/>
            <a:chExt cx="2268360" cy="853560"/>
          </a:xfrm>
        </p:grpSpPr>
        <p:sp>
          <p:nvSpPr>
            <p:cNvPr id="1991" name=""/>
            <p:cNvSpPr/>
            <p:nvPr/>
          </p:nvSpPr>
          <p:spPr>
            <a:xfrm>
              <a:off x="2121120" y="6904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宋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2" name=""/>
            <p:cNvGrpSpPr/>
            <p:nvPr/>
          </p:nvGrpSpPr>
          <p:grpSpPr>
            <a:xfrm>
              <a:off x="2117880" y="314280"/>
              <a:ext cx="2268360" cy="853560"/>
              <a:chOff x="2117880" y="314280"/>
              <a:chExt cx="2268360" cy="853560"/>
            </a:xfrm>
          </p:grpSpPr>
          <p:sp>
            <p:nvSpPr>
              <p:cNvPr id="1993" name=""/>
              <p:cNvSpPr/>
              <p:nvPr/>
            </p:nvSpPr>
            <p:spPr>
              <a:xfrm>
                <a:off x="2386080" y="798480"/>
                <a:ext cx="200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759040" y="407880"/>
                <a:ext cx="0" cy="74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"/>
              <p:cNvGrpSpPr/>
              <p:nvPr/>
            </p:nvGrpSpPr>
            <p:grpSpPr>
              <a:xfrm>
                <a:off x="2117880" y="314280"/>
                <a:ext cx="2239920" cy="853560"/>
                <a:chOff x="2117880" y="314280"/>
                <a:chExt cx="2239920" cy="85356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2117880" y="314280"/>
                  <a:ext cx="816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28600" indent="-2286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66"/>
                      </a:solidFill>
                      <a:latin typeface="宋体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848680" y="326880"/>
                  <a:ext cx="81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28600" indent="-2286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66"/>
                      </a:solidFill>
                      <a:latin typeface="宋体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531240" y="324000"/>
                  <a:ext cx="81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28600" indent="-2286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66"/>
                      </a:solidFill>
                      <a:latin typeface="宋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2856240" y="708120"/>
                  <a:ext cx="825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28600" indent="-2286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66"/>
                      </a:solidFill>
                      <a:latin typeface="宋体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532320" y="706320"/>
                  <a:ext cx="825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28600" indent="-2286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66"/>
                      </a:solidFill>
                      <a:latin typeface="宋体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001" name=""/>
          <p:cNvGraphicFramePr/>
          <p:nvPr/>
        </p:nvGraphicFramePr>
        <p:xfrm>
          <a:off x="1544760" y="4367160"/>
          <a:ext cx="1768320" cy="42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4760" y="4367160"/>
                    <a:ext cx="17683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3" name=""/>
          <p:cNvGraphicFramePr/>
          <p:nvPr/>
        </p:nvGraphicFramePr>
        <p:xfrm>
          <a:off x="1471680" y="5537160"/>
          <a:ext cx="5600520" cy="43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1680" y="5537160"/>
                    <a:ext cx="560052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5" name=""/>
          <p:cNvGraphicFramePr/>
          <p:nvPr/>
        </p:nvGraphicFramePr>
        <p:xfrm>
          <a:off x="2135160" y="1332000"/>
          <a:ext cx="5997600" cy="54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5160" y="1332000"/>
                    <a:ext cx="59976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7" name=""/>
          <p:cNvGrpSpPr/>
          <p:nvPr/>
        </p:nvGrpSpPr>
        <p:grpSpPr>
          <a:xfrm>
            <a:off x="5724360" y="3139920"/>
            <a:ext cx="2981520" cy="2276280"/>
            <a:chOff x="5724360" y="3139920"/>
            <a:chExt cx="2981520" cy="2276280"/>
          </a:xfrm>
        </p:grpSpPr>
        <p:grpSp>
          <p:nvGrpSpPr>
            <p:cNvPr id="2008" name=""/>
            <p:cNvGrpSpPr/>
            <p:nvPr/>
          </p:nvGrpSpPr>
          <p:grpSpPr>
            <a:xfrm>
              <a:off x="6138720" y="4016160"/>
              <a:ext cx="1942920" cy="1326240"/>
              <a:chOff x="6138720" y="4016160"/>
              <a:chExt cx="1942920" cy="1326240"/>
            </a:xfrm>
          </p:grpSpPr>
          <p:sp>
            <p:nvSpPr>
              <p:cNvPr id="2009" name=""/>
              <p:cNvSpPr/>
              <p:nvPr/>
            </p:nvSpPr>
            <p:spPr>
              <a:xfrm flipH="1">
                <a:off x="6696000" y="4168800"/>
                <a:ext cx="4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7710480" y="4944960"/>
                <a:ext cx="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6170760" y="4943520"/>
                <a:ext cx="77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317360" y="4964040"/>
                <a:ext cx="76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6138720" y="4429080"/>
                <a:ext cx="779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6147360" y="4016160"/>
                <a:ext cx="76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5" name=""/>
            <p:cNvGrpSpPr/>
            <p:nvPr/>
          </p:nvGrpSpPr>
          <p:grpSpPr>
            <a:xfrm>
              <a:off x="5724360" y="3139920"/>
              <a:ext cx="2981520" cy="2276280"/>
              <a:chOff x="5724360" y="3139920"/>
              <a:chExt cx="2981520" cy="2276280"/>
            </a:xfrm>
          </p:grpSpPr>
          <p:sp>
            <p:nvSpPr>
              <p:cNvPr id="2016" name=""/>
              <p:cNvSpPr/>
              <p:nvPr/>
            </p:nvSpPr>
            <p:spPr>
              <a:xfrm>
                <a:off x="6645240" y="4929120"/>
                <a:ext cx="88920" cy="88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773680" y="4981320"/>
                <a:ext cx="283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6670800" y="3399840"/>
                <a:ext cx="1584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686640" y="4613040"/>
                <a:ext cx="976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709040" y="4130640"/>
                <a:ext cx="976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724360" y="4967280"/>
                <a:ext cx="976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667640" y="4586040"/>
                <a:ext cx="88920" cy="88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023" name=""/>
              <p:cNvGraphicFramePr/>
              <p:nvPr/>
            </p:nvGraphicFramePr>
            <p:xfrm>
              <a:off x="8439120" y="5037120"/>
              <a:ext cx="266760" cy="29376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024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8439120" y="5037120"/>
                        <a:ext cx="266760" cy="2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25" name=""/>
              <p:cNvGraphicFramePr/>
              <p:nvPr/>
            </p:nvGraphicFramePr>
            <p:xfrm>
              <a:off x="6707160" y="3139920"/>
              <a:ext cx="800280" cy="5335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2026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6707160" y="3139920"/>
                        <a:ext cx="800280" cy="53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885E4-CC5F-4944-B227-CC859A8BCA6E}" type="slidenum">
              <a:t>65</a:t>
            </a:fld>
          </a:p>
        </p:txBody>
      </p:sp>
    </p:spTree>
  </p:cSld>
  <p:transition spd="med">
    <p:diamond/>
  </p:transition>
  <p:timing>
    <p:tnLst>
      <p:par>
        <p:cTn id="1879" dur="indefinite" restart="never" nodeType="tmRoot">
          <p:childTnLst>
            <p:seq>
              <p:cTn id="1880" dur="indefinite" nodeType="mainSeq">
                <p:childTnLst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5" dur="2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2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2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0" dur="2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2438280" y="2727360"/>
            <a:ext cx="3081600" cy="914400"/>
          </a:xfrm>
          <a:prstGeom prst="rect">
            <a:avLst/>
          </a:prstGeom>
          <a:solidFill>
            <a:srgbClr val="ff99cc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16120" y="3492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e5c00"/>
                </a:solidFill>
                <a:latin typeface="宋体"/>
                <a:ea typeface="宋体"/>
              </a:rPr>
              <a:t>§4 </a:t>
            </a:r>
            <a:r>
              <a:rPr b="0" lang="zh-CN" sz="3600" spc="-1" strike="noStrike">
                <a:solidFill>
                  <a:srgbClr val="2e5c00"/>
                </a:solidFill>
                <a:latin typeface="宋体"/>
                <a:ea typeface="宋体"/>
              </a:rPr>
              <a:t>连续型随机变量及其</a:t>
            </a:r>
            <a:r>
              <a:rPr b="0" lang="zh-CN" sz="3600" spc="-1" strike="noStrike">
                <a:solidFill>
                  <a:srgbClr val="2e5c00"/>
                </a:solidFill>
                <a:latin typeface="Times New Roman"/>
                <a:ea typeface="宋体"/>
              </a:rPr>
              <a:t>概率密度</a:t>
            </a:r>
            <a:endParaRPr b="0" lang="en-US" sz="3600" spc="-1" strike="noStrike">
              <a:solidFill>
                <a:srgbClr val="2e5c00"/>
              </a:solidFill>
              <a:latin typeface="-쉬리B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57000" y="1630440"/>
            <a:ext cx="78483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定义： 对于随机变量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的分布函数      若存在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非负的函数     使对于任意实数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 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有：                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030" name=""/>
          <p:cNvGraphicFramePr/>
          <p:nvPr/>
        </p:nvGraphicFramePr>
        <p:xfrm>
          <a:off x="3795840" y="2168640"/>
          <a:ext cx="733320" cy="39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5840" y="2168640"/>
                    <a:ext cx="7333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2" name=""/>
          <p:cNvGraphicFramePr/>
          <p:nvPr/>
        </p:nvGraphicFramePr>
        <p:xfrm>
          <a:off x="2610000" y="2793960"/>
          <a:ext cx="240984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0000" y="2793960"/>
                    <a:ext cx="24098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4" name=""/>
          <p:cNvGraphicFramePr/>
          <p:nvPr/>
        </p:nvGraphicFramePr>
        <p:xfrm>
          <a:off x="6114960" y="1717560"/>
          <a:ext cx="871560" cy="46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4960" y="1717560"/>
                    <a:ext cx="8715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6" name="Litebulb"/>
          <p:cNvSpPr/>
          <p:nvPr/>
        </p:nvSpPr>
        <p:spPr>
          <a:xfrm>
            <a:off x="561960" y="1746360"/>
            <a:ext cx="184320" cy="26028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7" name=""/>
          <p:cNvGraphicFramePr/>
          <p:nvPr/>
        </p:nvGraphicFramePr>
        <p:xfrm>
          <a:off x="7197840" y="2222640"/>
          <a:ext cx="37764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97840" y="2222640"/>
                    <a:ext cx="3776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9" name=""/>
          <p:cNvGrpSpPr/>
          <p:nvPr/>
        </p:nvGrpSpPr>
        <p:grpSpPr>
          <a:xfrm>
            <a:off x="2335320" y="4159080"/>
            <a:ext cx="5848920" cy="520560"/>
            <a:chOff x="2335320" y="4159080"/>
            <a:chExt cx="5848920" cy="520560"/>
          </a:xfrm>
        </p:grpSpPr>
        <p:graphicFrame>
          <p:nvGraphicFramePr>
            <p:cNvPr id="2040" name=""/>
            <p:cNvGraphicFramePr/>
            <p:nvPr/>
          </p:nvGraphicFramePr>
          <p:xfrm>
            <a:off x="2335320" y="4238640"/>
            <a:ext cx="733320" cy="434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4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35320" y="4238640"/>
                      <a:ext cx="73332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2" name=""/>
            <p:cNvSpPr/>
            <p:nvPr/>
          </p:nvSpPr>
          <p:spPr>
            <a:xfrm>
              <a:off x="2740680" y="4159080"/>
              <a:ext cx="544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e5d2f"/>
                  </a:solidFill>
                  <a:latin typeface="宋体"/>
                </a:rPr>
                <a:t>其中    称为</a:t>
              </a:r>
              <a:r>
                <a:rPr b="0" lang="zh-CN" sz="2800" spc="-1" strike="noStrike">
                  <a:solidFill>
                    <a:srgbClr val="5e5d2f"/>
                  </a:solidFill>
                  <a:latin typeface="宋体"/>
                </a:rPr>
                <a:t>X</a:t>
              </a:r>
              <a:r>
                <a:rPr b="0" lang="zh-CN" sz="2800" spc="-1" strike="noStrike">
                  <a:solidFill>
                    <a:srgbClr val="5e5d2f"/>
                  </a:solidFill>
                  <a:latin typeface="宋体"/>
                </a:rPr>
                <a:t>的概率密度函数，简称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概率密度</a:t>
              </a:r>
              <a:r>
                <a:rPr b="0" lang="zh-CN" sz="2800" spc="-1" strike="noStrike">
                  <a:solidFill>
                    <a:srgbClr val="5e5d2f"/>
                  </a:solidFill>
                  <a:latin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3" name=""/>
          <p:cNvSpPr/>
          <p:nvPr/>
        </p:nvSpPr>
        <p:spPr>
          <a:xfrm>
            <a:off x="809640" y="3649680"/>
            <a:ext cx="78487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则称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为连续型随机变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7E7E1-DC38-42BA-BCD7-EA62494AF7F5}" type="slidenum">
              <a:t>66</a:t>
            </a:fld>
          </a:p>
        </p:txBody>
      </p:sp>
    </p:spTree>
  </p:cSld>
  <p:transition spd="med">
    <p:diamond/>
  </p:transition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0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6" dur="2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2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77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6" dur="770" fill="hold"/>
                                        <p:tgtEl>
                                          <p:spTgt spid="20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8" dur="77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0" dur="77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2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/>
          </p:nvPr>
        </p:nvSpPr>
        <p:spPr>
          <a:xfrm>
            <a:off x="457200" y="5105520"/>
            <a:ext cx="83073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-쉬리M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-쉬리M"/>
                <a:ea typeface="宋体"/>
              </a:rPr>
              <a:t>与物理学中的质量线密度的定义相类似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045" name=""/>
          <p:cNvGraphicFramePr/>
          <p:nvPr/>
        </p:nvGraphicFramePr>
        <p:xfrm>
          <a:off x="1370160" y="5527800"/>
          <a:ext cx="431460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5527800"/>
                    <a:ext cx="43146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7" name=""/>
          <p:cNvGraphicFramePr/>
          <p:nvPr/>
        </p:nvGraphicFramePr>
        <p:xfrm>
          <a:off x="698400" y="4322880"/>
          <a:ext cx="781524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0" y="4322880"/>
                    <a:ext cx="781524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9" name=""/>
          <p:cNvGraphicFramePr/>
          <p:nvPr/>
        </p:nvGraphicFramePr>
        <p:xfrm>
          <a:off x="1143000" y="333360"/>
          <a:ext cx="18255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33360"/>
                    <a:ext cx="18255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1" name=""/>
          <p:cNvGraphicFramePr/>
          <p:nvPr/>
        </p:nvGraphicFramePr>
        <p:xfrm>
          <a:off x="1020600" y="811080"/>
          <a:ext cx="151452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20600" y="811080"/>
                    <a:ext cx="15145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3" name=""/>
          <p:cNvGraphicFramePr/>
          <p:nvPr/>
        </p:nvGraphicFramePr>
        <p:xfrm>
          <a:off x="831960" y="1309680"/>
          <a:ext cx="224316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1960" y="1309680"/>
                    <a:ext cx="22431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5" name=""/>
          <p:cNvGraphicFramePr/>
          <p:nvPr/>
        </p:nvGraphicFramePr>
        <p:xfrm>
          <a:off x="722160" y="2109960"/>
          <a:ext cx="5878800" cy="124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2160" y="2109960"/>
                    <a:ext cx="587880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7" name=""/>
          <p:cNvGraphicFramePr/>
          <p:nvPr/>
        </p:nvGraphicFramePr>
        <p:xfrm>
          <a:off x="665280" y="3392640"/>
          <a:ext cx="4538520" cy="46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280" y="3392640"/>
                    <a:ext cx="45385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9" name=""/>
          <p:cNvGraphicFramePr/>
          <p:nvPr/>
        </p:nvGraphicFramePr>
        <p:xfrm>
          <a:off x="1243080" y="3897360"/>
          <a:ext cx="2619360" cy="47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43080" y="3897360"/>
                    <a:ext cx="2619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1" name=""/>
          <p:cNvGraphicFramePr/>
          <p:nvPr/>
        </p:nvGraphicFramePr>
        <p:xfrm>
          <a:off x="1495440" y="6056280"/>
          <a:ext cx="5286240" cy="459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95440" y="6056280"/>
                    <a:ext cx="528624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3" name=""/>
          <p:cNvSpPr/>
          <p:nvPr/>
        </p:nvSpPr>
        <p:spPr>
          <a:xfrm>
            <a:off x="4068720" y="1716120"/>
            <a:ext cx="317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5448240" y="298440"/>
            <a:ext cx="0" cy="188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4179960" y="743040"/>
            <a:ext cx="2798640" cy="685800"/>
          </a:xfrm>
          <a:custGeom>
            <a:avLst/>
            <a:gdLst/>
            <a:ahLst/>
            <a:rect l="l" t="t" r="r" b="b"/>
            <a:pathLst>
              <a:path w="1763" h="432">
                <a:moveTo>
                  <a:pt x="0" y="425"/>
                </a:moveTo>
                <a:cubicBezTo>
                  <a:pt x="195" y="428"/>
                  <a:pt x="390" y="432"/>
                  <a:pt x="541" y="367"/>
                </a:cubicBezTo>
                <a:cubicBezTo>
                  <a:pt x="692" y="302"/>
                  <a:pt x="803" y="74"/>
                  <a:pt x="905" y="37"/>
                </a:cubicBezTo>
                <a:cubicBezTo>
                  <a:pt x="1007" y="0"/>
                  <a:pt x="1054" y="131"/>
                  <a:pt x="1152" y="143"/>
                </a:cubicBezTo>
                <a:cubicBezTo>
                  <a:pt x="1250" y="155"/>
                  <a:pt x="1401" y="77"/>
                  <a:pt x="1493" y="108"/>
                </a:cubicBezTo>
                <a:cubicBezTo>
                  <a:pt x="1585" y="139"/>
                  <a:pt x="1660" y="284"/>
                  <a:pt x="1705" y="331"/>
                </a:cubicBezTo>
                <a:lnTo>
                  <a:pt x="1763" y="39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918040" y="3865680"/>
            <a:ext cx="317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7242120" y="2092320"/>
            <a:ext cx="0" cy="188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973840" y="2854440"/>
            <a:ext cx="2798640" cy="685800"/>
          </a:xfrm>
          <a:custGeom>
            <a:avLst/>
            <a:gdLst/>
            <a:ahLst/>
            <a:rect l="l" t="t" r="r" b="b"/>
            <a:pathLst>
              <a:path w="1763" h="432">
                <a:moveTo>
                  <a:pt x="0" y="425"/>
                </a:moveTo>
                <a:cubicBezTo>
                  <a:pt x="195" y="428"/>
                  <a:pt x="390" y="432"/>
                  <a:pt x="541" y="367"/>
                </a:cubicBezTo>
                <a:cubicBezTo>
                  <a:pt x="692" y="302"/>
                  <a:pt x="803" y="74"/>
                  <a:pt x="905" y="37"/>
                </a:cubicBezTo>
                <a:cubicBezTo>
                  <a:pt x="1007" y="0"/>
                  <a:pt x="1054" y="131"/>
                  <a:pt x="1152" y="143"/>
                </a:cubicBezTo>
                <a:cubicBezTo>
                  <a:pt x="1250" y="155"/>
                  <a:pt x="1401" y="77"/>
                  <a:pt x="1493" y="108"/>
                </a:cubicBezTo>
                <a:cubicBezTo>
                  <a:pt x="1585" y="139"/>
                  <a:pt x="1660" y="284"/>
                  <a:pt x="1705" y="331"/>
                </a:cubicBezTo>
                <a:lnTo>
                  <a:pt x="1763" y="39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9" name=""/>
          <p:cNvGraphicFramePr/>
          <p:nvPr/>
        </p:nvGraphicFramePr>
        <p:xfrm>
          <a:off x="6089760" y="452520"/>
          <a:ext cx="149688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89760" y="452520"/>
                    <a:ext cx="1496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1" name=""/>
          <p:cNvSpPr/>
          <p:nvPr/>
        </p:nvSpPr>
        <p:spPr>
          <a:xfrm flipH="1">
            <a:off x="4217760" y="1474920"/>
            <a:ext cx="298440" cy="20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4552560" y="1400040"/>
            <a:ext cx="485640" cy="29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5149800" y="1101600"/>
            <a:ext cx="411120" cy="5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 flipH="1">
            <a:off x="5560560" y="1044720"/>
            <a:ext cx="57780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5989680" y="1082520"/>
            <a:ext cx="598320" cy="57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6474960" y="1325520"/>
            <a:ext cx="336600" cy="29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7726320" y="3041640"/>
            <a:ext cx="0" cy="80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8267760" y="3022560"/>
            <a:ext cx="0" cy="83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7781760" y="3135240"/>
            <a:ext cx="317520" cy="29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7800480" y="3321000"/>
            <a:ext cx="37332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7912080" y="3564000"/>
            <a:ext cx="279360" cy="29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2" name=""/>
          <p:cNvGraphicFramePr/>
          <p:nvPr/>
        </p:nvGraphicFramePr>
        <p:xfrm>
          <a:off x="7575480" y="3760920"/>
          <a:ext cx="433440" cy="65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75480" y="3760920"/>
                    <a:ext cx="433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4" name=""/>
          <p:cNvGraphicFramePr/>
          <p:nvPr/>
        </p:nvGraphicFramePr>
        <p:xfrm>
          <a:off x="8120160" y="3765600"/>
          <a:ext cx="469800" cy="65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120160" y="3765600"/>
                    <a:ext cx="469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6" name=""/>
          <p:cNvSpPr/>
          <p:nvPr/>
        </p:nvSpPr>
        <p:spPr>
          <a:xfrm>
            <a:off x="3732120" y="522360"/>
            <a:ext cx="1270080" cy="504720"/>
          </a:xfrm>
          <a:prstGeom prst="wedgeEllipseCallout">
            <a:avLst>
              <a:gd name="adj1" fmla="val 56125"/>
              <a:gd name="adj2" fmla="val 140250"/>
            </a:avLst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7" name=""/>
          <p:cNvGraphicFramePr/>
          <p:nvPr/>
        </p:nvGraphicFramePr>
        <p:xfrm>
          <a:off x="3757680" y="546120"/>
          <a:ext cx="1198440" cy="446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8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57680" y="546120"/>
                    <a:ext cx="11984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9" name=""/>
          <p:cNvSpPr/>
          <p:nvPr/>
        </p:nvSpPr>
        <p:spPr>
          <a:xfrm>
            <a:off x="7445520" y="1886040"/>
            <a:ext cx="1698480" cy="598320"/>
          </a:xfrm>
          <a:prstGeom prst="wedgeEllipseCallout">
            <a:avLst>
              <a:gd name="adj1" fmla="val -19814"/>
              <a:gd name="adj2" fmla="val 201194"/>
            </a:avLst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0" name=""/>
          <p:cNvGraphicFramePr/>
          <p:nvPr/>
        </p:nvGraphicFramePr>
        <p:xfrm>
          <a:off x="7400880" y="1959120"/>
          <a:ext cx="1743120" cy="436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400880" y="1959120"/>
                    <a:ext cx="174312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47F86-B353-4E91-BD6E-7C1BEFCFCFBA}" type="slidenum">
              <a:t>67</a:t>
            </a:fld>
          </a:p>
        </p:txBody>
      </p:sp>
    </p:spTree>
  </p:cSld>
  <p:transition spd="med">
    <p:diamond/>
  </p:transition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8" dur="20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3" dur="2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8" dur="2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3" dur="2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20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3" dur="2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8" dur="2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3" dur="2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8" dur="2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/>
          </p:nvPr>
        </p:nvSpPr>
        <p:spPr>
          <a:xfrm>
            <a:off x="813960" y="364680"/>
            <a:ext cx="8148600" cy="62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 </a:t>
            </a: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例：设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的概率密度为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lvl="1"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(1)</a:t>
            </a:r>
            <a:r>
              <a:rPr b="0" lang="zh-CN" sz="2400" spc="-1" strike="noStrike">
                <a:solidFill>
                  <a:srgbClr val="5e5d2f"/>
                </a:solidFill>
                <a:latin typeface="Times New Roman"/>
                <a:ea typeface="宋体"/>
              </a:rPr>
              <a:t>求常数</a:t>
            </a:r>
            <a:r>
              <a:rPr b="0" lang="zh-CN" sz="2400" spc="-1" strike="noStrike">
                <a:solidFill>
                  <a:srgbClr val="5e5d2f"/>
                </a:solidFill>
                <a:latin typeface="Monotype Corsiva"/>
                <a:ea typeface="宋体"/>
              </a:rPr>
              <a:t>c</a:t>
            </a:r>
            <a:r>
              <a:rPr b="0" lang="zh-CN" sz="2400" spc="-1" strike="noStrike">
                <a:solidFill>
                  <a:srgbClr val="5e5d2f"/>
                </a:solidFill>
                <a:latin typeface="Times New Roman"/>
                <a:ea typeface="宋体"/>
              </a:rPr>
              <a:t>的值；         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(2)</a:t>
            </a:r>
            <a:r>
              <a:rPr b="0" lang="zh-CN" sz="2400" spc="-1" strike="noStrike">
                <a:solidFill>
                  <a:srgbClr val="5e5d2f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5e5d2f"/>
                </a:solidFill>
                <a:latin typeface="Times New Roman"/>
                <a:ea typeface="宋体"/>
              </a:rPr>
              <a:t>写出</a:t>
            </a:r>
            <a:r>
              <a:rPr b="0" lang="zh-CN" sz="20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5e5d2f"/>
                </a:solidFill>
                <a:latin typeface="Times New Roman"/>
                <a:ea typeface="宋体"/>
              </a:rPr>
              <a:t>的概率分布函数；</a:t>
            </a:r>
            <a:endParaRPr b="0" lang="en-US" sz="2000" spc="-1" strike="noStrike">
              <a:solidFill>
                <a:srgbClr val="5e5d2f"/>
              </a:solidFill>
              <a:latin typeface="-쉬리M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e5d2f"/>
                </a:solidFill>
                <a:latin typeface="-쉬리M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(3) </a:t>
            </a: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要使      </a:t>
            </a: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求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k</a:t>
            </a: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的值。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   </a:t>
            </a: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解：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093" name=""/>
          <p:cNvGraphicFramePr/>
          <p:nvPr/>
        </p:nvGraphicFramePr>
        <p:xfrm>
          <a:off x="2808360" y="1606680"/>
          <a:ext cx="164304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08360" y="1606680"/>
                    <a:ext cx="16430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5" name=""/>
          <p:cNvGraphicFramePr/>
          <p:nvPr/>
        </p:nvGraphicFramePr>
        <p:xfrm>
          <a:off x="4255920" y="36360"/>
          <a:ext cx="2337120" cy="117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55920" y="36360"/>
                    <a:ext cx="233712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7" name=""/>
          <p:cNvGraphicFramePr/>
          <p:nvPr/>
        </p:nvGraphicFramePr>
        <p:xfrm>
          <a:off x="1604880" y="2494080"/>
          <a:ext cx="228276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4880" y="2494080"/>
                    <a:ext cx="2282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9" name=""/>
          <p:cNvGraphicFramePr/>
          <p:nvPr/>
        </p:nvGraphicFramePr>
        <p:xfrm>
          <a:off x="1566720" y="3357720"/>
          <a:ext cx="296568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66720" y="3357720"/>
                    <a:ext cx="29656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1" name=""/>
          <p:cNvGraphicFramePr/>
          <p:nvPr/>
        </p:nvGraphicFramePr>
        <p:xfrm>
          <a:off x="1643040" y="6064200"/>
          <a:ext cx="5091120" cy="74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43040" y="6064200"/>
                    <a:ext cx="50911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3" name=""/>
          <p:cNvGraphicFramePr/>
          <p:nvPr/>
        </p:nvGraphicFramePr>
        <p:xfrm>
          <a:off x="3944880" y="2452680"/>
          <a:ext cx="2077920" cy="795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44880" y="2452680"/>
                    <a:ext cx="20779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5" name=""/>
          <p:cNvGraphicFramePr/>
          <p:nvPr/>
        </p:nvGraphicFramePr>
        <p:xfrm>
          <a:off x="6070680" y="2476440"/>
          <a:ext cx="949320" cy="795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0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70680" y="2476440"/>
                    <a:ext cx="9493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7" name=""/>
          <p:cNvGraphicFramePr/>
          <p:nvPr/>
        </p:nvGraphicFramePr>
        <p:xfrm>
          <a:off x="7097760" y="2470320"/>
          <a:ext cx="1104840" cy="795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0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097760" y="2470320"/>
                    <a:ext cx="110484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9" name=""/>
          <p:cNvGraphicFramePr/>
          <p:nvPr/>
        </p:nvGraphicFramePr>
        <p:xfrm>
          <a:off x="2162160" y="3849840"/>
          <a:ext cx="3371760" cy="2300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1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162160" y="3849840"/>
                    <a:ext cx="337176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1" name=""/>
          <p:cNvGraphicFramePr/>
          <p:nvPr/>
        </p:nvGraphicFramePr>
        <p:xfrm>
          <a:off x="6016680" y="4041720"/>
          <a:ext cx="2786040" cy="1924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11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16680" y="4041720"/>
                    <a:ext cx="278604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F3A1C-C448-42D2-8707-C6193688B3AE}" type="slidenum">
              <a:t>68</a:t>
            </a:fld>
          </a:p>
        </p:txBody>
      </p:sp>
    </p:spTree>
  </p:cSld>
  <p:transition spd="med">
    <p:diamond/>
  </p:transition>
  <p:timing>
    <p:tnLst>
      <p:par>
        <p:cTn id="1979" dur="indefinite" restart="never" nodeType="tmRoot">
          <p:childTnLst>
            <p:seq>
              <p:cTn id="1980" dur="indefinite" nodeType="mainSeq">
                <p:childTnLst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5" dur="20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0" dur="20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5" dur="20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0" dur="2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5" dur="20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20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5" dur="20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0" dur="20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/>
          </p:nvPr>
        </p:nvSpPr>
        <p:spPr>
          <a:xfrm>
            <a:off x="878040" y="120600"/>
            <a:ext cx="796104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几个重要的连续量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均匀分布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定义：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具有概率密度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称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在区间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5e5d2f"/>
                </a:solidFill>
                <a:latin typeface="Monotype Corsiva"/>
                <a:ea typeface="宋体"/>
              </a:rPr>
              <a:t>a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)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上服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匀分布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，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记为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～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U(</a:t>
            </a:r>
            <a:r>
              <a:rPr b="0" lang="zh-CN" sz="2800" spc="-1" strike="noStrike">
                <a:solidFill>
                  <a:srgbClr val="5e5d2f"/>
                </a:solidFill>
                <a:latin typeface="Monotype Corsiva"/>
                <a:ea typeface="宋体"/>
              </a:rPr>
              <a:t>a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,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114" name=""/>
          <p:cNvGraphicFramePr/>
          <p:nvPr/>
        </p:nvGraphicFramePr>
        <p:xfrm>
          <a:off x="1049400" y="3397320"/>
          <a:ext cx="497052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3397320"/>
                    <a:ext cx="49705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6" name=""/>
          <p:cNvGraphicFramePr/>
          <p:nvPr/>
        </p:nvGraphicFramePr>
        <p:xfrm>
          <a:off x="6399360" y="3440160"/>
          <a:ext cx="210312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9360" y="3440160"/>
                    <a:ext cx="21031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8" name=""/>
          <p:cNvGraphicFramePr/>
          <p:nvPr/>
        </p:nvGraphicFramePr>
        <p:xfrm>
          <a:off x="4956120" y="907920"/>
          <a:ext cx="2551320" cy="10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6120" y="907920"/>
                    <a:ext cx="255132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0" name="Litebulb"/>
          <p:cNvSpPr/>
          <p:nvPr/>
        </p:nvSpPr>
        <p:spPr>
          <a:xfrm>
            <a:off x="1235160" y="1282680"/>
            <a:ext cx="189000" cy="26208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1541520" y="4670280"/>
            <a:ext cx="2627280" cy="1698480"/>
            <a:chOff x="1541520" y="4670280"/>
            <a:chExt cx="2627280" cy="1698480"/>
          </a:xfrm>
        </p:grpSpPr>
        <p:grpSp>
          <p:nvGrpSpPr>
            <p:cNvPr id="2122" name=""/>
            <p:cNvGrpSpPr/>
            <p:nvPr/>
          </p:nvGrpSpPr>
          <p:grpSpPr>
            <a:xfrm>
              <a:off x="1541520" y="4670280"/>
              <a:ext cx="2627280" cy="1698480"/>
              <a:chOff x="1541520" y="4670280"/>
              <a:chExt cx="2627280" cy="1698480"/>
            </a:xfrm>
          </p:grpSpPr>
          <p:sp>
            <p:nvSpPr>
              <p:cNvPr id="2123" name=""/>
              <p:cNvSpPr/>
              <p:nvPr/>
            </p:nvSpPr>
            <p:spPr>
              <a:xfrm>
                <a:off x="1570320" y="6048360"/>
                <a:ext cx="2598480" cy="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1874880" y="4684320"/>
                <a:ext cx="0" cy="1684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125" name=""/>
              <p:cNvGraphicFramePr/>
              <p:nvPr/>
            </p:nvGraphicFramePr>
            <p:xfrm>
              <a:off x="1953000" y="4670280"/>
              <a:ext cx="368280" cy="254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12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953000" y="4670280"/>
                        <a:ext cx="368280" cy="254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27" name=""/>
              <p:cNvGraphicFramePr/>
              <p:nvPr/>
            </p:nvGraphicFramePr>
            <p:xfrm>
              <a:off x="1740240" y="6056280"/>
              <a:ext cx="126720" cy="1778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128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740240" y="6056280"/>
                        <a:ext cx="126720" cy="177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29" name=""/>
              <p:cNvGraphicFramePr/>
              <p:nvPr/>
            </p:nvGraphicFramePr>
            <p:xfrm>
              <a:off x="3219480" y="6095880"/>
              <a:ext cx="127080" cy="1778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13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219480" y="6095880"/>
                        <a:ext cx="127080" cy="177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31" name=""/>
              <p:cNvGraphicFramePr/>
              <p:nvPr/>
            </p:nvGraphicFramePr>
            <p:xfrm>
              <a:off x="4042080" y="6099120"/>
              <a:ext cx="126720" cy="139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13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042080" y="6099120"/>
                        <a:ext cx="126720" cy="139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33" name=""/>
              <p:cNvGraphicFramePr/>
              <p:nvPr/>
            </p:nvGraphicFramePr>
            <p:xfrm>
              <a:off x="2343240" y="6091200"/>
              <a:ext cx="127080" cy="1396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134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343240" y="6091200"/>
                        <a:ext cx="127080" cy="139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35" name=""/>
              <p:cNvGraphicFramePr/>
              <p:nvPr/>
            </p:nvGraphicFramePr>
            <p:xfrm>
              <a:off x="1541520" y="5484960"/>
              <a:ext cx="339840" cy="3394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2136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1541520" y="5484960"/>
                        <a:ext cx="339840" cy="339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137" name=""/>
            <p:cNvSpPr/>
            <p:nvPr/>
          </p:nvSpPr>
          <p:spPr>
            <a:xfrm>
              <a:off x="2419560" y="5662440"/>
              <a:ext cx="0" cy="38592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254400" y="5656320"/>
              <a:ext cx="0" cy="3855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419560" y="5662440"/>
              <a:ext cx="834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5238720" y="4678200"/>
            <a:ext cx="2598480" cy="1698480"/>
            <a:chOff x="5238720" y="4678200"/>
            <a:chExt cx="2598480" cy="1698480"/>
          </a:xfrm>
        </p:grpSpPr>
        <p:sp>
          <p:nvSpPr>
            <p:cNvPr id="2141" name=""/>
            <p:cNvSpPr/>
            <p:nvPr/>
          </p:nvSpPr>
          <p:spPr>
            <a:xfrm>
              <a:off x="5238720" y="6056280"/>
              <a:ext cx="259848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5543280" y="4692240"/>
              <a:ext cx="0" cy="168444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43" name=""/>
            <p:cNvGraphicFramePr/>
            <p:nvPr/>
          </p:nvGraphicFramePr>
          <p:xfrm>
            <a:off x="5614920" y="4678200"/>
            <a:ext cx="380880" cy="2541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14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14920" y="4678200"/>
                      <a:ext cx="38088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5" name=""/>
            <p:cNvGraphicFramePr/>
            <p:nvPr/>
          </p:nvGraphicFramePr>
          <p:xfrm>
            <a:off x="5408640" y="6064200"/>
            <a:ext cx="126720" cy="17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14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408640" y="6064200"/>
                      <a:ext cx="126720" cy="17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7" name=""/>
            <p:cNvGraphicFramePr/>
            <p:nvPr/>
          </p:nvGraphicFramePr>
          <p:xfrm>
            <a:off x="6713280" y="6103800"/>
            <a:ext cx="127080" cy="17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14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13280" y="6103800"/>
                      <a:ext cx="127080" cy="17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9" name=""/>
            <p:cNvGraphicFramePr/>
            <p:nvPr/>
          </p:nvGraphicFramePr>
          <p:xfrm>
            <a:off x="7710480" y="6107040"/>
            <a:ext cx="126720" cy="139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15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710480" y="6107040"/>
                      <a:ext cx="1267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1" name=""/>
            <p:cNvGraphicFramePr/>
            <p:nvPr/>
          </p:nvGraphicFramePr>
          <p:xfrm>
            <a:off x="5789520" y="6099120"/>
            <a:ext cx="127080" cy="139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15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789520" y="6099120"/>
                      <a:ext cx="12708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3" name=""/>
            <p:cNvGraphicFramePr/>
            <p:nvPr/>
          </p:nvGraphicFramePr>
          <p:xfrm>
            <a:off x="5329080" y="4946760"/>
            <a:ext cx="131760" cy="2444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15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329080" y="4946760"/>
                      <a:ext cx="131760" cy="24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55" name=""/>
            <p:cNvGrpSpPr/>
            <p:nvPr/>
          </p:nvGrpSpPr>
          <p:grpSpPr>
            <a:xfrm>
              <a:off x="5535360" y="5052600"/>
              <a:ext cx="1747800" cy="995760"/>
              <a:chOff x="5535360" y="5052600"/>
              <a:chExt cx="1747800" cy="995760"/>
            </a:xfrm>
          </p:grpSpPr>
          <p:sp>
            <p:nvSpPr>
              <p:cNvPr id="2156" name=""/>
              <p:cNvSpPr/>
              <p:nvPr/>
            </p:nvSpPr>
            <p:spPr>
              <a:xfrm flipV="1">
                <a:off x="5873760" y="5052600"/>
                <a:ext cx="882360" cy="9954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754680" y="5052960"/>
                <a:ext cx="52848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535360" y="6048360"/>
                <a:ext cx="3366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422AC-E318-4AA8-AAFF-4DC86E1F9A16}" type="slidenum">
              <a:t>69</a:t>
            </a:fld>
          </a:p>
        </p:txBody>
      </p:sp>
    </p:spTree>
  </p:cSld>
  <p:transition spd="med">
    <p:diamond/>
  </p:transition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6" dur="20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2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20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1542960" y="1798560"/>
            <a:ext cx="653256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9600" spc="-1" strike="noStrike">
                <a:solidFill>
                  <a:srgbClr val="ffffff"/>
                </a:solidFill>
                <a:latin typeface="隶书"/>
                <a:ea typeface="隶书"/>
              </a:rPr>
              <a:t>概 率 论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26F50-20D4-46C7-9CC7-82B22FFBEE2C}" type="slidenum">
              <a:t>7</a:t>
            </a:fld>
          </a:p>
        </p:txBody>
      </p:sp>
    </p:spTree>
  </p:cSld>
  <p:transition spd="slow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1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animClr clrSpc="rgb">
                                      <p:cBhvr>
                                        <p:cTn id="24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5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9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/>
          </p:nvPr>
        </p:nvSpPr>
        <p:spPr>
          <a:xfrm>
            <a:off x="1044360" y="430200"/>
            <a:ext cx="787716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例：在区间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(-1,2)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上随机取一数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，试写出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X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的概率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密度。并求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     的值；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若在该区间上随机取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10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个数，求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10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个数中恰有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两个数大于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的概率。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160" name=""/>
          <p:cNvGraphicFramePr/>
          <p:nvPr/>
        </p:nvGraphicFramePr>
        <p:xfrm>
          <a:off x="5805360" y="2422440"/>
          <a:ext cx="2327400" cy="95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05360" y="2422440"/>
                    <a:ext cx="23274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2" name=""/>
          <p:cNvGraphicFramePr/>
          <p:nvPr/>
        </p:nvGraphicFramePr>
        <p:xfrm>
          <a:off x="2046240" y="3419640"/>
          <a:ext cx="1509840" cy="64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46240" y="3419640"/>
                    <a:ext cx="15098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4" name=""/>
          <p:cNvGraphicFramePr/>
          <p:nvPr/>
        </p:nvGraphicFramePr>
        <p:xfrm>
          <a:off x="2417760" y="4743360"/>
          <a:ext cx="1322280" cy="67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7760" y="4743360"/>
                    <a:ext cx="13222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6" name=""/>
          <p:cNvGraphicFramePr/>
          <p:nvPr/>
        </p:nvGraphicFramePr>
        <p:xfrm>
          <a:off x="3889440" y="4724280"/>
          <a:ext cx="2562120" cy="690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89440" y="4724280"/>
                    <a:ext cx="256212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8" name=""/>
          <p:cNvGraphicFramePr/>
          <p:nvPr/>
        </p:nvGraphicFramePr>
        <p:xfrm>
          <a:off x="3613320" y="987480"/>
          <a:ext cx="923760" cy="307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13320" y="987480"/>
                    <a:ext cx="92376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0" name=""/>
          <p:cNvSpPr/>
          <p:nvPr/>
        </p:nvSpPr>
        <p:spPr>
          <a:xfrm>
            <a:off x="1197000" y="2616120"/>
            <a:ext cx="7877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在区间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(-1,2)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上均匀分布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1197000" y="3475080"/>
            <a:ext cx="7877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              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设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个数中有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个数大于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-쉬리M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1197000" y="4314960"/>
            <a:ext cx="7877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-쉬리M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-쉬리M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-쉬리M"/>
              </a:rPr>
              <a:t>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6C35C-18C0-4F43-96DF-F052AA577DC5}" type="slidenum">
              <a:t>70</a:t>
            </a:fld>
          </a:p>
        </p:txBody>
      </p:sp>
    </p:spTree>
  </p:cSld>
  <p:transition spd="med">
    <p:diamond/>
  </p:transition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20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20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10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9" dur="20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20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/>
          </p:nvPr>
        </p:nvSpPr>
        <p:spPr>
          <a:xfrm>
            <a:off x="969840" y="409320"/>
            <a:ext cx="75996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指数分布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534960" indent="0">
              <a:spcBef>
                <a:spcPts val="700"/>
              </a:spcBef>
              <a:buNone/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定义：设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的概率密度为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534960" indent="0">
              <a:spcBef>
                <a:spcPts val="700"/>
              </a:spcBef>
              <a:buNone/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534960" indent="0">
              <a:spcBef>
                <a:spcPts val="700"/>
              </a:spcBef>
              <a:buNone/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其中</a:t>
            </a:r>
            <a:r>
              <a:rPr b="0" lang="el-GR" sz="2800" spc="-1" strike="noStrike">
                <a:solidFill>
                  <a:srgbClr val="5e5d2f"/>
                </a:solidFill>
                <a:latin typeface="宋体"/>
                <a:ea typeface="宋体"/>
              </a:rPr>
              <a:t>λ</a:t>
            </a:r>
            <a:r>
              <a:rPr b="0" lang="zh-CN" sz="2800" spc="-1" strike="noStrike">
                <a:solidFill>
                  <a:srgbClr val="5e5d2f"/>
                </a:solidFill>
                <a:latin typeface="Arial"/>
                <a:ea typeface="宋体"/>
              </a:rPr>
              <a:t>&gt;0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为常数，则称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服从参数为</a:t>
            </a:r>
            <a:r>
              <a:rPr b="0" lang="el-GR" sz="2800" spc="-1" strike="noStrike">
                <a:solidFill>
                  <a:srgbClr val="5e5d2f"/>
                </a:solidFill>
                <a:latin typeface="Times New Roman"/>
                <a:ea typeface="宋体"/>
              </a:rPr>
              <a:t>λ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分布</a:t>
            </a:r>
            <a:r>
              <a:rPr b="0" lang="zh-CN" sz="2800" spc="-1" strike="noStrike">
                <a:solidFill>
                  <a:srgbClr val="336600"/>
                </a:solidFill>
                <a:latin typeface="宋体"/>
                <a:ea typeface="宋体"/>
              </a:rPr>
              <a:t>。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记为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174" name=""/>
          <p:cNvGraphicFramePr/>
          <p:nvPr/>
        </p:nvGraphicFramePr>
        <p:xfrm>
          <a:off x="4878360" y="717480"/>
          <a:ext cx="281952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8360" y="717480"/>
                    <a:ext cx="28195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6" name=""/>
          <p:cNvGraphicFramePr/>
          <p:nvPr/>
        </p:nvGraphicFramePr>
        <p:xfrm>
          <a:off x="3780000" y="2484360"/>
          <a:ext cx="214452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484360"/>
                    <a:ext cx="2144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8" name=""/>
          <p:cNvGraphicFramePr/>
          <p:nvPr/>
        </p:nvGraphicFramePr>
        <p:xfrm>
          <a:off x="2843280" y="3033720"/>
          <a:ext cx="3163680" cy="10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3033720"/>
                    <a:ext cx="316368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0" name=""/>
          <p:cNvSpPr/>
          <p:nvPr/>
        </p:nvSpPr>
        <p:spPr>
          <a:xfrm>
            <a:off x="2076480" y="4600440"/>
            <a:ext cx="496800" cy="247680"/>
          </a:xfrm>
          <a:custGeom>
            <a:avLst/>
            <a:gdLst>
              <a:gd name="textAreaLeft" fmla="*/ 61920 w 496800"/>
              <a:gd name="textAreaRight" fmla="*/ 434880 w 496800"/>
              <a:gd name="textAreaTop" fmla="*/ 61920 h 247680"/>
              <a:gd name="textAreaBottom" fmla="*/ 1857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1" name=""/>
          <p:cNvGraphicFramePr/>
          <p:nvPr/>
        </p:nvGraphicFramePr>
        <p:xfrm>
          <a:off x="1717560" y="5032440"/>
          <a:ext cx="289872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17560" y="5032440"/>
                    <a:ext cx="28987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3" name="Litebulb"/>
          <p:cNvSpPr/>
          <p:nvPr/>
        </p:nvSpPr>
        <p:spPr>
          <a:xfrm>
            <a:off x="835200" y="1028880"/>
            <a:ext cx="188640" cy="26172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2071800" y="3484440"/>
            <a:ext cx="496800" cy="247680"/>
          </a:xfrm>
          <a:custGeom>
            <a:avLst/>
            <a:gdLst>
              <a:gd name="textAreaLeft" fmla="*/ 61920 w 496800"/>
              <a:gd name="textAreaRight" fmla="*/ 434880 w 496800"/>
              <a:gd name="textAreaTop" fmla="*/ 61920 h 247680"/>
              <a:gd name="textAreaBottom" fmla="*/ 1857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5" name=""/>
          <p:cNvGraphicFramePr/>
          <p:nvPr/>
        </p:nvGraphicFramePr>
        <p:xfrm>
          <a:off x="4592520" y="4884840"/>
          <a:ext cx="2159280" cy="86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92520" y="4884840"/>
                    <a:ext cx="215928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7" name=""/>
          <p:cNvGraphicFramePr/>
          <p:nvPr/>
        </p:nvGraphicFramePr>
        <p:xfrm>
          <a:off x="2319480" y="5661000"/>
          <a:ext cx="2727360" cy="87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19480" y="5661000"/>
                    <a:ext cx="27273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9" name=""/>
          <p:cNvGraphicFramePr/>
          <p:nvPr/>
        </p:nvGraphicFramePr>
        <p:xfrm>
          <a:off x="5205240" y="5851440"/>
          <a:ext cx="1590840" cy="40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05240" y="5851440"/>
                    <a:ext cx="15908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1" name=""/>
          <p:cNvSpPr/>
          <p:nvPr/>
        </p:nvSpPr>
        <p:spPr>
          <a:xfrm>
            <a:off x="1122480" y="4443480"/>
            <a:ext cx="75992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具有如下的无记忆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F30E-FC74-4F64-8A11-389CC3662BD6}" type="slidenum">
              <a:t>71</a:t>
            </a:fld>
          </a:p>
        </p:txBody>
      </p:sp>
    </p:spTree>
  </p:cSld>
  <p:transition spd="med">
    <p:diamond/>
  </p:transition>
  <p:timing>
    <p:tnLst>
      <p:par>
        <p:cTn id="2075" dur="indefinite" restart="never" nodeType="tmRoot">
          <p:childTnLst>
            <p:seq>
              <p:cTn id="2076" dur="indefinite" nodeType="mainSeq">
                <p:childTnLst>
                  <p:par>
                    <p:cTn id="2077" fill="hold">
                      <p:stCondLst>
                        <p:cond delay="0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0" dur="2000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7" dur="10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1" dur="20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8" dur="10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2" dur="20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7" dur="20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2" dur="20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7" dur="20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2" dur="20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/>
          </p:nvPr>
        </p:nvSpPr>
        <p:spPr>
          <a:xfrm>
            <a:off x="1076400" y="365040"/>
            <a:ext cx="1218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193" name=""/>
          <p:cNvGraphicFramePr/>
          <p:nvPr/>
        </p:nvGraphicFramePr>
        <p:xfrm>
          <a:off x="1020600" y="417600"/>
          <a:ext cx="81234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0600" y="417600"/>
                    <a:ext cx="81234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5" name=""/>
          <p:cNvGraphicFramePr/>
          <p:nvPr/>
        </p:nvGraphicFramePr>
        <p:xfrm>
          <a:off x="1542960" y="2741760"/>
          <a:ext cx="5256360" cy="46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2960" y="2741760"/>
                    <a:ext cx="52563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7" name=""/>
          <p:cNvGraphicFramePr/>
          <p:nvPr/>
        </p:nvGraphicFramePr>
        <p:xfrm>
          <a:off x="2452680" y="4025880"/>
          <a:ext cx="2265480" cy="42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52680" y="4025880"/>
                    <a:ext cx="22654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9" name=""/>
          <p:cNvGraphicFramePr/>
          <p:nvPr/>
        </p:nvGraphicFramePr>
        <p:xfrm>
          <a:off x="2417760" y="3411360"/>
          <a:ext cx="3270240" cy="42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17760" y="3411360"/>
                    <a:ext cx="32702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1" name=""/>
          <p:cNvGraphicFramePr/>
          <p:nvPr/>
        </p:nvGraphicFramePr>
        <p:xfrm>
          <a:off x="2440080" y="4653000"/>
          <a:ext cx="4678200" cy="42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40080" y="4653000"/>
                    <a:ext cx="46782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3" name=""/>
          <p:cNvGraphicFramePr/>
          <p:nvPr/>
        </p:nvGraphicFramePr>
        <p:xfrm>
          <a:off x="2006640" y="5370480"/>
          <a:ext cx="5533920" cy="790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0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06640" y="5370480"/>
                    <a:ext cx="55339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04C77-BB66-48C8-B316-A76BA9C2E6FE}" type="slidenum">
              <a:t>72</a:t>
            </a:fld>
          </a:p>
        </p:txBody>
      </p:sp>
    </p:spTree>
  </p:cSld>
  <p:transition spd="med">
    <p:diamond/>
  </p:transition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9" dur="20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4" dur="20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9" dur="20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4" dur="20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20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1015560" y="10152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e5c00"/>
                </a:solidFill>
                <a:latin typeface="-쉬리B"/>
                <a:ea typeface="宋体"/>
              </a:rPr>
              <a:t>   </a:t>
            </a:r>
            <a:r>
              <a:rPr b="0" lang="zh-CN" sz="2800" spc="-1" strike="noStrike">
                <a:solidFill>
                  <a:srgbClr val="2e5c00"/>
                </a:solidFill>
                <a:latin typeface="-쉬리B"/>
                <a:ea typeface="宋体"/>
              </a:rPr>
              <a:t>正态分布</a:t>
            </a:r>
            <a:endParaRPr b="0" lang="en-US" sz="2800" spc="-1" strike="noStrike">
              <a:solidFill>
                <a:srgbClr val="2e5c00"/>
              </a:solidFill>
              <a:latin typeface="-쉬리B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1103040" y="982800"/>
            <a:ext cx="779436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71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b23f6"/>
                </a:solidFill>
                <a:latin typeface="-쉬리M"/>
                <a:ea typeface="宋体"/>
              </a:rPr>
              <a:t>定义：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设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的概率密度为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1071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其中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</a:rPr>
              <a:t>      </a:t>
            </a:r>
            <a:r>
              <a:rPr b="0" lang="zh-CN" sz="2800" spc="-1" strike="noStrike">
                <a:solidFill>
                  <a:srgbClr val="5e5d2f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为常数，称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服从参数为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1071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的正态分布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(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Gauss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分布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)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，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1071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记为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1071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1071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可以验算：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207" name=""/>
          <p:cNvGraphicFramePr/>
          <p:nvPr/>
        </p:nvGraphicFramePr>
        <p:xfrm>
          <a:off x="4869000" y="628560"/>
          <a:ext cx="4275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628560"/>
                    <a:ext cx="4275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9" name=""/>
          <p:cNvGraphicFramePr/>
          <p:nvPr/>
        </p:nvGraphicFramePr>
        <p:xfrm>
          <a:off x="2998800" y="2598840"/>
          <a:ext cx="209232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98800" y="2598840"/>
                    <a:ext cx="20923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1" name=""/>
          <p:cNvGraphicFramePr/>
          <p:nvPr/>
        </p:nvGraphicFramePr>
        <p:xfrm>
          <a:off x="2967120" y="3387600"/>
          <a:ext cx="1861920" cy="68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67120" y="3387600"/>
                    <a:ext cx="186192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3" name=""/>
          <p:cNvGraphicFramePr/>
          <p:nvPr/>
        </p:nvGraphicFramePr>
        <p:xfrm>
          <a:off x="1217520" y="4206960"/>
          <a:ext cx="1776600" cy="63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7520" y="4206960"/>
                    <a:ext cx="17766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5" name=""/>
          <p:cNvGraphicFramePr/>
          <p:nvPr/>
        </p:nvGraphicFramePr>
        <p:xfrm>
          <a:off x="1165320" y="4815000"/>
          <a:ext cx="175104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65320" y="4815000"/>
                    <a:ext cx="1751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7" name="Litebulb"/>
          <p:cNvSpPr/>
          <p:nvPr/>
        </p:nvSpPr>
        <p:spPr>
          <a:xfrm>
            <a:off x="946080" y="1117440"/>
            <a:ext cx="189000" cy="246240"/>
          </a:xfrm>
          <a:prstGeom prst="pi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8" name=""/>
          <p:cNvGraphicFramePr/>
          <p:nvPr/>
        </p:nvGraphicFramePr>
        <p:xfrm>
          <a:off x="2909880" y="3987720"/>
          <a:ext cx="2894040" cy="99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09880" y="3987720"/>
                    <a:ext cx="28940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0" name=""/>
          <p:cNvGraphicFramePr/>
          <p:nvPr/>
        </p:nvGraphicFramePr>
        <p:xfrm>
          <a:off x="5897520" y="4084560"/>
          <a:ext cx="2043000" cy="90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97520" y="4084560"/>
                    <a:ext cx="204300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2" name=""/>
          <p:cNvGraphicFramePr/>
          <p:nvPr/>
        </p:nvGraphicFramePr>
        <p:xfrm>
          <a:off x="1268280" y="5589720"/>
          <a:ext cx="2384640" cy="855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68280" y="5589720"/>
                    <a:ext cx="238464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4" name=""/>
          <p:cNvGraphicFramePr/>
          <p:nvPr/>
        </p:nvGraphicFramePr>
        <p:xfrm>
          <a:off x="3718080" y="5583240"/>
          <a:ext cx="2004840" cy="72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18080" y="5583240"/>
                    <a:ext cx="20048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6" name=""/>
          <p:cNvGraphicFramePr/>
          <p:nvPr/>
        </p:nvGraphicFramePr>
        <p:xfrm>
          <a:off x="5886360" y="5783400"/>
          <a:ext cx="1244520" cy="404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86360" y="5783400"/>
                    <a:ext cx="1244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8" name=""/>
          <p:cNvGraphicFramePr/>
          <p:nvPr/>
        </p:nvGraphicFramePr>
        <p:xfrm>
          <a:off x="7170840" y="5702400"/>
          <a:ext cx="1814400" cy="584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170840" y="5702400"/>
                    <a:ext cx="1814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0" name=""/>
          <p:cNvGraphicFramePr/>
          <p:nvPr/>
        </p:nvGraphicFramePr>
        <p:xfrm>
          <a:off x="2809800" y="1409760"/>
          <a:ext cx="1060560" cy="657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3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09800" y="1409760"/>
                    <a:ext cx="10605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2" name=""/>
          <p:cNvGraphicFramePr/>
          <p:nvPr/>
        </p:nvGraphicFramePr>
        <p:xfrm>
          <a:off x="2117880" y="1905120"/>
          <a:ext cx="1143000" cy="711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3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117880" y="1905120"/>
                    <a:ext cx="11430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75462-9A87-4856-8093-AA63E2C28A67}" type="slidenum">
              <a:t>73</a:t>
            </a:fld>
          </a:p>
        </p:txBody>
      </p:sp>
    </p:spTree>
  </p:cSld>
  <p:transition spd="med">
    <p:diamond/>
  </p:transition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5" dur="20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0" dur="2000"/>
                                        <p:tgtEl>
                                          <p:spTgt spid="2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4" dur="20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9" dur="20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4" dur="20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20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4" dur="20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9" dur="20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4" dur="20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9" dur="20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4" dur="20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/>
          </p:nvPr>
        </p:nvSpPr>
        <p:spPr>
          <a:xfrm>
            <a:off x="1265040" y="2611080"/>
            <a:ext cx="551484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称</a:t>
            </a:r>
            <a:r>
              <a:rPr b="0" lang="el-GR" sz="2800" spc="-1" strike="noStrike">
                <a:solidFill>
                  <a:srgbClr val="3333cc"/>
                </a:solidFill>
                <a:latin typeface="宋体"/>
                <a:ea typeface="宋体"/>
              </a:rPr>
              <a:t>μ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为位置参数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决定对称轴位置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</a:t>
            </a:r>
            <a:r>
              <a:rPr b="0" lang="el-GR" sz="2800" spc="-1" strike="noStrike">
                <a:solidFill>
                  <a:srgbClr val="3333cc"/>
                </a:solidFill>
                <a:latin typeface="宋体"/>
                <a:ea typeface="宋体"/>
              </a:rPr>
              <a:t>σ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为尺度参数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决定曲线分散性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235" name=""/>
          <p:cNvGraphicFramePr/>
          <p:nvPr/>
        </p:nvGraphicFramePr>
        <p:xfrm>
          <a:off x="1409760" y="285840"/>
          <a:ext cx="256212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85840"/>
                    <a:ext cx="256212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7" name=""/>
          <p:cNvGrpSpPr/>
          <p:nvPr/>
        </p:nvGrpSpPr>
        <p:grpSpPr>
          <a:xfrm>
            <a:off x="1333440" y="3957480"/>
            <a:ext cx="3011400" cy="2151000"/>
            <a:chOff x="1333440" y="3957480"/>
            <a:chExt cx="3011400" cy="2151000"/>
          </a:xfrm>
        </p:grpSpPr>
        <p:sp>
          <p:nvSpPr>
            <p:cNvPr id="2238" name=""/>
            <p:cNvSpPr/>
            <p:nvPr/>
          </p:nvSpPr>
          <p:spPr>
            <a:xfrm>
              <a:off x="1333440" y="5793840"/>
              <a:ext cx="294156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1570320" y="4063680"/>
              <a:ext cx="0" cy="197784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40" name=""/>
            <p:cNvGraphicFramePr/>
            <p:nvPr/>
          </p:nvGraphicFramePr>
          <p:xfrm>
            <a:off x="1424160" y="5767920"/>
            <a:ext cx="135720" cy="24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24160" y="5767920"/>
                      <a:ext cx="13572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2" name=""/>
            <p:cNvGraphicFramePr/>
            <p:nvPr/>
          </p:nvGraphicFramePr>
          <p:xfrm>
            <a:off x="1574640" y="3957480"/>
            <a:ext cx="393480" cy="353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74640" y="3957480"/>
                      <a:ext cx="39348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4" name=""/>
            <p:cNvGraphicFramePr/>
            <p:nvPr/>
          </p:nvGraphicFramePr>
          <p:xfrm>
            <a:off x="2162520" y="5811480"/>
            <a:ext cx="162720" cy="230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62520" y="5811480"/>
                      <a:ext cx="162720" cy="23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6" name=""/>
            <p:cNvGraphicFramePr/>
            <p:nvPr/>
          </p:nvGraphicFramePr>
          <p:xfrm>
            <a:off x="3097440" y="5760000"/>
            <a:ext cx="190080" cy="31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97440" y="5760000"/>
                      <a:ext cx="190080" cy="31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8" name=""/>
            <p:cNvGraphicFramePr/>
            <p:nvPr/>
          </p:nvGraphicFramePr>
          <p:xfrm>
            <a:off x="4209120" y="5913720"/>
            <a:ext cx="135720" cy="194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4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09120" y="5913720"/>
                      <a:ext cx="135720" cy="19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50" name=""/>
            <p:cNvGrpSpPr/>
            <p:nvPr/>
          </p:nvGrpSpPr>
          <p:grpSpPr>
            <a:xfrm>
              <a:off x="1450800" y="4192920"/>
              <a:ext cx="2548080" cy="1606320"/>
              <a:chOff x="1450800" y="4192920"/>
              <a:chExt cx="2548080" cy="1606320"/>
            </a:xfrm>
          </p:grpSpPr>
          <p:grpSp>
            <p:nvGrpSpPr>
              <p:cNvPr id="2251" name=""/>
              <p:cNvGrpSpPr/>
              <p:nvPr/>
            </p:nvGrpSpPr>
            <p:grpSpPr>
              <a:xfrm>
                <a:off x="1450800" y="4712040"/>
                <a:ext cx="1615320" cy="1015920"/>
                <a:chOff x="1450800" y="4712040"/>
                <a:chExt cx="1615320" cy="1015920"/>
              </a:xfrm>
            </p:grpSpPr>
            <p:sp>
              <p:nvSpPr>
                <p:cNvPr id="2252" name=""/>
                <p:cNvSpPr/>
                <p:nvPr/>
              </p:nvSpPr>
              <p:spPr>
                <a:xfrm flipV="1">
                  <a:off x="2258640" y="4713120"/>
                  <a:ext cx="807480" cy="1014480"/>
                </a:xfrm>
                <a:custGeom>
                  <a:avLst/>
                  <a:gdLst/>
                  <a:ahLst/>
                  <a:rect l="l" t="t" r="r" b="b"/>
                  <a:pathLst>
                    <a:path w="1800" h="237">
                      <a:moveTo>
                        <a:pt x="0" y="237"/>
                      </a:moveTo>
                      <a:cubicBezTo>
                        <a:pt x="18" y="237"/>
                        <a:pt x="18" y="237"/>
                        <a:pt x="18" y="237"/>
                      </a:cubicBezTo>
                      <a:cubicBezTo>
                        <a:pt x="36" y="236"/>
                        <a:pt x="36" y="236"/>
                        <a:pt x="36" y="236"/>
                      </a:cubicBezTo>
                      <a:cubicBezTo>
                        <a:pt x="54" y="236"/>
                        <a:pt x="54" y="236"/>
                        <a:pt x="54" y="236"/>
                      </a:cubicBezTo>
                      <a:cubicBezTo>
                        <a:pt x="72" y="235"/>
                        <a:pt x="72" y="235"/>
                        <a:pt x="72" y="235"/>
                      </a:cubicBezTo>
                      <a:cubicBezTo>
                        <a:pt x="90" y="234"/>
                        <a:pt x="90" y="234"/>
                        <a:pt x="90" y="234"/>
                      </a:cubicBezTo>
                      <a:cubicBezTo>
                        <a:pt x="108" y="233"/>
                        <a:pt x="108" y="233"/>
                        <a:pt x="108" y="233"/>
                      </a:cubicBezTo>
                      <a:cubicBezTo>
                        <a:pt x="126" y="232"/>
                        <a:pt x="126" y="232"/>
                        <a:pt x="126" y="232"/>
                      </a:cubicBezTo>
                      <a:cubicBezTo>
                        <a:pt x="144" y="230"/>
                        <a:pt x="144" y="230"/>
                        <a:pt x="144" y="230"/>
                      </a:cubicBezTo>
                      <a:cubicBezTo>
                        <a:pt x="162" y="228"/>
                        <a:pt x="162" y="228"/>
                        <a:pt x="162" y="228"/>
                      </a:cubicBezTo>
                      <a:cubicBezTo>
                        <a:pt x="180" y="226"/>
                        <a:pt x="180" y="226"/>
                        <a:pt x="180" y="226"/>
                      </a:cubicBezTo>
                      <a:cubicBezTo>
                        <a:pt x="198" y="224"/>
                        <a:pt x="198" y="224"/>
                        <a:pt x="198" y="224"/>
                      </a:cubicBezTo>
                      <a:cubicBezTo>
                        <a:pt x="216" y="222"/>
                        <a:pt x="216" y="222"/>
                        <a:pt x="216" y="222"/>
                      </a:cubicBezTo>
                      <a:cubicBezTo>
                        <a:pt x="234" y="219"/>
                        <a:pt x="234" y="219"/>
                        <a:pt x="234" y="219"/>
                      </a:cubicBezTo>
                      <a:cubicBezTo>
                        <a:pt x="252" y="217"/>
                        <a:pt x="252" y="217"/>
                        <a:pt x="252" y="217"/>
                      </a:cubicBezTo>
                      <a:cubicBezTo>
                        <a:pt x="270" y="214"/>
                        <a:pt x="270" y="214"/>
                        <a:pt x="270" y="214"/>
                      </a:cubicBezTo>
                      <a:cubicBezTo>
                        <a:pt x="288" y="211"/>
                        <a:pt x="288" y="211"/>
                        <a:pt x="288" y="211"/>
                      </a:cubicBezTo>
                      <a:cubicBezTo>
                        <a:pt x="306" y="208"/>
                        <a:pt x="306" y="208"/>
                        <a:pt x="306" y="208"/>
                      </a:cubicBezTo>
                      <a:cubicBezTo>
                        <a:pt x="324" y="204"/>
                        <a:pt x="324" y="204"/>
                        <a:pt x="324" y="204"/>
                      </a:cubicBezTo>
                      <a:cubicBezTo>
                        <a:pt x="342" y="201"/>
                        <a:pt x="342" y="201"/>
                        <a:pt x="342" y="201"/>
                      </a:cubicBezTo>
                      <a:cubicBezTo>
                        <a:pt x="360" y="197"/>
                        <a:pt x="360" y="197"/>
                        <a:pt x="360" y="197"/>
                      </a:cubicBezTo>
                      <a:cubicBezTo>
                        <a:pt x="378" y="194"/>
                        <a:pt x="378" y="194"/>
                        <a:pt x="378" y="194"/>
                      </a:cubicBezTo>
                      <a:cubicBezTo>
                        <a:pt x="396" y="190"/>
                        <a:pt x="396" y="190"/>
                        <a:pt x="396" y="190"/>
                      </a:cubicBezTo>
                      <a:cubicBezTo>
                        <a:pt x="414" y="186"/>
                        <a:pt x="414" y="186"/>
                        <a:pt x="414" y="186"/>
                      </a:cubicBezTo>
                      <a:cubicBezTo>
                        <a:pt x="432" y="182"/>
                        <a:pt x="432" y="182"/>
                        <a:pt x="432" y="182"/>
                      </a:cubicBezTo>
                      <a:cubicBezTo>
                        <a:pt x="450" y="178"/>
                        <a:pt x="450" y="178"/>
                        <a:pt x="450" y="178"/>
                      </a:cubicBezTo>
                      <a:cubicBezTo>
                        <a:pt x="468" y="174"/>
                        <a:pt x="468" y="174"/>
                        <a:pt x="468" y="174"/>
                      </a:cubicBezTo>
                      <a:cubicBezTo>
                        <a:pt x="486" y="170"/>
                        <a:pt x="486" y="170"/>
                        <a:pt x="486" y="170"/>
                      </a:cubicBezTo>
                      <a:cubicBezTo>
                        <a:pt x="504" y="165"/>
                        <a:pt x="504" y="165"/>
                        <a:pt x="504" y="165"/>
                      </a:cubicBezTo>
                      <a:cubicBezTo>
                        <a:pt x="522" y="161"/>
                        <a:pt x="522" y="161"/>
                        <a:pt x="522" y="161"/>
                      </a:cubicBezTo>
                      <a:cubicBezTo>
                        <a:pt x="540" y="157"/>
                        <a:pt x="540" y="157"/>
                        <a:pt x="540" y="157"/>
                      </a:cubicBezTo>
                      <a:cubicBezTo>
                        <a:pt x="558" y="153"/>
                        <a:pt x="558" y="153"/>
                        <a:pt x="558" y="153"/>
                      </a:cubicBezTo>
                      <a:cubicBezTo>
                        <a:pt x="576" y="148"/>
                        <a:pt x="576" y="148"/>
                        <a:pt x="576" y="148"/>
                      </a:cubicBezTo>
                      <a:cubicBezTo>
                        <a:pt x="594" y="144"/>
                        <a:pt x="594" y="144"/>
                        <a:pt x="594" y="144"/>
                      </a:cubicBezTo>
                      <a:cubicBezTo>
                        <a:pt x="612" y="140"/>
                        <a:pt x="612" y="140"/>
                        <a:pt x="612" y="140"/>
                      </a:cubicBezTo>
                      <a:cubicBezTo>
                        <a:pt x="630" y="135"/>
                        <a:pt x="630" y="135"/>
                        <a:pt x="630" y="135"/>
                      </a:cubicBezTo>
                      <a:cubicBezTo>
                        <a:pt x="648" y="131"/>
                        <a:pt x="648" y="131"/>
                        <a:pt x="648" y="131"/>
                      </a:cubicBezTo>
                      <a:cubicBezTo>
                        <a:pt x="666" y="126"/>
                        <a:pt x="666" y="126"/>
                        <a:pt x="666" y="126"/>
                      </a:cubicBezTo>
                      <a:cubicBezTo>
                        <a:pt x="684" y="122"/>
                        <a:pt x="684" y="122"/>
                        <a:pt x="684" y="122"/>
                      </a:cubicBezTo>
                      <a:cubicBezTo>
                        <a:pt x="702" y="118"/>
                        <a:pt x="702" y="118"/>
                        <a:pt x="702" y="118"/>
                      </a:cubicBezTo>
                      <a:cubicBezTo>
                        <a:pt x="720" y="114"/>
                        <a:pt x="720" y="114"/>
                        <a:pt x="720" y="114"/>
                      </a:cubicBezTo>
                      <a:cubicBezTo>
                        <a:pt x="738" y="110"/>
                        <a:pt x="738" y="110"/>
                        <a:pt x="738" y="110"/>
                      </a:cubicBezTo>
                      <a:cubicBezTo>
                        <a:pt x="756" y="105"/>
                        <a:pt x="756" y="105"/>
                        <a:pt x="756" y="105"/>
                      </a:cubicBezTo>
                      <a:cubicBezTo>
                        <a:pt x="774" y="101"/>
                        <a:pt x="774" y="101"/>
                        <a:pt x="774" y="101"/>
                      </a:cubicBezTo>
                      <a:cubicBezTo>
                        <a:pt x="792" y="97"/>
                        <a:pt x="792" y="97"/>
                        <a:pt x="792" y="97"/>
                      </a:cubicBezTo>
                      <a:cubicBezTo>
                        <a:pt x="810" y="93"/>
                        <a:pt x="810" y="93"/>
                        <a:pt x="810" y="93"/>
                      </a:cubicBezTo>
                      <a:cubicBezTo>
                        <a:pt x="828" y="90"/>
                        <a:pt x="828" y="90"/>
                        <a:pt x="828" y="90"/>
                      </a:cubicBezTo>
                      <a:cubicBezTo>
                        <a:pt x="846" y="86"/>
                        <a:pt x="846" y="86"/>
                        <a:pt x="846" y="86"/>
                      </a:cubicBezTo>
                      <a:cubicBezTo>
                        <a:pt x="864" y="82"/>
                        <a:pt x="864" y="82"/>
                        <a:pt x="864" y="82"/>
                      </a:cubicBezTo>
                      <a:cubicBezTo>
                        <a:pt x="882" y="78"/>
                        <a:pt x="882" y="78"/>
                        <a:pt x="882" y="78"/>
                      </a:cubicBezTo>
                      <a:cubicBezTo>
                        <a:pt x="900" y="75"/>
                        <a:pt x="900" y="75"/>
                        <a:pt x="900" y="75"/>
                      </a:cubicBezTo>
                      <a:cubicBezTo>
                        <a:pt x="918" y="71"/>
                        <a:pt x="918" y="71"/>
                        <a:pt x="918" y="71"/>
                      </a:cubicBezTo>
                      <a:cubicBezTo>
                        <a:pt x="936" y="68"/>
                        <a:pt x="936" y="68"/>
                        <a:pt x="936" y="68"/>
                      </a:cubicBezTo>
                      <a:cubicBezTo>
                        <a:pt x="954" y="65"/>
                        <a:pt x="954" y="65"/>
                        <a:pt x="954" y="65"/>
                      </a:cubicBezTo>
                      <a:cubicBezTo>
                        <a:pt x="972" y="62"/>
                        <a:pt x="972" y="62"/>
                        <a:pt x="972" y="62"/>
                      </a:cubicBezTo>
                      <a:cubicBezTo>
                        <a:pt x="990" y="58"/>
                        <a:pt x="990" y="58"/>
                        <a:pt x="990" y="58"/>
                      </a:cubicBezTo>
                      <a:cubicBezTo>
                        <a:pt x="1008" y="55"/>
                        <a:pt x="1008" y="55"/>
                        <a:pt x="1008" y="55"/>
                      </a:cubicBezTo>
                      <a:cubicBezTo>
                        <a:pt x="1026" y="53"/>
                        <a:pt x="1026" y="53"/>
                        <a:pt x="1026" y="53"/>
                      </a:cubicBezTo>
                      <a:cubicBezTo>
                        <a:pt x="1044" y="50"/>
                        <a:pt x="1044" y="50"/>
                        <a:pt x="1044" y="50"/>
                      </a:cubicBezTo>
                      <a:cubicBezTo>
                        <a:pt x="1062" y="47"/>
                        <a:pt x="1062" y="47"/>
                        <a:pt x="1062" y="47"/>
                      </a:cubicBezTo>
                      <a:cubicBezTo>
                        <a:pt x="1080" y="44"/>
                        <a:pt x="1080" y="44"/>
                        <a:pt x="1080" y="44"/>
                      </a:cubicBezTo>
                      <a:cubicBezTo>
                        <a:pt x="1098" y="42"/>
                        <a:pt x="1098" y="42"/>
                        <a:pt x="1098" y="42"/>
                      </a:cubicBezTo>
                      <a:cubicBezTo>
                        <a:pt x="1116" y="40"/>
                        <a:pt x="1116" y="40"/>
                        <a:pt x="1116" y="40"/>
                      </a:cubicBezTo>
                      <a:cubicBezTo>
                        <a:pt x="1134" y="37"/>
                        <a:pt x="1134" y="37"/>
                        <a:pt x="1134" y="37"/>
                      </a:cubicBezTo>
                      <a:cubicBezTo>
                        <a:pt x="1152" y="35"/>
                        <a:pt x="1152" y="35"/>
                        <a:pt x="1152" y="35"/>
                      </a:cubicBezTo>
                      <a:cubicBezTo>
                        <a:pt x="1170" y="33"/>
                        <a:pt x="1170" y="33"/>
                        <a:pt x="1170" y="33"/>
                      </a:cubicBezTo>
                      <a:cubicBezTo>
                        <a:pt x="1188" y="31"/>
                        <a:pt x="1188" y="31"/>
                        <a:pt x="1188" y="31"/>
                      </a:cubicBezTo>
                      <a:cubicBezTo>
                        <a:pt x="1206" y="29"/>
                        <a:pt x="1206" y="29"/>
                        <a:pt x="1206" y="29"/>
                      </a:cubicBezTo>
                      <a:cubicBezTo>
                        <a:pt x="1224" y="27"/>
                        <a:pt x="1224" y="27"/>
                        <a:pt x="1224" y="27"/>
                      </a:cubicBezTo>
                      <a:cubicBezTo>
                        <a:pt x="1242" y="25"/>
                        <a:pt x="1242" y="25"/>
                        <a:pt x="1242" y="25"/>
                      </a:cubicBezTo>
                      <a:cubicBezTo>
                        <a:pt x="1260" y="23"/>
                        <a:pt x="1260" y="23"/>
                        <a:pt x="1260" y="23"/>
                      </a:cubicBezTo>
                      <a:cubicBezTo>
                        <a:pt x="1278" y="22"/>
                        <a:pt x="1278" y="22"/>
                        <a:pt x="1278" y="22"/>
                      </a:cubicBezTo>
                      <a:cubicBezTo>
                        <a:pt x="1296" y="20"/>
                        <a:pt x="1296" y="20"/>
                        <a:pt x="1296" y="20"/>
                      </a:cubicBezTo>
                      <a:cubicBezTo>
                        <a:pt x="1314" y="19"/>
                        <a:pt x="1314" y="19"/>
                        <a:pt x="1314" y="19"/>
                      </a:cubicBezTo>
                      <a:cubicBezTo>
                        <a:pt x="1332" y="17"/>
                        <a:pt x="1332" y="17"/>
                        <a:pt x="1332" y="17"/>
                      </a:cubicBezTo>
                      <a:cubicBezTo>
                        <a:pt x="1350" y="16"/>
                        <a:pt x="1350" y="16"/>
                        <a:pt x="1350" y="16"/>
                      </a:cubicBezTo>
                      <a:cubicBezTo>
                        <a:pt x="1368" y="15"/>
                        <a:pt x="1368" y="15"/>
                        <a:pt x="1368" y="15"/>
                      </a:cubicBezTo>
                      <a:cubicBezTo>
                        <a:pt x="1386" y="14"/>
                        <a:pt x="1386" y="14"/>
                        <a:pt x="1386" y="14"/>
                      </a:cubicBezTo>
                      <a:cubicBezTo>
                        <a:pt x="1404" y="13"/>
                        <a:pt x="1404" y="13"/>
                        <a:pt x="1404" y="13"/>
                      </a:cubicBezTo>
                      <a:cubicBezTo>
                        <a:pt x="1422" y="11"/>
                        <a:pt x="1422" y="11"/>
                        <a:pt x="1422" y="11"/>
                      </a:cubicBezTo>
                      <a:cubicBezTo>
                        <a:pt x="1440" y="10"/>
                        <a:pt x="1440" y="10"/>
                        <a:pt x="1440" y="10"/>
                      </a:cubicBezTo>
                      <a:cubicBezTo>
                        <a:pt x="1458" y="10"/>
                        <a:pt x="1458" y="10"/>
                        <a:pt x="1458" y="10"/>
                      </a:cubicBezTo>
                      <a:cubicBezTo>
                        <a:pt x="1476" y="9"/>
                        <a:pt x="1476" y="9"/>
                        <a:pt x="1476" y="9"/>
                      </a:cubicBezTo>
                      <a:cubicBezTo>
                        <a:pt x="1494" y="8"/>
                        <a:pt x="1494" y="8"/>
                        <a:pt x="1494" y="8"/>
                      </a:cubicBezTo>
                      <a:cubicBezTo>
                        <a:pt x="1512" y="7"/>
                        <a:pt x="1512" y="7"/>
                        <a:pt x="1512" y="7"/>
                      </a:cubicBezTo>
                      <a:cubicBezTo>
                        <a:pt x="1530" y="6"/>
                        <a:pt x="1530" y="6"/>
                        <a:pt x="1530" y="6"/>
                      </a:cubicBezTo>
                      <a:cubicBezTo>
                        <a:pt x="1548" y="6"/>
                        <a:pt x="1548" y="6"/>
                        <a:pt x="1548" y="6"/>
                      </a:cubicBezTo>
                      <a:cubicBezTo>
                        <a:pt x="1566" y="5"/>
                        <a:pt x="1566" y="5"/>
                        <a:pt x="1566" y="5"/>
                      </a:cubicBezTo>
                      <a:cubicBezTo>
                        <a:pt x="1584" y="4"/>
                        <a:pt x="1584" y="4"/>
                        <a:pt x="1584" y="4"/>
                      </a:cubicBezTo>
                      <a:cubicBezTo>
                        <a:pt x="1602" y="4"/>
                        <a:pt x="1602" y="4"/>
                        <a:pt x="1602" y="4"/>
                      </a:cubicBezTo>
                      <a:cubicBezTo>
                        <a:pt x="1620" y="3"/>
                        <a:pt x="1620" y="3"/>
                        <a:pt x="1620" y="3"/>
                      </a:cubicBezTo>
                      <a:cubicBezTo>
                        <a:pt x="1638" y="3"/>
                        <a:pt x="1638" y="3"/>
                        <a:pt x="1638" y="3"/>
                      </a:cubicBezTo>
                      <a:cubicBezTo>
                        <a:pt x="1656" y="2"/>
                        <a:pt x="1656" y="2"/>
                        <a:pt x="1656" y="2"/>
                      </a:cubicBezTo>
                      <a:cubicBezTo>
                        <a:pt x="1674" y="2"/>
                        <a:pt x="1674" y="2"/>
                        <a:pt x="1674" y="2"/>
                      </a:cubicBezTo>
                      <a:cubicBezTo>
                        <a:pt x="1692" y="1"/>
                        <a:pt x="1692" y="1"/>
                        <a:pt x="1692" y="1"/>
                      </a:cubicBezTo>
                      <a:cubicBezTo>
                        <a:pt x="1710" y="1"/>
                        <a:pt x="1710" y="1"/>
                        <a:pt x="1710" y="1"/>
                      </a:cubicBezTo>
                      <a:cubicBezTo>
                        <a:pt x="1728" y="1"/>
                        <a:pt x="1728" y="1"/>
                        <a:pt x="1728" y="1"/>
                      </a:cubicBezTo>
                      <a:cubicBezTo>
                        <a:pt x="1746" y="0"/>
                        <a:pt x="1746" y="0"/>
                        <a:pt x="1746" y="0"/>
                      </a:cubicBezTo>
                      <a:cubicBezTo>
                        <a:pt x="1764" y="0"/>
                        <a:pt x="1764" y="0"/>
                        <a:pt x="1764" y="0"/>
                      </a:cubicBezTo>
                      <a:cubicBezTo>
                        <a:pt x="1782" y="0"/>
                        <a:pt x="1782" y="0"/>
                        <a:pt x="1782" y="0"/>
                      </a:cubicBezTo>
                      <a:cubicBezTo>
                        <a:pt x="1800" y="0"/>
                        <a:pt x="1800" y="0"/>
                        <a:pt x="1800" y="0"/>
                      </a:cubicBezTo>
                    </a:path>
                  </a:pathLst>
                </a:custGeom>
                <a:noFill/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flipH="1" flipV="1">
                  <a:off x="1450440" y="4712040"/>
                  <a:ext cx="807480" cy="1015920"/>
                </a:xfrm>
                <a:custGeom>
                  <a:avLst/>
                  <a:gdLst/>
                  <a:ahLst/>
                  <a:rect l="l" t="t" r="r" b="b"/>
                  <a:pathLst>
                    <a:path w="1800" h="237">
                      <a:moveTo>
                        <a:pt x="0" y="237"/>
                      </a:moveTo>
                      <a:cubicBezTo>
                        <a:pt x="18" y="237"/>
                        <a:pt x="18" y="237"/>
                        <a:pt x="18" y="237"/>
                      </a:cubicBezTo>
                      <a:cubicBezTo>
                        <a:pt x="36" y="236"/>
                        <a:pt x="36" y="236"/>
                        <a:pt x="36" y="236"/>
                      </a:cubicBezTo>
                      <a:cubicBezTo>
                        <a:pt x="54" y="236"/>
                        <a:pt x="54" y="236"/>
                        <a:pt x="54" y="236"/>
                      </a:cubicBezTo>
                      <a:cubicBezTo>
                        <a:pt x="72" y="235"/>
                        <a:pt x="72" y="235"/>
                        <a:pt x="72" y="235"/>
                      </a:cubicBezTo>
                      <a:cubicBezTo>
                        <a:pt x="90" y="234"/>
                        <a:pt x="90" y="234"/>
                        <a:pt x="90" y="234"/>
                      </a:cubicBezTo>
                      <a:cubicBezTo>
                        <a:pt x="108" y="233"/>
                        <a:pt x="108" y="233"/>
                        <a:pt x="108" y="233"/>
                      </a:cubicBezTo>
                      <a:cubicBezTo>
                        <a:pt x="126" y="232"/>
                        <a:pt x="126" y="232"/>
                        <a:pt x="126" y="232"/>
                      </a:cubicBezTo>
                      <a:cubicBezTo>
                        <a:pt x="144" y="230"/>
                        <a:pt x="144" y="230"/>
                        <a:pt x="144" y="230"/>
                      </a:cubicBezTo>
                      <a:cubicBezTo>
                        <a:pt x="162" y="228"/>
                        <a:pt x="162" y="228"/>
                        <a:pt x="162" y="228"/>
                      </a:cubicBezTo>
                      <a:cubicBezTo>
                        <a:pt x="180" y="226"/>
                        <a:pt x="180" y="226"/>
                        <a:pt x="180" y="226"/>
                      </a:cubicBezTo>
                      <a:cubicBezTo>
                        <a:pt x="198" y="224"/>
                        <a:pt x="198" y="224"/>
                        <a:pt x="198" y="224"/>
                      </a:cubicBezTo>
                      <a:cubicBezTo>
                        <a:pt x="216" y="222"/>
                        <a:pt x="216" y="222"/>
                        <a:pt x="216" y="222"/>
                      </a:cubicBezTo>
                      <a:cubicBezTo>
                        <a:pt x="234" y="219"/>
                        <a:pt x="234" y="219"/>
                        <a:pt x="234" y="219"/>
                      </a:cubicBezTo>
                      <a:cubicBezTo>
                        <a:pt x="252" y="217"/>
                        <a:pt x="252" y="217"/>
                        <a:pt x="252" y="217"/>
                      </a:cubicBezTo>
                      <a:cubicBezTo>
                        <a:pt x="270" y="214"/>
                        <a:pt x="270" y="214"/>
                        <a:pt x="270" y="214"/>
                      </a:cubicBezTo>
                      <a:cubicBezTo>
                        <a:pt x="288" y="211"/>
                        <a:pt x="288" y="211"/>
                        <a:pt x="288" y="211"/>
                      </a:cubicBezTo>
                      <a:cubicBezTo>
                        <a:pt x="306" y="208"/>
                        <a:pt x="306" y="208"/>
                        <a:pt x="306" y="208"/>
                      </a:cubicBezTo>
                      <a:cubicBezTo>
                        <a:pt x="324" y="204"/>
                        <a:pt x="324" y="204"/>
                        <a:pt x="324" y="204"/>
                      </a:cubicBezTo>
                      <a:cubicBezTo>
                        <a:pt x="342" y="201"/>
                        <a:pt x="342" y="201"/>
                        <a:pt x="342" y="201"/>
                      </a:cubicBezTo>
                      <a:cubicBezTo>
                        <a:pt x="360" y="197"/>
                        <a:pt x="360" y="197"/>
                        <a:pt x="360" y="197"/>
                      </a:cubicBezTo>
                      <a:cubicBezTo>
                        <a:pt x="378" y="194"/>
                        <a:pt x="378" y="194"/>
                        <a:pt x="378" y="194"/>
                      </a:cubicBezTo>
                      <a:cubicBezTo>
                        <a:pt x="396" y="190"/>
                        <a:pt x="396" y="190"/>
                        <a:pt x="396" y="190"/>
                      </a:cubicBezTo>
                      <a:cubicBezTo>
                        <a:pt x="414" y="186"/>
                        <a:pt x="414" y="186"/>
                        <a:pt x="414" y="186"/>
                      </a:cubicBezTo>
                      <a:cubicBezTo>
                        <a:pt x="432" y="182"/>
                        <a:pt x="432" y="182"/>
                        <a:pt x="432" y="182"/>
                      </a:cubicBezTo>
                      <a:cubicBezTo>
                        <a:pt x="450" y="178"/>
                        <a:pt x="450" y="178"/>
                        <a:pt x="450" y="178"/>
                      </a:cubicBezTo>
                      <a:cubicBezTo>
                        <a:pt x="468" y="174"/>
                        <a:pt x="468" y="174"/>
                        <a:pt x="468" y="174"/>
                      </a:cubicBezTo>
                      <a:cubicBezTo>
                        <a:pt x="486" y="170"/>
                        <a:pt x="486" y="170"/>
                        <a:pt x="486" y="170"/>
                      </a:cubicBezTo>
                      <a:cubicBezTo>
                        <a:pt x="504" y="165"/>
                        <a:pt x="504" y="165"/>
                        <a:pt x="504" y="165"/>
                      </a:cubicBezTo>
                      <a:cubicBezTo>
                        <a:pt x="522" y="161"/>
                        <a:pt x="522" y="161"/>
                        <a:pt x="522" y="161"/>
                      </a:cubicBezTo>
                      <a:cubicBezTo>
                        <a:pt x="540" y="157"/>
                        <a:pt x="540" y="157"/>
                        <a:pt x="540" y="157"/>
                      </a:cubicBezTo>
                      <a:cubicBezTo>
                        <a:pt x="558" y="153"/>
                        <a:pt x="558" y="153"/>
                        <a:pt x="558" y="153"/>
                      </a:cubicBezTo>
                      <a:cubicBezTo>
                        <a:pt x="576" y="148"/>
                        <a:pt x="576" y="148"/>
                        <a:pt x="576" y="148"/>
                      </a:cubicBezTo>
                      <a:cubicBezTo>
                        <a:pt x="594" y="144"/>
                        <a:pt x="594" y="144"/>
                        <a:pt x="594" y="144"/>
                      </a:cubicBezTo>
                      <a:cubicBezTo>
                        <a:pt x="612" y="140"/>
                        <a:pt x="612" y="140"/>
                        <a:pt x="612" y="140"/>
                      </a:cubicBezTo>
                      <a:cubicBezTo>
                        <a:pt x="630" y="135"/>
                        <a:pt x="630" y="135"/>
                        <a:pt x="630" y="135"/>
                      </a:cubicBezTo>
                      <a:cubicBezTo>
                        <a:pt x="648" y="131"/>
                        <a:pt x="648" y="131"/>
                        <a:pt x="648" y="131"/>
                      </a:cubicBezTo>
                      <a:cubicBezTo>
                        <a:pt x="666" y="126"/>
                        <a:pt x="666" y="126"/>
                        <a:pt x="666" y="126"/>
                      </a:cubicBezTo>
                      <a:cubicBezTo>
                        <a:pt x="684" y="122"/>
                        <a:pt x="684" y="122"/>
                        <a:pt x="684" y="122"/>
                      </a:cubicBezTo>
                      <a:cubicBezTo>
                        <a:pt x="702" y="118"/>
                        <a:pt x="702" y="118"/>
                        <a:pt x="702" y="118"/>
                      </a:cubicBezTo>
                      <a:cubicBezTo>
                        <a:pt x="720" y="114"/>
                        <a:pt x="720" y="114"/>
                        <a:pt x="720" y="114"/>
                      </a:cubicBezTo>
                      <a:cubicBezTo>
                        <a:pt x="738" y="110"/>
                        <a:pt x="738" y="110"/>
                        <a:pt x="738" y="110"/>
                      </a:cubicBezTo>
                      <a:cubicBezTo>
                        <a:pt x="756" y="105"/>
                        <a:pt x="756" y="105"/>
                        <a:pt x="756" y="105"/>
                      </a:cubicBezTo>
                      <a:cubicBezTo>
                        <a:pt x="774" y="101"/>
                        <a:pt x="774" y="101"/>
                        <a:pt x="774" y="101"/>
                      </a:cubicBezTo>
                      <a:cubicBezTo>
                        <a:pt x="792" y="97"/>
                        <a:pt x="792" y="97"/>
                        <a:pt x="792" y="97"/>
                      </a:cubicBezTo>
                      <a:cubicBezTo>
                        <a:pt x="810" y="93"/>
                        <a:pt x="810" y="93"/>
                        <a:pt x="810" y="93"/>
                      </a:cubicBezTo>
                      <a:cubicBezTo>
                        <a:pt x="828" y="90"/>
                        <a:pt x="828" y="90"/>
                        <a:pt x="828" y="90"/>
                      </a:cubicBezTo>
                      <a:cubicBezTo>
                        <a:pt x="846" y="86"/>
                        <a:pt x="846" y="86"/>
                        <a:pt x="846" y="86"/>
                      </a:cubicBezTo>
                      <a:cubicBezTo>
                        <a:pt x="864" y="82"/>
                        <a:pt x="864" y="82"/>
                        <a:pt x="864" y="82"/>
                      </a:cubicBezTo>
                      <a:cubicBezTo>
                        <a:pt x="882" y="78"/>
                        <a:pt x="882" y="78"/>
                        <a:pt x="882" y="78"/>
                      </a:cubicBezTo>
                      <a:cubicBezTo>
                        <a:pt x="900" y="75"/>
                        <a:pt x="900" y="75"/>
                        <a:pt x="900" y="75"/>
                      </a:cubicBezTo>
                      <a:cubicBezTo>
                        <a:pt x="918" y="71"/>
                        <a:pt x="918" y="71"/>
                        <a:pt x="918" y="71"/>
                      </a:cubicBezTo>
                      <a:cubicBezTo>
                        <a:pt x="936" y="68"/>
                        <a:pt x="936" y="68"/>
                        <a:pt x="936" y="68"/>
                      </a:cubicBezTo>
                      <a:cubicBezTo>
                        <a:pt x="954" y="65"/>
                        <a:pt x="954" y="65"/>
                        <a:pt x="954" y="65"/>
                      </a:cubicBezTo>
                      <a:cubicBezTo>
                        <a:pt x="972" y="62"/>
                        <a:pt x="972" y="62"/>
                        <a:pt x="972" y="62"/>
                      </a:cubicBezTo>
                      <a:cubicBezTo>
                        <a:pt x="990" y="58"/>
                        <a:pt x="990" y="58"/>
                        <a:pt x="990" y="58"/>
                      </a:cubicBezTo>
                      <a:cubicBezTo>
                        <a:pt x="1008" y="55"/>
                        <a:pt x="1008" y="55"/>
                        <a:pt x="1008" y="55"/>
                      </a:cubicBezTo>
                      <a:cubicBezTo>
                        <a:pt x="1026" y="53"/>
                        <a:pt x="1026" y="53"/>
                        <a:pt x="1026" y="53"/>
                      </a:cubicBezTo>
                      <a:cubicBezTo>
                        <a:pt x="1044" y="50"/>
                        <a:pt x="1044" y="50"/>
                        <a:pt x="1044" y="50"/>
                      </a:cubicBezTo>
                      <a:cubicBezTo>
                        <a:pt x="1062" y="47"/>
                        <a:pt x="1062" y="47"/>
                        <a:pt x="1062" y="47"/>
                      </a:cubicBezTo>
                      <a:cubicBezTo>
                        <a:pt x="1080" y="44"/>
                        <a:pt x="1080" y="44"/>
                        <a:pt x="1080" y="44"/>
                      </a:cubicBezTo>
                      <a:cubicBezTo>
                        <a:pt x="1098" y="42"/>
                        <a:pt x="1098" y="42"/>
                        <a:pt x="1098" y="42"/>
                      </a:cubicBezTo>
                      <a:cubicBezTo>
                        <a:pt x="1116" y="40"/>
                        <a:pt x="1116" y="40"/>
                        <a:pt x="1116" y="40"/>
                      </a:cubicBezTo>
                      <a:cubicBezTo>
                        <a:pt x="1134" y="37"/>
                        <a:pt x="1134" y="37"/>
                        <a:pt x="1134" y="37"/>
                      </a:cubicBezTo>
                      <a:cubicBezTo>
                        <a:pt x="1152" y="35"/>
                        <a:pt x="1152" y="35"/>
                        <a:pt x="1152" y="35"/>
                      </a:cubicBezTo>
                      <a:cubicBezTo>
                        <a:pt x="1170" y="33"/>
                        <a:pt x="1170" y="33"/>
                        <a:pt x="1170" y="33"/>
                      </a:cubicBezTo>
                      <a:cubicBezTo>
                        <a:pt x="1188" y="31"/>
                        <a:pt x="1188" y="31"/>
                        <a:pt x="1188" y="31"/>
                      </a:cubicBezTo>
                      <a:cubicBezTo>
                        <a:pt x="1206" y="29"/>
                        <a:pt x="1206" y="29"/>
                        <a:pt x="1206" y="29"/>
                      </a:cubicBezTo>
                      <a:cubicBezTo>
                        <a:pt x="1224" y="27"/>
                        <a:pt x="1224" y="27"/>
                        <a:pt x="1224" y="27"/>
                      </a:cubicBezTo>
                      <a:cubicBezTo>
                        <a:pt x="1242" y="25"/>
                        <a:pt x="1242" y="25"/>
                        <a:pt x="1242" y="25"/>
                      </a:cubicBezTo>
                      <a:cubicBezTo>
                        <a:pt x="1260" y="23"/>
                        <a:pt x="1260" y="23"/>
                        <a:pt x="1260" y="23"/>
                      </a:cubicBezTo>
                      <a:cubicBezTo>
                        <a:pt x="1278" y="22"/>
                        <a:pt x="1278" y="22"/>
                        <a:pt x="1278" y="22"/>
                      </a:cubicBezTo>
                      <a:cubicBezTo>
                        <a:pt x="1296" y="20"/>
                        <a:pt x="1296" y="20"/>
                        <a:pt x="1296" y="20"/>
                      </a:cubicBezTo>
                      <a:cubicBezTo>
                        <a:pt x="1314" y="19"/>
                        <a:pt x="1314" y="19"/>
                        <a:pt x="1314" y="19"/>
                      </a:cubicBezTo>
                      <a:cubicBezTo>
                        <a:pt x="1332" y="17"/>
                        <a:pt x="1332" y="17"/>
                        <a:pt x="1332" y="17"/>
                      </a:cubicBezTo>
                      <a:cubicBezTo>
                        <a:pt x="1350" y="16"/>
                        <a:pt x="1350" y="16"/>
                        <a:pt x="1350" y="16"/>
                      </a:cubicBezTo>
                      <a:cubicBezTo>
                        <a:pt x="1368" y="15"/>
                        <a:pt x="1368" y="15"/>
                        <a:pt x="1368" y="15"/>
                      </a:cubicBezTo>
                      <a:cubicBezTo>
                        <a:pt x="1386" y="14"/>
                        <a:pt x="1386" y="14"/>
                        <a:pt x="1386" y="14"/>
                      </a:cubicBezTo>
                      <a:cubicBezTo>
                        <a:pt x="1404" y="13"/>
                        <a:pt x="1404" y="13"/>
                        <a:pt x="1404" y="13"/>
                      </a:cubicBezTo>
                      <a:cubicBezTo>
                        <a:pt x="1422" y="11"/>
                        <a:pt x="1422" y="11"/>
                        <a:pt x="1422" y="11"/>
                      </a:cubicBezTo>
                      <a:cubicBezTo>
                        <a:pt x="1440" y="10"/>
                        <a:pt x="1440" y="10"/>
                        <a:pt x="1440" y="10"/>
                      </a:cubicBezTo>
                      <a:cubicBezTo>
                        <a:pt x="1458" y="10"/>
                        <a:pt x="1458" y="10"/>
                        <a:pt x="1458" y="10"/>
                      </a:cubicBezTo>
                      <a:cubicBezTo>
                        <a:pt x="1476" y="9"/>
                        <a:pt x="1476" y="9"/>
                        <a:pt x="1476" y="9"/>
                      </a:cubicBezTo>
                      <a:cubicBezTo>
                        <a:pt x="1494" y="8"/>
                        <a:pt x="1494" y="8"/>
                        <a:pt x="1494" y="8"/>
                      </a:cubicBezTo>
                      <a:cubicBezTo>
                        <a:pt x="1512" y="7"/>
                        <a:pt x="1512" y="7"/>
                        <a:pt x="1512" y="7"/>
                      </a:cubicBezTo>
                      <a:cubicBezTo>
                        <a:pt x="1530" y="6"/>
                        <a:pt x="1530" y="6"/>
                        <a:pt x="1530" y="6"/>
                      </a:cubicBezTo>
                      <a:cubicBezTo>
                        <a:pt x="1548" y="6"/>
                        <a:pt x="1548" y="6"/>
                        <a:pt x="1548" y="6"/>
                      </a:cubicBezTo>
                      <a:cubicBezTo>
                        <a:pt x="1566" y="5"/>
                        <a:pt x="1566" y="5"/>
                        <a:pt x="1566" y="5"/>
                      </a:cubicBezTo>
                      <a:cubicBezTo>
                        <a:pt x="1584" y="4"/>
                        <a:pt x="1584" y="4"/>
                        <a:pt x="1584" y="4"/>
                      </a:cubicBezTo>
                      <a:cubicBezTo>
                        <a:pt x="1602" y="4"/>
                        <a:pt x="1602" y="4"/>
                        <a:pt x="1602" y="4"/>
                      </a:cubicBezTo>
                      <a:cubicBezTo>
                        <a:pt x="1620" y="3"/>
                        <a:pt x="1620" y="3"/>
                        <a:pt x="1620" y="3"/>
                      </a:cubicBezTo>
                      <a:cubicBezTo>
                        <a:pt x="1638" y="3"/>
                        <a:pt x="1638" y="3"/>
                        <a:pt x="1638" y="3"/>
                      </a:cubicBezTo>
                      <a:cubicBezTo>
                        <a:pt x="1656" y="2"/>
                        <a:pt x="1656" y="2"/>
                        <a:pt x="1656" y="2"/>
                      </a:cubicBezTo>
                      <a:cubicBezTo>
                        <a:pt x="1674" y="2"/>
                        <a:pt x="1674" y="2"/>
                        <a:pt x="1674" y="2"/>
                      </a:cubicBezTo>
                      <a:cubicBezTo>
                        <a:pt x="1692" y="1"/>
                        <a:pt x="1692" y="1"/>
                        <a:pt x="1692" y="1"/>
                      </a:cubicBezTo>
                      <a:cubicBezTo>
                        <a:pt x="1710" y="1"/>
                        <a:pt x="1710" y="1"/>
                        <a:pt x="1710" y="1"/>
                      </a:cubicBezTo>
                      <a:cubicBezTo>
                        <a:pt x="1728" y="1"/>
                        <a:pt x="1728" y="1"/>
                        <a:pt x="1728" y="1"/>
                      </a:cubicBezTo>
                      <a:cubicBezTo>
                        <a:pt x="1746" y="0"/>
                        <a:pt x="1746" y="0"/>
                        <a:pt x="1746" y="0"/>
                      </a:cubicBezTo>
                      <a:cubicBezTo>
                        <a:pt x="1764" y="0"/>
                        <a:pt x="1764" y="0"/>
                        <a:pt x="1764" y="0"/>
                      </a:cubicBezTo>
                      <a:cubicBezTo>
                        <a:pt x="1782" y="0"/>
                        <a:pt x="1782" y="0"/>
                        <a:pt x="1782" y="0"/>
                      </a:cubicBezTo>
                      <a:cubicBezTo>
                        <a:pt x="1800" y="0"/>
                        <a:pt x="1800" y="0"/>
                        <a:pt x="1800" y="0"/>
                      </a:cubicBezTo>
                    </a:path>
                  </a:pathLst>
                </a:custGeom>
                <a:noFill/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4" name=""/>
              <p:cNvGrpSpPr/>
              <p:nvPr/>
            </p:nvGrpSpPr>
            <p:grpSpPr>
              <a:xfrm>
                <a:off x="2383560" y="4712040"/>
                <a:ext cx="1615320" cy="1015920"/>
                <a:chOff x="2383560" y="4712040"/>
                <a:chExt cx="1615320" cy="1015920"/>
              </a:xfrm>
            </p:grpSpPr>
            <p:sp>
              <p:nvSpPr>
                <p:cNvPr id="2255" name=""/>
                <p:cNvSpPr/>
                <p:nvPr/>
              </p:nvSpPr>
              <p:spPr>
                <a:xfrm flipV="1">
                  <a:off x="3191400" y="4713120"/>
                  <a:ext cx="807480" cy="1014480"/>
                </a:xfrm>
                <a:custGeom>
                  <a:avLst/>
                  <a:gdLst/>
                  <a:ahLst/>
                  <a:rect l="l" t="t" r="r" b="b"/>
                  <a:pathLst>
                    <a:path w="1800" h="237">
                      <a:moveTo>
                        <a:pt x="0" y="237"/>
                      </a:moveTo>
                      <a:cubicBezTo>
                        <a:pt x="18" y="237"/>
                        <a:pt x="18" y="237"/>
                        <a:pt x="18" y="237"/>
                      </a:cubicBezTo>
                      <a:cubicBezTo>
                        <a:pt x="36" y="236"/>
                        <a:pt x="36" y="236"/>
                        <a:pt x="36" y="236"/>
                      </a:cubicBezTo>
                      <a:cubicBezTo>
                        <a:pt x="54" y="236"/>
                        <a:pt x="54" y="236"/>
                        <a:pt x="54" y="236"/>
                      </a:cubicBezTo>
                      <a:cubicBezTo>
                        <a:pt x="72" y="235"/>
                        <a:pt x="72" y="235"/>
                        <a:pt x="72" y="235"/>
                      </a:cubicBezTo>
                      <a:cubicBezTo>
                        <a:pt x="90" y="234"/>
                        <a:pt x="90" y="234"/>
                        <a:pt x="90" y="234"/>
                      </a:cubicBezTo>
                      <a:cubicBezTo>
                        <a:pt x="108" y="233"/>
                        <a:pt x="108" y="233"/>
                        <a:pt x="108" y="233"/>
                      </a:cubicBezTo>
                      <a:cubicBezTo>
                        <a:pt x="126" y="232"/>
                        <a:pt x="126" y="232"/>
                        <a:pt x="126" y="232"/>
                      </a:cubicBezTo>
                      <a:cubicBezTo>
                        <a:pt x="144" y="230"/>
                        <a:pt x="144" y="230"/>
                        <a:pt x="144" y="230"/>
                      </a:cubicBezTo>
                      <a:cubicBezTo>
                        <a:pt x="162" y="228"/>
                        <a:pt x="162" y="228"/>
                        <a:pt x="162" y="228"/>
                      </a:cubicBezTo>
                      <a:cubicBezTo>
                        <a:pt x="180" y="226"/>
                        <a:pt x="180" y="226"/>
                        <a:pt x="180" y="226"/>
                      </a:cubicBezTo>
                      <a:cubicBezTo>
                        <a:pt x="198" y="224"/>
                        <a:pt x="198" y="224"/>
                        <a:pt x="198" y="224"/>
                      </a:cubicBezTo>
                      <a:cubicBezTo>
                        <a:pt x="216" y="222"/>
                        <a:pt x="216" y="222"/>
                        <a:pt x="216" y="222"/>
                      </a:cubicBezTo>
                      <a:cubicBezTo>
                        <a:pt x="234" y="219"/>
                        <a:pt x="234" y="219"/>
                        <a:pt x="234" y="219"/>
                      </a:cubicBezTo>
                      <a:cubicBezTo>
                        <a:pt x="252" y="217"/>
                        <a:pt x="252" y="217"/>
                        <a:pt x="252" y="217"/>
                      </a:cubicBezTo>
                      <a:cubicBezTo>
                        <a:pt x="270" y="214"/>
                        <a:pt x="270" y="214"/>
                        <a:pt x="270" y="214"/>
                      </a:cubicBezTo>
                      <a:cubicBezTo>
                        <a:pt x="288" y="211"/>
                        <a:pt x="288" y="211"/>
                        <a:pt x="288" y="211"/>
                      </a:cubicBezTo>
                      <a:cubicBezTo>
                        <a:pt x="306" y="208"/>
                        <a:pt x="306" y="208"/>
                        <a:pt x="306" y="208"/>
                      </a:cubicBezTo>
                      <a:cubicBezTo>
                        <a:pt x="324" y="204"/>
                        <a:pt x="324" y="204"/>
                        <a:pt x="324" y="204"/>
                      </a:cubicBezTo>
                      <a:cubicBezTo>
                        <a:pt x="342" y="201"/>
                        <a:pt x="342" y="201"/>
                        <a:pt x="342" y="201"/>
                      </a:cubicBezTo>
                      <a:cubicBezTo>
                        <a:pt x="360" y="197"/>
                        <a:pt x="360" y="197"/>
                        <a:pt x="360" y="197"/>
                      </a:cubicBezTo>
                      <a:cubicBezTo>
                        <a:pt x="378" y="194"/>
                        <a:pt x="378" y="194"/>
                        <a:pt x="378" y="194"/>
                      </a:cubicBezTo>
                      <a:cubicBezTo>
                        <a:pt x="396" y="190"/>
                        <a:pt x="396" y="190"/>
                        <a:pt x="396" y="190"/>
                      </a:cubicBezTo>
                      <a:cubicBezTo>
                        <a:pt x="414" y="186"/>
                        <a:pt x="414" y="186"/>
                        <a:pt x="414" y="186"/>
                      </a:cubicBezTo>
                      <a:cubicBezTo>
                        <a:pt x="432" y="182"/>
                        <a:pt x="432" y="182"/>
                        <a:pt x="432" y="182"/>
                      </a:cubicBezTo>
                      <a:cubicBezTo>
                        <a:pt x="450" y="178"/>
                        <a:pt x="450" y="178"/>
                        <a:pt x="450" y="178"/>
                      </a:cubicBezTo>
                      <a:cubicBezTo>
                        <a:pt x="468" y="174"/>
                        <a:pt x="468" y="174"/>
                        <a:pt x="468" y="174"/>
                      </a:cubicBezTo>
                      <a:cubicBezTo>
                        <a:pt x="486" y="170"/>
                        <a:pt x="486" y="170"/>
                        <a:pt x="486" y="170"/>
                      </a:cubicBezTo>
                      <a:cubicBezTo>
                        <a:pt x="504" y="165"/>
                        <a:pt x="504" y="165"/>
                        <a:pt x="504" y="165"/>
                      </a:cubicBezTo>
                      <a:cubicBezTo>
                        <a:pt x="522" y="161"/>
                        <a:pt x="522" y="161"/>
                        <a:pt x="522" y="161"/>
                      </a:cubicBezTo>
                      <a:cubicBezTo>
                        <a:pt x="540" y="157"/>
                        <a:pt x="540" y="157"/>
                        <a:pt x="540" y="157"/>
                      </a:cubicBezTo>
                      <a:cubicBezTo>
                        <a:pt x="558" y="153"/>
                        <a:pt x="558" y="153"/>
                        <a:pt x="558" y="153"/>
                      </a:cubicBezTo>
                      <a:cubicBezTo>
                        <a:pt x="576" y="148"/>
                        <a:pt x="576" y="148"/>
                        <a:pt x="576" y="148"/>
                      </a:cubicBezTo>
                      <a:cubicBezTo>
                        <a:pt x="594" y="144"/>
                        <a:pt x="594" y="144"/>
                        <a:pt x="594" y="144"/>
                      </a:cubicBezTo>
                      <a:cubicBezTo>
                        <a:pt x="612" y="140"/>
                        <a:pt x="612" y="140"/>
                        <a:pt x="612" y="140"/>
                      </a:cubicBezTo>
                      <a:cubicBezTo>
                        <a:pt x="630" y="135"/>
                        <a:pt x="630" y="135"/>
                        <a:pt x="630" y="135"/>
                      </a:cubicBezTo>
                      <a:cubicBezTo>
                        <a:pt x="648" y="131"/>
                        <a:pt x="648" y="131"/>
                        <a:pt x="648" y="131"/>
                      </a:cubicBezTo>
                      <a:cubicBezTo>
                        <a:pt x="666" y="126"/>
                        <a:pt x="666" y="126"/>
                        <a:pt x="666" y="126"/>
                      </a:cubicBezTo>
                      <a:cubicBezTo>
                        <a:pt x="684" y="122"/>
                        <a:pt x="684" y="122"/>
                        <a:pt x="684" y="122"/>
                      </a:cubicBezTo>
                      <a:cubicBezTo>
                        <a:pt x="702" y="118"/>
                        <a:pt x="702" y="118"/>
                        <a:pt x="702" y="118"/>
                      </a:cubicBezTo>
                      <a:cubicBezTo>
                        <a:pt x="720" y="114"/>
                        <a:pt x="720" y="114"/>
                        <a:pt x="720" y="114"/>
                      </a:cubicBezTo>
                      <a:cubicBezTo>
                        <a:pt x="738" y="110"/>
                        <a:pt x="738" y="110"/>
                        <a:pt x="738" y="110"/>
                      </a:cubicBezTo>
                      <a:cubicBezTo>
                        <a:pt x="756" y="105"/>
                        <a:pt x="756" y="105"/>
                        <a:pt x="756" y="105"/>
                      </a:cubicBezTo>
                      <a:cubicBezTo>
                        <a:pt x="774" y="101"/>
                        <a:pt x="774" y="101"/>
                        <a:pt x="774" y="101"/>
                      </a:cubicBezTo>
                      <a:cubicBezTo>
                        <a:pt x="792" y="97"/>
                        <a:pt x="792" y="97"/>
                        <a:pt x="792" y="97"/>
                      </a:cubicBezTo>
                      <a:cubicBezTo>
                        <a:pt x="810" y="93"/>
                        <a:pt x="810" y="93"/>
                        <a:pt x="810" y="93"/>
                      </a:cubicBezTo>
                      <a:cubicBezTo>
                        <a:pt x="828" y="90"/>
                        <a:pt x="828" y="90"/>
                        <a:pt x="828" y="90"/>
                      </a:cubicBezTo>
                      <a:cubicBezTo>
                        <a:pt x="846" y="86"/>
                        <a:pt x="846" y="86"/>
                        <a:pt x="846" y="86"/>
                      </a:cubicBezTo>
                      <a:cubicBezTo>
                        <a:pt x="864" y="82"/>
                        <a:pt x="864" y="82"/>
                        <a:pt x="864" y="82"/>
                      </a:cubicBezTo>
                      <a:cubicBezTo>
                        <a:pt x="882" y="78"/>
                        <a:pt x="882" y="78"/>
                        <a:pt x="882" y="78"/>
                      </a:cubicBezTo>
                      <a:cubicBezTo>
                        <a:pt x="900" y="75"/>
                        <a:pt x="900" y="75"/>
                        <a:pt x="900" y="75"/>
                      </a:cubicBezTo>
                      <a:cubicBezTo>
                        <a:pt x="918" y="71"/>
                        <a:pt x="918" y="71"/>
                        <a:pt x="918" y="71"/>
                      </a:cubicBezTo>
                      <a:cubicBezTo>
                        <a:pt x="936" y="68"/>
                        <a:pt x="936" y="68"/>
                        <a:pt x="936" y="68"/>
                      </a:cubicBezTo>
                      <a:cubicBezTo>
                        <a:pt x="954" y="65"/>
                        <a:pt x="954" y="65"/>
                        <a:pt x="954" y="65"/>
                      </a:cubicBezTo>
                      <a:cubicBezTo>
                        <a:pt x="972" y="62"/>
                        <a:pt x="972" y="62"/>
                        <a:pt x="972" y="62"/>
                      </a:cubicBezTo>
                      <a:cubicBezTo>
                        <a:pt x="990" y="58"/>
                        <a:pt x="990" y="58"/>
                        <a:pt x="990" y="58"/>
                      </a:cubicBezTo>
                      <a:cubicBezTo>
                        <a:pt x="1008" y="55"/>
                        <a:pt x="1008" y="55"/>
                        <a:pt x="1008" y="55"/>
                      </a:cubicBezTo>
                      <a:cubicBezTo>
                        <a:pt x="1026" y="53"/>
                        <a:pt x="1026" y="53"/>
                        <a:pt x="1026" y="53"/>
                      </a:cubicBezTo>
                      <a:cubicBezTo>
                        <a:pt x="1044" y="50"/>
                        <a:pt x="1044" y="50"/>
                        <a:pt x="1044" y="50"/>
                      </a:cubicBezTo>
                      <a:cubicBezTo>
                        <a:pt x="1062" y="47"/>
                        <a:pt x="1062" y="47"/>
                        <a:pt x="1062" y="47"/>
                      </a:cubicBezTo>
                      <a:cubicBezTo>
                        <a:pt x="1080" y="44"/>
                        <a:pt x="1080" y="44"/>
                        <a:pt x="1080" y="44"/>
                      </a:cubicBezTo>
                      <a:cubicBezTo>
                        <a:pt x="1098" y="42"/>
                        <a:pt x="1098" y="42"/>
                        <a:pt x="1098" y="42"/>
                      </a:cubicBezTo>
                      <a:cubicBezTo>
                        <a:pt x="1116" y="40"/>
                        <a:pt x="1116" y="40"/>
                        <a:pt x="1116" y="40"/>
                      </a:cubicBezTo>
                      <a:cubicBezTo>
                        <a:pt x="1134" y="37"/>
                        <a:pt x="1134" y="37"/>
                        <a:pt x="1134" y="37"/>
                      </a:cubicBezTo>
                      <a:cubicBezTo>
                        <a:pt x="1152" y="35"/>
                        <a:pt x="1152" y="35"/>
                        <a:pt x="1152" y="35"/>
                      </a:cubicBezTo>
                      <a:cubicBezTo>
                        <a:pt x="1170" y="33"/>
                        <a:pt x="1170" y="33"/>
                        <a:pt x="1170" y="33"/>
                      </a:cubicBezTo>
                      <a:cubicBezTo>
                        <a:pt x="1188" y="31"/>
                        <a:pt x="1188" y="31"/>
                        <a:pt x="1188" y="31"/>
                      </a:cubicBezTo>
                      <a:cubicBezTo>
                        <a:pt x="1206" y="29"/>
                        <a:pt x="1206" y="29"/>
                        <a:pt x="1206" y="29"/>
                      </a:cubicBezTo>
                      <a:cubicBezTo>
                        <a:pt x="1224" y="27"/>
                        <a:pt x="1224" y="27"/>
                        <a:pt x="1224" y="27"/>
                      </a:cubicBezTo>
                      <a:cubicBezTo>
                        <a:pt x="1242" y="25"/>
                        <a:pt x="1242" y="25"/>
                        <a:pt x="1242" y="25"/>
                      </a:cubicBezTo>
                      <a:cubicBezTo>
                        <a:pt x="1260" y="23"/>
                        <a:pt x="1260" y="23"/>
                        <a:pt x="1260" y="23"/>
                      </a:cubicBezTo>
                      <a:cubicBezTo>
                        <a:pt x="1278" y="22"/>
                        <a:pt x="1278" y="22"/>
                        <a:pt x="1278" y="22"/>
                      </a:cubicBezTo>
                      <a:cubicBezTo>
                        <a:pt x="1296" y="20"/>
                        <a:pt x="1296" y="20"/>
                        <a:pt x="1296" y="20"/>
                      </a:cubicBezTo>
                      <a:cubicBezTo>
                        <a:pt x="1314" y="19"/>
                        <a:pt x="1314" y="19"/>
                        <a:pt x="1314" y="19"/>
                      </a:cubicBezTo>
                      <a:cubicBezTo>
                        <a:pt x="1332" y="17"/>
                        <a:pt x="1332" y="17"/>
                        <a:pt x="1332" y="17"/>
                      </a:cubicBezTo>
                      <a:cubicBezTo>
                        <a:pt x="1350" y="16"/>
                        <a:pt x="1350" y="16"/>
                        <a:pt x="1350" y="16"/>
                      </a:cubicBezTo>
                      <a:cubicBezTo>
                        <a:pt x="1368" y="15"/>
                        <a:pt x="1368" y="15"/>
                        <a:pt x="1368" y="15"/>
                      </a:cubicBezTo>
                      <a:cubicBezTo>
                        <a:pt x="1386" y="14"/>
                        <a:pt x="1386" y="14"/>
                        <a:pt x="1386" y="14"/>
                      </a:cubicBezTo>
                      <a:cubicBezTo>
                        <a:pt x="1404" y="13"/>
                        <a:pt x="1404" y="13"/>
                        <a:pt x="1404" y="13"/>
                      </a:cubicBezTo>
                      <a:cubicBezTo>
                        <a:pt x="1422" y="11"/>
                        <a:pt x="1422" y="11"/>
                        <a:pt x="1422" y="11"/>
                      </a:cubicBezTo>
                      <a:cubicBezTo>
                        <a:pt x="1440" y="10"/>
                        <a:pt x="1440" y="10"/>
                        <a:pt x="1440" y="10"/>
                      </a:cubicBezTo>
                      <a:cubicBezTo>
                        <a:pt x="1458" y="10"/>
                        <a:pt x="1458" y="10"/>
                        <a:pt x="1458" y="10"/>
                      </a:cubicBezTo>
                      <a:cubicBezTo>
                        <a:pt x="1476" y="9"/>
                        <a:pt x="1476" y="9"/>
                        <a:pt x="1476" y="9"/>
                      </a:cubicBezTo>
                      <a:cubicBezTo>
                        <a:pt x="1494" y="8"/>
                        <a:pt x="1494" y="8"/>
                        <a:pt x="1494" y="8"/>
                      </a:cubicBezTo>
                      <a:cubicBezTo>
                        <a:pt x="1512" y="7"/>
                        <a:pt x="1512" y="7"/>
                        <a:pt x="1512" y="7"/>
                      </a:cubicBezTo>
                      <a:cubicBezTo>
                        <a:pt x="1530" y="6"/>
                        <a:pt x="1530" y="6"/>
                        <a:pt x="1530" y="6"/>
                      </a:cubicBezTo>
                      <a:cubicBezTo>
                        <a:pt x="1548" y="6"/>
                        <a:pt x="1548" y="6"/>
                        <a:pt x="1548" y="6"/>
                      </a:cubicBezTo>
                      <a:cubicBezTo>
                        <a:pt x="1566" y="5"/>
                        <a:pt x="1566" y="5"/>
                        <a:pt x="1566" y="5"/>
                      </a:cubicBezTo>
                      <a:cubicBezTo>
                        <a:pt x="1584" y="4"/>
                        <a:pt x="1584" y="4"/>
                        <a:pt x="1584" y="4"/>
                      </a:cubicBezTo>
                      <a:cubicBezTo>
                        <a:pt x="1602" y="4"/>
                        <a:pt x="1602" y="4"/>
                        <a:pt x="1602" y="4"/>
                      </a:cubicBezTo>
                      <a:cubicBezTo>
                        <a:pt x="1620" y="3"/>
                        <a:pt x="1620" y="3"/>
                        <a:pt x="1620" y="3"/>
                      </a:cubicBezTo>
                      <a:cubicBezTo>
                        <a:pt x="1638" y="3"/>
                        <a:pt x="1638" y="3"/>
                        <a:pt x="1638" y="3"/>
                      </a:cubicBezTo>
                      <a:cubicBezTo>
                        <a:pt x="1656" y="2"/>
                        <a:pt x="1656" y="2"/>
                        <a:pt x="1656" y="2"/>
                      </a:cubicBezTo>
                      <a:cubicBezTo>
                        <a:pt x="1674" y="2"/>
                        <a:pt x="1674" y="2"/>
                        <a:pt x="1674" y="2"/>
                      </a:cubicBezTo>
                      <a:cubicBezTo>
                        <a:pt x="1692" y="1"/>
                        <a:pt x="1692" y="1"/>
                        <a:pt x="1692" y="1"/>
                      </a:cubicBezTo>
                      <a:cubicBezTo>
                        <a:pt x="1710" y="1"/>
                        <a:pt x="1710" y="1"/>
                        <a:pt x="1710" y="1"/>
                      </a:cubicBezTo>
                      <a:cubicBezTo>
                        <a:pt x="1728" y="1"/>
                        <a:pt x="1728" y="1"/>
                        <a:pt x="1728" y="1"/>
                      </a:cubicBezTo>
                      <a:cubicBezTo>
                        <a:pt x="1746" y="0"/>
                        <a:pt x="1746" y="0"/>
                        <a:pt x="1746" y="0"/>
                      </a:cubicBezTo>
                      <a:cubicBezTo>
                        <a:pt x="1764" y="0"/>
                        <a:pt x="1764" y="0"/>
                        <a:pt x="1764" y="0"/>
                      </a:cubicBezTo>
                      <a:cubicBezTo>
                        <a:pt x="1782" y="0"/>
                        <a:pt x="1782" y="0"/>
                        <a:pt x="1782" y="0"/>
                      </a:cubicBezTo>
                      <a:cubicBezTo>
                        <a:pt x="1800" y="0"/>
                        <a:pt x="1800" y="0"/>
                        <a:pt x="1800" y="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flipH="1" flipV="1">
                  <a:off x="2383200" y="4712040"/>
                  <a:ext cx="807480" cy="1015920"/>
                </a:xfrm>
                <a:custGeom>
                  <a:avLst/>
                  <a:gdLst/>
                  <a:ahLst/>
                  <a:rect l="l" t="t" r="r" b="b"/>
                  <a:pathLst>
                    <a:path w="1800" h="237">
                      <a:moveTo>
                        <a:pt x="0" y="237"/>
                      </a:moveTo>
                      <a:cubicBezTo>
                        <a:pt x="18" y="237"/>
                        <a:pt x="18" y="237"/>
                        <a:pt x="18" y="237"/>
                      </a:cubicBezTo>
                      <a:cubicBezTo>
                        <a:pt x="36" y="236"/>
                        <a:pt x="36" y="236"/>
                        <a:pt x="36" y="236"/>
                      </a:cubicBezTo>
                      <a:cubicBezTo>
                        <a:pt x="54" y="236"/>
                        <a:pt x="54" y="236"/>
                        <a:pt x="54" y="236"/>
                      </a:cubicBezTo>
                      <a:cubicBezTo>
                        <a:pt x="72" y="235"/>
                        <a:pt x="72" y="235"/>
                        <a:pt x="72" y="235"/>
                      </a:cubicBezTo>
                      <a:cubicBezTo>
                        <a:pt x="90" y="234"/>
                        <a:pt x="90" y="234"/>
                        <a:pt x="90" y="234"/>
                      </a:cubicBezTo>
                      <a:cubicBezTo>
                        <a:pt x="108" y="233"/>
                        <a:pt x="108" y="233"/>
                        <a:pt x="108" y="233"/>
                      </a:cubicBezTo>
                      <a:cubicBezTo>
                        <a:pt x="126" y="232"/>
                        <a:pt x="126" y="232"/>
                        <a:pt x="126" y="232"/>
                      </a:cubicBezTo>
                      <a:cubicBezTo>
                        <a:pt x="144" y="230"/>
                        <a:pt x="144" y="230"/>
                        <a:pt x="144" y="230"/>
                      </a:cubicBezTo>
                      <a:cubicBezTo>
                        <a:pt x="162" y="228"/>
                        <a:pt x="162" y="228"/>
                        <a:pt x="162" y="228"/>
                      </a:cubicBezTo>
                      <a:cubicBezTo>
                        <a:pt x="180" y="226"/>
                        <a:pt x="180" y="226"/>
                        <a:pt x="180" y="226"/>
                      </a:cubicBezTo>
                      <a:cubicBezTo>
                        <a:pt x="198" y="224"/>
                        <a:pt x="198" y="224"/>
                        <a:pt x="198" y="224"/>
                      </a:cubicBezTo>
                      <a:cubicBezTo>
                        <a:pt x="216" y="222"/>
                        <a:pt x="216" y="222"/>
                        <a:pt x="216" y="222"/>
                      </a:cubicBezTo>
                      <a:cubicBezTo>
                        <a:pt x="234" y="219"/>
                        <a:pt x="234" y="219"/>
                        <a:pt x="234" y="219"/>
                      </a:cubicBezTo>
                      <a:cubicBezTo>
                        <a:pt x="252" y="217"/>
                        <a:pt x="252" y="217"/>
                        <a:pt x="252" y="217"/>
                      </a:cubicBezTo>
                      <a:cubicBezTo>
                        <a:pt x="270" y="214"/>
                        <a:pt x="270" y="214"/>
                        <a:pt x="270" y="214"/>
                      </a:cubicBezTo>
                      <a:cubicBezTo>
                        <a:pt x="288" y="211"/>
                        <a:pt x="288" y="211"/>
                        <a:pt x="288" y="211"/>
                      </a:cubicBezTo>
                      <a:cubicBezTo>
                        <a:pt x="306" y="208"/>
                        <a:pt x="306" y="208"/>
                        <a:pt x="306" y="208"/>
                      </a:cubicBezTo>
                      <a:cubicBezTo>
                        <a:pt x="324" y="204"/>
                        <a:pt x="324" y="204"/>
                        <a:pt x="324" y="204"/>
                      </a:cubicBezTo>
                      <a:cubicBezTo>
                        <a:pt x="342" y="201"/>
                        <a:pt x="342" y="201"/>
                        <a:pt x="342" y="201"/>
                      </a:cubicBezTo>
                      <a:cubicBezTo>
                        <a:pt x="360" y="197"/>
                        <a:pt x="360" y="197"/>
                        <a:pt x="360" y="197"/>
                      </a:cubicBezTo>
                      <a:cubicBezTo>
                        <a:pt x="378" y="194"/>
                        <a:pt x="378" y="194"/>
                        <a:pt x="378" y="194"/>
                      </a:cubicBezTo>
                      <a:cubicBezTo>
                        <a:pt x="396" y="190"/>
                        <a:pt x="396" y="190"/>
                        <a:pt x="396" y="190"/>
                      </a:cubicBezTo>
                      <a:cubicBezTo>
                        <a:pt x="414" y="186"/>
                        <a:pt x="414" y="186"/>
                        <a:pt x="414" y="186"/>
                      </a:cubicBezTo>
                      <a:cubicBezTo>
                        <a:pt x="432" y="182"/>
                        <a:pt x="432" y="182"/>
                        <a:pt x="432" y="182"/>
                      </a:cubicBezTo>
                      <a:cubicBezTo>
                        <a:pt x="450" y="178"/>
                        <a:pt x="450" y="178"/>
                        <a:pt x="450" y="178"/>
                      </a:cubicBezTo>
                      <a:cubicBezTo>
                        <a:pt x="468" y="174"/>
                        <a:pt x="468" y="174"/>
                        <a:pt x="468" y="174"/>
                      </a:cubicBezTo>
                      <a:cubicBezTo>
                        <a:pt x="486" y="170"/>
                        <a:pt x="486" y="170"/>
                        <a:pt x="486" y="170"/>
                      </a:cubicBezTo>
                      <a:cubicBezTo>
                        <a:pt x="504" y="165"/>
                        <a:pt x="504" y="165"/>
                        <a:pt x="504" y="165"/>
                      </a:cubicBezTo>
                      <a:cubicBezTo>
                        <a:pt x="522" y="161"/>
                        <a:pt x="522" y="161"/>
                        <a:pt x="522" y="161"/>
                      </a:cubicBezTo>
                      <a:cubicBezTo>
                        <a:pt x="540" y="157"/>
                        <a:pt x="540" y="157"/>
                        <a:pt x="540" y="157"/>
                      </a:cubicBezTo>
                      <a:cubicBezTo>
                        <a:pt x="558" y="153"/>
                        <a:pt x="558" y="153"/>
                        <a:pt x="558" y="153"/>
                      </a:cubicBezTo>
                      <a:cubicBezTo>
                        <a:pt x="576" y="148"/>
                        <a:pt x="576" y="148"/>
                        <a:pt x="576" y="148"/>
                      </a:cubicBezTo>
                      <a:cubicBezTo>
                        <a:pt x="594" y="144"/>
                        <a:pt x="594" y="144"/>
                        <a:pt x="594" y="144"/>
                      </a:cubicBezTo>
                      <a:cubicBezTo>
                        <a:pt x="612" y="140"/>
                        <a:pt x="612" y="140"/>
                        <a:pt x="612" y="140"/>
                      </a:cubicBezTo>
                      <a:cubicBezTo>
                        <a:pt x="630" y="135"/>
                        <a:pt x="630" y="135"/>
                        <a:pt x="630" y="135"/>
                      </a:cubicBezTo>
                      <a:cubicBezTo>
                        <a:pt x="648" y="131"/>
                        <a:pt x="648" y="131"/>
                        <a:pt x="648" y="131"/>
                      </a:cubicBezTo>
                      <a:cubicBezTo>
                        <a:pt x="666" y="126"/>
                        <a:pt x="666" y="126"/>
                        <a:pt x="666" y="126"/>
                      </a:cubicBezTo>
                      <a:cubicBezTo>
                        <a:pt x="684" y="122"/>
                        <a:pt x="684" y="122"/>
                        <a:pt x="684" y="122"/>
                      </a:cubicBezTo>
                      <a:cubicBezTo>
                        <a:pt x="702" y="118"/>
                        <a:pt x="702" y="118"/>
                        <a:pt x="702" y="118"/>
                      </a:cubicBezTo>
                      <a:cubicBezTo>
                        <a:pt x="720" y="114"/>
                        <a:pt x="720" y="114"/>
                        <a:pt x="720" y="114"/>
                      </a:cubicBezTo>
                      <a:cubicBezTo>
                        <a:pt x="738" y="110"/>
                        <a:pt x="738" y="110"/>
                        <a:pt x="738" y="110"/>
                      </a:cubicBezTo>
                      <a:cubicBezTo>
                        <a:pt x="756" y="105"/>
                        <a:pt x="756" y="105"/>
                        <a:pt x="756" y="105"/>
                      </a:cubicBezTo>
                      <a:cubicBezTo>
                        <a:pt x="774" y="101"/>
                        <a:pt x="774" y="101"/>
                        <a:pt x="774" y="101"/>
                      </a:cubicBezTo>
                      <a:cubicBezTo>
                        <a:pt x="792" y="97"/>
                        <a:pt x="792" y="97"/>
                        <a:pt x="792" y="97"/>
                      </a:cubicBezTo>
                      <a:cubicBezTo>
                        <a:pt x="810" y="93"/>
                        <a:pt x="810" y="93"/>
                        <a:pt x="810" y="93"/>
                      </a:cubicBezTo>
                      <a:cubicBezTo>
                        <a:pt x="828" y="90"/>
                        <a:pt x="828" y="90"/>
                        <a:pt x="828" y="90"/>
                      </a:cubicBezTo>
                      <a:cubicBezTo>
                        <a:pt x="846" y="86"/>
                        <a:pt x="846" y="86"/>
                        <a:pt x="846" y="86"/>
                      </a:cubicBezTo>
                      <a:cubicBezTo>
                        <a:pt x="864" y="82"/>
                        <a:pt x="864" y="82"/>
                        <a:pt x="864" y="82"/>
                      </a:cubicBezTo>
                      <a:cubicBezTo>
                        <a:pt x="882" y="78"/>
                        <a:pt x="882" y="78"/>
                        <a:pt x="882" y="78"/>
                      </a:cubicBezTo>
                      <a:cubicBezTo>
                        <a:pt x="900" y="75"/>
                        <a:pt x="900" y="75"/>
                        <a:pt x="900" y="75"/>
                      </a:cubicBezTo>
                      <a:cubicBezTo>
                        <a:pt x="918" y="71"/>
                        <a:pt x="918" y="71"/>
                        <a:pt x="918" y="71"/>
                      </a:cubicBezTo>
                      <a:cubicBezTo>
                        <a:pt x="936" y="68"/>
                        <a:pt x="936" y="68"/>
                        <a:pt x="936" y="68"/>
                      </a:cubicBezTo>
                      <a:cubicBezTo>
                        <a:pt x="954" y="65"/>
                        <a:pt x="954" y="65"/>
                        <a:pt x="954" y="65"/>
                      </a:cubicBezTo>
                      <a:cubicBezTo>
                        <a:pt x="972" y="62"/>
                        <a:pt x="972" y="62"/>
                        <a:pt x="972" y="62"/>
                      </a:cubicBezTo>
                      <a:cubicBezTo>
                        <a:pt x="990" y="58"/>
                        <a:pt x="990" y="58"/>
                        <a:pt x="990" y="58"/>
                      </a:cubicBezTo>
                      <a:cubicBezTo>
                        <a:pt x="1008" y="55"/>
                        <a:pt x="1008" y="55"/>
                        <a:pt x="1008" y="55"/>
                      </a:cubicBezTo>
                      <a:cubicBezTo>
                        <a:pt x="1026" y="53"/>
                        <a:pt x="1026" y="53"/>
                        <a:pt x="1026" y="53"/>
                      </a:cubicBezTo>
                      <a:cubicBezTo>
                        <a:pt x="1044" y="50"/>
                        <a:pt x="1044" y="50"/>
                        <a:pt x="1044" y="50"/>
                      </a:cubicBezTo>
                      <a:cubicBezTo>
                        <a:pt x="1062" y="47"/>
                        <a:pt x="1062" y="47"/>
                        <a:pt x="1062" y="47"/>
                      </a:cubicBezTo>
                      <a:cubicBezTo>
                        <a:pt x="1080" y="44"/>
                        <a:pt x="1080" y="44"/>
                        <a:pt x="1080" y="44"/>
                      </a:cubicBezTo>
                      <a:cubicBezTo>
                        <a:pt x="1098" y="42"/>
                        <a:pt x="1098" y="42"/>
                        <a:pt x="1098" y="42"/>
                      </a:cubicBezTo>
                      <a:cubicBezTo>
                        <a:pt x="1116" y="40"/>
                        <a:pt x="1116" y="40"/>
                        <a:pt x="1116" y="40"/>
                      </a:cubicBezTo>
                      <a:cubicBezTo>
                        <a:pt x="1134" y="37"/>
                        <a:pt x="1134" y="37"/>
                        <a:pt x="1134" y="37"/>
                      </a:cubicBezTo>
                      <a:cubicBezTo>
                        <a:pt x="1152" y="35"/>
                        <a:pt x="1152" y="35"/>
                        <a:pt x="1152" y="35"/>
                      </a:cubicBezTo>
                      <a:cubicBezTo>
                        <a:pt x="1170" y="33"/>
                        <a:pt x="1170" y="33"/>
                        <a:pt x="1170" y="33"/>
                      </a:cubicBezTo>
                      <a:cubicBezTo>
                        <a:pt x="1188" y="31"/>
                        <a:pt x="1188" y="31"/>
                        <a:pt x="1188" y="31"/>
                      </a:cubicBezTo>
                      <a:cubicBezTo>
                        <a:pt x="1206" y="29"/>
                        <a:pt x="1206" y="29"/>
                        <a:pt x="1206" y="29"/>
                      </a:cubicBezTo>
                      <a:cubicBezTo>
                        <a:pt x="1224" y="27"/>
                        <a:pt x="1224" y="27"/>
                        <a:pt x="1224" y="27"/>
                      </a:cubicBezTo>
                      <a:cubicBezTo>
                        <a:pt x="1242" y="25"/>
                        <a:pt x="1242" y="25"/>
                        <a:pt x="1242" y="25"/>
                      </a:cubicBezTo>
                      <a:cubicBezTo>
                        <a:pt x="1260" y="23"/>
                        <a:pt x="1260" y="23"/>
                        <a:pt x="1260" y="23"/>
                      </a:cubicBezTo>
                      <a:cubicBezTo>
                        <a:pt x="1278" y="22"/>
                        <a:pt x="1278" y="22"/>
                        <a:pt x="1278" y="22"/>
                      </a:cubicBezTo>
                      <a:cubicBezTo>
                        <a:pt x="1296" y="20"/>
                        <a:pt x="1296" y="20"/>
                        <a:pt x="1296" y="20"/>
                      </a:cubicBezTo>
                      <a:cubicBezTo>
                        <a:pt x="1314" y="19"/>
                        <a:pt x="1314" y="19"/>
                        <a:pt x="1314" y="19"/>
                      </a:cubicBezTo>
                      <a:cubicBezTo>
                        <a:pt x="1332" y="17"/>
                        <a:pt x="1332" y="17"/>
                        <a:pt x="1332" y="17"/>
                      </a:cubicBezTo>
                      <a:cubicBezTo>
                        <a:pt x="1350" y="16"/>
                        <a:pt x="1350" y="16"/>
                        <a:pt x="1350" y="16"/>
                      </a:cubicBezTo>
                      <a:cubicBezTo>
                        <a:pt x="1368" y="15"/>
                        <a:pt x="1368" y="15"/>
                        <a:pt x="1368" y="15"/>
                      </a:cubicBezTo>
                      <a:cubicBezTo>
                        <a:pt x="1386" y="14"/>
                        <a:pt x="1386" y="14"/>
                        <a:pt x="1386" y="14"/>
                      </a:cubicBezTo>
                      <a:cubicBezTo>
                        <a:pt x="1404" y="13"/>
                        <a:pt x="1404" y="13"/>
                        <a:pt x="1404" y="13"/>
                      </a:cubicBezTo>
                      <a:cubicBezTo>
                        <a:pt x="1422" y="11"/>
                        <a:pt x="1422" y="11"/>
                        <a:pt x="1422" y="11"/>
                      </a:cubicBezTo>
                      <a:cubicBezTo>
                        <a:pt x="1440" y="10"/>
                        <a:pt x="1440" y="10"/>
                        <a:pt x="1440" y="10"/>
                      </a:cubicBezTo>
                      <a:cubicBezTo>
                        <a:pt x="1458" y="10"/>
                        <a:pt x="1458" y="10"/>
                        <a:pt x="1458" y="10"/>
                      </a:cubicBezTo>
                      <a:cubicBezTo>
                        <a:pt x="1476" y="9"/>
                        <a:pt x="1476" y="9"/>
                        <a:pt x="1476" y="9"/>
                      </a:cubicBezTo>
                      <a:cubicBezTo>
                        <a:pt x="1494" y="8"/>
                        <a:pt x="1494" y="8"/>
                        <a:pt x="1494" y="8"/>
                      </a:cubicBezTo>
                      <a:cubicBezTo>
                        <a:pt x="1512" y="7"/>
                        <a:pt x="1512" y="7"/>
                        <a:pt x="1512" y="7"/>
                      </a:cubicBezTo>
                      <a:cubicBezTo>
                        <a:pt x="1530" y="6"/>
                        <a:pt x="1530" y="6"/>
                        <a:pt x="1530" y="6"/>
                      </a:cubicBezTo>
                      <a:cubicBezTo>
                        <a:pt x="1548" y="6"/>
                        <a:pt x="1548" y="6"/>
                        <a:pt x="1548" y="6"/>
                      </a:cubicBezTo>
                      <a:cubicBezTo>
                        <a:pt x="1566" y="5"/>
                        <a:pt x="1566" y="5"/>
                        <a:pt x="1566" y="5"/>
                      </a:cubicBezTo>
                      <a:cubicBezTo>
                        <a:pt x="1584" y="4"/>
                        <a:pt x="1584" y="4"/>
                        <a:pt x="1584" y="4"/>
                      </a:cubicBezTo>
                      <a:cubicBezTo>
                        <a:pt x="1602" y="4"/>
                        <a:pt x="1602" y="4"/>
                        <a:pt x="1602" y="4"/>
                      </a:cubicBezTo>
                      <a:cubicBezTo>
                        <a:pt x="1620" y="3"/>
                        <a:pt x="1620" y="3"/>
                        <a:pt x="1620" y="3"/>
                      </a:cubicBezTo>
                      <a:cubicBezTo>
                        <a:pt x="1638" y="3"/>
                        <a:pt x="1638" y="3"/>
                        <a:pt x="1638" y="3"/>
                      </a:cubicBezTo>
                      <a:cubicBezTo>
                        <a:pt x="1656" y="2"/>
                        <a:pt x="1656" y="2"/>
                        <a:pt x="1656" y="2"/>
                      </a:cubicBezTo>
                      <a:cubicBezTo>
                        <a:pt x="1674" y="2"/>
                        <a:pt x="1674" y="2"/>
                        <a:pt x="1674" y="2"/>
                      </a:cubicBezTo>
                      <a:cubicBezTo>
                        <a:pt x="1692" y="1"/>
                        <a:pt x="1692" y="1"/>
                        <a:pt x="1692" y="1"/>
                      </a:cubicBezTo>
                      <a:cubicBezTo>
                        <a:pt x="1710" y="1"/>
                        <a:pt x="1710" y="1"/>
                        <a:pt x="1710" y="1"/>
                      </a:cubicBezTo>
                      <a:cubicBezTo>
                        <a:pt x="1728" y="1"/>
                        <a:pt x="1728" y="1"/>
                        <a:pt x="1728" y="1"/>
                      </a:cubicBezTo>
                      <a:cubicBezTo>
                        <a:pt x="1746" y="0"/>
                        <a:pt x="1746" y="0"/>
                        <a:pt x="1746" y="0"/>
                      </a:cubicBezTo>
                      <a:cubicBezTo>
                        <a:pt x="1764" y="0"/>
                        <a:pt x="1764" y="0"/>
                        <a:pt x="1764" y="0"/>
                      </a:cubicBezTo>
                      <a:cubicBezTo>
                        <a:pt x="1782" y="0"/>
                        <a:pt x="1782" y="0"/>
                        <a:pt x="1782" y="0"/>
                      </a:cubicBezTo>
                      <a:cubicBezTo>
                        <a:pt x="1800" y="0"/>
                        <a:pt x="1800" y="0"/>
                        <a:pt x="1800" y="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2257" name=""/>
              <p:cNvGraphicFramePr/>
              <p:nvPr/>
            </p:nvGraphicFramePr>
            <p:xfrm>
              <a:off x="3516120" y="4195440"/>
              <a:ext cx="407160" cy="2480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258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516120" y="4195440"/>
                        <a:ext cx="407160" cy="24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59" name=""/>
              <p:cNvSpPr/>
              <p:nvPr/>
            </p:nvSpPr>
            <p:spPr>
              <a:xfrm>
                <a:off x="2248200" y="4717440"/>
                <a:ext cx="0" cy="10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92120" y="4728600"/>
                <a:ext cx="0" cy="10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61" name=""/>
              <p:cNvGraphicFramePr/>
              <p:nvPr/>
            </p:nvGraphicFramePr>
            <p:xfrm>
              <a:off x="2544480" y="4192920"/>
              <a:ext cx="407160" cy="2480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26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544480" y="4192920"/>
                        <a:ext cx="407160" cy="24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3" name=""/>
              <p:cNvSpPr/>
              <p:nvPr/>
            </p:nvSpPr>
            <p:spPr>
              <a:xfrm flipH="1">
                <a:off x="2314800" y="4354920"/>
                <a:ext cx="209520" cy="31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>
                <a:off x="3295800" y="4367160"/>
                <a:ext cx="209520" cy="31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5" name=""/>
          <p:cNvGrpSpPr/>
          <p:nvPr/>
        </p:nvGrpSpPr>
        <p:grpSpPr>
          <a:xfrm>
            <a:off x="4675320" y="4006800"/>
            <a:ext cx="4211640" cy="2029680"/>
            <a:chOff x="4675320" y="4006800"/>
            <a:chExt cx="4211640" cy="2029680"/>
          </a:xfrm>
        </p:grpSpPr>
        <p:sp>
          <p:nvSpPr>
            <p:cNvPr id="2266" name=""/>
            <p:cNvSpPr/>
            <p:nvPr/>
          </p:nvSpPr>
          <p:spPr>
            <a:xfrm>
              <a:off x="4675320" y="5798880"/>
              <a:ext cx="41965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V="1">
              <a:off x="5029560" y="4060440"/>
              <a:ext cx="0" cy="197604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5791320" y="4378320"/>
              <a:ext cx="2234520" cy="1355400"/>
              <a:chOff x="5791320" y="4378320"/>
              <a:chExt cx="2234520" cy="1355400"/>
            </a:xfrm>
          </p:grpSpPr>
          <p:sp>
            <p:nvSpPr>
              <p:cNvPr id="2269" name=""/>
              <p:cNvSpPr/>
              <p:nvPr/>
            </p:nvSpPr>
            <p:spPr>
              <a:xfrm flipH="1" flipV="1">
                <a:off x="5790960" y="4377960"/>
                <a:ext cx="1117080" cy="1354680"/>
              </a:xfrm>
              <a:custGeom>
                <a:avLst/>
                <a:gdLst/>
                <a:ahLst/>
                <a:rect l="l" t="t" r="r" b="b"/>
                <a:pathLst>
                  <a:path w="1800" h="237">
                    <a:moveTo>
                      <a:pt x="0" y="237"/>
                    </a:moveTo>
                    <a:cubicBezTo>
                      <a:pt x="18" y="237"/>
                      <a:pt x="18" y="237"/>
                      <a:pt x="18" y="237"/>
                    </a:cubicBezTo>
                    <a:cubicBezTo>
                      <a:pt x="36" y="236"/>
                      <a:pt x="36" y="236"/>
                      <a:pt x="36" y="236"/>
                    </a:cubicBezTo>
                    <a:cubicBezTo>
                      <a:pt x="54" y="236"/>
                      <a:pt x="54" y="236"/>
                      <a:pt x="54" y="236"/>
                    </a:cubicBezTo>
                    <a:cubicBezTo>
                      <a:pt x="72" y="235"/>
                      <a:pt x="72" y="235"/>
                      <a:pt x="72" y="235"/>
                    </a:cubicBezTo>
                    <a:cubicBezTo>
                      <a:pt x="90" y="234"/>
                      <a:pt x="90" y="234"/>
                      <a:pt x="90" y="234"/>
                    </a:cubicBezTo>
                    <a:cubicBezTo>
                      <a:pt x="108" y="233"/>
                      <a:pt x="108" y="233"/>
                      <a:pt x="108" y="233"/>
                    </a:cubicBezTo>
                    <a:cubicBezTo>
                      <a:pt x="126" y="232"/>
                      <a:pt x="126" y="232"/>
                      <a:pt x="126" y="232"/>
                    </a:cubicBezTo>
                    <a:cubicBezTo>
                      <a:pt x="144" y="230"/>
                      <a:pt x="144" y="230"/>
                      <a:pt x="144" y="230"/>
                    </a:cubicBezTo>
                    <a:cubicBezTo>
                      <a:pt x="162" y="228"/>
                      <a:pt x="162" y="228"/>
                      <a:pt x="162" y="228"/>
                    </a:cubicBezTo>
                    <a:cubicBezTo>
                      <a:pt x="180" y="226"/>
                      <a:pt x="180" y="226"/>
                      <a:pt x="180" y="226"/>
                    </a:cubicBezTo>
                    <a:cubicBezTo>
                      <a:pt x="198" y="224"/>
                      <a:pt x="198" y="224"/>
                      <a:pt x="198" y="224"/>
                    </a:cubicBezTo>
                    <a:cubicBezTo>
                      <a:pt x="216" y="222"/>
                      <a:pt x="216" y="222"/>
                      <a:pt x="216" y="222"/>
                    </a:cubicBezTo>
                    <a:cubicBezTo>
                      <a:pt x="234" y="219"/>
                      <a:pt x="234" y="219"/>
                      <a:pt x="234" y="219"/>
                    </a:cubicBezTo>
                    <a:cubicBezTo>
                      <a:pt x="252" y="217"/>
                      <a:pt x="252" y="217"/>
                      <a:pt x="252" y="217"/>
                    </a:cubicBezTo>
                    <a:cubicBezTo>
                      <a:pt x="270" y="214"/>
                      <a:pt x="270" y="214"/>
                      <a:pt x="270" y="214"/>
                    </a:cubicBezTo>
                    <a:cubicBezTo>
                      <a:pt x="288" y="211"/>
                      <a:pt x="288" y="211"/>
                      <a:pt x="288" y="211"/>
                    </a:cubicBezTo>
                    <a:cubicBezTo>
                      <a:pt x="306" y="208"/>
                      <a:pt x="306" y="208"/>
                      <a:pt x="306" y="208"/>
                    </a:cubicBezTo>
                    <a:cubicBezTo>
                      <a:pt x="324" y="204"/>
                      <a:pt x="324" y="204"/>
                      <a:pt x="324" y="204"/>
                    </a:cubicBezTo>
                    <a:cubicBezTo>
                      <a:pt x="342" y="201"/>
                      <a:pt x="342" y="201"/>
                      <a:pt x="342" y="201"/>
                    </a:cubicBezTo>
                    <a:cubicBezTo>
                      <a:pt x="360" y="197"/>
                      <a:pt x="360" y="197"/>
                      <a:pt x="360" y="197"/>
                    </a:cubicBezTo>
                    <a:cubicBezTo>
                      <a:pt x="378" y="194"/>
                      <a:pt x="378" y="194"/>
                      <a:pt x="378" y="194"/>
                    </a:cubicBezTo>
                    <a:cubicBezTo>
                      <a:pt x="396" y="190"/>
                      <a:pt x="396" y="190"/>
                      <a:pt x="396" y="190"/>
                    </a:cubicBezTo>
                    <a:cubicBezTo>
                      <a:pt x="414" y="186"/>
                      <a:pt x="414" y="186"/>
                      <a:pt x="414" y="186"/>
                    </a:cubicBezTo>
                    <a:cubicBezTo>
                      <a:pt x="432" y="182"/>
                      <a:pt x="432" y="182"/>
                      <a:pt x="432" y="182"/>
                    </a:cubicBezTo>
                    <a:cubicBezTo>
                      <a:pt x="450" y="178"/>
                      <a:pt x="450" y="178"/>
                      <a:pt x="450" y="178"/>
                    </a:cubicBezTo>
                    <a:cubicBezTo>
                      <a:pt x="468" y="174"/>
                      <a:pt x="468" y="174"/>
                      <a:pt x="468" y="174"/>
                    </a:cubicBezTo>
                    <a:cubicBezTo>
                      <a:pt x="486" y="170"/>
                      <a:pt x="486" y="170"/>
                      <a:pt x="486" y="170"/>
                    </a:cubicBezTo>
                    <a:cubicBezTo>
                      <a:pt x="504" y="165"/>
                      <a:pt x="504" y="165"/>
                      <a:pt x="504" y="165"/>
                    </a:cubicBezTo>
                    <a:cubicBezTo>
                      <a:pt x="522" y="161"/>
                      <a:pt x="522" y="161"/>
                      <a:pt x="522" y="161"/>
                    </a:cubicBezTo>
                    <a:cubicBezTo>
                      <a:pt x="540" y="157"/>
                      <a:pt x="540" y="157"/>
                      <a:pt x="540" y="157"/>
                    </a:cubicBezTo>
                    <a:cubicBezTo>
                      <a:pt x="558" y="153"/>
                      <a:pt x="558" y="153"/>
                      <a:pt x="558" y="153"/>
                    </a:cubicBezTo>
                    <a:cubicBezTo>
                      <a:pt x="576" y="148"/>
                      <a:pt x="576" y="148"/>
                      <a:pt x="576" y="148"/>
                    </a:cubicBezTo>
                    <a:cubicBezTo>
                      <a:pt x="594" y="144"/>
                      <a:pt x="594" y="144"/>
                      <a:pt x="594" y="144"/>
                    </a:cubicBezTo>
                    <a:cubicBezTo>
                      <a:pt x="612" y="140"/>
                      <a:pt x="612" y="140"/>
                      <a:pt x="612" y="140"/>
                    </a:cubicBezTo>
                    <a:cubicBezTo>
                      <a:pt x="630" y="135"/>
                      <a:pt x="630" y="135"/>
                      <a:pt x="630" y="135"/>
                    </a:cubicBezTo>
                    <a:cubicBezTo>
                      <a:pt x="648" y="131"/>
                      <a:pt x="648" y="131"/>
                      <a:pt x="648" y="131"/>
                    </a:cubicBezTo>
                    <a:cubicBezTo>
                      <a:pt x="666" y="126"/>
                      <a:pt x="666" y="126"/>
                      <a:pt x="666" y="126"/>
                    </a:cubicBezTo>
                    <a:cubicBezTo>
                      <a:pt x="684" y="122"/>
                      <a:pt x="684" y="122"/>
                      <a:pt x="684" y="122"/>
                    </a:cubicBezTo>
                    <a:cubicBezTo>
                      <a:pt x="702" y="118"/>
                      <a:pt x="702" y="118"/>
                      <a:pt x="702" y="118"/>
                    </a:cubicBezTo>
                    <a:cubicBezTo>
                      <a:pt x="720" y="114"/>
                      <a:pt x="720" y="114"/>
                      <a:pt x="720" y="114"/>
                    </a:cubicBezTo>
                    <a:cubicBezTo>
                      <a:pt x="738" y="110"/>
                      <a:pt x="738" y="110"/>
                      <a:pt x="738" y="110"/>
                    </a:cubicBezTo>
                    <a:cubicBezTo>
                      <a:pt x="756" y="105"/>
                      <a:pt x="756" y="105"/>
                      <a:pt x="756" y="105"/>
                    </a:cubicBezTo>
                    <a:cubicBezTo>
                      <a:pt x="774" y="101"/>
                      <a:pt x="774" y="101"/>
                      <a:pt x="774" y="101"/>
                    </a:cubicBezTo>
                    <a:cubicBezTo>
                      <a:pt x="792" y="97"/>
                      <a:pt x="792" y="97"/>
                      <a:pt x="792" y="97"/>
                    </a:cubicBezTo>
                    <a:cubicBezTo>
                      <a:pt x="810" y="93"/>
                      <a:pt x="810" y="93"/>
                      <a:pt x="810" y="93"/>
                    </a:cubicBezTo>
                    <a:cubicBezTo>
                      <a:pt x="828" y="90"/>
                      <a:pt x="828" y="90"/>
                      <a:pt x="828" y="90"/>
                    </a:cubicBezTo>
                    <a:cubicBezTo>
                      <a:pt x="846" y="86"/>
                      <a:pt x="846" y="86"/>
                      <a:pt x="846" y="86"/>
                    </a:cubicBezTo>
                    <a:cubicBezTo>
                      <a:pt x="864" y="82"/>
                      <a:pt x="864" y="82"/>
                      <a:pt x="864" y="82"/>
                    </a:cubicBezTo>
                    <a:cubicBezTo>
                      <a:pt x="882" y="78"/>
                      <a:pt x="882" y="78"/>
                      <a:pt x="882" y="78"/>
                    </a:cubicBezTo>
                    <a:cubicBezTo>
                      <a:pt x="900" y="75"/>
                      <a:pt x="900" y="75"/>
                      <a:pt x="900" y="75"/>
                    </a:cubicBezTo>
                    <a:cubicBezTo>
                      <a:pt x="918" y="71"/>
                      <a:pt x="918" y="71"/>
                      <a:pt x="918" y="71"/>
                    </a:cubicBezTo>
                    <a:cubicBezTo>
                      <a:pt x="936" y="68"/>
                      <a:pt x="936" y="68"/>
                      <a:pt x="936" y="68"/>
                    </a:cubicBezTo>
                    <a:cubicBezTo>
                      <a:pt x="954" y="65"/>
                      <a:pt x="954" y="65"/>
                      <a:pt x="954" y="65"/>
                    </a:cubicBezTo>
                    <a:cubicBezTo>
                      <a:pt x="972" y="62"/>
                      <a:pt x="972" y="62"/>
                      <a:pt x="972" y="62"/>
                    </a:cubicBezTo>
                    <a:cubicBezTo>
                      <a:pt x="990" y="58"/>
                      <a:pt x="990" y="58"/>
                      <a:pt x="990" y="58"/>
                    </a:cubicBezTo>
                    <a:cubicBezTo>
                      <a:pt x="1008" y="55"/>
                      <a:pt x="1008" y="55"/>
                      <a:pt x="1008" y="55"/>
                    </a:cubicBezTo>
                    <a:cubicBezTo>
                      <a:pt x="1026" y="53"/>
                      <a:pt x="1026" y="53"/>
                      <a:pt x="1026" y="53"/>
                    </a:cubicBezTo>
                    <a:cubicBezTo>
                      <a:pt x="1044" y="50"/>
                      <a:pt x="1044" y="50"/>
                      <a:pt x="1044" y="50"/>
                    </a:cubicBezTo>
                    <a:cubicBezTo>
                      <a:pt x="1062" y="47"/>
                      <a:pt x="1062" y="47"/>
                      <a:pt x="1062" y="47"/>
                    </a:cubicBezTo>
                    <a:cubicBezTo>
                      <a:pt x="1080" y="44"/>
                      <a:pt x="1080" y="44"/>
                      <a:pt x="1080" y="44"/>
                    </a:cubicBezTo>
                    <a:cubicBezTo>
                      <a:pt x="1098" y="42"/>
                      <a:pt x="1098" y="42"/>
                      <a:pt x="1098" y="42"/>
                    </a:cubicBezTo>
                    <a:cubicBezTo>
                      <a:pt x="1116" y="40"/>
                      <a:pt x="1116" y="40"/>
                      <a:pt x="1116" y="40"/>
                    </a:cubicBezTo>
                    <a:cubicBezTo>
                      <a:pt x="1134" y="37"/>
                      <a:pt x="1134" y="37"/>
                      <a:pt x="1134" y="37"/>
                    </a:cubicBezTo>
                    <a:cubicBezTo>
                      <a:pt x="1152" y="35"/>
                      <a:pt x="1152" y="35"/>
                      <a:pt x="1152" y="35"/>
                    </a:cubicBezTo>
                    <a:cubicBezTo>
                      <a:pt x="1170" y="33"/>
                      <a:pt x="1170" y="33"/>
                      <a:pt x="1170" y="33"/>
                    </a:cubicBezTo>
                    <a:cubicBezTo>
                      <a:pt x="1188" y="31"/>
                      <a:pt x="1188" y="31"/>
                      <a:pt x="1188" y="31"/>
                    </a:cubicBezTo>
                    <a:cubicBezTo>
                      <a:pt x="1206" y="29"/>
                      <a:pt x="1206" y="29"/>
                      <a:pt x="1206" y="29"/>
                    </a:cubicBezTo>
                    <a:cubicBezTo>
                      <a:pt x="1224" y="27"/>
                      <a:pt x="1224" y="27"/>
                      <a:pt x="1224" y="27"/>
                    </a:cubicBezTo>
                    <a:cubicBezTo>
                      <a:pt x="1242" y="25"/>
                      <a:pt x="1242" y="25"/>
                      <a:pt x="1242" y="25"/>
                    </a:cubicBezTo>
                    <a:cubicBezTo>
                      <a:pt x="1260" y="23"/>
                      <a:pt x="1260" y="23"/>
                      <a:pt x="1260" y="23"/>
                    </a:cubicBezTo>
                    <a:cubicBezTo>
                      <a:pt x="1278" y="22"/>
                      <a:pt x="1278" y="22"/>
                      <a:pt x="1278" y="22"/>
                    </a:cubicBezTo>
                    <a:cubicBezTo>
                      <a:pt x="1296" y="20"/>
                      <a:pt x="1296" y="20"/>
                      <a:pt x="1296" y="20"/>
                    </a:cubicBezTo>
                    <a:cubicBezTo>
                      <a:pt x="1314" y="19"/>
                      <a:pt x="1314" y="19"/>
                      <a:pt x="1314" y="19"/>
                    </a:cubicBezTo>
                    <a:cubicBezTo>
                      <a:pt x="1332" y="17"/>
                      <a:pt x="1332" y="17"/>
                      <a:pt x="1332" y="17"/>
                    </a:cubicBezTo>
                    <a:cubicBezTo>
                      <a:pt x="1350" y="16"/>
                      <a:pt x="1350" y="16"/>
                      <a:pt x="1350" y="16"/>
                    </a:cubicBezTo>
                    <a:cubicBezTo>
                      <a:pt x="1368" y="15"/>
                      <a:pt x="1368" y="15"/>
                      <a:pt x="1368" y="15"/>
                    </a:cubicBezTo>
                    <a:cubicBezTo>
                      <a:pt x="1386" y="14"/>
                      <a:pt x="1386" y="14"/>
                      <a:pt x="1386" y="14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22" y="11"/>
                      <a:pt x="1422" y="11"/>
                      <a:pt x="1422" y="11"/>
                    </a:cubicBezTo>
                    <a:cubicBezTo>
                      <a:pt x="1440" y="10"/>
                      <a:pt x="1440" y="10"/>
                      <a:pt x="1440" y="10"/>
                    </a:cubicBezTo>
                    <a:cubicBezTo>
                      <a:pt x="1458" y="10"/>
                      <a:pt x="1458" y="10"/>
                      <a:pt x="1458" y="10"/>
                    </a:cubicBezTo>
                    <a:cubicBezTo>
                      <a:pt x="1476" y="9"/>
                      <a:pt x="1476" y="9"/>
                      <a:pt x="1476" y="9"/>
                    </a:cubicBezTo>
                    <a:cubicBezTo>
                      <a:pt x="1494" y="8"/>
                      <a:pt x="1494" y="8"/>
                      <a:pt x="1494" y="8"/>
                    </a:cubicBezTo>
                    <a:cubicBezTo>
                      <a:pt x="1512" y="7"/>
                      <a:pt x="1512" y="7"/>
                      <a:pt x="1512" y="7"/>
                    </a:cubicBezTo>
                    <a:cubicBezTo>
                      <a:pt x="1530" y="6"/>
                      <a:pt x="1530" y="6"/>
                      <a:pt x="1530" y="6"/>
                    </a:cubicBezTo>
                    <a:cubicBezTo>
                      <a:pt x="1548" y="6"/>
                      <a:pt x="1548" y="6"/>
                      <a:pt x="1548" y="6"/>
                    </a:cubicBezTo>
                    <a:cubicBezTo>
                      <a:pt x="1566" y="5"/>
                      <a:pt x="1566" y="5"/>
                      <a:pt x="1566" y="5"/>
                    </a:cubicBezTo>
                    <a:cubicBezTo>
                      <a:pt x="1584" y="4"/>
                      <a:pt x="1584" y="4"/>
                      <a:pt x="1584" y="4"/>
                    </a:cubicBezTo>
                    <a:cubicBezTo>
                      <a:pt x="1602" y="4"/>
                      <a:pt x="1602" y="4"/>
                      <a:pt x="1602" y="4"/>
                    </a:cubicBezTo>
                    <a:cubicBezTo>
                      <a:pt x="1620" y="3"/>
                      <a:pt x="1620" y="3"/>
                      <a:pt x="1620" y="3"/>
                    </a:cubicBezTo>
                    <a:cubicBezTo>
                      <a:pt x="1638" y="3"/>
                      <a:pt x="1638" y="3"/>
                      <a:pt x="1638" y="3"/>
                    </a:cubicBezTo>
                    <a:cubicBezTo>
                      <a:pt x="1656" y="2"/>
                      <a:pt x="1656" y="2"/>
                      <a:pt x="1656" y="2"/>
                    </a:cubicBezTo>
                    <a:cubicBezTo>
                      <a:pt x="1674" y="2"/>
                      <a:pt x="1674" y="2"/>
                      <a:pt x="1674" y="2"/>
                    </a:cubicBezTo>
                    <a:cubicBezTo>
                      <a:pt x="1692" y="1"/>
                      <a:pt x="1692" y="1"/>
                      <a:pt x="1692" y="1"/>
                    </a:cubicBezTo>
                    <a:cubicBezTo>
                      <a:pt x="1710" y="1"/>
                      <a:pt x="1710" y="1"/>
                      <a:pt x="1710" y="1"/>
                    </a:cubicBezTo>
                    <a:cubicBezTo>
                      <a:pt x="1728" y="1"/>
                      <a:pt x="1728" y="1"/>
                      <a:pt x="1728" y="1"/>
                    </a:cubicBezTo>
                    <a:cubicBezTo>
                      <a:pt x="1746" y="0"/>
                      <a:pt x="1746" y="0"/>
                      <a:pt x="1746" y="0"/>
                    </a:cubicBezTo>
                    <a:cubicBezTo>
                      <a:pt x="1764" y="0"/>
                      <a:pt x="1764" y="0"/>
                      <a:pt x="1764" y="0"/>
                    </a:cubicBezTo>
                    <a:cubicBezTo>
                      <a:pt x="1782" y="0"/>
                      <a:pt x="1782" y="0"/>
                      <a:pt x="1782" y="0"/>
                    </a:cubicBezTo>
                    <a:cubicBezTo>
                      <a:pt x="1800" y="0"/>
                      <a:pt x="1800" y="0"/>
                      <a:pt x="1800" y="0"/>
                    </a:cubicBezTo>
                  </a:path>
                </a:pathLst>
              </a:custGeom>
              <a:noFill/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6908760" y="4378680"/>
                <a:ext cx="1117080" cy="1354680"/>
              </a:xfrm>
              <a:custGeom>
                <a:avLst/>
                <a:gdLst/>
                <a:ahLst/>
                <a:rect l="l" t="t" r="r" b="b"/>
                <a:pathLst>
                  <a:path w="1800" h="237">
                    <a:moveTo>
                      <a:pt x="0" y="237"/>
                    </a:moveTo>
                    <a:cubicBezTo>
                      <a:pt x="18" y="237"/>
                      <a:pt x="18" y="237"/>
                      <a:pt x="18" y="237"/>
                    </a:cubicBezTo>
                    <a:cubicBezTo>
                      <a:pt x="36" y="236"/>
                      <a:pt x="36" y="236"/>
                      <a:pt x="36" y="236"/>
                    </a:cubicBezTo>
                    <a:cubicBezTo>
                      <a:pt x="54" y="236"/>
                      <a:pt x="54" y="236"/>
                      <a:pt x="54" y="236"/>
                    </a:cubicBezTo>
                    <a:cubicBezTo>
                      <a:pt x="72" y="235"/>
                      <a:pt x="72" y="235"/>
                      <a:pt x="72" y="235"/>
                    </a:cubicBezTo>
                    <a:cubicBezTo>
                      <a:pt x="90" y="234"/>
                      <a:pt x="90" y="234"/>
                      <a:pt x="90" y="234"/>
                    </a:cubicBezTo>
                    <a:cubicBezTo>
                      <a:pt x="108" y="233"/>
                      <a:pt x="108" y="233"/>
                      <a:pt x="108" y="233"/>
                    </a:cubicBezTo>
                    <a:cubicBezTo>
                      <a:pt x="126" y="232"/>
                      <a:pt x="126" y="232"/>
                      <a:pt x="126" y="232"/>
                    </a:cubicBezTo>
                    <a:cubicBezTo>
                      <a:pt x="144" y="230"/>
                      <a:pt x="144" y="230"/>
                      <a:pt x="144" y="230"/>
                    </a:cubicBezTo>
                    <a:cubicBezTo>
                      <a:pt x="162" y="228"/>
                      <a:pt x="162" y="228"/>
                      <a:pt x="162" y="228"/>
                    </a:cubicBezTo>
                    <a:cubicBezTo>
                      <a:pt x="180" y="226"/>
                      <a:pt x="180" y="226"/>
                      <a:pt x="180" y="226"/>
                    </a:cubicBezTo>
                    <a:cubicBezTo>
                      <a:pt x="198" y="224"/>
                      <a:pt x="198" y="224"/>
                      <a:pt x="198" y="224"/>
                    </a:cubicBezTo>
                    <a:cubicBezTo>
                      <a:pt x="216" y="222"/>
                      <a:pt x="216" y="222"/>
                      <a:pt x="216" y="222"/>
                    </a:cubicBezTo>
                    <a:cubicBezTo>
                      <a:pt x="234" y="219"/>
                      <a:pt x="234" y="219"/>
                      <a:pt x="234" y="219"/>
                    </a:cubicBezTo>
                    <a:cubicBezTo>
                      <a:pt x="252" y="217"/>
                      <a:pt x="252" y="217"/>
                      <a:pt x="252" y="217"/>
                    </a:cubicBezTo>
                    <a:cubicBezTo>
                      <a:pt x="270" y="214"/>
                      <a:pt x="270" y="214"/>
                      <a:pt x="270" y="214"/>
                    </a:cubicBezTo>
                    <a:cubicBezTo>
                      <a:pt x="288" y="211"/>
                      <a:pt x="288" y="211"/>
                      <a:pt x="288" y="211"/>
                    </a:cubicBezTo>
                    <a:cubicBezTo>
                      <a:pt x="306" y="208"/>
                      <a:pt x="306" y="208"/>
                      <a:pt x="306" y="208"/>
                    </a:cubicBezTo>
                    <a:cubicBezTo>
                      <a:pt x="324" y="204"/>
                      <a:pt x="324" y="204"/>
                      <a:pt x="324" y="204"/>
                    </a:cubicBezTo>
                    <a:cubicBezTo>
                      <a:pt x="342" y="201"/>
                      <a:pt x="342" y="201"/>
                      <a:pt x="342" y="201"/>
                    </a:cubicBezTo>
                    <a:cubicBezTo>
                      <a:pt x="360" y="197"/>
                      <a:pt x="360" y="197"/>
                      <a:pt x="360" y="197"/>
                    </a:cubicBezTo>
                    <a:cubicBezTo>
                      <a:pt x="378" y="194"/>
                      <a:pt x="378" y="194"/>
                      <a:pt x="378" y="194"/>
                    </a:cubicBezTo>
                    <a:cubicBezTo>
                      <a:pt x="396" y="190"/>
                      <a:pt x="396" y="190"/>
                      <a:pt x="396" y="190"/>
                    </a:cubicBezTo>
                    <a:cubicBezTo>
                      <a:pt x="414" y="186"/>
                      <a:pt x="414" y="186"/>
                      <a:pt x="414" y="186"/>
                    </a:cubicBezTo>
                    <a:cubicBezTo>
                      <a:pt x="432" y="182"/>
                      <a:pt x="432" y="182"/>
                      <a:pt x="432" y="182"/>
                    </a:cubicBezTo>
                    <a:cubicBezTo>
                      <a:pt x="450" y="178"/>
                      <a:pt x="450" y="178"/>
                      <a:pt x="450" y="178"/>
                    </a:cubicBezTo>
                    <a:cubicBezTo>
                      <a:pt x="468" y="174"/>
                      <a:pt x="468" y="174"/>
                      <a:pt x="468" y="174"/>
                    </a:cubicBezTo>
                    <a:cubicBezTo>
                      <a:pt x="486" y="170"/>
                      <a:pt x="486" y="170"/>
                      <a:pt x="486" y="170"/>
                    </a:cubicBezTo>
                    <a:cubicBezTo>
                      <a:pt x="504" y="165"/>
                      <a:pt x="504" y="165"/>
                      <a:pt x="504" y="165"/>
                    </a:cubicBezTo>
                    <a:cubicBezTo>
                      <a:pt x="522" y="161"/>
                      <a:pt x="522" y="161"/>
                      <a:pt x="522" y="161"/>
                    </a:cubicBezTo>
                    <a:cubicBezTo>
                      <a:pt x="540" y="157"/>
                      <a:pt x="540" y="157"/>
                      <a:pt x="540" y="157"/>
                    </a:cubicBezTo>
                    <a:cubicBezTo>
                      <a:pt x="558" y="153"/>
                      <a:pt x="558" y="153"/>
                      <a:pt x="558" y="153"/>
                    </a:cubicBezTo>
                    <a:cubicBezTo>
                      <a:pt x="576" y="148"/>
                      <a:pt x="576" y="148"/>
                      <a:pt x="576" y="148"/>
                    </a:cubicBezTo>
                    <a:cubicBezTo>
                      <a:pt x="594" y="144"/>
                      <a:pt x="594" y="144"/>
                      <a:pt x="594" y="144"/>
                    </a:cubicBezTo>
                    <a:cubicBezTo>
                      <a:pt x="612" y="140"/>
                      <a:pt x="612" y="140"/>
                      <a:pt x="612" y="140"/>
                    </a:cubicBezTo>
                    <a:cubicBezTo>
                      <a:pt x="630" y="135"/>
                      <a:pt x="630" y="135"/>
                      <a:pt x="630" y="135"/>
                    </a:cubicBezTo>
                    <a:cubicBezTo>
                      <a:pt x="648" y="131"/>
                      <a:pt x="648" y="131"/>
                      <a:pt x="648" y="131"/>
                    </a:cubicBezTo>
                    <a:cubicBezTo>
                      <a:pt x="666" y="126"/>
                      <a:pt x="666" y="126"/>
                      <a:pt x="666" y="126"/>
                    </a:cubicBezTo>
                    <a:cubicBezTo>
                      <a:pt x="684" y="122"/>
                      <a:pt x="684" y="122"/>
                      <a:pt x="684" y="122"/>
                    </a:cubicBezTo>
                    <a:cubicBezTo>
                      <a:pt x="702" y="118"/>
                      <a:pt x="702" y="118"/>
                      <a:pt x="702" y="118"/>
                    </a:cubicBezTo>
                    <a:cubicBezTo>
                      <a:pt x="720" y="114"/>
                      <a:pt x="720" y="114"/>
                      <a:pt x="720" y="114"/>
                    </a:cubicBezTo>
                    <a:cubicBezTo>
                      <a:pt x="738" y="110"/>
                      <a:pt x="738" y="110"/>
                      <a:pt x="738" y="110"/>
                    </a:cubicBezTo>
                    <a:cubicBezTo>
                      <a:pt x="756" y="105"/>
                      <a:pt x="756" y="105"/>
                      <a:pt x="756" y="105"/>
                    </a:cubicBezTo>
                    <a:cubicBezTo>
                      <a:pt x="774" y="101"/>
                      <a:pt x="774" y="101"/>
                      <a:pt x="774" y="101"/>
                    </a:cubicBezTo>
                    <a:cubicBezTo>
                      <a:pt x="792" y="97"/>
                      <a:pt x="792" y="97"/>
                      <a:pt x="792" y="97"/>
                    </a:cubicBezTo>
                    <a:cubicBezTo>
                      <a:pt x="810" y="93"/>
                      <a:pt x="810" y="93"/>
                      <a:pt x="810" y="93"/>
                    </a:cubicBezTo>
                    <a:cubicBezTo>
                      <a:pt x="828" y="90"/>
                      <a:pt x="828" y="90"/>
                      <a:pt x="828" y="90"/>
                    </a:cubicBezTo>
                    <a:cubicBezTo>
                      <a:pt x="846" y="86"/>
                      <a:pt x="846" y="86"/>
                      <a:pt x="846" y="86"/>
                    </a:cubicBezTo>
                    <a:cubicBezTo>
                      <a:pt x="864" y="82"/>
                      <a:pt x="864" y="82"/>
                      <a:pt x="864" y="82"/>
                    </a:cubicBezTo>
                    <a:cubicBezTo>
                      <a:pt x="882" y="78"/>
                      <a:pt x="882" y="78"/>
                      <a:pt x="882" y="78"/>
                    </a:cubicBezTo>
                    <a:cubicBezTo>
                      <a:pt x="900" y="75"/>
                      <a:pt x="900" y="75"/>
                      <a:pt x="900" y="75"/>
                    </a:cubicBezTo>
                    <a:cubicBezTo>
                      <a:pt x="918" y="71"/>
                      <a:pt x="918" y="71"/>
                      <a:pt x="918" y="71"/>
                    </a:cubicBezTo>
                    <a:cubicBezTo>
                      <a:pt x="936" y="68"/>
                      <a:pt x="936" y="68"/>
                      <a:pt x="936" y="68"/>
                    </a:cubicBezTo>
                    <a:cubicBezTo>
                      <a:pt x="954" y="65"/>
                      <a:pt x="954" y="65"/>
                      <a:pt x="954" y="65"/>
                    </a:cubicBezTo>
                    <a:cubicBezTo>
                      <a:pt x="972" y="62"/>
                      <a:pt x="972" y="62"/>
                      <a:pt x="972" y="62"/>
                    </a:cubicBezTo>
                    <a:cubicBezTo>
                      <a:pt x="990" y="58"/>
                      <a:pt x="990" y="58"/>
                      <a:pt x="990" y="58"/>
                    </a:cubicBezTo>
                    <a:cubicBezTo>
                      <a:pt x="1008" y="55"/>
                      <a:pt x="1008" y="55"/>
                      <a:pt x="1008" y="55"/>
                    </a:cubicBezTo>
                    <a:cubicBezTo>
                      <a:pt x="1026" y="53"/>
                      <a:pt x="1026" y="53"/>
                      <a:pt x="1026" y="53"/>
                    </a:cubicBezTo>
                    <a:cubicBezTo>
                      <a:pt x="1044" y="50"/>
                      <a:pt x="1044" y="50"/>
                      <a:pt x="1044" y="50"/>
                    </a:cubicBezTo>
                    <a:cubicBezTo>
                      <a:pt x="1062" y="47"/>
                      <a:pt x="1062" y="47"/>
                      <a:pt x="1062" y="47"/>
                    </a:cubicBezTo>
                    <a:cubicBezTo>
                      <a:pt x="1080" y="44"/>
                      <a:pt x="1080" y="44"/>
                      <a:pt x="1080" y="44"/>
                    </a:cubicBezTo>
                    <a:cubicBezTo>
                      <a:pt x="1098" y="42"/>
                      <a:pt x="1098" y="42"/>
                      <a:pt x="1098" y="42"/>
                    </a:cubicBezTo>
                    <a:cubicBezTo>
                      <a:pt x="1116" y="40"/>
                      <a:pt x="1116" y="40"/>
                      <a:pt x="1116" y="40"/>
                    </a:cubicBezTo>
                    <a:cubicBezTo>
                      <a:pt x="1134" y="37"/>
                      <a:pt x="1134" y="37"/>
                      <a:pt x="1134" y="37"/>
                    </a:cubicBezTo>
                    <a:cubicBezTo>
                      <a:pt x="1152" y="35"/>
                      <a:pt x="1152" y="35"/>
                      <a:pt x="1152" y="35"/>
                    </a:cubicBezTo>
                    <a:cubicBezTo>
                      <a:pt x="1170" y="33"/>
                      <a:pt x="1170" y="33"/>
                      <a:pt x="1170" y="33"/>
                    </a:cubicBezTo>
                    <a:cubicBezTo>
                      <a:pt x="1188" y="31"/>
                      <a:pt x="1188" y="31"/>
                      <a:pt x="1188" y="31"/>
                    </a:cubicBezTo>
                    <a:cubicBezTo>
                      <a:pt x="1206" y="29"/>
                      <a:pt x="1206" y="29"/>
                      <a:pt x="1206" y="29"/>
                    </a:cubicBezTo>
                    <a:cubicBezTo>
                      <a:pt x="1224" y="27"/>
                      <a:pt x="1224" y="27"/>
                      <a:pt x="1224" y="27"/>
                    </a:cubicBezTo>
                    <a:cubicBezTo>
                      <a:pt x="1242" y="25"/>
                      <a:pt x="1242" y="25"/>
                      <a:pt x="1242" y="25"/>
                    </a:cubicBezTo>
                    <a:cubicBezTo>
                      <a:pt x="1260" y="23"/>
                      <a:pt x="1260" y="23"/>
                      <a:pt x="1260" y="23"/>
                    </a:cubicBezTo>
                    <a:cubicBezTo>
                      <a:pt x="1278" y="22"/>
                      <a:pt x="1278" y="22"/>
                      <a:pt x="1278" y="22"/>
                    </a:cubicBezTo>
                    <a:cubicBezTo>
                      <a:pt x="1296" y="20"/>
                      <a:pt x="1296" y="20"/>
                      <a:pt x="1296" y="20"/>
                    </a:cubicBezTo>
                    <a:cubicBezTo>
                      <a:pt x="1314" y="19"/>
                      <a:pt x="1314" y="19"/>
                      <a:pt x="1314" y="19"/>
                    </a:cubicBezTo>
                    <a:cubicBezTo>
                      <a:pt x="1332" y="17"/>
                      <a:pt x="1332" y="17"/>
                      <a:pt x="1332" y="17"/>
                    </a:cubicBezTo>
                    <a:cubicBezTo>
                      <a:pt x="1350" y="16"/>
                      <a:pt x="1350" y="16"/>
                      <a:pt x="1350" y="16"/>
                    </a:cubicBezTo>
                    <a:cubicBezTo>
                      <a:pt x="1368" y="15"/>
                      <a:pt x="1368" y="15"/>
                      <a:pt x="1368" y="15"/>
                    </a:cubicBezTo>
                    <a:cubicBezTo>
                      <a:pt x="1386" y="14"/>
                      <a:pt x="1386" y="14"/>
                      <a:pt x="1386" y="14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22" y="11"/>
                      <a:pt x="1422" y="11"/>
                      <a:pt x="1422" y="11"/>
                    </a:cubicBezTo>
                    <a:cubicBezTo>
                      <a:pt x="1440" y="10"/>
                      <a:pt x="1440" y="10"/>
                      <a:pt x="1440" y="10"/>
                    </a:cubicBezTo>
                    <a:cubicBezTo>
                      <a:pt x="1458" y="10"/>
                      <a:pt x="1458" y="10"/>
                      <a:pt x="1458" y="10"/>
                    </a:cubicBezTo>
                    <a:cubicBezTo>
                      <a:pt x="1476" y="9"/>
                      <a:pt x="1476" y="9"/>
                      <a:pt x="1476" y="9"/>
                    </a:cubicBezTo>
                    <a:cubicBezTo>
                      <a:pt x="1494" y="8"/>
                      <a:pt x="1494" y="8"/>
                      <a:pt x="1494" y="8"/>
                    </a:cubicBezTo>
                    <a:cubicBezTo>
                      <a:pt x="1512" y="7"/>
                      <a:pt x="1512" y="7"/>
                      <a:pt x="1512" y="7"/>
                    </a:cubicBezTo>
                    <a:cubicBezTo>
                      <a:pt x="1530" y="6"/>
                      <a:pt x="1530" y="6"/>
                      <a:pt x="1530" y="6"/>
                    </a:cubicBezTo>
                    <a:cubicBezTo>
                      <a:pt x="1548" y="6"/>
                      <a:pt x="1548" y="6"/>
                      <a:pt x="1548" y="6"/>
                    </a:cubicBezTo>
                    <a:cubicBezTo>
                      <a:pt x="1566" y="5"/>
                      <a:pt x="1566" y="5"/>
                      <a:pt x="1566" y="5"/>
                    </a:cubicBezTo>
                    <a:cubicBezTo>
                      <a:pt x="1584" y="4"/>
                      <a:pt x="1584" y="4"/>
                      <a:pt x="1584" y="4"/>
                    </a:cubicBezTo>
                    <a:cubicBezTo>
                      <a:pt x="1602" y="4"/>
                      <a:pt x="1602" y="4"/>
                      <a:pt x="1602" y="4"/>
                    </a:cubicBezTo>
                    <a:cubicBezTo>
                      <a:pt x="1620" y="3"/>
                      <a:pt x="1620" y="3"/>
                      <a:pt x="1620" y="3"/>
                    </a:cubicBezTo>
                    <a:cubicBezTo>
                      <a:pt x="1638" y="3"/>
                      <a:pt x="1638" y="3"/>
                      <a:pt x="1638" y="3"/>
                    </a:cubicBezTo>
                    <a:cubicBezTo>
                      <a:pt x="1656" y="2"/>
                      <a:pt x="1656" y="2"/>
                      <a:pt x="1656" y="2"/>
                    </a:cubicBezTo>
                    <a:cubicBezTo>
                      <a:pt x="1674" y="2"/>
                      <a:pt x="1674" y="2"/>
                      <a:pt x="1674" y="2"/>
                    </a:cubicBezTo>
                    <a:cubicBezTo>
                      <a:pt x="1692" y="1"/>
                      <a:pt x="1692" y="1"/>
                      <a:pt x="1692" y="1"/>
                    </a:cubicBezTo>
                    <a:cubicBezTo>
                      <a:pt x="1710" y="1"/>
                      <a:pt x="1710" y="1"/>
                      <a:pt x="1710" y="1"/>
                    </a:cubicBezTo>
                    <a:cubicBezTo>
                      <a:pt x="1728" y="1"/>
                      <a:pt x="1728" y="1"/>
                      <a:pt x="1728" y="1"/>
                    </a:cubicBezTo>
                    <a:cubicBezTo>
                      <a:pt x="1746" y="0"/>
                      <a:pt x="1746" y="0"/>
                      <a:pt x="1746" y="0"/>
                    </a:cubicBezTo>
                    <a:cubicBezTo>
                      <a:pt x="1764" y="0"/>
                      <a:pt x="1764" y="0"/>
                      <a:pt x="1764" y="0"/>
                    </a:cubicBezTo>
                    <a:cubicBezTo>
                      <a:pt x="1782" y="0"/>
                      <a:pt x="1782" y="0"/>
                      <a:pt x="1782" y="0"/>
                    </a:cubicBezTo>
                    <a:cubicBezTo>
                      <a:pt x="1800" y="0"/>
                      <a:pt x="1800" y="0"/>
                      <a:pt x="1800" y="0"/>
                    </a:cubicBezTo>
                  </a:path>
                </a:pathLst>
              </a:custGeom>
              <a:noFill/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1" name=""/>
            <p:cNvGrpSpPr/>
            <p:nvPr/>
          </p:nvGrpSpPr>
          <p:grpSpPr>
            <a:xfrm>
              <a:off x="5306400" y="4726080"/>
              <a:ext cx="3201840" cy="1017000"/>
              <a:chOff x="5306400" y="4726080"/>
              <a:chExt cx="3201840" cy="1017000"/>
            </a:xfrm>
          </p:grpSpPr>
          <p:sp>
            <p:nvSpPr>
              <p:cNvPr id="2272" name=""/>
              <p:cNvSpPr/>
              <p:nvPr/>
            </p:nvSpPr>
            <p:spPr>
              <a:xfrm flipV="1">
                <a:off x="6909480" y="4728600"/>
                <a:ext cx="1598760" cy="1014120"/>
              </a:xfrm>
              <a:custGeom>
                <a:avLst/>
                <a:gdLst/>
                <a:ahLst/>
                <a:rect l="l" t="t" r="r" b="b"/>
                <a:pathLst>
                  <a:path w="1800" h="237">
                    <a:moveTo>
                      <a:pt x="0" y="237"/>
                    </a:moveTo>
                    <a:cubicBezTo>
                      <a:pt x="18" y="237"/>
                      <a:pt x="18" y="237"/>
                      <a:pt x="18" y="237"/>
                    </a:cubicBezTo>
                    <a:cubicBezTo>
                      <a:pt x="36" y="236"/>
                      <a:pt x="36" y="236"/>
                      <a:pt x="36" y="236"/>
                    </a:cubicBezTo>
                    <a:cubicBezTo>
                      <a:pt x="54" y="236"/>
                      <a:pt x="54" y="236"/>
                      <a:pt x="54" y="236"/>
                    </a:cubicBezTo>
                    <a:cubicBezTo>
                      <a:pt x="72" y="235"/>
                      <a:pt x="72" y="235"/>
                      <a:pt x="72" y="235"/>
                    </a:cubicBezTo>
                    <a:cubicBezTo>
                      <a:pt x="90" y="234"/>
                      <a:pt x="90" y="234"/>
                      <a:pt x="90" y="234"/>
                    </a:cubicBezTo>
                    <a:cubicBezTo>
                      <a:pt x="108" y="233"/>
                      <a:pt x="108" y="233"/>
                      <a:pt x="108" y="233"/>
                    </a:cubicBezTo>
                    <a:cubicBezTo>
                      <a:pt x="126" y="232"/>
                      <a:pt x="126" y="232"/>
                      <a:pt x="126" y="232"/>
                    </a:cubicBezTo>
                    <a:cubicBezTo>
                      <a:pt x="144" y="230"/>
                      <a:pt x="144" y="230"/>
                      <a:pt x="144" y="230"/>
                    </a:cubicBezTo>
                    <a:cubicBezTo>
                      <a:pt x="162" y="228"/>
                      <a:pt x="162" y="228"/>
                      <a:pt x="162" y="228"/>
                    </a:cubicBezTo>
                    <a:cubicBezTo>
                      <a:pt x="180" y="226"/>
                      <a:pt x="180" y="226"/>
                      <a:pt x="180" y="226"/>
                    </a:cubicBezTo>
                    <a:cubicBezTo>
                      <a:pt x="198" y="224"/>
                      <a:pt x="198" y="224"/>
                      <a:pt x="198" y="224"/>
                    </a:cubicBezTo>
                    <a:cubicBezTo>
                      <a:pt x="216" y="222"/>
                      <a:pt x="216" y="222"/>
                      <a:pt x="216" y="222"/>
                    </a:cubicBezTo>
                    <a:cubicBezTo>
                      <a:pt x="234" y="219"/>
                      <a:pt x="234" y="219"/>
                      <a:pt x="234" y="219"/>
                    </a:cubicBezTo>
                    <a:cubicBezTo>
                      <a:pt x="252" y="217"/>
                      <a:pt x="252" y="217"/>
                      <a:pt x="252" y="217"/>
                    </a:cubicBezTo>
                    <a:cubicBezTo>
                      <a:pt x="270" y="214"/>
                      <a:pt x="270" y="214"/>
                      <a:pt x="270" y="214"/>
                    </a:cubicBezTo>
                    <a:cubicBezTo>
                      <a:pt x="288" y="211"/>
                      <a:pt x="288" y="211"/>
                      <a:pt x="288" y="211"/>
                    </a:cubicBezTo>
                    <a:cubicBezTo>
                      <a:pt x="306" y="208"/>
                      <a:pt x="306" y="208"/>
                      <a:pt x="306" y="208"/>
                    </a:cubicBezTo>
                    <a:cubicBezTo>
                      <a:pt x="324" y="204"/>
                      <a:pt x="324" y="204"/>
                      <a:pt x="324" y="204"/>
                    </a:cubicBezTo>
                    <a:cubicBezTo>
                      <a:pt x="342" y="201"/>
                      <a:pt x="342" y="201"/>
                      <a:pt x="342" y="201"/>
                    </a:cubicBezTo>
                    <a:cubicBezTo>
                      <a:pt x="360" y="197"/>
                      <a:pt x="360" y="197"/>
                      <a:pt x="360" y="197"/>
                    </a:cubicBezTo>
                    <a:cubicBezTo>
                      <a:pt x="378" y="194"/>
                      <a:pt x="378" y="194"/>
                      <a:pt x="378" y="194"/>
                    </a:cubicBezTo>
                    <a:cubicBezTo>
                      <a:pt x="396" y="190"/>
                      <a:pt x="396" y="190"/>
                      <a:pt x="396" y="190"/>
                    </a:cubicBezTo>
                    <a:cubicBezTo>
                      <a:pt x="414" y="186"/>
                      <a:pt x="414" y="186"/>
                      <a:pt x="414" y="186"/>
                    </a:cubicBezTo>
                    <a:cubicBezTo>
                      <a:pt x="432" y="182"/>
                      <a:pt x="432" y="182"/>
                      <a:pt x="432" y="182"/>
                    </a:cubicBezTo>
                    <a:cubicBezTo>
                      <a:pt x="450" y="178"/>
                      <a:pt x="450" y="178"/>
                      <a:pt x="450" y="178"/>
                    </a:cubicBezTo>
                    <a:cubicBezTo>
                      <a:pt x="468" y="174"/>
                      <a:pt x="468" y="174"/>
                      <a:pt x="468" y="174"/>
                    </a:cubicBezTo>
                    <a:cubicBezTo>
                      <a:pt x="486" y="170"/>
                      <a:pt x="486" y="170"/>
                      <a:pt x="486" y="170"/>
                    </a:cubicBezTo>
                    <a:cubicBezTo>
                      <a:pt x="504" y="165"/>
                      <a:pt x="504" y="165"/>
                      <a:pt x="504" y="165"/>
                    </a:cubicBezTo>
                    <a:cubicBezTo>
                      <a:pt x="522" y="161"/>
                      <a:pt x="522" y="161"/>
                      <a:pt x="522" y="161"/>
                    </a:cubicBezTo>
                    <a:cubicBezTo>
                      <a:pt x="540" y="157"/>
                      <a:pt x="540" y="157"/>
                      <a:pt x="540" y="157"/>
                    </a:cubicBezTo>
                    <a:cubicBezTo>
                      <a:pt x="558" y="153"/>
                      <a:pt x="558" y="153"/>
                      <a:pt x="558" y="153"/>
                    </a:cubicBezTo>
                    <a:cubicBezTo>
                      <a:pt x="576" y="148"/>
                      <a:pt x="576" y="148"/>
                      <a:pt x="576" y="148"/>
                    </a:cubicBezTo>
                    <a:cubicBezTo>
                      <a:pt x="594" y="144"/>
                      <a:pt x="594" y="144"/>
                      <a:pt x="594" y="144"/>
                    </a:cubicBezTo>
                    <a:cubicBezTo>
                      <a:pt x="612" y="140"/>
                      <a:pt x="612" y="140"/>
                      <a:pt x="612" y="140"/>
                    </a:cubicBezTo>
                    <a:cubicBezTo>
                      <a:pt x="630" y="135"/>
                      <a:pt x="630" y="135"/>
                      <a:pt x="630" y="135"/>
                    </a:cubicBezTo>
                    <a:cubicBezTo>
                      <a:pt x="648" y="131"/>
                      <a:pt x="648" y="131"/>
                      <a:pt x="648" y="131"/>
                    </a:cubicBezTo>
                    <a:cubicBezTo>
                      <a:pt x="666" y="126"/>
                      <a:pt x="666" y="126"/>
                      <a:pt x="666" y="126"/>
                    </a:cubicBezTo>
                    <a:cubicBezTo>
                      <a:pt x="684" y="122"/>
                      <a:pt x="684" y="122"/>
                      <a:pt x="684" y="122"/>
                    </a:cubicBezTo>
                    <a:cubicBezTo>
                      <a:pt x="702" y="118"/>
                      <a:pt x="702" y="118"/>
                      <a:pt x="702" y="118"/>
                    </a:cubicBezTo>
                    <a:cubicBezTo>
                      <a:pt x="720" y="114"/>
                      <a:pt x="720" y="114"/>
                      <a:pt x="720" y="114"/>
                    </a:cubicBezTo>
                    <a:cubicBezTo>
                      <a:pt x="738" y="110"/>
                      <a:pt x="738" y="110"/>
                      <a:pt x="738" y="110"/>
                    </a:cubicBezTo>
                    <a:cubicBezTo>
                      <a:pt x="756" y="105"/>
                      <a:pt x="756" y="105"/>
                      <a:pt x="756" y="105"/>
                    </a:cubicBezTo>
                    <a:cubicBezTo>
                      <a:pt x="774" y="101"/>
                      <a:pt x="774" y="101"/>
                      <a:pt x="774" y="101"/>
                    </a:cubicBezTo>
                    <a:cubicBezTo>
                      <a:pt x="792" y="97"/>
                      <a:pt x="792" y="97"/>
                      <a:pt x="792" y="97"/>
                    </a:cubicBezTo>
                    <a:cubicBezTo>
                      <a:pt x="810" y="93"/>
                      <a:pt x="810" y="93"/>
                      <a:pt x="810" y="93"/>
                    </a:cubicBezTo>
                    <a:cubicBezTo>
                      <a:pt x="828" y="90"/>
                      <a:pt x="828" y="90"/>
                      <a:pt x="828" y="90"/>
                    </a:cubicBezTo>
                    <a:cubicBezTo>
                      <a:pt x="846" y="86"/>
                      <a:pt x="846" y="86"/>
                      <a:pt x="846" y="86"/>
                    </a:cubicBezTo>
                    <a:cubicBezTo>
                      <a:pt x="864" y="82"/>
                      <a:pt x="864" y="82"/>
                      <a:pt x="864" y="82"/>
                    </a:cubicBezTo>
                    <a:cubicBezTo>
                      <a:pt x="882" y="78"/>
                      <a:pt x="882" y="78"/>
                      <a:pt x="882" y="78"/>
                    </a:cubicBezTo>
                    <a:cubicBezTo>
                      <a:pt x="900" y="75"/>
                      <a:pt x="900" y="75"/>
                      <a:pt x="900" y="75"/>
                    </a:cubicBezTo>
                    <a:cubicBezTo>
                      <a:pt x="918" y="71"/>
                      <a:pt x="918" y="71"/>
                      <a:pt x="918" y="71"/>
                    </a:cubicBezTo>
                    <a:cubicBezTo>
                      <a:pt x="936" y="68"/>
                      <a:pt x="936" y="68"/>
                      <a:pt x="936" y="68"/>
                    </a:cubicBezTo>
                    <a:cubicBezTo>
                      <a:pt x="954" y="65"/>
                      <a:pt x="954" y="65"/>
                      <a:pt x="954" y="65"/>
                    </a:cubicBezTo>
                    <a:cubicBezTo>
                      <a:pt x="972" y="62"/>
                      <a:pt x="972" y="62"/>
                      <a:pt x="972" y="62"/>
                    </a:cubicBezTo>
                    <a:cubicBezTo>
                      <a:pt x="990" y="58"/>
                      <a:pt x="990" y="58"/>
                      <a:pt x="990" y="58"/>
                    </a:cubicBezTo>
                    <a:cubicBezTo>
                      <a:pt x="1008" y="55"/>
                      <a:pt x="1008" y="55"/>
                      <a:pt x="1008" y="55"/>
                    </a:cubicBezTo>
                    <a:cubicBezTo>
                      <a:pt x="1026" y="53"/>
                      <a:pt x="1026" y="53"/>
                      <a:pt x="1026" y="53"/>
                    </a:cubicBezTo>
                    <a:cubicBezTo>
                      <a:pt x="1044" y="50"/>
                      <a:pt x="1044" y="50"/>
                      <a:pt x="1044" y="50"/>
                    </a:cubicBezTo>
                    <a:cubicBezTo>
                      <a:pt x="1062" y="47"/>
                      <a:pt x="1062" y="47"/>
                      <a:pt x="1062" y="47"/>
                    </a:cubicBezTo>
                    <a:cubicBezTo>
                      <a:pt x="1080" y="44"/>
                      <a:pt x="1080" y="44"/>
                      <a:pt x="1080" y="44"/>
                    </a:cubicBezTo>
                    <a:cubicBezTo>
                      <a:pt x="1098" y="42"/>
                      <a:pt x="1098" y="42"/>
                      <a:pt x="1098" y="42"/>
                    </a:cubicBezTo>
                    <a:cubicBezTo>
                      <a:pt x="1116" y="40"/>
                      <a:pt x="1116" y="40"/>
                      <a:pt x="1116" y="40"/>
                    </a:cubicBezTo>
                    <a:cubicBezTo>
                      <a:pt x="1134" y="37"/>
                      <a:pt x="1134" y="37"/>
                      <a:pt x="1134" y="37"/>
                    </a:cubicBezTo>
                    <a:cubicBezTo>
                      <a:pt x="1152" y="35"/>
                      <a:pt x="1152" y="35"/>
                      <a:pt x="1152" y="35"/>
                    </a:cubicBezTo>
                    <a:cubicBezTo>
                      <a:pt x="1170" y="33"/>
                      <a:pt x="1170" y="33"/>
                      <a:pt x="1170" y="33"/>
                    </a:cubicBezTo>
                    <a:cubicBezTo>
                      <a:pt x="1188" y="31"/>
                      <a:pt x="1188" y="31"/>
                      <a:pt x="1188" y="31"/>
                    </a:cubicBezTo>
                    <a:cubicBezTo>
                      <a:pt x="1206" y="29"/>
                      <a:pt x="1206" y="29"/>
                      <a:pt x="1206" y="29"/>
                    </a:cubicBezTo>
                    <a:cubicBezTo>
                      <a:pt x="1224" y="27"/>
                      <a:pt x="1224" y="27"/>
                      <a:pt x="1224" y="27"/>
                    </a:cubicBezTo>
                    <a:cubicBezTo>
                      <a:pt x="1242" y="25"/>
                      <a:pt x="1242" y="25"/>
                      <a:pt x="1242" y="25"/>
                    </a:cubicBezTo>
                    <a:cubicBezTo>
                      <a:pt x="1260" y="23"/>
                      <a:pt x="1260" y="23"/>
                      <a:pt x="1260" y="23"/>
                    </a:cubicBezTo>
                    <a:cubicBezTo>
                      <a:pt x="1278" y="22"/>
                      <a:pt x="1278" y="22"/>
                      <a:pt x="1278" y="22"/>
                    </a:cubicBezTo>
                    <a:cubicBezTo>
                      <a:pt x="1296" y="20"/>
                      <a:pt x="1296" y="20"/>
                      <a:pt x="1296" y="20"/>
                    </a:cubicBezTo>
                    <a:cubicBezTo>
                      <a:pt x="1314" y="19"/>
                      <a:pt x="1314" y="19"/>
                      <a:pt x="1314" y="19"/>
                    </a:cubicBezTo>
                    <a:cubicBezTo>
                      <a:pt x="1332" y="17"/>
                      <a:pt x="1332" y="17"/>
                      <a:pt x="1332" y="17"/>
                    </a:cubicBezTo>
                    <a:cubicBezTo>
                      <a:pt x="1350" y="16"/>
                      <a:pt x="1350" y="16"/>
                      <a:pt x="1350" y="16"/>
                    </a:cubicBezTo>
                    <a:cubicBezTo>
                      <a:pt x="1368" y="15"/>
                      <a:pt x="1368" y="15"/>
                      <a:pt x="1368" y="15"/>
                    </a:cubicBezTo>
                    <a:cubicBezTo>
                      <a:pt x="1386" y="14"/>
                      <a:pt x="1386" y="14"/>
                      <a:pt x="1386" y="14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22" y="11"/>
                      <a:pt x="1422" y="11"/>
                      <a:pt x="1422" y="11"/>
                    </a:cubicBezTo>
                    <a:cubicBezTo>
                      <a:pt x="1440" y="10"/>
                      <a:pt x="1440" y="10"/>
                      <a:pt x="1440" y="10"/>
                    </a:cubicBezTo>
                    <a:cubicBezTo>
                      <a:pt x="1458" y="10"/>
                      <a:pt x="1458" y="10"/>
                      <a:pt x="1458" y="10"/>
                    </a:cubicBezTo>
                    <a:cubicBezTo>
                      <a:pt x="1476" y="9"/>
                      <a:pt x="1476" y="9"/>
                      <a:pt x="1476" y="9"/>
                    </a:cubicBezTo>
                    <a:cubicBezTo>
                      <a:pt x="1494" y="8"/>
                      <a:pt x="1494" y="8"/>
                      <a:pt x="1494" y="8"/>
                    </a:cubicBezTo>
                    <a:cubicBezTo>
                      <a:pt x="1512" y="7"/>
                      <a:pt x="1512" y="7"/>
                      <a:pt x="1512" y="7"/>
                    </a:cubicBezTo>
                    <a:cubicBezTo>
                      <a:pt x="1530" y="6"/>
                      <a:pt x="1530" y="6"/>
                      <a:pt x="1530" y="6"/>
                    </a:cubicBezTo>
                    <a:cubicBezTo>
                      <a:pt x="1548" y="6"/>
                      <a:pt x="1548" y="6"/>
                      <a:pt x="1548" y="6"/>
                    </a:cubicBezTo>
                    <a:cubicBezTo>
                      <a:pt x="1566" y="5"/>
                      <a:pt x="1566" y="5"/>
                      <a:pt x="1566" y="5"/>
                    </a:cubicBezTo>
                    <a:cubicBezTo>
                      <a:pt x="1584" y="4"/>
                      <a:pt x="1584" y="4"/>
                      <a:pt x="1584" y="4"/>
                    </a:cubicBezTo>
                    <a:cubicBezTo>
                      <a:pt x="1602" y="4"/>
                      <a:pt x="1602" y="4"/>
                      <a:pt x="1602" y="4"/>
                    </a:cubicBezTo>
                    <a:cubicBezTo>
                      <a:pt x="1620" y="3"/>
                      <a:pt x="1620" y="3"/>
                      <a:pt x="1620" y="3"/>
                    </a:cubicBezTo>
                    <a:cubicBezTo>
                      <a:pt x="1638" y="3"/>
                      <a:pt x="1638" y="3"/>
                      <a:pt x="1638" y="3"/>
                    </a:cubicBezTo>
                    <a:cubicBezTo>
                      <a:pt x="1656" y="2"/>
                      <a:pt x="1656" y="2"/>
                      <a:pt x="1656" y="2"/>
                    </a:cubicBezTo>
                    <a:cubicBezTo>
                      <a:pt x="1674" y="2"/>
                      <a:pt x="1674" y="2"/>
                      <a:pt x="1674" y="2"/>
                    </a:cubicBezTo>
                    <a:cubicBezTo>
                      <a:pt x="1692" y="1"/>
                      <a:pt x="1692" y="1"/>
                      <a:pt x="1692" y="1"/>
                    </a:cubicBezTo>
                    <a:cubicBezTo>
                      <a:pt x="1710" y="1"/>
                      <a:pt x="1710" y="1"/>
                      <a:pt x="1710" y="1"/>
                    </a:cubicBezTo>
                    <a:cubicBezTo>
                      <a:pt x="1728" y="1"/>
                      <a:pt x="1728" y="1"/>
                      <a:pt x="1728" y="1"/>
                    </a:cubicBezTo>
                    <a:cubicBezTo>
                      <a:pt x="1746" y="0"/>
                      <a:pt x="1746" y="0"/>
                      <a:pt x="1746" y="0"/>
                    </a:cubicBezTo>
                    <a:cubicBezTo>
                      <a:pt x="1764" y="0"/>
                      <a:pt x="1764" y="0"/>
                      <a:pt x="1764" y="0"/>
                    </a:cubicBezTo>
                    <a:cubicBezTo>
                      <a:pt x="1782" y="0"/>
                      <a:pt x="1782" y="0"/>
                      <a:pt x="1782" y="0"/>
                    </a:cubicBezTo>
                    <a:cubicBezTo>
                      <a:pt x="1800" y="0"/>
                      <a:pt x="1800" y="0"/>
                      <a:pt x="1800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H="1" flipV="1">
                <a:off x="5306040" y="4725720"/>
                <a:ext cx="1598760" cy="1014120"/>
              </a:xfrm>
              <a:custGeom>
                <a:avLst/>
                <a:gdLst/>
                <a:ahLst/>
                <a:rect l="l" t="t" r="r" b="b"/>
                <a:pathLst>
                  <a:path w="1800" h="237">
                    <a:moveTo>
                      <a:pt x="0" y="237"/>
                    </a:moveTo>
                    <a:cubicBezTo>
                      <a:pt x="18" y="237"/>
                      <a:pt x="18" y="237"/>
                      <a:pt x="18" y="237"/>
                    </a:cubicBezTo>
                    <a:cubicBezTo>
                      <a:pt x="36" y="236"/>
                      <a:pt x="36" y="236"/>
                      <a:pt x="36" y="236"/>
                    </a:cubicBezTo>
                    <a:cubicBezTo>
                      <a:pt x="54" y="236"/>
                      <a:pt x="54" y="236"/>
                      <a:pt x="54" y="236"/>
                    </a:cubicBezTo>
                    <a:cubicBezTo>
                      <a:pt x="72" y="235"/>
                      <a:pt x="72" y="235"/>
                      <a:pt x="72" y="235"/>
                    </a:cubicBezTo>
                    <a:cubicBezTo>
                      <a:pt x="90" y="234"/>
                      <a:pt x="90" y="234"/>
                      <a:pt x="90" y="234"/>
                    </a:cubicBezTo>
                    <a:cubicBezTo>
                      <a:pt x="108" y="233"/>
                      <a:pt x="108" y="233"/>
                      <a:pt x="108" y="233"/>
                    </a:cubicBezTo>
                    <a:cubicBezTo>
                      <a:pt x="126" y="232"/>
                      <a:pt x="126" y="232"/>
                      <a:pt x="126" y="232"/>
                    </a:cubicBezTo>
                    <a:cubicBezTo>
                      <a:pt x="144" y="230"/>
                      <a:pt x="144" y="230"/>
                      <a:pt x="144" y="230"/>
                    </a:cubicBezTo>
                    <a:cubicBezTo>
                      <a:pt x="162" y="228"/>
                      <a:pt x="162" y="228"/>
                      <a:pt x="162" y="228"/>
                    </a:cubicBezTo>
                    <a:cubicBezTo>
                      <a:pt x="180" y="226"/>
                      <a:pt x="180" y="226"/>
                      <a:pt x="180" y="226"/>
                    </a:cubicBezTo>
                    <a:cubicBezTo>
                      <a:pt x="198" y="224"/>
                      <a:pt x="198" y="224"/>
                      <a:pt x="198" y="224"/>
                    </a:cubicBezTo>
                    <a:cubicBezTo>
                      <a:pt x="216" y="222"/>
                      <a:pt x="216" y="222"/>
                      <a:pt x="216" y="222"/>
                    </a:cubicBezTo>
                    <a:cubicBezTo>
                      <a:pt x="234" y="219"/>
                      <a:pt x="234" y="219"/>
                      <a:pt x="234" y="219"/>
                    </a:cubicBezTo>
                    <a:cubicBezTo>
                      <a:pt x="252" y="217"/>
                      <a:pt x="252" y="217"/>
                      <a:pt x="252" y="217"/>
                    </a:cubicBezTo>
                    <a:cubicBezTo>
                      <a:pt x="270" y="214"/>
                      <a:pt x="270" y="214"/>
                      <a:pt x="270" y="214"/>
                    </a:cubicBezTo>
                    <a:cubicBezTo>
                      <a:pt x="288" y="211"/>
                      <a:pt x="288" y="211"/>
                      <a:pt x="288" y="211"/>
                    </a:cubicBezTo>
                    <a:cubicBezTo>
                      <a:pt x="306" y="208"/>
                      <a:pt x="306" y="208"/>
                      <a:pt x="306" y="208"/>
                    </a:cubicBezTo>
                    <a:cubicBezTo>
                      <a:pt x="324" y="204"/>
                      <a:pt x="324" y="204"/>
                      <a:pt x="324" y="204"/>
                    </a:cubicBezTo>
                    <a:cubicBezTo>
                      <a:pt x="342" y="201"/>
                      <a:pt x="342" y="201"/>
                      <a:pt x="342" y="201"/>
                    </a:cubicBezTo>
                    <a:cubicBezTo>
                      <a:pt x="360" y="197"/>
                      <a:pt x="360" y="197"/>
                      <a:pt x="360" y="197"/>
                    </a:cubicBezTo>
                    <a:cubicBezTo>
                      <a:pt x="378" y="194"/>
                      <a:pt x="378" y="194"/>
                      <a:pt x="378" y="194"/>
                    </a:cubicBezTo>
                    <a:cubicBezTo>
                      <a:pt x="396" y="190"/>
                      <a:pt x="396" y="190"/>
                      <a:pt x="396" y="190"/>
                    </a:cubicBezTo>
                    <a:cubicBezTo>
                      <a:pt x="414" y="186"/>
                      <a:pt x="414" y="186"/>
                      <a:pt x="414" y="186"/>
                    </a:cubicBezTo>
                    <a:cubicBezTo>
                      <a:pt x="432" y="182"/>
                      <a:pt x="432" y="182"/>
                      <a:pt x="432" y="182"/>
                    </a:cubicBezTo>
                    <a:cubicBezTo>
                      <a:pt x="450" y="178"/>
                      <a:pt x="450" y="178"/>
                      <a:pt x="450" y="178"/>
                    </a:cubicBezTo>
                    <a:cubicBezTo>
                      <a:pt x="468" y="174"/>
                      <a:pt x="468" y="174"/>
                      <a:pt x="468" y="174"/>
                    </a:cubicBezTo>
                    <a:cubicBezTo>
                      <a:pt x="486" y="170"/>
                      <a:pt x="486" y="170"/>
                      <a:pt x="486" y="170"/>
                    </a:cubicBezTo>
                    <a:cubicBezTo>
                      <a:pt x="504" y="165"/>
                      <a:pt x="504" y="165"/>
                      <a:pt x="504" y="165"/>
                    </a:cubicBezTo>
                    <a:cubicBezTo>
                      <a:pt x="522" y="161"/>
                      <a:pt x="522" y="161"/>
                      <a:pt x="522" y="161"/>
                    </a:cubicBezTo>
                    <a:cubicBezTo>
                      <a:pt x="540" y="157"/>
                      <a:pt x="540" y="157"/>
                      <a:pt x="540" y="157"/>
                    </a:cubicBezTo>
                    <a:cubicBezTo>
                      <a:pt x="558" y="153"/>
                      <a:pt x="558" y="153"/>
                      <a:pt x="558" y="153"/>
                    </a:cubicBezTo>
                    <a:cubicBezTo>
                      <a:pt x="576" y="148"/>
                      <a:pt x="576" y="148"/>
                      <a:pt x="576" y="148"/>
                    </a:cubicBezTo>
                    <a:cubicBezTo>
                      <a:pt x="594" y="144"/>
                      <a:pt x="594" y="144"/>
                      <a:pt x="594" y="144"/>
                    </a:cubicBezTo>
                    <a:cubicBezTo>
                      <a:pt x="612" y="140"/>
                      <a:pt x="612" y="140"/>
                      <a:pt x="612" y="140"/>
                    </a:cubicBezTo>
                    <a:cubicBezTo>
                      <a:pt x="630" y="135"/>
                      <a:pt x="630" y="135"/>
                      <a:pt x="630" y="135"/>
                    </a:cubicBezTo>
                    <a:cubicBezTo>
                      <a:pt x="648" y="131"/>
                      <a:pt x="648" y="131"/>
                      <a:pt x="648" y="131"/>
                    </a:cubicBezTo>
                    <a:cubicBezTo>
                      <a:pt x="666" y="126"/>
                      <a:pt x="666" y="126"/>
                      <a:pt x="666" y="126"/>
                    </a:cubicBezTo>
                    <a:cubicBezTo>
                      <a:pt x="684" y="122"/>
                      <a:pt x="684" y="122"/>
                      <a:pt x="684" y="122"/>
                    </a:cubicBezTo>
                    <a:cubicBezTo>
                      <a:pt x="702" y="118"/>
                      <a:pt x="702" y="118"/>
                      <a:pt x="702" y="118"/>
                    </a:cubicBezTo>
                    <a:cubicBezTo>
                      <a:pt x="720" y="114"/>
                      <a:pt x="720" y="114"/>
                      <a:pt x="720" y="114"/>
                    </a:cubicBezTo>
                    <a:cubicBezTo>
                      <a:pt x="738" y="110"/>
                      <a:pt x="738" y="110"/>
                      <a:pt x="738" y="110"/>
                    </a:cubicBezTo>
                    <a:cubicBezTo>
                      <a:pt x="756" y="105"/>
                      <a:pt x="756" y="105"/>
                      <a:pt x="756" y="105"/>
                    </a:cubicBezTo>
                    <a:cubicBezTo>
                      <a:pt x="774" y="101"/>
                      <a:pt x="774" y="101"/>
                      <a:pt x="774" y="101"/>
                    </a:cubicBezTo>
                    <a:cubicBezTo>
                      <a:pt x="792" y="97"/>
                      <a:pt x="792" y="97"/>
                      <a:pt x="792" y="97"/>
                    </a:cubicBezTo>
                    <a:cubicBezTo>
                      <a:pt x="810" y="93"/>
                      <a:pt x="810" y="93"/>
                      <a:pt x="810" y="93"/>
                    </a:cubicBezTo>
                    <a:cubicBezTo>
                      <a:pt x="828" y="90"/>
                      <a:pt x="828" y="90"/>
                      <a:pt x="828" y="90"/>
                    </a:cubicBezTo>
                    <a:cubicBezTo>
                      <a:pt x="846" y="86"/>
                      <a:pt x="846" y="86"/>
                      <a:pt x="846" y="86"/>
                    </a:cubicBezTo>
                    <a:cubicBezTo>
                      <a:pt x="864" y="82"/>
                      <a:pt x="864" y="82"/>
                      <a:pt x="864" y="82"/>
                    </a:cubicBezTo>
                    <a:cubicBezTo>
                      <a:pt x="882" y="78"/>
                      <a:pt x="882" y="78"/>
                      <a:pt x="882" y="78"/>
                    </a:cubicBezTo>
                    <a:cubicBezTo>
                      <a:pt x="900" y="75"/>
                      <a:pt x="900" y="75"/>
                      <a:pt x="900" y="75"/>
                    </a:cubicBezTo>
                    <a:cubicBezTo>
                      <a:pt x="918" y="71"/>
                      <a:pt x="918" y="71"/>
                      <a:pt x="918" y="71"/>
                    </a:cubicBezTo>
                    <a:cubicBezTo>
                      <a:pt x="936" y="68"/>
                      <a:pt x="936" y="68"/>
                      <a:pt x="936" y="68"/>
                    </a:cubicBezTo>
                    <a:cubicBezTo>
                      <a:pt x="954" y="65"/>
                      <a:pt x="954" y="65"/>
                      <a:pt x="954" y="65"/>
                    </a:cubicBezTo>
                    <a:cubicBezTo>
                      <a:pt x="972" y="62"/>
                      <a:pt x="972" y="62"/>
                      <a:pt x="972" y="62"/>
                    </a:cubicBezTo>
                    <a:cubicBezTo>
                      <a:pt x="990" y="58"/>
                      <a:pt x="990" y="58"/>
                      <a:pt x="990" y="58"/>
                    </a:cubicBezTo>
                    <a:cubicBezTo>
                      <a:pt x="1008" y="55"/>
                      <a:pt x="1008" y="55"/>
                      <a:pt x="1008" y="55"/>
                    </a:cubicBezTo>
                    <a:cubicBezTo>
                      <a:pt x="1026" y="53"/>
                      <a:pt x="1026" y="53"/>
                      <a:pt x="1026" y="53"/>
                    </a:cubicBezTo>
                    <a:cubicBezTo>
                      <a:pt x="1044" y="50"/>
                      <a:pt x="1044" y="50"/>
                      <a:pt x="1044" y="50"/>
                    </a:cubicBezTo>
                    <a:cubicBezTo>
                      <a:pt x="1062" y="47"/>
                      <a:pt x="1062" y="47"/>
                      <a:pt x="1062" y="47"/>
                    </a:cubicBezTo>
                    <a:cubicBezTo>
                      <a:pt x="1080" y="44"/>
                      <a:pt x="1080" y="44"/>
                      <a:pt x="1080" y="44"/>
                    </a:cubicBezTo>
                    <a:cubicBezTo>
                      <a:pt x="1098" y="42"/>
                      <a:pt x="1098" y="42"/>
                      <a:pt x="1098" y="42"/>
                    </a:cubicBezTo>
                    <a:cubicBezTo>
                      <a:pt x="1116" y="40"/>
                      <a:pt x="1116" y="40"/>
                      <a:pt x="1116" y="40"/>
                    </a:cubicBezTo>
                    <a:cubicBezTo>
                      <a:pt x="1134" y="37"/>
                      <a:pt x="1134" y="37"/>
                      <a:pt x="1134" y="37"/>
                    </a:cubicBezTo>
                    <a:cubicBezTo>
                      <a:pt x="1152" y="35"/>
                      <a:pt x="1152" y="35"/>
                      <a:pt x="1152" y="35"/>
                    </a:cubicBezTo>
                    <a:cubicBezTo>
                      <a:pt x="1170" y="33"/>
                      <a:pt x="1170" y="33"/>
                      <a:pt x="1170" y="33"/>
                    </a:cubicBezTo>
                    <a:cubicBezTo>
                      <a:pt x="1188" y="31"/>
                      <a:pt x="1188" y="31"/>
                      <a:pt x="1188" y="31"/>
                    </a:cubicBezTo>
                    <a:cubicBezTo>
                      <a:pt x="1206" y="29"/>
                      <a:pt x="1206" y="29"/>
                      <a:pt x="1206" y="29"/>
                    </a:cubicBezTo>
                    <a:cubicBezTo>
                      <a:pt x="1224" y="27"/>
                      <a:pt x="1224" y="27"/>
                      <a:pt x="1224" y="27"/>
                    </a:cubicBezTo>
                    <a:cubicBezTo>
                      <a:pt x="1242" y="25"/>
                      <a:pt x="1242" y="25"/>
                      <a:pt x="1242" y="25"/>
                    </a:cubicBezTo>
                    <a:cubicBezTo>
                      <a:pt x="1260" y="23"/>
                      <a:pt x="1260" y="23"/>
                      <a:pt x="1260" y="23"/>
                    </a:cubicBezTo>
                    <a:cubicBezTo>
                      <a:pt x="1278" y="22"/>
                      <a:pt x="1278" y="22"/>
                      <a:pt x="1278" y="22"/>
                    </a:cubicBezTo>
                    <a:cubicBezTo>
                      <a:pt x="1296" y="20"/>
                      <a:pt x="1296" y="20"/>
                      <a:pt x="1296" y="20"/>
                    </a:cubicBezTo>
                    <a:cubicBezTo>
                      <a:pt x="1314" y="19"/>
                      <a:pt x="1314" y="19"/>
                      <a:pt x="1314" y="19"/>
                    </a:cubicBezTo>
                    <a:cubicBezTo>
                      <a:pt x="1332" y="17"/>
                      <a:pt x="1332" y="17"/>
                      <a:pt x="1332" y="17"/>
                    </a:cubicBezTo>
                    <a:cubicBezTo>
                      <a:pt x="1350" y="16"/>
                      <a:pt x="1350" y="16"/>
                      <a:pt x="1350" y="16"/>
                    </a:cubicBezTo>
                    <a:cubicBezTo>
                      <a:pt x="1368" y="15"/>
                      <a:pt x="1368" y="15"/>
                      <a:pt x="1368" y="15"/>
                    </a:cubicBezTo>
                    <a:cubicBezTo>
                      <a:pt x="1386" y="14"/>
                      <a:pt x="1386" y="14"/>
                      <a:pt x="1386" y="14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22" y="11"/>
                      <a:pt x="1422" y="11"/>
                      <a:pt x="1422" y="11"/>
                    </a:cubicBezTo>
                    <a:cubicBezTo>
                      <a:pt x="1440" y="10"/>
                      <a:pt x="1440" y="10"/>
                      <a:pt x="1440" y="10"/>
                    </a:cubicBezTo>
                    <a:cubicBezTo>
                      <a:pt x="1458" y="10"/>
                      <a:pt x="1458" y="10"/>
                      <a:pt x="1458" y="10"/>
                    </a:cubicBezTo>
                    <a:cubicBezTo>
                      <a:pt x="1476" y="9"/>
                      <a:pt x="1476" y="9"/>
                      <a:pt x="1476" y="9"/>
                    </a:cubicBezTo>
                    <a:cubicBezTo>
                      <a:pt x="1494" y="8"/>
                      <a:pt x="1494" y="8"/>
                      <a:pt x="1494" y="8"/>
                    </a:cubicBezTo>
                    <a:cubicBezTo>
                      <a:pt x="1512" y="7"/>
                      <a:pt x="1512" y="7"/>
                      <a:pt x="1512" y="7"/>
                    </a:cubicBezTo>
                    <a:cubicBezTo>
                      <a:pt x="1530" y="6"/>
                      <a:pt x="1530" y="6"/>
                      <a:pt x="1530" y="6"/>
                    </a:cubicBezTo>
                    <a:cubicBezTo>
                      <a:pt x="1548" y="6"/>
                      <a:pt x="1548" y="6"/>
                      <a:pt x="1548" y="6"/>
                    </a:cubicBezTo>
                    <a:cubicBezTo>
                      <a:pt x="1566" y="5"/>
                      <a:pt x="1566" y="5"/>
                      <a:pt x="1566" y="5"/>
                    </a:cubicBezTo>
                    <a:cubicBezTo>
                      <a:pt x="1584" y="4"/>
                      <a:pt x="1584" y="4"/>
                      <a:pt x="1584" y="4"/>
                    </a:cubicBezTo>
                    <a:cubicBezTo>
                      <a:pt x="1602" y="4"/>
                      <a:pt x="1602" y="4"/>
                      <a:pt x="1602" y="4"/>
                    </a:cubicBezTo>
                    <a:cubicBezTo>
                      <a:pt x="1620" y="3"/>
                      <a:pt x="1620" y="3"/>
                      <a:pt x="1620" y="3"/>
                    </a:cubicBezTo>
                    <a:cubicBezTo>
                      <a:pt x="1638" y="3"/>
                      <a:pt x="1638" y="3"/>
                      <a:pt x="1638" y="3"/>
                    </a:cubicBezTo>
                    <a:cubicBezTo>
                      <a:pt x="1656" y="2"/>
                      <a:pt x="1656" y="2"/>
                      <a:pt x="1656" y="2"/>
                    </a:cubicBezTo>
                    <a:cubicBezTo>
                      <a:pt x="1674" y="2"/>
                      <a:pt x="1674" y="2"/>
                      <a:pt x="1674" y="2"/>
                    </a:cubicBezTo>
                    <a:cubicBezTo>
                      <a:pt x="1692" y="1"/>
                      <a:pt x="1692" y="1"/>
                      <a:pt x="1692" y="1"/>
                    </a:cubicBezTo>
                    <a:cubicBezTo>
                      <a:pt x="1710" y="1"/>
                      <a:pt x="1710" y="1"/>
                      <a:pt x="1710" y="1"/>
                    </a:cubicBezTo>
                    <a:cubicBezTo>
                      <a:pt x="1728" y="1"/>
                      <a:pt x="1728" y="1"/>
                      <a:pt x="1728" y="1"/>
                    </a:cubicBezTo>
                    <a:cubicBezTo>
                      <a:pt x="1746" y="0"/>
                      <a:pt x="1746" y="0"/>
                      <a:pt x="1746" y="0"/>
                    </a:cubicBezTo>
                    <a:cubicBezTo>
                      <a:pt x="1764" y="0"/>
                      <a:pt x="1764" y="0"/>
                      <a:pt x="1764" y="0"/>
                    </a:cubicBezTo>
                    <a:cubicBezTo>
                      <a:pt x="1782" y="0"/>
                      <a:pt x="1782" y="0"/>
                      <a:pt x="1782" y="0"/>
                    </a:cubicBezTo>
                    <a:cubicBezTo>
                      <a:pt x="1800" y="0"/>
                      <a:pt x="1800" y="0"/>
                      <a:pt x="1800" y="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4" name=""/>
            <p:cNvGrpSpPr/>
            <p:nvPr/>
          </p:nvGrpSpPr>
          <p:grpSpPr>
            <a:xfrm>
              <a:off x="5143680" y="4937040"/>
              <a:ext cx="3542040" cy="766440"/>
              <a:chOff x="5143680" y="4937040"/>
              <a:chExt cx="3542040" cy="766440"/>
            </a:xfrm>
          </p:grpSpPr>
          <p:sp>
            <p:nvSpPr>
              <p:cNvPr id="2275" name=""/>
              <p:cNvSpPr/>
              <p:nvPr/>
            </p:nvSpPr>
            <p:spPr>
              <a:xfrm flipV="1">
                <a:off x="6915960" y="4937400"/>
                <a:ext cx="1769760" cy="765720"/>
              </a:xfrm>
              <a:custGeom>
                <a:avLst/>
                <a:gdLst/>
                <a:ahLst/>
                <a:rect l="l" t="t" r="r" b="b"/>
                <a:pathLst>
                  <a:path w="1800" h="237">
                    <a:moveTo>
                      <a:pt x="0" y="237"/>
                    </a:moveTo>
                    <a:cubicBezTo>
                      <a:pt x="18" y="237"/>
                      <a:pt x="18" y="237"/>
                      <a:pt x="18" y="237"/>
                    </a:cubicBezTo>
                    <a:cubicBezTo>
                      <a:pt x="36" y="236"/>
                      <a:pt x="36" y="236"/>
                      <a:pt x="36" y="236"/>
                    </a:cubicBezTo>
                    <a:cubicBezTo>
                      <a:pt x="54" y="236"/>
                      <a:pt x="54" y="236"/>
                      <a:pt x="54" y="236"/>
                    </a:cubicBezTo>
                    <a:cubicBezTo>
                      <a:pt x="72" y="235"/>
                      <a:pt x="72" y="235"/>
                      <a:pt x="72" y="235"/>
                    </a:cubicBezTo>
                    <a:cubicBezTo>
                      <a:pt x="90" y="234"/>
                      <a:pt x="90" y="234"/>
                      <a:pt x="90" y="234"/>
                    </a:cubicBezTo>
                    <a:cubicBezTo>
                      <a:pt x="108" y="233"/>
                      <a:pt x="108" y="233"/>
                      <a:pt x="108" y="233"/>
                    </a:cubicBezTo>
                    <a:cubicBezTo>
                      <a:pt x="126" y="232"/>
                      <a:pt x="126" y="232"/>
                      <a:pt x="126" y="232"/>
                    </a:cubicBezTo>
                    <a:cubicBezTo>
                      <a:pt x="144" y="230"/>
                      <a:pt x="144" y="230"/>
                      <a:pt x="144" y="230"/>
                    </a:cubicBezTo>
                    <a:cubicBezTo>
                      <a:pt x="162" y="228"/>
                      <a:pt x="162" y="228"/>
                      <a:pt x="162" y="228"/>
                    </a:cubicBezTo>
                    <a:cubicBezTo>
                      <a:pt x="180" y="226"/>
                      <a:pt x="180" y="226"/>
                      <a:pt x="180" y="226"/>
                    </a:cubicBezTo>
                    <a:cubicBezTo>
                      <a:pt x="198" y="224"/>
                      <a:pt x="198" y="224"/>
                      <a:pt x="198" y="224"/>
                    </a:cubicBezTo>
                    <a:cubicBezTo>
                      <a:pt x="216" y="222"/>
                      <a:pt x="216" y="222"/>
                      <a:pt x="216" y="222"/>
                    </a:cubicBezTo>
                    <a:cubicBezTo>
                      <a:pt x="234" y="219"/>
                      <a:pt x="234" y="219"/>
                      <a:pt x="234" y="219"/>
                    </a:cubicBezTo>
                    <a:cubicBezTo>
                      <a:pt x="252" y="217"/>
                      <a:pt x="252" y="217"/>
                      <a:pt x="252" y="217"/>
                    </a:cubicBezTo>
                    <a:cubicBezTo>
                      <a:pt x="270" y="214"/>
                      <a:pt x="270" y="214"/>
                      <a:pt x="270" y="214"/>
                    </a:cubicBezTo>
                    <a:cubicBezTo>
                      <a:pt x="288" y="211"/>
                      <a:pt x="288" y="211"/>
                      <a:pt x="288" y="211"/>
                    </a:cubicBezTo>
                    <a:cubicBezTo>
                      <a:pt x="306" y="208"/>
                      <a:pt x="306" y="208"/>
                      <a:pt x="306" y="208"/>
                    </a:cubicBezTo>
                    <a:cubicBezTo>
                      <a:pt x="324" y="204"/>
                      <a:pt x="324" y="204"/>
                      <a:pt x="324" y="204"/>
                    </a:cubicBezTo>
                    <a:cubicBezTo>
                      <a:pt x="342" y="201"/>
                      <a:pt x="342" y="201"/>
                      <a:pt x="342" y="201"/>
                    </a:cubicBezTo>
                    <a:cubicBezTo>
                      <a:pt x="360" y="197"/>
                      <a:pt x="360" y="197"/>
                      <a:pt x="360" y="197"/>
                    </a:cubicBezTo>
                    <a:cubicBezTo>
                      <a:pt x="378" y="194"/>
                      <a:pt x="378" y="194"/>
                      <a:pt x="378" y="194"/>
                    </a:cubicBezTo>
                    <a:cubicBezTo>
                      <a:pt x="396" y="190"/>
                      <a:pt x="396" y="190"/>
                      <a:pt x="396" y="190"/>
                    </a:cubicBezTo>
                    <a:cubicBezTo>
                      <a:pt x="414" y="186"/>
                      <a:pt x="414" y="186"/>
                      <a:pt x="414" y="186"/>
                    </a:cubicBezTo>
                    <a:cubicBezTo>
                      <a:pt x="432" y="182"/>
                      <a:pt x="432" y="182"/>
                      <a:pt x="432" y="182"/>
                    </a:cubicBezTo>
                    <a:cubicBezTo>
                      <a:pt x="450" y="178"/>
                      <a:pt x="450" y="178"/>
                      <a:pt x="450" y="178"/>
                    </a:cubicBezTo>
                    <a:cubicBezTo>
                      <a:pt x="468" y="174"/>
                      <a:pt x="468" y="174"/>
                      <a:pt x="468" y="174"/>
                    </a:cubicBezTo>
                    <a:cubicBezTo>
                      <a:pt x="486" y="170"/>
                      <a:pt x="486" y="170"/>
                      <a:pt x="486" y="170"/>
                    </a:cubicBezTo>
                    <a:cubicBezTo>
                      <a:pt x="504" y="165"/>
                      <a:pt x="504" y="165"/>
                      <a:pt x="504" y="165"/>
                    </a:cubicBezTo>
                    <a:cubicBezTo>
                      <a:pt x="522" y="161"/>
                      <a:pt x="522" y="161"/>
                      <a:pt x="522" y="161"/>
                    </a:cubicBezTo>
                    <a:cubicBezTo>
                      <a:pt x="540" y="157"/>
                      <a:pt x="540" y="157"/>
                      <a:pt x="540" y="157"/>
                    </a:cubicBezTo>
                    <a:cubicBezTo>
                      <a:pt x="558" y="153"/>
                      <a:pt x="558" y="153"/>
                      <a:pt x="558" y="153"/>
                    </a:cubicBezTo>
                    <a:cubicBezTo>
                      <a:pt x="576" y="148"/>
                      <a:pt x="576" y="148"/>
                      <a:pt x="576" y="148"/>
                    </a:cubicBezTo>
                    <a:cubicBezTo>
                      <a:pt x="594" y="144"/>
                      <a:pt x="594" y="144"/>
                      <a:pt x="594" y="144"/>
                    </a:cubicBezTo>
                    <a:cubicBezTo>
                      <a:pt x="612" y="140"/>
                      <a:pt x="612" y="140"/>
                      <a:pt x="612" y="140"/>
                    </a:cubicBezTo>
                    <a:cubicBezTo>
                      <a:pt x="630" y="135"/>
                      <a:pt x="630" y="135"/>
                      <a:pt x="630" y="135"/>
                    </a:cubicBezTo>
                    <a:cubicBezTo>
                      <a:pt x="648" y="131"/>
                      <a:pt x="648" y="131"/>
                      <a:pt x="648" y="131"/>
                    </a:cubicBezTo>
                    <a:cubicBezTo>
                      <a:pt x="666" y="126"/>
                      <a:pt x="666" y="126"/>
                      <a:pt x="666" y="126"/>
                    </a:cubicBezTo>
                    <a:cubicBezTo>
                      <a:pt x="684" y="122"/>
                      <a:pt x="684" y="122"/>
                      <a:pt x="684" y="122"/>
                    </a:cubicBezTo>
                    <a:cubicBezTo>
                      <a:pt x="702" y="118"/>
                      <a:pt x="702" y="118"/>
                      <a:pt x="702" y="118"/>
                    </a:cubicBezTo>
                    <a:cubicBezTo>
                      <a:pt x="720" y="114"/>
                      <a:pt x="720" y="114"/>
                      <a:pt x="720" y="114"/>
                    </a:cubicBezTo>
                    <a:cubicBezTo>
                      <a:pt x="738" y="110"/>
                      <a:pt x="738" y="110"/>
                      <a:pt x="738" y="110"/>
                    </a:cubicBezTo>
                    <a:cubicBezTo>
                      <a:pt x="756" y="105"/>
                      <a:pt x="756" y="105"/>
                      <a:pt x="756" y="105"/>
                    </a:cubicBezTo>
                    <a:cubicBezTo>
                      <a:pt x="774" y="101"/>
                      <a:pt x="774" y="101"/>
                      <a:pt x="774" y="101"/>
                    </a:cubicBezTo>
                    <a:cubicBezTo>
                      <a:pt x="792" y="97"/>
                      <a:pt x="792" y="97"/>
                      <a:pt x="792" y="97"/>
                    </a:cubicBezTo>
                    <a:cubicBezTo>
                      <a:pt x="810" y="93"/>
                      <a:pt x="810" y="93"/>
                      <a:pt x="810" y="93"/>
                    </a:cubicBezTo>
                    <a:cubicBezTo>
                      <a:pt x="828" y="90"/>
                      <a:pt x="828" y="90"/>
                      <a:pt x="828" y="90"/>
                    </a:cubicBezTo>
                    <a:cubicBezTo>
                      <a:pt x="846" y="86"/>
                      <a:pt x="846" y="86"/>
                      <a:pt x="846" y="86"/>
                    </a:cubicBezTo>
                    <a:cubicBezTo>
                      <a:pt x="864" y="82"/>
                      <a:pt x="864" y="82"/>
                      <a:pt x="864" y="82"/>
                    </a:cubicBezTo>
                    <a:cubicBezTo>
                      <a:pt x="882" y="78"/>
                      <a:pt x="882" y="78"/>
                      <a:pt x="882" y="78"/>
                    </a:cubicBezTo>
                    <a:cubicBezTo>
                      <a:pt x="900" y="75"/>
                      <a:pt x="900" y="75"/>
                      <a:pt x="900" y="75"/>
                    </a:cubicBezTo>
                    <a:cubicBezTo>
                      <a:pt x="918" y="71"/>
                      <a:pt x="918" y="71"/>
                      <a:pt x="918" y="71"/>
                    </a:cubicBezTo>
                    <a:cubicBezTo>
                      <a:pt x="936" y="68"/>
                      <a:pt x="936" y="68"/>
                      <a:pt x="936" y="68"/>
                    </a:cubicBezTo>
                    <a:cubicBezTo>
                      <a:pt x="954" y="65"/>
                      <a:pt x="954" y="65"/>
                      <a:pt x="954" y="65"/>
                    </a:cubicBezTo>
                    <a:cubicBezTo>
                      <a:pt x="972" y="62"/>
                      <a:pt x="972" y="62"/>
                      <a:pt x="972" y="62"/>
                    </a:cubicBezTo>
                    <a:cubicBezTo>
                      <a:pt x="990" y="58"/>
                      <a:pt x="990" y="58"/>
                      <a:pt x="990" y="58"/>
                    </a:cubicBezTo>
                    <a:cubicBezTo>
                      <a:pt x="1008" y="55"/>
                      <a:pt x="1008" y="55"/>
                      <a:pt x="1008" y="55"/>
                    </a:cubicBezTo>
                    <a:cubicBezTo>
                      <a:pt x="1026" y="53"/>
                      <a:pt x="1026" y="53"/>
                      <a:pt x="1026" y="53"/>
                    </a:cubicBezTo>
                    <a:cubicBezTo>
                      <a:pt x="1044" y="50"/>
                      <a:pt x="1044" y="50"/>
                      <a:pt x="1044" y="50"/>
                    </a:cubicBezTo>
                    <a:cubicBezTo>
                      <a:pt x="1062" y="47"/>
                      <a:pt x="1062" y="47"/>
                      <a:pt x="1062" y="47"/>
                    </a:cubicBezTo>
                    <a:cubicBezTo>
                      <a:pt x="1080" y="44"/>
                      <a:pt x="1080" y="44"/>
                      <a:pt x="1080" y="44"/>
                    </a:cubicBezTo>
                    <a:cubicBezTo>
                      <a:pt x="1098" y="42"/>
                      <a:pt x="1098" y="42"/>
                      <a:pt x="1098" y="42"/>
                    </a:cubicBezTo>
                    <a:cubicBezTo>
                      <a:pt x="1116" y="40"/>
                      <a:pt x="1116" y="40"/>
                      <a:pt x="1116" y="40"/>
                    </a:cubicBezTo>
                    <a:cubicBezTo>
                      <a:pt x="1134" y="37"/>
                      <a:pt x="1134" y="37"/>
                      <a:pt x="1134" y="37"/>
                    </a:cubicBezTo>
                    <a:cubicBezTo>
                      <a:pt x="1152" y="35"/>
                      <a:pt x="1152" y="35"/>
                      <a:pt x="1152" y="35"/>
                    </a:cubicBezTo>
                    <a:cubicBezTo>
                      <a:pt x="1170" y="33"/>
                      <a:pt x="1170" y="33"/>
                      <a:pt x="1170" y="33"/>
                    </a:cubicBezTo>
                    <a:cubicBezTo>
                      <a:pt x="1188" y="31"/>
                      <a:pt x="1188" y="31"/>
                      <a:pt x="1188" y="31"/>
                    </a:cubicBezTo>
                    <a:cubicBezTo>
                      <a:pt x="1206" y="29"/>
                      <a:pt x="1206" y="29"/>
                      <a:pt x="1206" y="29"/>
                    </a:cubicBezTo>
                    <a:cubicBezTo>
                      <a:pt x="1224" y="27"/>
                      <a:pt x="1224" y="27"/>
                      <a:pt x="1224" y="27"/>
                    </a:cubicBezTo>
                    <a:cubicBezTo>
                      <a:pt x="1242" y="25"/>
                      <a:pt x="1242" y="25"/>
                      <a:pt x="1242" y="25"/>
                    </a:cubicBezTo>
                    <a:cubicBezTo>
                      <a:pt x="1260" y="23"/>
                      <a:pt x="1260" y="23"/>
                      <a:pt x="1260" y="23"/>
                    </a:cubicBezTo>
                    <a:cubicBezTo>
                      <a:pt x="1278" y="22"/>
                      <a:pt x="1278" y="22"/>
                      <a:pt x="1278" y="22"/>
                    </a:cubicBezTo>
                    <a:cubicBezTo>
                      <a:pt x="1296" y="20"/>
                      <a:pt x="1296" y="20"/>
                      <a:pt x="1296" y="20"/>
                    </a:cubicBezTo>
                    <a:cubicBezTo>
                      <a:pt x="1314" y="19"/>
                      <a:pt x="1314" y="19"/>
                      <a:pt x="1314" y="19"/>
                    </a:cubicBezTo>
                    <a:cubicBezTo>
                      <a:pt x="1332" y="17"/>
                      <a:pt x="1332" y="17"/>
                      <a:pt x="1332" y="17"/>
                    </a:cubicBezTo>
                    <a:cubicBezTo>
                      <a:pt x="1350" y="16"/>
                      <a:pt x="1350" y="16"/>
                      <a:pt x="1350" y="16"/>
                    </a:cubicBezTo>
                    <a:cubicBezTo>
                      <a:pt x="1368" y="15"/>
                      <a:pt x="1368" y="15"/>
                      <a:pt x="1368" y="15"/>
                    </a:cubicBezTo>
                    <a:cubicBezTo>
                      <a:pt x="1386" y="14"/>
                      <a:pt x="1386" y="14"/>
                      <a:pt x="1386" y="14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22" y="11"/>
                      <a:pt x="1422" y="11"/>
                      <a:pt x="1422" y="11"/>
                    </a:cubicBezTo>
                    <a:cubicBezTo>
                      <a:pt x="1440" y="10"/>
                      <a:pt x="1440" y="10"/>
                      <a:pt x="1440" y="10"/>
                    </a:cubicBezTo>
                    <a:cubicBezTo>
                      <a:pt x="1458" y="10"/>
                      <a:pt x="1458" y="10"/>
                      <a:pt x="1458" y="10"/>
                    </a:cubicBezTo>
                    <a:cubicBezTo>
                      <a:pt x="1476" y="9"/>
                      <a:pt x="1476" y="9"/>
                      <a:pt x="1476" y="9"/>
                    </a:cubicBezTo>
                    <a:cubicBezTo>
                      <a:pt x="1494" y="8"/>
                      <a:pt x="1494" y="8"/>
                      <a:pt x="1494" y="8"/>
                    </a:cubicBezTo>
                    <a:cubicBezTo>
                      <a:pt x="1512" y="7"/>
                      <a:pt x="1512" y="7"/>
                      <a:pt x="1512" y="7"/>
                    </a:cubicBezTo>
                    <a:cubicBezTo>
                      <a:pt x="1530" y="6"/>
                      <a:pt x="1530" y="6"/>
                      <a:pt x="1530" y="6"/>
                    </a:cubicBezTo>
                    <a:cubicBezTo>
                      <a:pt x="1548" y="6"/>
                      <a:pt x="1548" y="6"/>
                      <a:pt x="1548" y="6"/>
                    </a:cubicBezTo>
                    <a:cubicBezTo>
                      <a:pt x="1566" y="5"/>
                      <a:pt x="1566" y="5"/>
                      <a:pt x="1566" y="5"/>
                    </a:cubicBezTo>
                    <a:cubicBezTo>
                      <a:pt x="1584" y="4"/>
                      <a:pt x="1584" y="4"/>
                      <a:pt x="1584" y="4"/>
                    </a:cubicBezTo>
                    <a:cubicBezTo>
                      <a:pt x="1602" y="4"/>
                      <a:pt x="1602" y="4"/>
                      <a:pt x="1602" y="4"/>
                    </a:cubicBezTo>
                    <a:cubicBezTo>
                      <a:pt x="1620" y="3"/>
                      <a:pt x="1620" y="3"/>
                      <a:pt x="1620" y="3"/>
                    </a:cubicBezTo>
                    <a:cubicBezTo>
                      <a:pt x="1638" y="3"/>
                      <a:pt x="1638" y="3"/>
                      <a:pt x="1638" y="3"/>
                    </a:cubicBezTo>
                    <a:cubicBezTo>
                      <a:pt x="1656" y="2"/>
                      <a:pt x="1656" y="2"/>
                      <a:pt x="1656" y="2"/>
                    </a:cubicBezTo>
                    <a:cubicBezTo>
                      <a:pt x="1674" y="2"/>
                      <a:pt x="1674" y="2"/>
                      <a:pt x="1674" y="2"/>
                    </a:cubicBezTo>
                    <a:cubicBezTo>
                      <a:pt x="1692" y="1"/>
                      <a:pt x="1692" y="1"/>
                      <a:pt x="1692" y="1"/>
                    </a:cubicBezTo>
                    <a:cubicBezTo>
                      <a:pt x="1710" y="1"/>
                      <a:pt x="1710" y="1"/>
                      <a:pt x="1710" y="1"/>
                    </a:cubicBezTo>
                    <a:cubicBezTo>
                      <a:pt x="1728" y="1"/>
                      <a:pt x="1728" y="1"/>
                      <a:pt x="1728" y="1"/>
                    </a:cubicBezTo>
                    <a:cubicBezTo>
                      <a:pt x="1746" y="0"/>
                      <a:pt x="1746" y="0"/>
                      <a:pt x="1746" y="0"/>
                    </a:cubicBezTo>
                    <a:cubicBezTo>
                      <a:pt x="1764" y="0"/>
                      <a:pt x="1764" y="0"/>
                      <a:pt x="1764" y="0"/>
                    </a:cubicBezTo>
                    <a:cubicBezTo>
                      <a:pt x="1782" y="0"/>
                      <a:pt x="1782" y="0"/>
                      <a:pt x="1782" y="0"/>
                    </a:cubicBezTo>
                    <a:cubicBezTo>
                      <a:pt x="1800" y="0"/>
                      <a:pt x="1800" y="0"/>
                      <a:pt x="1800" y="0"/>
                    </a:cubicBezTo>
                  </a:path>
                </a:pathLst>
              </a:custGeom>
              <a:noFill/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H="1" flipV="1">
                <a:off x="5143680" y="4936680"/>
                <a:ext cx="1769760" cy="765720"/>
              </a:xfrm>
              <a:custGeom>
                <a:avLst/>
                <a:gdLst/>
                <a:ahLst/>
                <a:rect l="l" t="t" r="r" b="b"/>
                <a:pathLst>
                  <a:path w="1800" h="237">
                    <a:moveTo>
                      <a:pt x="0" y="237"/>
                    </a:moveTo>
                    <a:cubicBezTo>
                      <a:pt x="18" y="237"/>
                      <a:pt x="18" y="237"/>
                      <a:pt x="18" y="237"/>
                    </a:cubicBezTo>
                    <a:cubicBezTo>
                      <a:pt x="36" y="236"/>
                      <a:pt x="36" y="236"/>
                      <a:pt x="36" y="236"/>
                    </a:cubicBezTo>
                    <a:cubicBezTo>
                      <a:pt x="54" y="236"/>
                      <a:pt x="54" y="236"/>
                      <a:pt x="54" y="236"/>
                    </a:cubicBezTo>
                    <a:cubicBezTo>
                      <a:pt x="72" y="235"/>
                      <a:pt x="72" y="235"/>
                      <a:pt x="72" y="235"/>
                    </a:cubicBezTo>
                    <a:cubicBezTo>
                      <a:pt x="90" y="234"/>
                      <a:pt x="90" y="234"/>
                      <a:pt x="90" y="234"/>
                    </a:cubicBezTo>
                    <a:cubicBezTo>
                      <a:pt x="108" y="233"/>
                      <a:pt x="108" y="233"/>
                      <a:pt x="108" y="233"/>
                    </a:cubicBezTo>
                    <a:cubicBezTo>
                      <a:pt x="126" y="232"/>
                      <a:pt x="126" y="232"/>
                      <a:pt x="126" y="232"/>
                    </a:cubicBezTo>
                    <a:cubicBezTo>
                      <a:pt x="144" y="230"/>
                      <a:pt x="144" y="230"/>
                      <a:pt x="144" y="230"/>
                    </a:cubicBezTo>
                    <a:cubicBezTo>
                      <a:pt x="162" y="228"/>
                      <a:pt x="162" y="228"/>
                      <a:pt x="162" y="228"/>
                    </a:cubicBezTo>
                    <a:cubicBezTo>
                      <a:pt x="180" y="226"/>
                      <a:pt x="180" y="226"/>
                      <a:pt x="180" y="226"/>
                    </a:cubicBezTo>
                    <a:cubicBezTo>
                      <a:pt x="198" y="224"/>
                      <a:pt x="198" y="224"/>
                      <a:pt x="198" y="224"/>
                    </a:cubicBezTo>
                    <a:cubicBezTo>
                      <a:pt x="216" y="222"/>
                      <a:pt x="216" y="222"/>
                      <a:pt x="216" y="222"/>
                    </a:cubicBezTo>
                    <a:cubicBezTo>
                      <a:pt x="234" y="219"/>
                      <a:pt x="234" y="219"/>
                      <a:pt x="234" y="219"/>
                    </a:cubicBezTo>
                    <a:cubicBezTo>
                      <a:pt x="252" y="217"/>
                      <a:pt x="252" y="217"/>
                      <a:pt x="252" y="217"/>
                    </a:cubicBezTo>
                    <a:cubicBezTo>
                      <a:pt x="270" y="214"/>
                      <a:pt x="270" y="214"/>
                      <a:pt x="270" y="214"/>
                    </a:cubicBezTo>
                    <a:cubicBezTo>
                      <a:pt x="288" y="211"/>
                      <a:pt x="288" y="211"/>
                      <a:pt x="288" y="211"/>
                    </a:cubicBezTo>
                    <a:cubicBezTo>
                      <a:pt x="306" y="208"/>
                      <a:pt x="306" y="208"/>
                      <a:pt x="306" y="208"/>
                    </a:cubicBezTo>
                    <a:cubicBezTo>
                      <a:pt x="324" y="204"/>
                      <a:pt x="324" y="204"/>
                      <a:pt x="324" y="204"/>
                    </a:cubicBezTo>
                    <a:cubicBezTo>
                      <a:pt x="342" y="201"/>
                      <a:pt x="342" y="201"/>
                      <a:pt x="342" y="201"/>
                    </a:cubicBezTo>
                    <a:cubicBezTo>
                      <a:pt x="360" y="197"/>
                      <a:pt x="360" y="197"/>
                      <a:pt x="360" y="197"/>
                    </a:cubicBezTo>
                    <a:cubicBezTo>
                      <a:pt x="378" y="194"/>
                      <a:pt x="378" y="194"/>
                      <a:pt x="378" y="194"/>
                    </a:cubicBezTo>
                    <a:cubicBezTo>
                      <a:pt x="396" y="190"/>
                      <a:pt x="396" y="190"/>
                      <a:pt x="396" y="190"/>
                    </a:cubicBezTo>
                    <a:cubicBezTo>
                      <a:pt x="414" y="186"/>
                      <a:pt x="414" y="186"/>
                      <a:pt x="414" y="186"/>
                    </a:cubicBezTo>
                    <a:cubicBezTo>
                      <a:pt x="432" y="182"/>
                      <a:pt x="432" y="182"/>
                      <a:pt x="432" y="182"/>
                    </a:cubicBezTo>
                    <a:cubicBezTo>
                      <a:pt x="450" y="178"/>
                      <a:pt x="450" y="178"/>
                      <a:pt x="450" y="178"/>
                    </a:cubicBezTo>
                    <a:cubicBezTo>
                      <a:pt x="468" y="174"/>
                      <a:pt x="468" y="174"/>
                      <a:pt x="468" y="174"/>
                    </a:cubicBezTo>
                    <a:cubicBezTo>
                      <a:pt x="486" y="170"/>
                      <a:pt x="486" y="170"/>
                      <a:pt x="486" y="170"/>
                    </a:cubicBezTo>
                    <a:cubicBezTo>
                      <a:pt x="504" y="165"/>
                      <a:pt x="504" y="165"/>
                      <a:pt x="504" y="165"/>
                    </a:cubicBezTo>
                    <a:cubicBezTo>
                      <a:pt x="522" y="161"/>
                      <a:pt x="522" y="161"/>
                      <a:pt x="522" y="161"/>
                    </a:cubicBezTo>
                    <a:cubicBezTo>
                      <a:pt x="540" y="157"/>
                      <a:pt x="540" y="157"/>
                      <a:pt x="540" y="157"/>
                    </a:cubicBezTo>
                    <a:cubicBezTo>
                      <a:pt x="558" y="153"/>
                      <a:pt x="558" y="153"/>
                      <a:pt x="558" y="153"/>
                    </a:cubicBezTo>
                    <a:cubicBezTo>
                      <a:pt x="576" y="148"/>
                      <a:pt x="576" y="148"/>
                      <a:pt x="576" y="148"/>
                    </a:cubicBezTo>
                    <a:cubicBezTo>
                      <a:pt x="594" y="144"/>
                      <a:pt x="594" y="144"/>
                      <a:pt x="594" y="144"/>
                    </a:cubicBezTo>
                    <a:cubicBezTo>
                      <a:pt x="612" y="140"/>
                      <a:pt x="612" y="140"/>
                      <a:pt x="612" y="140"/>
                    </a:cubicBezTo>
                    <a:cubicBezTo>
                      <a:pt x="630" y="135"/>
                      <a:pt x="630" y="135"/>
                      <a:pt x="630" y="135"/>
                    </a:cubicBezTo>
                    <a:cubicBezTo>
                      <a:pt x="648" y="131"/>
                      <a:pt x="648" y="131"/>
                      <a:pt x="648" y="131"/>
                    </a:cubicBezTo>
                    <a:cubicBezTo>
                      <a:pt x="666" y="126"/>
                      <a:pt x="666" y="126"/>
                      <a:pt x="666" y="126"/>
                    </a:cubicBezTo>
                    <a:cubicBezTo>
                      <a:pt x="684" y="122"/>
                      <a:pt x="684" y="122"/>
                      <a:pt x="684" y="122"/>
                    </a:cubicBezTo>
                    <a:cubicBezTo>
                      <a:pt x="702" y="118"/>
                      <a:pt x="702" y="118"/>
                      <a:pt x="702" y="118"/>
                    </a:cubicBezTo>
                    <a:cubicBezTo>
                      <a:pt x="720" y="114"/>
                      <a:pt x="720" y="114"/>
                      <a:pt x="720" y="114"/>
                    </a:cubicBezTo>
                    <a:cubicBezTo>
                      <a:pt x="738" y="110"/>
                      <a:pt x="738" y="110"/>
                      <a:pt x="738" y="110"/>
                    </a:cubicBezTo>
                    <a:cubicBezTo>
                      <a:pt x="756" y="105"/>
                      <a:pt x="756" y="105"/>
                      <a:pt x="756" y="105"/>
                    </a:cubicBezTo>
                    <a:cubicBezTo>
                      <a:pt x="774" y="101"/>
                      <a:pt x="774" y="101"/>
                      <a:pt x="774" y="101"/>
                    </a:cubicBezTo>
                    <a:cubicBezTo>
                      <a:pt x="792" y="97"/>
                      <a:pt x="792" y="97"/>
                      <a:pt x="792" y="97"/>
                    </a:cubicBezTo>
                    <a:cubicBezTo>
                      <a:pt x="810" y="93"/>
                      <a:pt x="810" y="93"/>
                      <a:pt x="810" y="93"/>
                    </a:cubicBezTo>
                    <a:cubicBezTo>
                      <a:pt x="828" y="90"/>
                      <a:pt x="828" y="90"/>
                      <a:pt x="828" y="90"/>
                    </a:cubicBezTo>
                    <a:cubicBezTo>
                      <a:pt x="846" y="86"/>
                      <a:pt x="846" y="86"/>
                      <a:pt x="846" y="86"/>
                    </a:cubicBezTo>
                    <a:cubicBezTo>
                      <a:pt x="864" y="82"/>
                      <a:pt x="864" y="82"/>
                      <a:pt x="864" y="82"/>
                    </a:cubicBezTo>
                    <a:cubicBezTo>
                      <a:pt x="882" y="78"/>
                      <a:pt x="882" y="78"/>
                      <a:pt x="882" y="78"/>
                    </a:cubicBezTo>
                    <a:cubicBezTo>
                      <a:pt x="900" y="75"/>
                      <a:pt x="900" y="75"/>
                      <a:pt x="900" y="75"/>
                    </a:cubicBezTo>
                    <a:cubicBezTo>
                      <a:pt x="918" y="71"/>
                      <a:pt x="918" y="71"/>
                      <a:pt x="918" y="71"/>
                    </a:cubicBezTo>
                    <a:cubicBezTo>
                      <a:pt x="936" y="68"/>
                      <a:pt x="936" y="68"/>
                      <a:pt x="936" y="68"/>
                    </a:cubicBezTo>
                    <a:cubicBezTo>
                      <a:pt x="954" y="65"/>
                      <a:pt x="954" y="65"/>
                      <a:pt x="954" y="65"/>
                    </a:cubicBezTo>
                    <a:cubicBezTo>
                      <a:pt x="972" y="62"/>
                      <a:pt x="972" y="62"/>
                      <a:pt x="972" y="62"/>
                    </a:cubicBezTo>
                    <a:cubicBezTo>
                      <a:pt x="990" y="58"/>
                      <a:pt x="990" y="58"/>
                      <a:pt x="990" y="58"/>
                    </a:cubicBezTo>
                    <a:cubicBezTo>
                      <a:pt x="1008" y="55"/>
                      <a:pt x="1008" y="55"/>
                      <a:pt x="1008" y="55"/>
                    </a:cubicBezTo>
                    <a:cubicBezTo>
                      <a:pt x="1026" y="53"/>
                      <a:pt x="1026" y="53"/>
                      <a:pt x="1026" y="53"/>
                    </a:cubicBezTo>
                    <a:cubicBezTo>
                      <a:pt x="1044" y="50"/>
                      <a:pt x="1044" y="50"/>
                      <a:pt x="1044" y="50"/>
                    </a:cubicBezTo>
                    <a:cubicBezTo>
                      <a:pt x="1062" y="47"/>
                      <a:pt x="1062" y="47"/>
                      <a:pt x="1062" y="47"/>
                    </a:cubicBezTo>
                    <a:cubicBezTo>
                      <a:pt x="1080" y="44"/>
                      <a:pt x="1080" y="44"/>
                      <a:pt x="1080" y="44"/>
                    </a:cubicBezTo>
                    <a:cubicBezTo>
                      <a:pt x="1098" y="42"/>
                      <a:pt x="1098" y="42"/>
                      <a:pt x="1098" y="42"/>
                    </a:cubicBezTo>
                    <a:cubicBezTo>
                      <a:pt x="1116" y="40"/>
                      <a:pt x="1116" y="40"/>
                      <a:pt x="1116" y="40"/>
                    </a:cubicBezTo>
                    <a:cubicBezTo>
                      <a:pt x="1134" y="37"/>
                      <a:pt x="1134" y="37"/>
                      <a:pt x="1134" y="37"/>
                    </a:cubicBezTo>
                    <a:cubicBezTo>
                      <a:pt x="1152" y="35"/>
                      <a:pt x="1152" y="35"/>
                      <a:pt x="1152" y="35"/>
                    </a:cubicBezTo>
                    <a:cubicBezTo>
                      <a:pt x="1170" y="33"/>
                      <a:pt x="1170" y="33"/>
                      <a:pt x="1170" y="33"/>
                    </a:cubicBezTo>
                    <a:cubicBezTo>
                      <a:pt x="1188" y="31"/>
                      <a:pt x="1188" y="31"/>
                      <a:pt x="1188" y="31"/>
                    </a:cubicBezTo>
                    <a:cubicBezTo>
                      <a:pt x="1206" y="29"/>
                      <a:pt x="1206" y="29"/>
                      <a:pt x="1206" y="29"/>
                    </a:cubicBezTo>
                    <a:cubicBezTo>
                      <a:pt x="1224" y="27"/>
                      <a:pt x="1224" y="27"/>
                      <a:pt x="1224" y="27"/>
                    </a:cubicBezTo>
                    <a:cubicBezTo>
                      <a:pt x="1242" y="25"/>
                      <a:pt x="1242" y="25"/>
                      <a:pt x="1242" y="25"/>
                    </a:cubicBezTo>
                    <a:cubicBezTo>
                      <a:pt x="1260" y="23"/>
                      <a:pt x="1260" y="23"/>
                      <a:pt x="1260" y="23"/>
                    </a:cubicBezTo>
                    <a:cubicBezTo>
                      <a:pt x="1278" y="22"/>
                      <a:pt x="1278" y="22"/>
                      <a:pt x="1278" y="22"/>
                    </a:cubicBezTo>
                    <a:cubicBezTo>
                      <a:pt x="1296" y="20"/>
                      <a:pt x="1296" y="20"/>
                      <a:pt x="1296" y="20"/>
                    </a:cubicBezTo>
                    <a:cubicBezTo>
                      <a:pt x="1314" y="19"/>
                      <a:pt x="1314" y="19"/>
                      <a:pt x="1314" y="19"/>
                    </a:cubicBezTo>
                    <a:cubicBezTo>
                      <a:pt x="1332" y="17"/>
                      <a:pt x="1332" y="17"/>
                      <a:pt x="1332" y="17"/>
                    </a:cubicBezTo>
                    <a:cubicBezTo>
                      <a:pt x="1350" y="16"/>
                      <a:pt x="1350" y="16"/>
                      <a:pt x="1350" y="16"/>
                    </a:cubicBezTo>
                    <a:cubicBezTo>
                      <a:pt x="1368" y="15"/>
                      <a:pt x="1368" y="15"/>
                      <a:pt x="1368" y="15"/>
                    </a:cubicBezTo>
                    <a:cubicBezTo>
                      <a:pt x="1386" y="14"/>
                      <a:pt x="1386" y="14"/>
                      <a:pt x="1386" y="14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22" y="11"/>
                      <a:pt x="1422" y="11"/>
                      <a:pt x="1422" y="11"/>
                    </a:cubicBezTo>
                    <a:cubicBezTo>
                      <a:pt x="1440" y="10"/>
                      <a:pt x="1440" y="10"/>
                      <a:pt x="1440" y="10"/>
                    </a:cubicBezTo>
                    <a:cubicBezTo>
                      <a:pt x="1458" y="10"/>
                      <a:pt x="1458" y="10"/>
                      <a:pt x="1458" y="10"/>
                    </a:cubicBezTo>
                    <a:cubicBezTo>
                      <a:pt x="1476" y="9"/>
                      <a:pt x="1476" y="9"/>
                      <a:pt x="1476" y="9"/>
                    </a:cubicBezTo>
                    <a:cubicBezTo>
                      <a:pt x="1494" y="8"/>
                      <a:pt x="1494" y="8"/>
                      <a:pt x="1494" y="8"/>
                    </a:cubicBezTo>
                    <a:cubicBezTo>
                      <a:pt x="1512" y="7"/>
                      <a:pt x="1512" y="7"/>
                      <a:pt x="1512" y="7"/>
                    </a:cubicBezTo>
                    <a:cubicBezTo>
                      <a:pt x="1530" y="6"/>
                      <a:pt x="1530" y="6"/>
                      <a:pt x="1530" y="6"/>
                    </a:cubicBezTo>
                    <a:cubicBezTo>
                      <a:pt x="1548" y="6"/>
                      <a:pt x="1548" y="6"/>
                      <a:pt x="1548" y="6"/>
                    </a:cubicBezTo>
                    <a:cubicBezTo>
                      <a:pt x="1566" y="5"/>
                      <a:pt x="1566" y="5"/>
                      <a:pt x="1566" y="5"/>
                    </a:cubicBezTo>
                    <a:cubicBezTo>
                      <a:pt x="1584" y="4"/>
                      <a:pt x="1584" y="4"/>
                      <a:pt x="1584" y="4"/>
                    </a:cubicBezTo>
                    <a:cubicBezTo>
                      <a:pt x="1602" y="4"/>
                      <a:pt x="1602" y="4"/>
                      <a:pt x="1602" y="4"/>
                    </a:cubicBezTo>
                    <a:cubicBezTo>
                      <a:pt x="1620" y="3"/>
                      <a:pt x="1620" y="3"/>
                      <a:pt x="1620" y="3"/>
                    </a:cubicBezTo>
                    <a:cubicBezTo>
                      <a:pt x="1638" y="3"/>
                      <a:pt x="1638" y="3"/>
                      <a:pt x="1638" y="3"/>
                    </a:cubicBezTo>
                    <a:cubicBezTo>
                      <a:pt x="1656" y="2"/>
                      <a:pt x="1656" y="2"/>
                      <a:pt x="1656" y="2"/>
                    </a:cubicBezTo>
                    <a:cubicBezTo>
                      <a:pt x="1674" y="2"/>
                      <a:pt x="1674" y="2"/>
                      <a:pt x="1674" y="2"/>
                    </a:cubicBezTo>
                    <a:cubicBezTo>
                      <a:pt x="1692" y="1"/>
                      <a:pt x="1692" y="1"/>
                      <a:pt x="1692" y="1"/>
                    </a:cubicBezTo>
                    <a:cubicBezTo>
                      <a:pt x="1710" y="1"/>
                      <a:pt x="1710" y="1"/>
                      <a:pt x="1710" y="1"/>
                    </a:cubicBezTo>
                    <a:cubicBezTo>
                      <a:pt x="1728" y="1"/>
                      <a:pt x="1728" y="1"/>
                      <a:pt x="1728" y="1"/>
                    </a:cubicBezTo>
                    <a:cubicBezTo>
                      <a:pt x="1746" y="0"/>
                      <a:pt x="1746" y="0"/>
                      <a:pt x="1746" y="0"/>
                    </a:cubicBezTo>
                    <a:cubicBezTo>
                      <a:pt x="1764" y="0"/>
                      <a:pt x="1764" y="0"/>
                      <a:pt x="1764" y="0"/>
                    </a:cubicBezTo>
                    <a:cubicBezTo>
                      <a:pt x="1782" y="0"/>
                      <a:pt x="1782" y="0"/>
                      <a:pt x="1782" y="0"/>
                    </a:cubicBezTo>
                    <a:cubicBezTo>
                      <a:pt x="1800" y="0"/>
                      <a:pt x="1800" y="0"/>
                      <a:pt x="1800" y="0"/>
                    </a:cubicBezTo>
                  </a:path>
                </a:pathLst>
              </a:custGeom>
              <a:noFill/>
              <a:ln w="255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7" name=""/>
            <p:cNvSpPr/>
            <p:nvPr/>
          </p:nvSpPr>
          <p:spPr>
            <a:xfrm>
              <a:off x="6908760" y="4379400"/>
              <a:ext cx="0" cy="141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8" name=""/>
            <p:cNvGraphicFramePr/>
            <p:nvPr/>
          </p:nvGraphicFramePr>
          <p:xfrm>
            <a:off x="6828480" y="5819040"/>
            <a:ext cx="129600" cy="173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27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28480" y="5819040"/>
                      <a:ext cx="129600" cy="17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0" name=""/>
            <p:cNvGraphicFramePr/>
            <p:nvPr/>
          </p:nvGraphicFramePr>
          <p:xfrm>
            <a:off x="7259760" y="4101120"/>
            <a:ext cx="421560" cy="187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8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259760" y="4101120"/>
                      <a:ext cx="421560" cy="1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2" name=""/>
            <p:cNvGraphicFramePr/>
            <p:nvPr/>
          </p:nvGraphicFramePr>
          <p:xfrm>
            <a:off x="7345800" y="4442040"/>
            <a:ext cx="410040" cy="187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28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345800" y="4442040"/>
                      <a:ext cx="410040" cy="1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4" name=""/>
            <p:cNvGraphicFramePr/>
            <p:nvPr/>
          </p:nvGraphicFramePr>
          <p:xfrm>
            <a:off x="5057640" y="4006800"/>
            <a:ext cx="313560" cy="2671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28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057640" y="4006800"/>
                      <a:ext cx="313560" cy="2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6" name=""/>
            <p:cNvGraphicFramePr/>
            <p:nvPr/>
          </p:nvGraphicFramePr>
          <p:xfrm>
            <a:off x="8779320" y="5839200"/>
            <a:ext cx="107640" cy="1465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28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779320" y="5839200"/>
                      <a:ext cx="107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8" name=""/>
            <p:cNvGraphicFramePr/>
            <p:nvPr/>
          </p:nvGraphicFramePr>
          <p:xfrm>
            <a:off x="7441560" y="4688280"/>
            <a:ext cx="410760" cy="1879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28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441560" y="4688280"/>
                      <a:ext cx="410760" cy="18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0" name=""/>
            <p:cNvGraphicFramePr/>
            <p:nvPr/>
          </p:nvGraphicFramePr>
          <p:xfrm>
            <a:off x="4690440" y="4275000"/>
            <a:ext cx="324000" cy="1868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29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690440" y="4275000"/>
                      <a:ext cx="324000" cy="18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2" name=""/>
            <p:cNvGraphicFramePr/>
            <p:nvPr/>
          </p:nvGraphicFramePr>
          <p:xfrm>
            <a:off x="4692960" y="4635000"/>
            <a:ext cx="334800" cy="18684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2293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692960" y="4635000"/>
                      <a:ext cx="334800" cy="18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4" name=""/>
            <p:cNvGraphicFramePr/>
            <p:nvPr/>
          </p:nvGraphicFramePr>
          <p:xfrm>
            <a:off x="4690440" y="4833720"/>
            <a:ext cx="335520" cy="1868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2295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690440" y="4833720"/>
                      <a:ext cx="335520" cy="18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6" name=""/>
            <p:cNvSpPr/>
            <p:nvPr/>
          </p:nvSpPr>
          <p:spPr>
            <a:xfrm flipH="1">
              <a:off x="5033520" y="4931280"/>
              <a:ext cx="1860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H="1">
              <a:off x="5032800" y="4378680"/>
              <a:ext cx="1860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>
              <a:off x="5031000" y="4727520"/>
              <a:ext cx="1860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99" name=""/>
            <p:cNvGraphicFramePr/>
            <p:nvPr/>
          </p:nvGraphicFramePr>
          <p:xfrm>
            <a:off x="4909320" y="5793840"/>
            <a:ext cx="108360" cy="1875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2300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4909320" y="5793840"/>
                      <a:ext cx="108360" cy="1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1" name=""/>
            <p:cNvSpPr/>
            <p:nvPr/>
          </p:nvSpPr>
          <p:spPr>
            <a:xfrm flipH="1">
              <a:off x="7050600" y="4232880"/>
              <a:ext cx="19296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H="1">
              <a:off x="7099920" y="4571640"/>
              <a:ext cx="19296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>
              <a:off x="7232760" y="4818960"/>
              <a:ext cx="19260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AA9AD-CCBC-41D5-893E-30FCA7CAB9C1}" type="slidenum">
              <a:t>74</a:t>
            </a:fld>
          </a:p>
        </p:txBody>
      </p:sp>
    </p:spTree>
  </p:cSld>
  <p:transition spd="med">
    <p:diamond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/>
          </p:nvPr>
        </p:nvSpPr>
        <p:spPr>
          <a:xfrm>
            <a:off x="1157040" y="829800"/>
            <a:ext cx="7381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的取值呈中间多，两头少，对称的特性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当固定</a:t>
            </a:r>
            <a:r>
              <a:rPr b="0" lang="el-GR" sz="2800" spc="-1" strike="noStrike">
                <a:solidFill>
                  <a:srgbClr val="3333cc"/>
                </a:solidFill>
                <a:latin typeface="宋体"/>
                <a:ea typeface="宋体"/>
              </a:rPr>
              <a:t>μ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时，</a:t>
            </a:r>
            <a:r>
              <a:rPr b="0" lang="el-GR" sz="2800" spc="-1" strike="noStrike">
                <a:solidFill>
                  <a:srgbClr val="3333cc"/>
                </a:solidFill>
                <a:latin typeface="宋体"/>
                <a:ea typeface="宋体"/>
              </a:rPr>
              <a:t>σ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越大，曲线的峰越低，落在</a:t>
            </a:r>
            <a:r>
              <a:rPr b="0" lang="el-GR" sz="2800" spc="-1" strike="noStrike">
                <a:solidFill>
                  <a:srgbClr val="3333cc"/>
                </a:solidFill>
                <a:latin typeface="宋体"/>
                <a:ea typeface="宋体"/>
              </a:rPr>
              <a:t>μ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附近的概率越小，取值就越分散，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宋体"/>
                <a:ea typeface="宋体"/>
              </a:rPr>
              <a:t>∴ </a:t>
            </a:r>
            <a:r>
              <a:rPr b="0" lang="el-GR" sz="2800" spc="-1" strike="noStrike">
                <a:solidFill>
                  <a:srgbClr val="996600"/>
                </a:solidFill>
                <a:latin typeface="宋体"/>
                <a:ea typeface="宋体"/>
              </a:rPr>
              <a:t>σ</a:t>
            </a:r>
            <a:r>
              <a:rPr b="0" lang="zh-CN" sz="2800" spc="-1" strike="noStrike">
                <a:solidFill>
                  <a:srgbClr val="996600"/>
                </a:solidFill>
                <a:latin typeface="宋体"/>
                <a:ea typeface="宋体"/>
              </a:rPr>
              <a:t>是反映</a:t>
            </a:r>
            <a:r>
              <a:rPr b="0" lang="zh-CN" sz="2800" spc="-1" strike="noStrike">
                <a:solidFill>
                  <a:srgbClr val="996600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996600"/>
                </a:solidFill>
                <a:latin typeface="宋体"/>
                <a:ea typeface="宋体"/>
              </a:rPr>
              <a:t>的取值分散性的一个指标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在自然现象和社会现象中，大量随机变量服从或近似服从正态分布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sp>
        <p:nvSpPr>
          <p:cNvPr id="2305" name=""/>
          <p:cNvSpPr/>
          <p:nvPr/>
        </p:nvSpPr>
        <p:spPr>
          <a:xfrm>
            <a:off x="1409760" y="4397400"/>
            <a:ext cx="457200" cy="209520"/>
          </a:xfrm>
          <a:custGeom>
            <a:avLst/>
            <a:gdLst>
              <a:gd name="textAreaLeft" fmla="*/ 114120 w 457200"/>
              <a:gd name="textAreaRight" fmla="*/ 343080 w 457200"/>
              <a:gd name="textAreaTop" fmla="*/ 2592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02C53-3FEF-4C33-B528-EE016C069F15}" type="slidenum">
              <a:t>75</a:t>
            </a:fld>
          </a:p>
        </p:txBody>
      </p:sp>
    </p:spTree>
  </p:cSld>
  <p:transition spd="med">
    <p:diamond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6" name=""/>
          <p:cNvGraphicFramePr/>
          <p:nvPr/>
        </p:nvGraphicFramePr>
        <p:xfrm>
          <a:off x="1065240" y="4540320"/>
          <a:ext cx="25416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4540320"/>
                    <a:ext cx="25416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8" name=""/>
          <p:cNvGraphicFramePr/>
          <p:nvPr/>
        </p:nvGraphicFramePr>
        <p:xfrm>
          <a:off x="1263600" y="344520"/>
          <a:ext cx="523548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3600" y="344520"/>
                    <a:ext cx="52354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0" name=""/>
          <p:cNvGraphicFramePr/>
          <p:nvPr/>
        </p:nvGraphicFramePr>
        <p:xfrm>
          <a:off x="4211640" y="4381560"/>
          <a:ext cx="455436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4381560"/>
                    <a:ext cx="455436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2" name=""/>
          <p:cNvGraphicFramePr/>
          <p:nvPr/>
        </p:nvGraphicFramePr>
        <p:xfrm>
          <a:off x="1079640" y="5276880"/>
          <a:ext cx="215424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9640" y="5276880"/>
                    <a:ext cx="215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4" name=""/>
          <p:cNvGraphicFramePr/>
          <p:nvPr/>
        </p:nvGraphicFramePr>
        <p:xfrm>
          <a:off x="1135080" y="5987880"/>
          <a:ext cx="210960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35080" y="5987880"/>
                    <a:ext cx="2109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6" name=""/>
          <p:cNvSpPr/>
          <p:nvPr/>
        </p:nvSpPr>
        <p:spPr>
          <a:xfrm>
            <a:off x="3657600" y="3357720"/>
            <a:ext cx="866880" cy="347400"/>
          </a:xfrm>
          <a:custGeom>
            <a:avLst/>
            <a:gdLst>
              <a:gd name="textAreaLeft" fmla="*/ 135360 w 866880"/>
              <a:gd name="textAreaRight" fmla="*/ 758520 w 866880"/>
              <a:gd name="textAreaTop" fmla="*/ 86760 h 347400"/>
              <a:gd name="textAreaBottom" fmla="*/ 260640 h 34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966960" y="403200"/>
            <a:ext cx="252360" cy="301680"/>
          </a:xfrm>
          <a:custGeom>
            <a:avLst/>
            <a:gdLst>
              <a:gd name="textAreaLeft" fmla="*/ 104040 w 252360"/>
              <a:gd name="textAreaRight" fmla="*/ 148320 w 252360"/>
              <a:gd name="textAreaTop" fmla="*/ 124200 h 301680"/>
              <a:gd name="textAreaBottom" fmla="*/ 177480 h 30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8" name=""/>
          <p:cNvGraphicFramePr/>
          <p:nvPr/>
        </p:nvGraphicFramePr>
        <p:xfrm>
          <a:off x="1289160" y="669960"/>
          <a:ext cx="4219560" cy="96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89160" y="669960"/>
                    <a:ext cx="42195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0" name=""/>
          <p:cNvGraphicFramePr/>
          <p:nvPr/>
        </p:nvGraphicFramePr>
        <p:xfrm>
          <a:off x="1278000" y="1424160"/>
          <a:ext cx="4714920" cy="96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78000" y="1424160"/>
                    <a:ext cx="471492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2" name=""/>
          <p:cNvGrpSpPr/>
          <p:nvPr/>
        </p:nvGrpSpPr>
        <p:grpSpPr>
          <a:xfrm>
            <a:off x="5502240" y="3009960"/>
            <a:ext cx="3159000" cy="993600"/>
            <a:chOff x="5502240" y="3009960"/>
            <a:chExt cx="3159000" cy="993600"/>
          </a:xfrm>
        </p:grpSpPr>
        <p:sp>
          <p:nvSpPr>
            <p:cNvPr id="2323" name=""/>
            <p:cNvSpPr/>
            <p:nvPr/>
          </p:nvSpPr>
          <p:spPr>
            <a:xfrm>
              <a:off x="5502240" y="3009960"/>
              <a:ext cx="3159000" cy="993600"/>
            </a:xfrm>
            <a:prstGeom prst="horizontalScroll">
              <a:avLst>
                <a:gd name="adj" fmla="val 12500"/>
              </a:avLst>
            </a:prstGeom>
            <a:solidFill>
              <a:srgbClr val="ff99cc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24" name=""/>
            <p:cNvGraphicFramePr/>
            <p:nvPr/>
          </p:nvGraphicFramePr>
          <p:xfrm>
            <a:off x="6030720" y="3249720"/>
            <a:ext cx="2188800" cy="522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32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030720" y="3249720"/>
                      <a:ext cx="2188800" cy="52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26" name=""/>
          <p:cNvGraphicFramePr/>
          <p:nvPr/>
        </p:nvGraphicFramePr>
        <p:xfrm>
          <a:off x="3338640" y="4921200"/>
          <a:ext cx="2754360" cy="1036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38640" y="4921200"/>
                    <a:ext cx="27543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8" name=""/>
          <p:cNvGraphicFramePr/>
          <p:nvPr/>
        </p:nvGraphicFramePr>
        <p:xfrm>
          <a:off x="3424320" y="6168960"/>
          <a:ext cx="1877760" cy="371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4320" y="6168960"/>
                    <a:ext cx="18777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0" name=""/>
          <p:cNvGraphicFramePr/>
          <p:nvPr/>
        </p:nvGraphicFramePr>
        <p:xfrm>
          <a:off x="5425920" y="5888160"/>
          <a:ext cx="1994040" cy="884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25920" y="5888160"/>
                    <a:ext cx="19940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2" name=""/>
          <p:cNvGrpSpPr/>
          <p:nvPr/>
        </p:nvGrpSpPr>
        <p:grpSpPr>
          <a:xfrm>
            <a:off x="1235160" y="2433600"/>
            <a:ext cx="2790720" cy="1966680"/>
            <a:chOff x="1235160" y="2433600"/>
            <a:chExt cx="2790720" cy="1966680"/>
          </a:xfrm>
        </p:grpSpPr>
        <p:grpSp>
          <p:nvGrpSpPr>
            <p:cNvPr id="2333" name=""/>
            <p:cNvGrpSpPr/>
            <p:nvPr/>
          </p:nvGrpSpPr>
          <p:grpSpPr>
            <a:xfrm>
              <a:off x="1235160" y="2433600"/>
              <a:ext cx="2790720" cy="1966680"/>
              <a:chOff x="1235160" y="2433600"/>
              <a:chExt cx="2790720" cy="1966680"/>
            </a:xfrm>
          </p:grpSpPr>
          <p:grpSp>
            <p:nvGrpSpPr>
              <p:cNvPr id="2334" name=""/>
              <p:cNvGrpSpPr/>
              <p:nvPr/>
            </p:nvGrpSpPr>
            <p:grpSpPr>
              <a:xfrm>
                <a:off x="1235160" y="2549160"/>
                <a:ext cx="2727360" cy="1779480"/>
                <a:chOff x="1235160" y="2549160"/>
                <a:chExt cx="2727360" cy="1779480"/>
              </a:xfrm>
            </p:grpSpPr>
            <p:grpSp>
              <p:nvGrpSpPr>
                <p:cNvPr id="2335" name=""/>
                <p:cNvGrpSpPr/>
                <p:nvPr/>
              </p:nvGrpSpPr>
              <p:grpSpPr>
                <a:xfrm>
                  <a:off x="1563840" y="2729880"/>
                  <a:ext cx="1876320" cy="1413360"/>
                  <a:chOff x="1563840" y="2729880"/>
                  <a:chExt cx="1876320" cy="1413360"/>
                </a:xfrm>
              </p:grpSpPr>
              <p:sp>
                <p:nvSpPr>
                  <p:cNvPr id="2336" name=""/>
                  <p:cNvSpPr/>
                  <p:nvPr/>
                </p:nvSpPr>
                <p:spPr>
                  <a:xfrm>
                    <a:off x="2044800" y="3811320"/>
                    <a:ext cx="79560" cy="1252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2132280" y="3481200"/>
                    <a:ext cx="0" cy="662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38" name=""/>
                  <p:cNvGrpSpPr/>
                  <p:nvPr/>
                </p:nvGrpSpPr>
                <p:grpSpPr>
                  <a:xfrm>
                    <a:off x="1563840" y="2729880"/>
                    <a:ext cx="1876320" cy="1379880"/>
                    <a:chOff x="1563840" y="2729880"/>
                    <a:chExt cx="1876320" cy="1379880"/>
                  </a:xfrm>
                </p:grpSpPr>
                <p:grpSp>
                  <p:nvGrpSpPr>
                    <p:cNvPr id="2339" name=""/>
                    <p:cNvGrpSpPr/>
                    <p:nvPr/>
                  </p:nvGrpSpPr>
                  <p:grpSpPr>
                    <a:xfrm>
                      <a:off x="1684440" y="3902040"/>
                      <a:ext cx="407520" cy="202680"/>
                      <a:chOff x="1684440" y="3902040"/>
                      <a:chExt cx="407520" cy="202680"/>
                    </a:xfrm>
                  </p:grpSpPr>
                  <p:sp>
                    <p:nvSpPr>
                      <p:cNvPr id="2340" name=""/>
                      <p:cNvSpPr/>
                      <p:nvPr/>
                    </p:nvSpPr>
                    <p:spPr>
                      <a:xfrm>
                        <a:off x="1684440" y="3994200"/>
                        <a:ext cx="69480" cy="110520"/>
                      </a:xfrm>
                      <a:prstGeom prst="line">
                        <a:avLst/>
                      </a:prstGeom>
                      <a:ln w="158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1" name=""/>
                      <p:cNvSpPr/>
                      <p:nvPr/>
                    </p:nvSpPr>
                    <p:spPr>
                      <a:xfrm>
                        <a:off x="1818360" y="3990240"/>
                        <a:ext cx="69840" cy="110520"/>
                      </a:xfrm>
                      <a:prstGeom prst="line">
                        <a:avLst/>
                      </a:prstGeom>
                      <a:ln w="158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2" name=""/>
                      <p:cNvSpPr/>
                      <p:nvPr/>
                    </p:nvSpPr>
                    <p:spPr>
                      <a:xfrm>
                        <a:off x="2022120" y="3902040"/>
                        <a:ext cx="69840" cy="110520"/>
                      </a:xfrm>
                      <a:prstGeom prst="line">
                        <a:avLst/>
                      </a:prstGeom>
                      <a:ln w="158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3" name=""/>
                      <p:cNvSpPr/>
                      <p:nvPr/>
                    </p:nvSpPr>
                    <p:spPr>
                      <a:xfrm>
                        <a:off x="1949760" y="3967560"/>
                        <a:ext cx="69480" cy="110880"/>
                      </a:xfrm>
                      <a:prstGeom prst="line">
                        <a:avLst/>
                      </a:prstGeom>
                      <a:ln w="158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44" name=""/>
                    <p:cNvSpPr/>
                    <p:nvPr/>
                  </p:nvSpPr>
                  <p:spPr>
                    <a:xfrm>
                      <a:off x="1643040" y="3676320"/>
                      <a:ext cx="409680" cy="330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45" name=""/>
                    <p:cNvGrpSpPr/>
                    <p:nvPr/>
                  </p:nvGrpSpPr>
                  <p:grpSpPr>
                    <a:xfrm>
                      <a:off x="1722600" y="2729880"/>
                      <a:ext cx="1623960" cy="723600"/>
                      <a:chOff x="1722600" y="2729880"/>
                      <a:chExt cx="1623960" cy="723600"/>
                    </a:xfrm>
                  </p:grpSpPr>
                  <p:sp>
                    <p:nvSpPr>
                      <p:cNvPr id="2346" name=""/>
                      <p:cNvSpPr/>
                      <p:nvPr/>
                    </p:nvSpPr>
                    <p:spPr>
                      <a:xfrm flipV="1">
                        <a:off x="2666880" y="3155040"/>
                        <a:ext cx="679680" cy="2984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7" name=""/>
                      <p:cNvSpPr/>
                      <p:nvPr/>
                    </p:nvSpPr>
                    <p:spPr>
                      <a:xfrm flipH="1" flipV="1">
                        <a:off x="1722600" y="2729880"/>
                        <a:ext cx="550800" cy="3459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48" name=""/>
                    <p:cNvSpPr/>
                    <p:nvPr/>
                  </p:nvSpPr>
                  <p:spPr>
                    <a:xfrm>
                      <a:off x="2872080" y="3447720"/>
                      <a:ext cx="0" cy="66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49" name=""/>
                    <p:cNvGrpSpPr/>
                    <p:nvPr/>
                  </p:nvGrpSpPr>
                  <p:grpSpPr>
                    <a:xfrm>
                      <a:off x="1563840" y="2868480"/>
                      <a:ext cx="1876320" cy="1163160"/>
                      <a:chOff x="1563840" y="2868480"/>
                      <a:chExt cx="1876320" cy="1163160"/>
                    </a:xfrm>
                  </p:grpSpPr>
                  <p:sp>
                    <p:nvSpPr>
                      <p:cNvPr id="2350" name=""/>
                      <p:cNvSpPr/>
                      <p:nvPr/>
                    </p:nvSpPr>
                    <p:spPr>
                      <a:xfrm>
                        <a:off x="1563840" y="2868480"/>
                        <a:ext cx="946080" cy="11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5" h="678">
                            <a:moveTo>
                              <a:pt x="0" y="678"/>
                            </a:moveTo>
                            <a:cubicBezTo>
                              <a:pt x="98" y="677"/>
                              <a:pt x="197" y="676"/>
                              <a:pt x="258" y="648"/>
                            </a:cubicBezTo>
                            <a:cubicBezTo>
                              <a:pt x="319" y="620"/>
                              <a:pt x="338" y="569"/>
                              <a:pt x="368" y="509"/>
                            </a:cubicBezTo>
                            <a:cubicBezTo>
                              <a:pt x="398" y="449"/>
                              <a:pt x="412" y="350"/>
                              <a:pt x="437" y="291"/>
                            </a:cubicBezTo>
                            <a:cubicBezTo>
                              <a:pt x="462" y="232"/>
                              <a:pt x="486" y="195"/>
                              <a:pt x="517" y="152"/>
                            </a:cubicBezTo>
                            <a:cubicBezTo>
                              <a:pt x="548" y="109"/>
                              <a:pt x="596" y="57"/>
                              <a:pt x="626" y="32"/>
                            </a:cubicBezTo>
                            <a:cubicBezTo>
                              <a:pt x="656" y="7"/>
                              <a:pt x="670" y="0"/>
                              <a:pt x="695" y="3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51" name=""/>
                      <p:cNvSpPr/>
                      <p:nvPr/>
                    </p:nvSpPr>
                    <p:spPr>
                      <a:xfrm flipH="1">
                        <a:off x="2494080" y="2877840"/>
                        <a:ext cx="946080" cy="11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5" h="678">
                            <a:moveTo>
                              <a:pt x="0" y="678"/>
                            </a:moveTo>
                            <a:cubicBezTo>
                              <a:pt x="98" y="677"/>
                              <a:pt x="197" y="676"/>
                              <a:pt x="258" y="648"/>
                            </a:cubicBezTo>
                            <a:cubicBezTo>
                              <a:pt x="319" y="620"/>
                              <a:pt x="338" y="569"/>
                              <a:pt x="368" y="509"/>
                            </a:cubicBezTo>
                            <a:cubicBezTo>
                              <a:pt x="398" y="449"/>
                              <a:pt x="412" y="350"/>
                              <a:pt x="437" y="291"/>
                            </a:cubicBezTo>
                            <a:cubicBezTo>
                              <a:pt x="462" y="232"/>
                              <a:pt x="486" y="195"/>
                              <a:pt x="517" y="152"/>
                            </a:cubicBezTo>
                            <a:cubicBezTo>
                              <a:pt x="548" y="109"/>
                              <a:pt x="596" y="57"/>
                              <a:pt x="626" y="32"/>
                            </a:cubicBezTo>
                            <a:cubicBezTo>
                              <a:pt x="656" y="7"/>
                              <a:pt x="670" y="0"/>
                              <a:pt x="695" y="3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352" name=""/>
                <p:cNvSpPr/>
                <p:nvPr/>
              </p:nvSpPr>
              <p:spPr>
                <a:xfrm>
                  <a:off x="1235160" y="4138560"/>
                  <a:ext cx="2727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 flipV="1">
                  <a:off x="2511360" y="2549160"/>
                  <a:ext cx="0" cy="177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4" name=""/>
              <p:cNvGrpSpPr/>
              <p:nvPr/>
            </p:nvGrpSpPr>
            <p:grpSpPr>
              <a:xfrm>
                <a:off x="1251000" y="2433600"/>
                <a:ext cx="2774880" cy="1966680"/>
                <a:chOff x="1251000" y="2433600"/>
                <a:chExt cx="2774880" cy="1966680"/>
              </a:xfrm>
            </p:grpSpPr>
            <p:grpSp>
              <p:nvGrpSpPr>
                <p:cNvPr id="2355" name=""/>
                <p:cNvGrpSpPr/>
                <p:nvPr/>
              </p:nvGrpSpPr>
              <p:grpSpPr>
                <a:xfrm>
                  <a:off x="1882800" y="2964960"/>
                  <a:ext cx="984240" cy="1157040"/>
                  <a:chOff x="1882800" y="2964960"/>
                  <a:chExt cx="984240" cy="1157040"/>
                </a:xfrm>
              </p:grpSpPr>
              <p:sp>
                <p:nvSpPr>
                  <p:cNvPr id="2356" name=""/>
                  <p:cNvSpPr/>
                  <p:nvPr/>
                </p:nvSpPr>
                <p:spPr>
                  <a:xfrm flipV="1">
                    <a:off x="2198880" y="2964960"/>
                    <a:ext cx="393480" cy="314280"/>
                  </a:xfrm>
                  <a:prstGeom prst="line">
                    <a:avLst/>
                  </a:prstGeom>
                  <a:ln w="158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 flipV="1">
                    <a:off x="2129040" y="3101760"/>
                    <a:ext cx="582480" cy="473040"/>
                  </a:xfrm>
                  <a:prstGeom prst="line">
                    <a:avLst/>
                  </a:prstGeom>
                  <a:ln w="158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 flipV="1">
                    <a:off x="1979640" y="3255840"/>
                    <a:ext cx="804960" cy="630000"/>
                  </a:xfrm>
                  <a:prstGeom prst="line">
                    <a:avLst/>
                  </a:prstGeom>
                  <a:ln w="158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 flipV="1">
                    <a:off x="1882800" y="3422520"/>
                    <a:ext cx="960480" cy="691920"/>
                  </a:xfrm>
                  <a:prstGeom prst="line">
                    <a:avLst/>
                  </a:prstGeom>
                  <a:ln w="158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 flipV="1">
                    <a:off x="2189160" y="3576240"/>
                    <a:ext cx="677880" cy="534960"/>
                  </a:xfrm>
                  <a:prstGeom prst="line">
                    <a:avLst/>
                  </a:prstGeom>
                  <a:ln w="158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 flipV="1">
                    <a:off x="2452680" y="3807720"/>
                    <a:ext cx="393840" cy="314280"/>
                  </a:xfrm>
                  <a:prstGeom prst="line">
                    <a:avLst/>
                  </a:prstGeom>
                  <a:ln w="158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2" name=""/>
                <p:cNvGrpSpPr/>
                <p:nvPr/>
              </p:nvGrpSpPr>
              <p:grpSpPr>
                <a:xfrm>
                  <a:off x="1251000" y="2433600"/>
                  <a:ext cx="2774880" cy="1966680"/>
                  <a:chOff x="1251000" y="2433600"/>
                  <a:chExt cx="2774880" cy="1966680"/>
                </a:xfrm>
              </p:grpSpPr>
              <p:graphicFrame>
                <p:nvGraphicFramePr>
                  <p:cNvPr id="2363" name=""/>
                  <p:cNvGraphicFramePr/>
                  <p:nvPr/>
                </p:nvGraphicFramePr>
                <p:xfrm>
                  <a:off x="1252440" y="2476440"/>
                  <a:ext cx="703080" cy="285480"/>
                </p:xfrm>
                <a:graphic>
                  <a:graphicData uri="http://schemas.openxmlformats.org/presentationml/2006/ole">
                    <p:oleObj r:id="rId23" spid="">
                      <p:embed/>
                      <p:pic>
                        <p:nvPicPr>
                          <p:cNvPr id="2364" name="" descr=""/>
                          <p:cNvPicPr/>
                          <p:nvPr/>
                        </p:nvPicPr>
                        <p:blipFill>
                          <a:blip r:embed="rId24"/>
                          <a:stretch/>
                        </p:blipFill>
                        <p:spPr>
                          <a:xfrm>
                            <a:off x="1252440" y="2476440"/>
                            <a:ext cx="703080" cy="2854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2365" name=""/>
                  <p:cNvGraphicFramePr/>
                  <p:nvPr/>
                </p:nvGraphicFramePr>
                <p:xfrm>
                  <a:off x="3300480" y="2954160"/>
                  <a:ext cx="442800" cy="285840"/>
                </p:xfrm>
                <a:graphic>
                  <a:graphicData uri="http://schemas.openxmlformats.org/presentationml/2006/ole">
                    <p:oleObj r:id="rId25" spid="">
                      <p:embed/>
                      <p:pic>
                        <p:nvPicPr>
                          <p:cNvPr id="2366" name="" descr=""/>
                          <p:cNvPicPr/>
                          <p:nvPr/>
                        </p:nvPicPr>
                        <p:blipFill>
                          <a:blip r:embed="rId26"/>
                          <a:stretch/>
                        </p:blipFill>
                        <p:spPr>
                          <a:xfrm>
                            <a:off x="3300480" y="2954160"/>
                            <a:ext cx="442800" cy="2858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2367" name=""/>
                  <p:cNvGraphicFramePr/>
                  <p:nvPr/>
                </p:nvGraphicFramePr>
                <p:xfrm>
                  <a:off x="1251000" y="3416040"/>
                  <a:ext cx="571320" cy="285840"/>
                </p:xfrm>
                <a:graphic>
                  <a:graphicData uri="http://schemas.openxmlformats.org/presentationml/2006/ole">
                    <p:oleObj r:id="rId27" spid="">
                      <p:embed/>
                      <p:pic>
                        <p:nvPicPr>
                          <p:cNvPr id="2368" name="" descr=""/>
                          <p:cNvPicPr/>
                          <p:nvPr/>
                        </p:nvPicPr>
                        <p:blipFill>
                          <a:blip r:embed="rId28"/>
                          <a:stretch/>
                        </p:blipFill>
                        <p:spPr>
                          <a:xfrm>
                            <a:off x="1251000" y="3416040"/>
                            <a:ext cx="571320" cy="2858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2369" name=""/>
                  <p:cNvGraphicFramePr/>
                  <p:nvPr/>
                </p:nvGraphicFramePr>
                <p:xfrm>
                  <a:off x="2314440" y="4108320"/>
                  <a:ext cx="196920" cy="277920"/>
                </p:xfrm>
                <a:graphic>
                  <a:graphicData uri="http://schemas.openxmlformats.org/presentationml/2006/ole">
                    <p:oleObj r:id="rId29" spid="">
                      <p:embed/>
                      <p:pic>
                        <p:nvPicPr>
                          <p:cNvPr id="2370" name="" descr=""/>
                          <p:cNvPicPr/>
                          <p:nvPr/>
                        </p:nvPicPr>
                        <p:blipFill>
                          <a:blip r:embed="rId30"/>
                          <a:stretch/>
                        </p:blipFill>
                        <p:spPr>
                          <a:xfrm>
                            <a:off x="2314440" y="4108320"/>
                            <a:ext cx="196920" cy="277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2371" name=""/>
                  <p:cNvGraphicFramePr/>
                  <p:nvPr/>
                </p:nvGraphicFramePr>
                <p:xfrm>
                  <a:off x="2517840" y="2433600"/>
                  <a:ext cx="285480" cy="336240"/>
                </p:xfrm>
                <a:graphic>
                  <a:graphicData uri="http://schemas.openxmlformats.org/presentationml/2006/ole">
                    <p:oleObj r:id="rId31" spid="">
                      <p:embed/>
                      <p:pic>
                        <p:nvPicPr>
                          <p:cNvPr id="2372" name="" descr=""/>
                          <p:cNvPicPr/>
                          <p:nvPr/>
                        </p:nvPicPr>
                        <p:blipFill>
                          <a:blip r:embed="rId32"/>
                          <a:stretch/>
                        </p:blipFill>
                        <p:spPr>
                          <a:xfrm>
                            <a:off x="2517840" y="2433600"/>
                            <a:ext cx="285480" cy="3362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2373" name=""/>
                  <p:cNvGraphicFramePr/>
                  <p:nvPr/>
                </p:nvGraphicFramePr>
                <p:xfrm>
                  <a:off x="3767040" y="4116240"/>
                  <a:ext cx="258840" cy="284040"/>
                </p:xfrm>
                <a:graphic>
                  <a:graphicData uri="http://schemas.openxmlformats.org/presentationml/2006/ole">
                    <p:oleObj r:id="rId33" spid="">
                      <p:embed/>
                      <p:pic>
                        <p:nvPicPr>
                          <p:cNvPr id="2374" name="" descr=""/>
                          <p:cNvPicPr/>
                          <p:nvPr/>
                        </p:nvPicPr>
                        <p:blipFill>
                          <a:blip r:embed="rId34"/>
                          <a:stretch/>
                        </p:blipFill>
                        <p:spPr>
                          <a:xfrm>
                            <a:off x="3767040" y="4116240"/>
                            <a:ext cx="258840" cy="28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2375" name=""/>
                  <p:cNvGraphicFramePr/>
                  <p:nvPr/>
                </p:nvGraphicFramePr>
                <p:xfrm>
                  <a:off x="2749320" y="4109760"/>
                  <a:ext cx="208080" cy="231840"/>
                </p:xfrm>
                <a:graphic>
                  <a:graphicData uri="http://schemas.openxmlformats.org/presentationml/2006/ole">
                    <p:oleObj r:id="rId35" spid="">
                      <p:embed/>
                      <p:pic>
                        <p:nvPicPr>
                          <p:cNvPr id="2376" name="" descr=""/>
                          <p:cNvPicPr/>
                          <p:nvPr/>
                        </p:nvPicPr>
                        <p:blipFill>
                          <a:blip r:embed="rId36"/>
                          <a:stretch/>
                        </p:blipFill>
                        <p:spPr>
                          <a:xfrm>
                            <a:off x="2749320" y="4109760"/>
                            <a:ext cx="208080" cy="2318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</p:grpSp>
        <p:graphicFrame>
          <p:nvGraphicFramePr>
            <p:cNvPr id="2377" name=""/>
            <p:cNvGraphicFramePr/>
            <p:nvPr/>
          </p:nvGraphicFramePr>
          <p:xfrm>
            <a:off x="2014560" y="4160880"/>
            <a:ext cx="216000" cy="13968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2378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2014560" y="4160880"/>
                      <a:ext cx="21600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8E5C1-3758-4C10-A655-9945C9887D64}" type="slidenum">
              <a:t>76</a:t>
            </a:fld>
          </a:p>
        </p:txBody>
      </p:sp>
    </p:spTree>
  </p:cSld>
  <p:transition spd="med">
    <p:diamond/>
  </p:transition>
  <p:timing>
    <p:tnLst>
      <p:par>
        <p:cTn id="2205" dur="indefinite" restart="never" nodeType="tmRoot">
          <p:childTnLst>
            <p:seq>
              <p:cTn id="2206" dur="indefinite" nodeType="mainSeq">
                <p:childTnLst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5" dur="20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0" dur="20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5" dur="2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20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46821E-007 L 0.0868 3.46821E-007 E">
                                      <p:cBhvr>
                                        <p:cTn id="2236" dur="2000" fill="hold"/>
                                        <p:tgtEl>
                                          <p:spTgt spid="2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0" dur="20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5" dur="2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2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5" dur="20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20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5" dur="2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20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5" dur="2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/>
          </p:nvPr>
        </p:nvSpPr>
        <p:spPr>
          <a:xfrm>
            <a:off x="1185840" y="554040"/>
            <a:ext cx="7439040" cy="57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e5d2f"/>
                </a:solidFill>
                <a:latin typeface="-쉬리M"/>
                <a:ea typeface="宋体"/>
              </a:rPr>
              <a:t> </a:t>
            </a:r>
            <a:r>
              <a:rPr b="0" lang="zh-CN" sz="3600" spc="-1" strike="noStrike">
                <a:solidFill>
                  <a:srgbClr val="5e5d2f"/>
                </a:solidFill>
                <a:latin typeface="-쉬리M"/>
                <a:ea typeface="宋体"/>
              </a:rPr>
              <a:t>例：</a:t>
            </a:r>
            <a:endParaRPr b="0" lang="en-US" sz="36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380" name=""/>
          <p:cNvGraphicFramePr/>
          <p:nvPr/>
        </p:nvGraphicFramePr>
        <p:xfrm>
          <a:off x="2440080" y="554040"/>
          <a:ext cx="2539800" cy="64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40080" y="554040"/>
                    <a:ext cx="2539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2" name=""/>
          <p:cNvGraphicFramePr/>
          <p:nvPr/>
        </p:nvGraphicFramePr>
        <p:xfrm>
          <a:off x="1109520" y="1344600"/>
          <a:ext cx="5437440" cy="10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09520" y="1344600"/>
                    <a:ext cx="543744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4" name=""/>
          <p:cNvGraphicFramePr/>
          <p:nvPr/>
        </p:nvGraphicFramePr>
        <p:xfrm>
          <a:off x="1619280" y="2604960"/>
          <a:ext cx="4937040" cy="55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19280" y="2604960"/>
                    <a:ext cx="4937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6" name=""/>
          <p:cNvGraphicFramePr/>
          <p:nvPr/>
        </p:nvGraphicFramePr>
        <p:xfrm>
          <a:off x="1527120" y="3282840"/>
          <a:ext cx="5006880" cy="560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8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7120" y="3282840"/>
                    <a:ext cx="50068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8" name=""/>
          <p:cNvGrpSpPr/>
          <p:nvPr/>
        </p:nvGrpSpPr>
        <p:grpSpPr>
          <a:xfrm>
            <a:off x="5402160" y="341280"/>
            <a:ext cx="2649600" cy="866880"/>
            <a:chOff x="5402160" y="341280"/>
            <a:chExt cx="2649600" cy="866880"/>
          </a:xfrm>
        </p:grpSpPr>
        <p:sp>
          <p:nvSpPr>
            <p:cNvPr id="2389" name=""/>
            <p:cNvSpPr/>
            <p:nvPr/>
          </p:nvSpPr>
          <p:spPr>
            <a:xfrm>
              <a:off x="5402160" y="341280"/>
              <a:ext cx="2649600" cy="866880"/>
            </a:xfrm>
            <a:prstGeom prst="cloudCallout">
              <a:avLst>
                <a:gd name="adj1" fmla="val -128009"/>
                <a:gd name="adj2" fmla="val 14377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143000" indent="-228600" algn="ctr"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892840" y="5014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66"/>
                  </a:solidFill>
                  <a:latin typeface="Arial"/>
                </a:rPr>
                <a:t>查书后附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1609560" y="4095720"/>
            <a:ext cx="6596280" cy="2370960"/>
            <a:chOff x="1609560" y="4095720"/>
            <a:chExt cx="6596280" cy="2370960"/>
          </a:xfrm>
        </p:grpSpPr>
        <p:grpSp>
          <p:nvGrpSpPr>
            <p:cNvPr id="2392" name=""/>
            <p:cNvGrpSpPr/>
            <p:nvPr/>
          </p:nvGrpSpPr>
          <p:grpSpPr>
            <a:xfrm>
              <a:off x="1609560" y="4095720"/>
              <a:ext cx="6596280" cy="1477800"/>
              <a:chOff x="1609560" y="4095720"/>
              <a:chExt cx="6596280" cy="1477800"/>
            </a:xfrm>
          </p:grpSpPr>
          <p:sp>
            <p:nvSpPr>
              <p:cNvPr id="2393" name=""/>
              <p:cNvSpPr/>
              <p:nvPr/>
            </p:nvSpPr>
            <p:spPr>
              <a:xfrm flipV="1">
                <a:off x="4838760" y="4096800"/>
                <a:ext cx="2816640" cy="1374480"/>
              </a:xfrm>
              <a:custGeom>
                <a:avLst/>
                <a:gdLst/>
                <a:ahLst/>
                <a:rect l="l" t="t" r="r" b="b"/>
                <a:pathLst>
                  <a:path w="1800" h="237">
                    <a:moveTo>
                      <a:pt x="0" y="237"/>
                    </a:moveTo>
                    <a:cubicBezTo>
                      <a:pt x="18" y="237"/>
                      <a:pt x="18" y="237"/>
                      <a:pt x="18" y="237"/>
                    </a:cubicBezTo>
                    <a:cubicBezTo>
                      <a:pt x="36" y="236"/>
                      <a:pt x="36" y="236"/>
                      <a:pt x="36" y="236"/>
                    </a:cubicBezTo>
                    <a:cubicBezTo>
                      <a:pt x="54" y="236"/>
                      <a:pt x="54" y="236"/>
                      <a:pt x="54" y="236"/>
                    </a:cubicBezTo>
                    <a:cubicBezTo>
                      <a:pt x="72" y="235"/>
                      <a:pt x="72" y="235"/>
                      <a:pt x="72" y="235"/>
                    </a:cubicBezTo>
                    <a:cubicBezTo>
                      <a:pt x="90" y="234"/>
                      <a:pt x="90" y="234"/>
                      <a:pt x="90" y="234"/>
                    </a:cubicBezTo>
                    <a:cubicBezTo>
                      <a:pt x="108" y="233"/>
                      <a:pt x="108" y="233"/>
                      <a:pt x="108" y="233"/>
                    </a:cubicBezTo>
                    <a:cubicBezTo>
                      <a:pt x="126" y="232"/>
                      <a:pt x="126" y="232"/>
                      <a:pt x="126" y="232"/>
                    </a:cubicBezTo>
                    <a:cubicBezTo>
                      <a:pt x="144" y="230"/>
                      <a:pt x="144" y="230"/>
                      <a:pt x="144" y="230"/>
                    </a:cubicBezTo>
                    <a:cubicBezTo>
                      <a:pt x="162" y="228"/>
                      <a:pt x="162" y="228"/>
                      <a:pt x="162" y="228"/>
                    </a:cubicBezTo>
                    <a:cubicBezTo>
                      <a:pt x="180" y="226"/>
                      <a:pt x="180" y="226"/>
                      <a:pt x="180" y="226"/>
                    </a:cubicBezTo>
                    <a:cubicBezTo>
                      <a:pt x="198" y="224"/>
                      <a:pt x="198" y="224"/>
                      <a:pt x="198" y="224"/>
                    </a:cubicBezTo>
                    <a:cubicBezTo>
                      <a:pt x="216" y="222"/>
                      <a:pt x="216" y="222"/>
                      <a:pt x="216" y="222"/>
                    </a:cubicBezTo>
                    <a:cubicBezTo>
                      <a:pt x="234" y="219"/>
                      <a:pt x="234" y="219"/>
                      <a:pt x="234" y="219"/>
                    </a:cubicBezTo>
                    <a:cubicBezTo>
                      <a:pt x="252" y="217"/>
                      <a:pt x="252" y="217"/>
                      <a:pt x="252" y="217"/>
                    </a:cubicBezTo>
                    <a:cubicBezTo>
                      <a:pt x="270" y="214"/>
                      <a:pt x="270" y="214"/>
                      <a:pt x="270" y="214"/>
                    </a:cubicBezTo>
                    <a:cubicBezTo>
                      <a:pt x="288" y="211"/>
                      <a:pt x="288" y="211"/>
                      <a:pt x="288" y="211"/>
                    </a:cubicBezTo>
                    <a:cubicBezTo>
                      <a:pt x="306" y="208"/>
                      <a:pt x="306" y="208"/>
                      <a:pt x="306" y="208"/>
                    </a:cubicBezTo>
                    <a:cubicBezTo>
                      <a:pt x="324" y="204"/>
                      <a:pt x="324" y="204"/>
                      <a:pt x="324" y="204"/>
                    </a:cubicBezTo>
                    <a:cubicBezTo>
                      <a:pt x="342" y="201"/>
                      <a:pt x="342" y="201"/>
                      <a:pt x="342" y="201"/>
                    </a:cubicBezTo>
                    <a:cubicBezTo>
                      <a:pt x="360" y="197"/>
                      <a:pt x="360" y="197"/>
                      <a:pt x="360" y="197"/>
                    </a:cubicBezTo>
                    <a:cubicBezTo>
                      <a:pt x="378" y="194"/>
                      <a:pt x="378" y="194"/>
                      <a:pt x="378" y="194"/>
                    </a:cubicBezTo>
                    <a:cubicBezTo>
                      <a:pt x="396" y="190"/>
                      <a:pt x="396" y="190"/>
                      <a:pt x="396" y="190"/>
                    </a:cubicBezTo>
                    <a:cubicBezTo>
                      <a:pt x="414" y="186"/>
                      <a:pt x="414" y="186"/>
                      <a:pt x="414" y="186"/>
                    </a:cubicBezTo>
                    <a:cubicBezTo>
                      <a:pt x="432" y="182"/>
                      <a:pt x="432" y="182"/>
                      <a:pt x="432" y="182"/>
                    </a:cubicBezTo>
                    <a:cubicBezTo>
                      <a:pt x="450" y="178"/>
                      <a:pt x="450" y="178"/>
                      <a:pt x="450" y="178"/>
                    </a:cubicBezTo>
                    <a:cubicBezTo>
                      <a:pt x="468" y="174"/>
                      <a:pt x="468" y="174"/>
                      <a:pt x="468" y="174"/>
                    </a:cubicBezTo>
                    <a:cubicBezTo>
                      <a:pt x="486" y="170"/>
                      <a:pt x="486" y="170"/>
                      <a:pt x="486" y="170"/>
                    </a:cubicBezTo>
                    <a:cubicBezTo>
                      <a:pt x="504" y="165"/>
                      <a:pt x="504" y="165"/>
                      <a:pt x="504" y="165"/>
                    </a:cubicBezTo>
                    <a:cubicBezTo>
                      <a:pt x="522" y="161"/>
                      <a:pt x="522" y="161"/>
                      <a:pt x="522" y="161"/>
                    </a:cubicBezTo>
                    <a:cubicBezTo>
                      <a:pt x="540" y="157"/>
                      <a:pt x="540" y="157"/>
                      <a:pt x="540" y="157"/>
                    </a:cubicBezTo>
                    <a:cubicBezTo>
                      <a:pt x="558" y="153"/>
                      <a:pt x="558" y="153"/>
                      <a:pt x="558" y="153"/>
                    </a:cubicBezTo>
                    <a:cubicBezTo>
                      <a:pt x="576" y="148"/>
                      <a:pt x="576" y="148"/>
                      <a:pt x="576" y="148"/>
                    </a:cubicBezTo>
                    <a:cubicBezTo>
                      <a:pt x="594" y="144"/>
                      <a:pt x="594" y="144"/>
                      <a:pt x="594" y="144"/>
                    </a:cubicBezTo>
                    <a:cubicBezTo>
                      <a:pt x="612" y="140"/>
                      <a:pt x="612" y="140"/>
                      <a:pt x="612" y="140"/>
                    </a:cubicBezTo>
                    <a:cubicBezTo>
                      <a:pt x="630" y="135"/>
                      <a:pt x="630" y="135"/>
                      <a:pt x="630" y="135"/>
                    </a:cubicBezTo>
                    <a:cubicBezTo>
                      <a:pt x="648" y="131"/>
                      <a:pt x="648" y="131"/>
                      <a:pt x="648" y="131"/>
                    </a:cubicBezTo>
                    <a:cubicBezTo>
                      <a:pt x="666" y="126"/>
                      <a:pt x="666" y="126"/>
                      <a:pt x="666" y="126"/>
                    </a:cubicBezTo>
                    <a:cubicBezTo>
                      <a:pt x="684" y="122"/>
                      <a:pt x="684" y="122"/>
                      <a:pt x="684" y="122"/>
                    </a:cubicBezTo>
                    <a:cubicBezTo>
                      <a:pt x="702" y="118"/>
                      <a:pt x="702" y="118"/>
                      <a:pt x="702" y="118"/>
                    </a:cubicBezTo>
                    <a:cubicBezTo>
                      <a:pt x="720" y="114"/>
                      <a:pt x="720" y="114"/>
                      <a:pt x="720" y="114"/>
                    </a:cubicBezTo>
                    <a:cubicBezTo>
                      <a:pt x="738" y="110"/>
                      <a:pt x="738" y="110"/>
                      <a:pt x="738" y="110"/>
                    </a:cubicBezTo>
                    <a:cubicBezTo>
                      <a:pt x="756" y="105"/>
                      <a:pt x="756" y="105"/>
                      <a:pt x="756" y="105"/>
                    </a:cubicBezTo>
                    <a:cubicBezTo>
                      <a:pt x="774" y="101"/>
                      <a:pt x="774" y="101"/>
                      <a:pt x="774" y="101"/>
                    </a:cubicBezTo>
                    <a:cubicBezTo>
                      <a:pt x="792" y="97"/>
                      <a:pt x="792" y="97"/>
                      <a:pt x="792" y="97"/>
                    </a:cubicBezTo>
                    <a:cubicBezTo>
                      <a:pt x="810" y="93"/>
                      <a:pt x="810" y="93"/>
                      <a:pt x="810" y="93"/>
                    </a:cubicBezTo>
                    <a:cubicBezTo>
                      <a:pt x="828" y="90"/>
                      <a:pt x="828" y="90"/>
                      <a:pt x="828" y="90"/>
                    </a:cubicBezTo>
                    <a:cubicBezTo>
                      <a:pt x="846" y="86"/>
                      <a:pt x="846" y="86"/>
                      <a:pt x="846" y="86"/>
                    </a:cubicBezTo>
                    <a:cubicBezTo>
                      <a:pt x="864" y="82"/>
                      <a:pt x="864" y="82"/>
                      <a:pt x="864" y="82"/>
                    </a:cubicBezTo>
                    <a:cubicBezTo>
                      <a:pt x="882" y="78"/>
                      <a:pt x="882" y="78"/>
                      <a:pt x="882" y="78"/>
                    </a:cubicBezTo>
                    <a:cubicBezTo>
                      <a:pt x="900" y="75"/>
                      <a:pt x="900" y="75"/>
                      <a:pt x="900" y="75"/>
                    </a:cubicBezTo>
                    <a:cubicBezTo>
                      <a:pt x="918" y="71"/>
                      <a:pt x="918" y="71"/>
                      <a:pt x="918" y="71"/>
                    </a:cubicBezTo>
                    <a:cubicBezTo>
                      <a:pt x="936" y="68"/>
                      <a:pt x="936" y="68"/>
                      <a:pt x="936" y="68"/>
                    </a:cubicBezTo>
                    <a:cubicBezTo>
                      <a:pt x="954" y="65"/>
                      <a:pt x="954" y="65"/>
                      <a:pt x="954" y="65"/>
                    </a:cubicBezTo>
                    <a:cubicBezTo>
                      <a:pt x="972" y="62"/>
                      <a:pt x="972" y="62"/>
                      <a:pt x="972" y="62"/>
                    </a:cubicBezTo>
                    <a:cubicBezTo>
                      <a:pt x="990" y="58"/>
                      <a:pt x="990" y="58"/>
                      <a:pt x="990" y="58"/>
                    </a:cubicBezTo>
                    <a:cubicBezTo>
                      <a:pt x="1008" y="55"/>
                      <a:pt x="1008" y="55"/>
                      <a:pt x="1008" y="55"/>
                    </a:cubicBezTo>
                    <a:cubicBezTo>
                      <a:pt x="1026" y="53"/>
                      <a:pt x="1026" y="53"/>
                      <a:pt x="1026" y="53"/>
                    </a:cubicBezTo>
                    <a:cubicBezTo>
                      <a:pt x="1044" y="50"/>
                      <a:pt x="1044" y="50"/>
                      <a:pt x="1044" y="50"/>
                    </a:cubicBezTo>
                    <a:cubicBezTo>
                      <a:pt x="1062" y="47"/>
                      <a:pt x="1062" y="47"/>
                      <a:pt x="1062" y="47"/>
                    </a:cubicBezTo>
                    <a:cubicBezTo>
                      <a:pt x="1080" y="44"/>
                      <a:pt x="1080" y="44"/>
                      <a:pt x="1080" y="44"/>
                    </a:cubicBezTo>
                    <a:cubicBezTo>
                      <a:pt x="1098" y="42"/>
                      <a:pt x="1098" y="42"/>
                      <a:pt x="1098" y="42"/>
                    </a:cubicBezTo>
                    <a:cubicBezTo>
                      <a:pt x="1116" y="40"/>
                      <a:pt x="1116" y="40"/>
                      <a:pt x="1116" y="40"/>
                    </a:cubicBezTo>
                    <a:cubicBezTo>
                      <a:pt x="1134" y="37"/>
                      <a:pt x="1134" y="37"/>
                      <a:pt x="1134" y="37"/>
                    </a:cubicBezTo>
                    <a:cubicBezTo>
                      <a:pt x="1152" y="35"/>
                      <a:pt x="1152" y="35"/>
                      <a:pt x="1152" y="35"/>
                    </a:cubicBezTo>
                    <a:cubicBezTo>
                      <a:pt x="1170" y="33"/>
                      <a:pt x="1170" y="33"/>
                      <a:pt x="1170" y="33"/>
                    </a:cubicBezTo>
                    <a:cubicBezTo>
                      <a:pt x="1188" y="31"/>
                      <a:pt x="1188" y="31"/>
                      <a:pt x="1188" y="31"/>
                    </a:cubicBezTo>
                    <a:cubicBezTo>
                      <a:pt x="1206" y="29"/>
                      <a:pt x="1206" y="29"/>
                      <a:pt x="1206" y="29"/>
                    </a:cubicBezTo>
                    <a:cubicBezTo>
                      <a:pt x="1224" y="27"/>
                      <a:pt x="1224" y="27"/>
                      <a:pt x="1224" y="27"/>
                    </a:cubicBezTo>
                    <a:cubicBezTo>
                      <a:pt x="1242" y="25"/>
                      <a:pt x="1242" y="25"/>
                      <a:pt x="1242" y="25"/>
                    </a:cubicBezTo>
                    <a:cubicBezTo>
                      <a:pt x="1260" y="23"/>
                      <a:pt x="1260" y="23"/>
                      <a:pt x="1260" y="23"/>
                    </a:cubicBezTo>
                    <a:cubicBezTo>
                      <a:pt x="1278" y="22"/>
                      <a:pt x="1278" y="22"/>
                      <a:pt x="1278" y="22"/>
                    </a:cubicBezTo>
                    <a:cubicBezTo>
                      <a:pt x="1296" y="20"/>
                      <a:pt x="1296" y="20"/>
                      <a:pt x="1296" y="20"/>
                    </a:cubicBezTo>
                    <a:cubicBezTo>
                      <a:pt x="1314" y="19"/>
                      <a:pt x="1314" y="19"/>
                      <a:pt x="1314" y="19"/>
                    </a:cubicBezTo>
                    <a:cubicBezTo>
                      <a:pt x="1332" y="17"/>
                      <a:pt x="1332" y="17"/>
                      <a:pt x="1332" y="17"/>
                    </a:cubicBezTo>
                    <a:cubicBezTo>
                      <a:pt x="1350" y="16"/>
                      <a:pt x="1350" y="16"/>
                      <a:pt x="1350" y="16"/>
                    </a:cubicBezTo>
                    <a:cubicBezTo>
                      <a:pt x="1368" y="15"/>
                      <a:pt x="1368" y="15"/>
                      <a:pt x="1368" y="15"/>
                    </a:cubicBezTo>
                    <a:cubicBezTo>
                      <a:pt x="1386" y="14"/>
                      <a:pt x="1386" y="14"/>
                      <a:pt x="1386" y="14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22" y="11"/>
                      <a:pt x="1422" y="11"/>
                      <a:pt x="1422" y="11"/>
                    </a:cubicBezTo>
                    <a:cubicBezTo>
                      <a:pt x="1440" y="10"/>
                      <a:pt x="1440" y="10"/>
                      <a:pt x="1440" y="10"/>
                    </a:cubicBezTo>
                    <a:cubicBezTo>
                      <a:pt x="1458" y="10"/>
                      <a:pt x="1458" y="10"/>
                      <a:pt x="1458" y="10"/>
                    </a:cubicBezTo>
                    <a:cubicBezTo>
                      <a:pt x="1476" y="9"/>
                      <a:pt x="1476" y="9"/>
                      <a:pt x="1476" y="9"/>
                    </a:cubicBezTo>
                    <a:cubicBezTo>
                      <a:pt x="1494" y="8"/>
                      <a:pt x="1494" y="8"/>
                      <a:pt x="1494" y="8"/>
                    </a:cubicBezTo>
                    <a:cubicBezTo>
                      <a:pt x="1512" y="7"/>
                      <a:pt x="1512" y="7"/>
                      <a:pt x="1512" y="7"/>
                    </a:cubicBezTo>
                    <a:cubicBezTo>
                      <a:pt x="1530" y="6"/>
                      <a:pt x="1530" y="6"/>
                      <a:pt x="1530" y="6"/>
                    </a:cubicBezTo>
                    <a:cubicBezTo>
                      <a:pt x="1548" y="6"/>
                      <a:pt x="1548" y="6"/>
                      <a:pt x="1548" y="6"/>
                    </a:cubicBezTo>
                    <a:cubicBezTo>
                      <a:pt x="1566" y="5"/>
                      <a:pt x="1566" y="5"/>
                      <a:pt x="1566" y="5"/>
                    </a:cubicBezTo>
                    <a:cubicBezTo>
                      <a:pt x="1584" y="4"/>
                      <a:pt x="1584" y="4"/>
                      <a:pt x="1584" y="4"/>
                    </a:cubicBezTo>
                    <a:cubicBezTo>
                      <a:pt x="1602" y="4"/>
                      <a:pt x="1602" y="4"/>
                      <a:pt x="1602" y="4"/>
                    </a:cubicBezTo>
                    <a:cubicBezTo>
                      <a:pt x="1620" y="3"/>
                      <a:pt x="1620" y="3"/>
                      <a:pt x="1620" y="3"/>
                    </a:cubicBezTo>
                    <a:cubicBezTo>
                      <a:pt x="1638" y="3"/>
                      <a:pt x="1638" y="3"/>
                      <a:pt x="1638" y="3"/>
                    </a:cubicBezTo>
                    <a:cubicBezTo>
                      <a:pt x="1656" y="2"/>
                      <a:pt x="1656" y="2"/>
                      <a:pt x="1656" y="2"/>
                    </a:cubicBezTo>
                    <a:cubicBezTo>
                      <a:pt x="1674" y="2"/>
                      <a:pt x="1674" y="2"/>
                      <a:pt x="1674" y="2"/>
                    </a:cubicBezTo>
                    <a:cubicBezTo>
                      <a:pt x="1692" y="1"/>
                      <a:pt x="1692" y="1"/>
                      <a:pt x="1692" y="1"/>
                    </a:cubicBezTo>
                    <a:cubicBezTo>
                      <a:pt x="1710" y="1"/>
                      <a:pt x="1710" y="1"/>
                      <a:pt x="1710" y="1"/>
                    </a:cubicBezTo>
                    <a:cubicBezTo>
                      <a:pt x="1728" y="1"/>
                      <a:pt x="1728" y="1"/>
                      <a:pt x="1728" y="1"/>
                    </a:cubicBezTo>
                    <a:cubicBezTo>
                      <a:pt x="1746" y="0"/>
                      <a:pt x="1746" y="0"/>
                      <a:pt x="1746" y="0"/>
                    </a:cubicBezTo>
                    <a:cubicBezTo>
                      <a:pt x="1764" y="0"/>
                      <a:pt x="1764" y="0"/>
                      <a:pt x="1764" y="0"/>
                    </a:cubicBezTo>
                    <a:cubicBezTo>
                      <a:pt x="1782" y="0"/>
                      <a:pt x="1782" y="0"/>
                      <a:pt x="1782" y="0"/>
                    </a:cubicBezTo>
                    <a:cubicBezTo>
                      <a:pt x="1800" y="0"/>
                      <a:pt x="1800" y="0"/>
                      <a:pt x="1800" y="0"/>
                    </a:cubicBezTo>
                  </a:path>
                </a:pathLst>
              </a:custGeom>
              <a:noFill/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609560" y="5560200"/>
                <a:ext cx="6596280" cy="0"/>
              </a:xfrm>
              <a:prstGeom prst="line">
                <a:avLst/>
              </a:prstGeom>
              <a:ln w="255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 flipV="1">
                <a:off x="2020680" y="4095720"/>
                <a:ext cx="2816640" cy="1375920"/>
              </a:xfrm>
              <a:custGeom>
                <a:avLst/>
                <a:gdLst/>
                <a:ahLst/>
                <a:rect l="l" t="t" r="r" b="b"/>
                <a:pathLst>
                  <a:path w="1800" h="237">
                    <a:moveTo>
                      <a:pt x="0" y="237"/>
                    </a:moveTo>
                    <a:cubicBezTo>
                      <a:pt x="18" y="237"/>
                      <a:pt x="18" y="237"/>
                      <a:pt x="18" y="237"/>
                    </a:cubicBezTo>
                    <a:cubicBezTo>
                      <a:pt x="36" y="236"/>
                      <a:pt x="36" y="236"/>
                      <a:pt x="36" y="236"/>
                    </a:cubicBezTo>
                    <a:cubicBezTo>
                      <a:pt x="54" y="236"/>
                      <a:pt x="54" y="236"/>
                      <a:pt x="54" y="236"/>
                    </a:cubicBezTo>
                    <a:cubicBezTo>
                      <a:pt x="72" y="235"/>
                      <a:pt x="72" y="235"/>
                      <a:pt x="72" y="235"/>
                    </a:cubicBezTo>
                    <a:cubicBezTo>
                      <a:pt x="90" y="234"/>
                      <a:pt x="90" y="234"/>
                      <a:pt x="90" y="234"/>
                    </a:cubicBezTo>
                    <a:cubicBezTo>
                      <a:pt x="108" y="233"/>
                      <a:pt x="108" y="233"/>
                      <a:pt x="108" y="233"/>
                    </a:cubicBezTo>
                    <a:cubicBezTo>
                      <a:pt x="126" y="232"/>
                      <a:pt x="126" y="232"/>
                      <a:pt x="126" y="232"/>
                    </a:cubicBezTo>
                    <a:cubicBezTo>
                      <a:pt x="144" y="230"/>
                      <a:pt x="144" y="230"/>
                      <a:pt x="144" y="230"/>
                    </a:cubicBezTo>
                    <a:cubicBezTo>
                      <a:pt x="162" y="228"/>
                      <a:pt x="162" y="228"/>
                      <a:pt x="162" y="228"/>
                    </a:cubicBezTo>
                    <a:cubicBezTo>
                      <a:pt x="180" y="226"/>
                      <a:pt x="180" y="226"/>
                      <a:pt x="180" y="226"/>
                    </a:cubicBezTo>
                    <a:cubicBezTo>
                      <a:pt x="198" y="224"/>
                      <a:pt x="198" y="224"/>
                      <a:pt x="198" y="224"/>
                    </a:cubicBezTo>
                    <a:cubicBezTo>
                      <a:pt x="216" y="222"/>
                      <a:pt x="216" y="222"/>
                      <a:pt x="216" y="222"/>
                    </a:cubicBezTo>
                    <a:cubicBezTo>
                      <a:pt x="234" y="219"/>
                      <a:pt x="234" y="219"/>
                      <a:pt x="234" y="219"/>
                    </a:cubicBezTo>
                    <a:cubicBezTo>
                      <a:pt x="252" y="217"/>
                      <a:pt x="252" y="217"/>
                      <a:pt x="252" y="217"/>
                    </a:cubicBezTo>
                    <a:cubicBezTo>
                      <a:pt x="270" y="214"/>
                      <a:pt x="270" y="214"/>
                      <a:pt x="270" y="214"/>
                    </a:cubicBezTo>
                    <a:cubicBezTo>
                      <a:pt x="288" y="211"/>
                      <a:pt x="288" y="211"/>
                      <a:pt x="288" y="211"/>
                    </a:cubicBezTo>
                    <a:cubicBezTo>
                      <a:pt x="306" y="208"/>
                      <a:pt x="306" y="208"/>
                      <a:pt x="306" y="208"/>
                    </a:cubicBezTo>
                    <a:cubicBezTo>
                      <a:pt x="324" y="204"/>
                      <a:pt x="324" y="204"/>
                      <a:pt x="324" y="204"/>
                    </a:cubicBezTo>
                    <a:cubicBezTo>
                      <a:pt x="342" y="201"/>
                      <a:pt x="342" y="201"/>
                      <a:pt x="342" y="201"/>
                    </a:cubicBezTo>
                    <a:cubicBezTo>
                      <a:pt x="360" y="197"/>
                      <a:pt x="360" y="197"/>
                      <a:pt x="360" y="197"/>
                    </a:cubicBezTo>
                    <a:cubicBezTo>
                      <a:pt x="378" y="194"/>
                      <a:pt x="378" y="194"/>
                      <a:pt x="378" y="194"/>
                    </a:cubicBezTo>
                    <a:cubicBezTo>
                      <a:pt x="396" y="190"/>
                      <a:pt x="396" y="190"/>
                      <a:pt x="396" y="190"/>
                    </a:cubicBezTo>
                    <a:cubicBezTo>
                      <a:pt x="414" y="186"/>
                      <a:pt x="414" y="186"/>
                      <a:pt x="414" y="186"/>
                    </a:cubicBezTo>
                    <a:cubicBezTo>
                      <a:pt x="432" y="182"/>
                      <a:pt x="432" y="182"/>
                      <a:pt x="432" y="182"/>
                    </a:cubicBezTo>
                    <a:cubicBezTo>
                      <a:pt x="450" y="178"/>
                      <a:pt x="450" y="178"/>
                      <a:pt x="450" y="178"/>
                    </a:cubicBezTo>
                    <a:cubicBezTo>
                      <a:pt x="468" y="174"/>
                      <a:pt x="468" y="174"/>
                      <a:pt x="468" y="174"/>
                    </a:cubicBezTo>
                    <a:cubicBezTo>
                      <a:pt x="486" y="170"/>
                      <a:pt x="486" y="170"/>
                      <a:pt x="486" y="170"/>
                    </a:cubicBezTo>
                    <a:cubicBezTo>
                      <a:pt x="504" y="165"/>
                      <a:pt x="504" y="165"/>
                      <a:pt x="504" y="165"/>
                    </a:cubicBezTo>
                    <a:cubicBezTo>
                      <a:pt x="522" y="161"/>
                      <a:pt x="522" y="161"/>
                      <a:pt x="522" y="161"/>
                    </a:cubicBezTo>
                    <a:cubicBezTo>
                      <a:pt x="540" y="157"/>
                      <a:pt x="540" y="157"/>
                      <a:pt x="540" y="157"/>
                    </a:cubicBezTo>
                    <a:cubicBezTo>
                      <a:pt x="558" y="153"/>
                      <a:pt x="558" y="153"/>
                      <a:pt x="558" y="153"/>
                    </a:cubicBezTo>
                    <a:cubicBezTo>
                      <a:pt x="576" y="148"/>
                      <a:pt x="576" y="148"/>
                      <a:pt x="576" y="148"/>
                    </a:cubicBezTo>
                    <a:cubicBezTo>
                      <a:pt x="594" y="144"/>
                      <a:pt x="594" y="144"/>
                      <a:pt x="594" y="144"/>
                    </a:cubicBezTo>
                    <a:cubicBezTo>
                      <a:pt x="612" y="140"/>
                      <a:pt x="612" y="140"/>
                      <a:pt x="612" y="140"/>
                    </a:cubicBezTo>
                    <a:cubicBezTo>
                      <a:pt x="630" y="135"/>
                      <a:pt x="630" y="135"/>
                      <a:pt x="630" y="135"/>
                    </a:cubicBezTo>
                    <a:cubicBezTo>
                      <a:pt x="648" y="131"/>
                      <a:pt x="648" y="131"/>
                      <a:pt x="648" y="131"/>
                    </a:cubicBezTo>
                    <a:cubicBezTo>
                      <a:pt x="666" y="126"/>
                      <a:pt x="666" y="126"/>
                      <a:pt x="666" y="126"/>
                    </a:cubicBezTo>
                    <a:cubicBezTo>
                      <a:pt x="684" y="122"/>
                      <a:pt x="684" y="122"/>
                      <a:pt x="684" y="122"/>
                    </a:cubicBezTo>
                    <a:cubicBezTo>
                      <a:pt x="702" y="118"/>
                      <a:pt x="702" y="118"/>
                      <a:pt x="702" y="118"/>
                    </a:cubicBezTo>
                    <a:cubicBezTo>
                      <a:pt x="720" y="114"/>
                      <a:pt x="720" y="114"/>
                      <a:pt x="720" y="114"/>
                    </a:cubicBezTo>
                    <a:cubicBezTo>
                      <a:pt x="738" y="110"/>
                      <a:pt x="738" y="110"/>
                      <a:pt x="738" y="110"/>
                    </a:cubicBezTo>
                    <a:cubicBezTo>
                      <a:pt x="756" y="105"/>
                      <a:pt x="756" y="105"/>
                      <a:pt x="756" y="105"/>
                    </a:cubicBezTo>
                    <a:cubicBezTo>
                      <a:pt x="774" y="101"/>
                      <a:pt x="774" y="101"/>
                      <a:pt x="774" y="101"/>
                    </a:cubicBezTo>
                    <a:cubicBezTo>
                      <a:pt x="792" y="97"/>
                      <a:pt x="792" y="97"/>
                      <a:pt x="792" y="97"/>
                    </a:cubicBezTo>
                    <a:cubicBezTo>
                      <a:pt x="810" y="93"/>
                      <a:pt x="810" y="93"/>
                      <a:pt x="810" y="93"/>
                    </a:cubicBezTo>
                    <a:cubicBezTo>
                      <a:pt x="828" y="90"/>
                      <a:pt x="828" y="90"/>
                      <a:pt x="828" y="90"/>
                    </a:cubicBezTo>
                    <a:cubicBezTo>
                      <a:pt x="846" y="86"/>
                      <a:pt x="846" y="86"/>
                      <a:pt x="846" y="86"/>
                    </a:cubicBezTo>
                    <a:cubicBezTo>
                      <a:pt x="864" y="82"/>
                      <a:pt x="864" y="82"/>
                      <a:pt x="864" y="82"/>
                    </a:cubicBezTo>
                    <a:cubicBezTo>
                      <a:pt x="882" y="78"/>
                      <a:pt x="882" y="78"/>
                      <a:pt x="882" y="78"/>
                    </a:cubicBezTo>
                    <a:cubicBezTo>
                      <a:pt x="900" y="75"/>
                      <a:pt x="900" y="75"/>
                      <a:pt x="900" y="75"/>
                    </a:cubicBezTo>
                    <a:cubicBezTo>
                      <a:pt x="918" y="71"/>
                      <a:pt x="918" y="71"/>
                      <a:pt x="918" y="71"/>
                    </a:cubicBezTo>
                    <a:cubicBezTo>
                      <a:pt x="936" y="68"/>
                      <a:pt x="936" y="68"/>
                      <a:pt x="936" y="68"/>
                    </a:cubicBezTo>
                    <a:cubicBezTo>
                      <a:pt x="954" y="65"/>
                      <a:pt x="954" y="65"/>
                      <a:pt x="954" y="65"/>
                    </a:cubicBezTo>
                    <a:cubicBezTo>
                      <a:pt x="972" y="62"/>
                      <a:pt x="972" y="62"/>
                      <a:pt x="972" y="62"/>
                    </a:cubicBezTo>
                    <a:cubicBezTo>
                      <a:pt x="990" y="58"/>
                      <a:pt x="990" y="58"/>
                      <a:pt x="990" y="58"/>
                    </a:cubicBezTo>
                    <a:cubicBezTo>
                      <a:pt x="1008" y="55"/>
                      <a:pt x="1008" y="55"/>
                      <a:pt x="1008" y="55"/>
                    </a:cubicBezTo>
                    <a:cubicBezTo>
                      <a:pt x="1026" y="53"/>
                      <a:pt x="1026" y="53"/>
                      <a:pt x="1026" y="53"/>
                    </a:cubicBezTo>
                    <a:cubicBezTo>
                      <a:pt x="1044" y="50"/>
                      <a:pt x="1044" y="50"/>
                      <a:pt x="1044" y="50"/>
                    </a:cubicBezTo>
                    <a:cubicBezTo>
                      <a:pt x="1062" y="47"/>
                      <a:pt x="1062" y="47"/>
                      <a:pt x="1062" y="47"/>
                    </a:cubicBezTo>
                    <a:cubicBezTo>
                      <a:pt x="1080" y="44"/>
                      <a:pt x="1080" y="44"/>
                      <a:pt x="1080" y="44"/>
                    </a:cubicBezTo>
                    <a:cubicBezTo>
                      <a:pt x="1098" y="42"/>
                      <a:pt x="1098" y="42"/>
                      <a:pt x="1098" y="42"/>
                    </a:cubicBezTo>
                    <a:cubicBezTo>
                      <a:pt x="1116" y="40"/>
                      <a:pt x="1116" y="40"/>
                      <a:pt x="1116" y="40"/>
                    </a:cubicBezTo>
                    <a:cubicBezTo>
                      <a:pt x="1134" y="37"/>
                      <a:pt x="1134" y="37"/>
                      <a:pt x="1134" y="37"/>
                    </a:cubicBezTo>
                    <a:cubicBezTo>
                      <a:pt x="1152" y="35"/>
                      <a:pt x="1152" y="35"/>
                      <a:pt x="1152" y="35"/>
                    </a:cubicBezTo>
                    <a:cubicBezTo>
                      <a:pt x="1170" y="33"/>
                      <a:pt x="1170" y="33"/>
                      <a:pt x="1170" y="33"/>
                    </a:cubicBezTo>
                    <a:cubicBezTo>
                      <a:pt x="1188" y="31"/>
                      <a:pt x="1188" y="31"/>
                      <a:pt x="1188" y="31"/>
                    </a:cubicBezTo>
                    <a:cubicBezTo>
                      <a:pt x="1206" y="29"/>
                      <a:pt x="1206" y="29"/>
                      <a:pt x="1206" y="29"/>
                    </a:cubicBezTo>
                    <a:cubicBezTo>
                      <a:pt x="1224" y="27"/>
                      <a:pt x="1224" y="27"/>
                      <a:pt x="1224" y="27"/>
                    </a:cubicBezTo>
                    <a:cubicBezTo>
                      <a:pt x="1242" y="25"/>
                      <a:pt x="1242" y="25"/>
                      <a:pt x="1242" y="25"/>
                    </a:cubicBezTo>
                    <a:cubicBezTo>
                      <a:pt x="1260" y="23"/>
                      <a:pt x="1260" y="23"/>
                      <a:pt x="1260" y="23"/>
                    </a:cubicBezTo>
                    <a:cubicBezTo>
                      <a:pt x="1278" y="22"/>
                      <a:pt x="1278" y="22"/>
                      <a:pt x="1278" y="22"/>
                    </a:cubicBezTo>
                    <a:cubicBezTo>
                      <a:pt x="1296" y="20"/>
                      <a:pt x="1296" y="20"/>
                      <a:pt x="1296" y="20"/>
                    </a:cubicBezTo>
                    <a:cubicBezTo>
                      <a:pt x="1314" y="19"/>
                      <a:pt x="1314" y="19"/>
                      <a:pt x="1314" y="19"/>
                    </a:cubicBezTo>
                    <a:cubicBezTo>
                      <a:pt x="1332" y="17"/>
                      <a:pt x="1332" y="17"/>
                      <a:pt x="1332" y="17"/>
                    </a:cubicBezTo>
                    <a:cubicBezTo>
                      <a:pt x="1350" y="16"/>
                      <a:pt x="1350" y="16"/>
                      <a:pt x="1350" y="16"/>
                    </a:cubicBezTo>
                    <a:cubicBezTo>
                      <a:pt x="1368" y="15"/>
                      <a:pt x="1368" y="15"/>
                      <a:pt x="1368" y="15"/>
                    </a:cubicBezTo>
                    <a:cubicBezTo>
                      <a:pt x="1386" y="14"/>
                      <a:pt x="1386" y="14"/>
                      <a:pt x="1386" y="14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22" y="11"/>
                      <a:pt x="1422" y="11"/>
                      <a:pt x="1422" y="11"/>
                    </a:cubicBezTo>
                    <a:cubicBezTo>
                      <a:pt x="1440" y="10"/>
                      <a:pt x="1440" y="10"/>
                      <a:pt x="1440" y="10"/>
                    </a:cubicBezTo>
                    <a:cubicBezTo>
                      <a:pt x="1458" y="10"/>
                      <a:pt x="1458" y="10"/>
                      <a:pt x="1458" y="10"/>
                    </a:cubicBezTo>
                    <a:cubicBezTo>
                      <a:pt x="1476" y="9"/>
                      <a:pt x="1476" y="9"/>
                      <a:pt x="1476" y="9"/>
                    </a:cubicBezTo>
                    <a:cubicBezTo>
                      <a:pt x="1494" y="8"/>
                      <a:pt x="1494" y="8"/>
                      <a:pt x="1494" y="8"/>
                    </a:cubicBezTo>
                    <a:cubicBezTo>
                      <a:pt x="1512" y="7"/>
                      <a:pt x="1512" y="7"/>
                      <a:pt x="1512" y="7"/>
                    </a:cubicBezTo>
                    <a:cubicBezTo>
                      <a:pt x="1530" y="6"/>
                      <a:pt x="1530" y="6"/>
                      <a:pt x="1530" y="6"/>
                    </a:cubicBezTo>
                    <a:cubicBezTo>
                      <a:pt x="1548" y="6"/>
                      <a:pt x="1548" y="6"/>
                      <a:pt x="1548" y="6"/>
                    </a:cubicBezTo>
                    <a:cubicBezTo>
                      <a:pt x="1566" y="5"/>
                      <a:pt x="1566" y="5"/>
                      <a:pt x="1566" y="5"/>
                    </a:cubicBezTo>
                    <a:cubicBezTo>
                      <a:pt x="1584" y="4"/>
                      <a:pt x="1584" y="4"/>
                      <a:pt x="1584" y="4"/>
                    </a:cubicBezTo>
                    <a:cubicBezTo>
                      <a:pt x="1602" y="4"/>
                      <a:pt x="1602" y="4"/>
                      <a:pt x="1602" y="4"/>
                    </a:cubicBezTo>
                    <a:cubicBezTo>
                      <a:pt x="1620" y="3"/>
                      <a:pt x="1620" y="3"/>
                      <a:pt x="1620" y="3"/>
                    </a:cubicBezTo>
                    <a:cubicBezTo>
                      <a:pt x="1638" y="3"/>
                      <a:pt x="1638" y="3"/>
                      <a:pt x="1638" y="3"/>
                    </a:cubicBezTo>
                    <a:cubicBezTo>
                      <a:pt x="1656" y="2"/>
                      <a:pt x="1656" y="2"/>
                      <a:pt x="1656" y="2"/>
                    </a:cubicBezTo>
                    <a:cubicBezTo>
                      <a:pt x="1674" y="2"/>
                      <a:pt x="1674" y="2"/>
                      <a:pt x="1674" y="2"/>
                    </a:cubicBezTo>
                    <a:cubicBezTo>
                      <a:pt x="1692" y="1"/>
                      <a:pt x="1692" y="1"/>
                      <a:pt x="1692" y="1"/>
                    </a:cubicBezTo>
                    <a:cubicBezTo>
                      <a:pt x="1710" y="1"/>
                      <a:pt x="1710" y="1"/>
                      <a:pt x="1710" y="1"/>
                    </a:cubicBezTo>
                    <a:cubicBezTo>
                      <a:pt x="1728" y="1"/>
                      <a:pt x="1728" y="1"/>
                      <a:pt x="1728" y="1"/>
                    </a:cubicBezTo>
                    <a:cubicBezTo>
                      <a:pt x="1746" y="0"/>
                      <a:pt x="1746" y="0"/>
                      <a:pt x="1746" y="0"/>
                    </a:cubicBezTo>
                    <a:cubicBezTo>
                      <a:pt x="1764" y="0"/>
                      <a:pt x="1764" y="0"/>
                      <a:pt x="1764" y="0"/>
                    </a:cubicBezTo>
                    <a:cubicBezTo>
                      <a:pt x="1782" y="0"/>
                      <a:pt x="1782" y="0"/>
                      <a:pt x="1782" y="0"/>
                    </a:cubicBezTo>
                    <a:cubicBezTo>
                      <a:pt x="1800" y="0"/>
                      <a:pt x="1800" y="0"/>
                      <a:pt x="1800" y="0"/>
                    </a:cubicBezTo>
                  </a:path>
                </a:pathLst>
              </a:custGeom>
              <a:noFill/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757200" y="5316120"/>
                <a:ext cx="0" cy="2383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2908800" y="5324400"/>
                <a:ext cx="0" cy="2379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3374640" y="5080320"/>
                <a:ext cx="0" cy="476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331320" y="5096880"/>
                <a:ext cx="0" cy="476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054680" y="4523400"/>
                <a:ext cx="0" cy="10227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44440" y="4541040"/>
                <a:ext cx="0" cy="1023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2" name=""/>
            <p:cNvGrpSpPr/>
            <p:nvPr/>
          </p:nvGrpSpPr>
          <p:grpSpPr>
            <a:xfrm>
              <a:off x="2703240" y="5562720"/>
              <a:ext cx="4370400" cy="903960"/>
              <a:chOff x="2703240" y="5562720"/>
              <a:chExt cx="4370400" cy="903960"/>
            </a:xfrm>
          </p:grpSpPr>
          <p:sp>
            <p:nvSpPr>
              <p:cNvPr id="2403" name=""/>
              <p:cNvSpPr/>
              <p:nvPr/>
            </p:nvSpPr>
            <p:spPr>
              <a:xfrm flipH="1">
                <a:off x="2901600" y="5753520"/>
                <a:ext cx="14400" cy="713160"/>
              </a:xfrm>
              <a:prstGeom prst="line">
                <a:avLst/>
              </a:prstGeom>
              <a:ln w="255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>
                <a:off x="6753960" y="5750640"/>
                <a:ext cx="14400" cy="713520"/>
              </a:xfrm>
              <a:prstGeom prst="line">
                <a:avLst/>
              </a:prstGeom>
              <a:ln w="255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05" name=""/>
              <p:cNvGraphicFramePr/>
              <p:nvPr/>
            </p:nvGraphicFramePr>
            <p:xfrm>
              <a:off x="4586040" y="6235560"/>
              <a:ext cx="529560" cy="17568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406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4586040" y="6235560"/>
                        <a:ext cx="529560" cy="17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07" name=""/>
              <p:cNvGraphicFramePr/>
              <p:nvPr/>
            </p:nvGraphicFramePr>
            <p:xfrm>
              <a:off x="2703240" y="5568120"/>
              <a:ext cx="475560" cy="2016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2408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2703240" y="5568120"/>
                        <a:ext cx="475560" cy="20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09" name=""/>
              <p:cNvGraphicFramePr/>
              <p:nvPr/>
            </p:nvGraphicFramePr>
            <p:xfrm>
              <a:off x="3167640" y="5562720"/>
              <a:ext cx="488160" cy="2016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2410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3167640" y="5562720"/>
                        <a:ext cx="488160" cy="20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11" name=""/>
              <p:cNvGraphicFramePr/>
              <p:nvPr/>
            </p:nvGraphicFramePr>
            <p:xfrm>
              <a:off x="3848760" y="5630760"/>
              <a:ext cx="410040" cy="16308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2412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3848760" y="5630760"/>
                        <a:ext cx="41004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13" name=""/>
              <p:cNvGraphicFramePr/>
              <p:nvPr/>
            </p:nvGraphicFramePr>
            <p:xfrm>
              <a:off x="4571280" y="5783400"/>
              <a:ext cx="541440" cy="17568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414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4571280" y="5783400"/>
                        <a:ext cx="541440" cy="17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15" name=""/>
              <p:cNvGraphicFramePr/>
              <p:nvPr/>
            </p:nvGraphicFramePr>
            <p:xfrm>
              <a:off x="6115320" y="5572080"/>
              <a:ext cx="488160" cy="20160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2416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6115320" y="5572080"/>
                        <a:ext cx="488160" cy="20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17" name=""/>
              <p:cNvGraphicFramePr/>
              <p:nvPr/>
            </p:nvGraphicFramePr>
            <p:xfrm>
              <a:off x="6585480" y="5567040"/>
              <a:ext cx="488160" cy="20124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2418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6585480" y="5567040"/>
                        <a:ext cx="488160" cy="20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19" name=""/>
              <p:cNvGraphicFramePr/>
              <p:nvPr/>
            </p:nvGraphicFramePr>
            <p:xfrm>
              <a:off x="5438520" y="5613120"/>
              <a:ext cx="410040" cy="17532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2420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5438520" y="5613120"/>
                        <a:ext cx="410040" cy="17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21" name=""/>
              <p:cNvGraphicFramePr/>
              <p:nvPr/>
            </p:nvGraphicFramePr>
            <p:xfrm>
              <a:off x="4568760" y="5997240"/>
              <a:ext cx="528120" cy="17568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2422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4568760" y="5997240"/>
                        <a:ext cx="528120" cy="17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23" name=""/>
              <p:cNvSpPr/>
              <p:nvPr/>
            </p:nvSpPr>
            <p:spPr>
              <a:xfrm>
                <a:off x="4055760" y="5764320"/>
                <a:ext cx="0" cy="167400"/>
              </a:xfrm>
              <a:prstGeom prst="line">
                <a:avLst/>
              </a:prstGeom>
              <a:ln w="255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646960" y="5768280"/>
                <a:ext cx="0" cy="167400"/>
              </a:xfrm>
              <a:prstGeom prst="line">
                <a:avLst/>
              </a:prstGeom>
              <a:ln w="255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057200" y="5863680"/>
                <a:ext cx="40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236920" y="5871600"/>
                <a:ext cx="410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3378600" y="5771160"/>
                <a:ext cx="0" cy="417960"/>
              </a:xfrm>
              <a:prstGeom prst="line">
                <a:avLst/>
              </a:prstGeom>
              <a:ln w="255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325560" y="5771160"/>
                <a:ext cx="0" cy="419400"/>
              </a:xfrm>
              <a:prstGeom prst="line">
                <a:avLst/>
              </a:prstGeom>
              <a:ln w="255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3400200" y="6077520"/>
                <a:ext cx="11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H="1">
                <a:off x="5208480" y="6085800"/>
                <a:ext cx="11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2920320" y="6289920"/>
                <a:ext cx="156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>
                <a:off x="5185800" y="6284520"/>
                <a:ext cx="156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221F9-3D02-4760-83D0-A60E1D40DBAC}" type="slidenum">
              <a:t>77</a:t>
            </a:fld>
          </a:p>
        </p:txBody>
      </p:sp>
    </p:spTree>
  </p:cSld>
  <p:transition spd="med">
    <p:diamond/>
  </p:transition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20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1" dur="2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6" dur="20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10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/>
          </p:nvPr>
        </p:nvSpPr>
        <p:spPr>
          <a:xfrm>
            <a:off x="757080" y="324000"/>
            <a:ext cx="809784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例：一批钢材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线材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)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长度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(1)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若</a:t>
            </a:r>
            <a:r>
              <a:rPr b="0" lang="el-GR" sz="2400" spc="-1" strike="noStrike">
                <a:solidFill>
                  <a:srgbClr val="1e1169"/>
                </a:solidFill>
                <a:latin typeface="宋体"/>
                <a:ea typeface="宋体"/>
              </a:rPr>
              <a:t>μ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=100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，</a:t>
            </a:r>
            <a:r>
              <a:rPr b="0" lang="el-GR" sz="2400" spc="-1" strike="noStrike">
                <a:solidFill>
                  <a:srgbClr val="1e1169"/>
                </a:solidFill>
                <a:latin typeface="宋体"/>
                <a:ea typeface="宋体"/>
              </a:rPr>
              <a:t>σ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=2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，求这批钢材长度小于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97.8cm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的概率；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(2)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若</a:t>
            </a:r>
            <a:r>
              <a:rPr b="0" lang="el-GR" sz="2400" spc="-1" strike="noStrike">
                <a:solidFill>
                  <a:srgbClr val="1e1169"/>
                </a:solidFill>
                <a:latin typeface="宋体"/>
                <a:ea typeface="宋体"/>
              </a:rPr>
              <a:t>μ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=100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，要使这批钢材的长度至少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有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90%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落在区间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(97,103)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内，问</a:t>
            </a:r>
            <a:r>
              <a:rPr b="0" lang="el-GR" sz="2400" spc="-1" strike="noStrike">
                <a:solidFill>
                  <a:srgbClr val="1e1169"/>
                </a:solidFill>
                <a:latin typeface="宋体"/>
                <a:ea typeface="宋体"/>
              </a:rPr>
              <a:t>σ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至多取何值？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434" name=""/>
          <p:cNvGraphicFramePr/>
          <p:nvPr/>
        </p:nvGraphicFramePr>
        <p:xfrm>
          <a:off x="4653000" y="351000"/>
          <a:ext cx="2421000" cy="46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3000" y="351000"/>
                    <a:ext cx="242100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6" name=""/>
          <p:cNvGraphicFramePr/>
          <p:nvPr/>
        </p:nvGraphicFramePr>
        <p:xfrm>
          <a:off x="1316160" y="2370240"/>
          <a:ext cx="243684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16160" y="2370240"/>
                    <a:ext cx="24368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8" name=""/>
          <p:cNvGraphicFramePr/>
          <p:nvPr/>
        </p:nvGraphicFramePr>
        <p:xfrm>
          <a:off x="3824280" y="2214720"/>
          <a:ext cx="1909800" cy="758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24280" y="2214720"/>
                    <a:ext cx="190980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0" name=""/>
          <p:cNvGraphicFramePr/>
          <p:nvPr/>
        </p:nvGraphicFramePr>
        <p:xfrm>
          <a:off x="5776920" y="2405160"/>
          <a:ext cx="1346040" cy="392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76920" y="2405160"/>
                    <a:ext cx="13460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2" name=""/>
          <p:cNvGraphicFramePr/>
          <p:nvPr/>
        </p:nvGraphicFramePr>
        <p:xfrm>
          <a:off x="3517920" y="2905200"/>
          <a:ext cx="2887560" cy="538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4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17920" y="2905200"/>
                    <a:ext cx="2887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4" name=""/>
          <p:cNvGraphicFramePr/>
          <p:nvPr/>
        </p:nvGraphicFramePr>
        <p:xfrm>
          <a:off x="1736640" y="3792600"/>
          <a:ext cx="3963960" cy="490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36640" y="3792600"/>
                    <a:ext cx="39639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6" name=""/>
          <p:cNvGraphicFramePr/>
          <p:nvPr/>
        </p:nvGraphicFramePr>
        <p:xfrm>
          <a:off x="2370240" y="4314960"/>
          <a:ext cx="5775120" cy="757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4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370240" y="4314960"/>
                    <a:ext cx="577512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8" name=""/>
          <p:cNvGraphicFramePr/>
          <p:nvPr/>
        </p:nvGraphicFramePr>
        <p:xfrm>
          <a:off x="2427120" y="4948200"/>
          <a:ext cx="1860840" cy="758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44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27120" y="4948200"/>
                    <a:ext cx="186084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0" name=""/>
          <p:cNvGraphicFramePr/>
          <p:nvPr/>
        </p:nvGraphicFramePr>
        <p:xfrm>
          <a:off x="4481640" y="4956120"/>
          <a:ext cx="1616040" cy="758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45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481640" y="4956120"/>
                    <a:ext cx="161604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2" name=""/>
          <p:cNvGraphicFramePr/>
          <p:nvPr/>
        </p:nvGraphicFramePr>
        <p:xfrm>
          <a:off x="2440080" y="5877000"/>
          <a:ext cx="1712880" cy="342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5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440080" y="5877000"/>
                    <a:ext cx="17128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F7EA-184D-4BDC-83BF-5CA3BCA4C029}" type="slidenum">
              <a:t>78</a:t>
            </a:fld>
          </a:p>
        </p:txBody>
      </p:sp>
    </p:spTree>
  </p:cSld>
  <p:transition spd="med">
    <p:diamond/>
  </p:transition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20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3" dur="20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2000"/>
                                        <p:tgtEl>
                                          <p:spTgt spid="2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3" dur="2000"/>
                                        <p:tgtEl>
                                          <p:spTgt spid="2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8" dur="20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3" dur="20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8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3" dur="20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8" dur="20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/>
          </p:nvPr>
        </p:nvSpPr>
        <p:spPr>
          <a:xfrm>
            <a:off x="669960" y="525240"/>
            <a:ext cx="8236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-쉬리M"/>
                <a:ea typeface="宋体"/>
              </a:rPr>
              <a:t> 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例：设某地区男子身高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Times New Roman"/>
                <a:ea typeface="宋体"/>
              </a:rPr>
              <a:t>(1)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 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从该地区随机找一男子测身高，求他的身高大于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175cm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的概率；</a:t>
            </a:r>
            <a:r>
              <a:rPr b="0" lang="zh-CN" sz="2400" spc="-1" strike="noStrike">
                <a:solidFill>
                  <a:srgbClr val="1e1169"/>
                </a:solidFill>
                <a:latin typeface="Times New Roman"/>
                <a:ea typeface="宋体"/>
              </a:rPr>
              <a:t>(2)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 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若从中随机找</a:t>
            </a:r>
            <a:r>
              <a:rPr b="0" lang="zh-CN" sz="2400" spc="-1" strike="noStrike">
                <a:solidFill>
                  <a:srgbClr val="1e1169"/>
                </a:solidFill>
                <a:latin typeface="Times New Roman"/>
                <a:ea typeface="宋体"/>
              </a:rPr>
              <a:t>5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个男子测身高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,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问至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少有一人身高大于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175cm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的概率是多少？恰有一人身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高</a:t>
            </a:r>
            <a:r>
              <a:rPr b="0" lang="zh-CN" sz="2400" spc="-1" strike="noStrike">
                <a:solidFill>
                  <a:srgbClr val="1e1169"/>
                </a:solidFill>
                <a:latin typeface="Times New Roman"/>
                <a:ea typeface="宋体"/>
              </a:rPr>
              <a:t>大于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  <a:ea typeface="宋体"/>
              </a:rPr>
              <a:t>175cm</a:t>
            </a:r>
            <a:r>
              <a:rPr b="0" lang="zh-CN" sz="2400" spc="-1" strike="noStrike">
                <a:solidFill>
                  <a:srgbClr val="1e1169"/>
                </a:solidFill>
                <a:latin typeface="-쉬리M"/>
                <a:ea typeface="宋体"/>
              </a:rPr>
              <a:t>的概率为多少？</a:t>
            </a:r>
            <a:endParaRPr b="0" lang="en-US" sz="24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455" name=""/>
          <p:cNvGraphicFramePr/>
          <p:nvPr/>
        </p:nvGraphicFramePr>
        <p:xfrm>
          <a:off x="4276800" y="484200"/>
          <a:ext cx="2987640" cy="4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76800" y="484200"/>
                    <a:ext cx="29876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7" name=""/>
          <p:cNvGraphicFramePr/>
          <p:nvPr/>
        </p:nvGraphicFramePr>
        <p:xfrm>
          <a:off x="1386000" y="2592360"/>
          <a:ext cx="2376360" cy="88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86000" y="2592360"/>
                    <a:ext cx="23763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9" name=""/>
          <p:cNvGraphicFramePr/>
          <p:nvPr/>
        </p:nvGraphicFramePr>
        <p:xfrm>
          <a:off x="1733400" y="4327560"/>
          <a:ext cx="5869080" cy="84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33400" y="4327560"/>
                    <a:ext cx="58690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1" name=""/>
          <p:cNvGraphicFramePr/>
          <p:nvPr/>
        </p:nvGraphicFramePr>
        <p:xfrm>
          <a:off x="3713040" y="2838600"/>
          <a:ext cx="2409840" cy="76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13040" y="2838600"/>
                    <a:ext cx="240984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3" name=""/>
          <p:cNvGraphicFramePr/>
          <p:nvPr/>
        </p:nvGraphicFramePr>
        <p:xfrm>
          <a:off x="6224760" y="3040200"/>
          <a:ext cx="1688760" cy="398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24760" y="3040200"/>
                    <a:ext cx="168876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5" name=""/>
          <p:cNvGraphicFramePr/>
          <p:nvPr/>
        </p:nvGraphicFramePr>
        <p:xfrm>
          <a:off x="3537000" y="3524400"/>
          <a:ext cx="2757600" cy="54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37000" y="3524400"/>
                    <a:ext cx="275760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7" name=""/>
          <p:cNvGraphicFramePr/>
          <p:nvPr/>
        </p:nvGraphicFramePr>
        <p:xfrm>
          <a:off x="2206800" y="5181480"/>
          <a:ext cx="5389560" cy="447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06800" y="5181480"/>
                    <a:ext cx="53895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9" name=""/>
          <p:cNvGraphicFramePr/>
          <p:nvPr/>
        </p:nvGraphicFramePr>
        <p:xfrm>
          <a:off x="2222640" y="5702400"/>
          <a:ext cx="4213080" cy="504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47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22640" y="5702400"/>
                    <a:ext cx="4213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0820A-452F-47FA-BC93-FF9D19ACB1CB}" type="slidenum">
              <a:t>79</a:t>
            </a:fld>
          </a:p>
        </p:txBody>
      </p:sp>
    </p:spTree>
  </p:cSld>
  <p:transition spd="med">
    <p:diamond/>
  </p:transition>
  <p:timing>
    <p:tnLst>
      <p:par>
        <p:cTn id="2349" dur="indefinite" restart="never" nodeType="tmRoot">
          <p:childTnLst>
            <p:seq>
              <p:cTn id="2350" dur="indefinite" nodeType="mainSeq">
                <p:childTnLst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5" dur="20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0" dur="20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5" dur="20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20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5" dur="20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0" dur="20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5" dur="20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1052640" y="16254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关键词：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样本空间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    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随机事件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频率和概率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条件概率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	</a:t>
            </a:r>
            <a:r>
              <a:rPr b="0" lang="zh-CN" sz="2200" spc="-1" strike="noStrike">
                <a:solidFill>
                  <a:srgbClr val="008080"/>
                </a:solidFill>
                <a:latin typeface="宋体"/>
                <a:ea typeface="宋体"/>
              </a:rPr>
              <a:t>事件的独立性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title"/>
          </p:nvPr>
        </p:nvSpPr>
        <p:spPr>
          <a:xfrm>
            <a:off x="1634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-소망B"/>
                <a:ea typeface="宋体"/>
              </a:rPr>
              <a:t>第一章  概率论的基本概念</a:t>
            </a:r>
            <a:endParaRPr b="0" lang="en-US" sz="3200" spc="-1" strike="noStrike">
              <a:solidFill>
                <a:srgbClr val="000066"/>
              </a:solidFill>
              <a:latin typeface="-소망B"/>
            </a:endParaRPr>
          </a:p>
        </p:txBody>
      </p:sp>
      <p:sp>
        <p:nvSpPr>
          <p:cNvPr id="914" name="Sound"/>
          <p:cNvSpPr/>
          <p:nvPr/>
        </p:nvSpPr>
        <p:spPr>
          <a:xfrm>
            <a:off x="820800" y="1725480"/>
            <a:ext cx="257040" cy="257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5" name="ShockwaveFlash1"/>
          <p:cNvGraphicFramePr/>
          <p:nvPr/>
        </p:nvGraphicFramePr>
        <p:xfrm>
          <a:off x="6640560" y="4808520"/>
          <a:ext cx="133812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0560" y="4808520"/>
                    <a:ext cx="1338120" cy="1230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EFA-EE39-42A4-AA8A-7C3E2DF83596}" type="slidenum">
              <a:t>8</a:t>
            </a:fld>
          </a:p>
        </p:txBody>
      </p:sp>
    </p:spTree>
  </p:cSld>
  <p:transition spd="med"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8.33333E-007 -1.48148E-006 C 0.06892 -1.48148E-006 0.125 0.02847 0.125 0.06389 C 0.125 0.09908 0.06892 0.12778 8.33333E-007 0.12778 C -0.0691 0.12778 -0.125 0.09908 -0.125 0.06389 C -0.125 0.02847 -0.0691 -1.48148E-006 8.33333E-007 -1.48148E-006 Z">
                                      <p:cBhvr>
                                        <p:cTn id="35" dur="10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"/>
          <p:cNvSpPr/>
          <p:nvPr/>
        </p:nvSpPr>
        <p:spPr>
          <a:xfrm>
            <a:off x="642960" y="914400"/>
            <a:ext cx="1009800" cy="368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/>
          </p:nvPr>
        </p:nvSpPr>
        <p:spPr>
          <a:xfrm>
            <a:off x="682560" y="237960"/>
            <a:ext cx="80805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e5d2f"/>
                </a:solidFill>
                <a:latin typeface="宋体"/>
                <a:ea typeface="宋体"/>
              </a:rPr>
              <a:t>§5 </a:t>
            </a:r>
            <a:r>
              <a:rPr b="0" lang="zh-CN" sz="3600" spc="-1" strike="noStrike">
                <a:solidFill>
                  <a:srgbClr val="5e5d2f"/>
                </a:solidFill>
                <a:latin typeface="宋体"/>
                <a:ea typeface="宋体"/>
              </a:rPr>
              <a:t>随机变量的函数分布</a:t>
            </a:r>
            <a:endParaRPr b="0" lang="en-US" sz="36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问题：已知随机变量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的概率分布，</a:t>
            </a:r>
            <a:endParaRPr b="0" lang="en-US" sz="32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且已知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Y=g(X)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，求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Y</a:t>
            </a:r>
            <a:r>
              <a:rPr b="0" lang="zh-CN" sz="3200" spc="-1" strike="noStrike">
                <a:solidFill>
                  <a:srgbClr val="5e5d2f"/>
                </a:solidFill>
                <a:latin typeface="宋体"/>
                <a:ea typeface="宋体"/>
              </a:rPr>
              <a:t>的概率分布。</a:t>
            </a:r>
            <a:endParaRPr b="0" lang="en-US" sz="32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473" name=""/>
          <p:cNvGraphicFramePr/>
          <p:nvPr/>
        </p:nvGraphicFramePr>
        <p:xfrm>
          <a:off x="5932440" y="2220840"/>
          <a:ext cx="189540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2440" y="2220840"/>
                    <a:ext cx="18954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5" name=""/>
          <p:cNvGraphicFramePr/>
          <p:nvPr/>
        </p:nvGraphicFramePr>
        <p:xfrm>
          <a:off x="1628640" y="4403880"/>
          <a:ext cx="108900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8640" y="4403880"/>
                    <a:ext cx="108900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77" name=""/>
          <p:cNvGrpSpPr/>
          <p:nvPr/>
        </p:nvGrpSpPr>
        <p:grpSpPr>
          <a:xfrm>
            <a:off x="5227920" y="2889360"/>
            <a:ext cx="2556720" cy="795600"/>
            <a:chOff x="5227920" y="2889360"/>
            <a:chExt cx="2556720" cy="795600"/>
          </a:xfrm>
        </p:grpSpPr>
        <p:grpSp>
          <p:nvGrpSpPr>
            <p:cNvPr id="2478" name=""/>
            <p:cNvGrpSpPr/>
            <p:nvPr/>
          </p:nvGrpSpPr>
          <p:grpSpPr>
            <a:xfrm>
              <a:off x="5227920" y="2889360"/>
              <a:ext cx="2387520" cy="795600"/>
              <a:chOff x="5227920" y="2889360"/>
              <a:chExt cx="2387520" cy="795600"/>
            </a:xfrm>
          </p:grpSpPr>
          <p:sp>
            <p:nvSpPr>
              <p:cNvPr id="2479" name=""/>
              <p:cNvSpPr/>
              <p:nvPr/>
            </p:nvSpPr>
            <p:spPr>
              <a:xfrm>
                <a:off x="5432400" y="3284640"/>
                <a:ext cx="211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0" name=""/>
              <p:cNvGrpSpPr/>
              <p:nvPr/>
            </p:nvGrpSpPr>
            <p:grpSpPr>
              <a:xfrm>
                <a:off x="5227920" y="2889360"/>
                <a:ext cx="2387520" cy="795600"/>
                <a:chOff x="5227920" y="2889360"/>
                <a:chExt cx="2387520" cy="795600"/>
              </a:xfrm>
            </p:grpSpPr>
            <p:sp>
              <p:nvSpPr>
                <p:cNvPr id="2481" name=""/>
                <p:cNvSpPr/>
                <p:nvPr/>
              </p:nvSpPr>
              <p:spPr>
                <a:xfrm>
                  <a:off x="5842080" y="2889360"/>
                  <a:ext cx="0" cy="75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2" name=""/>
                <p:cNvGrpSpPr/>
                <p:nvPr/>
              </p:nvGrpSpPr>
              <p:grpSpPr>
                <a:xfrm>
                  <a:off x="5227920" y="2905200"/>
                  <a:ext cx="2387520" cy="779760"/>
                  <a:chOff x="5227920" y="2905200"/>
                  <a:chExt cx="2387520" cy="779760"/>
                </a:xfrm>
              </p:grpSpPr>
              <p:sp>
                <p:nvSpPr>
                  <p:cNvPr id="2483" name=""/>
                  <p:cNvSpPr/>
                  <p:nvPr/>
                </p:nvSpPr>
                <p:spPr>
                  <a:xfrm>
                    <a:off x="5227920" y="2928960"/>
                    <a:ext cx="787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228600" indent="-228600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宋体"/>
                      </a:rPr>
                      <a:t>X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5240880" y="3219480"/>
                    <a:ext cx="84060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228600" indent="-228600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宋体"/>
                      </a:rPr>
                      <a:t>p</a:t>
                    </a:r>
                    <a:r>
                      <a:rPr b="1" lang="en-US" sz="2000" spc="-1" strike="noStrike" baseline="-25000">
                        <a:solidFill>
                          <a:srgbClr val="000066"/>
                        </a:solidFill>
                        <a:latin typeface="宋体"/>
                      </a:rPr>
                      <a:t>i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5649120" y="3281400"/>
                    <a:ext cx="999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228600" indent="-228600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宋体"/>
                      </a:rPr>
                      <a:t>0.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5663160" y="2928960"/>
                    <a:ext cx="8665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228600" indent="-228600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宋体"/>
                      </a:rPr>
                      <a:t>-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6220080" y="2925720"/>
                    <a:ext cx="784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228600" indent="-228600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宋体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6831360" y="2905200"/>
                    <a:ext cx="784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228600" indent="-228600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宋体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6158520" y="3286080"/>
                    <a:ext cx="999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228600" indent="-228600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66"/>
                        </a:solidFill>
                        <a:latin typeface="宋体"/>
                      </a:rPr>
                      <a:t>0.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90" name=""/>
            <p:cNvSpPr/>
            <p:nvPr/>
          </p:nvSpPr>
          <p:spPr>
            <a:xfrm>
              <a:off x="6785640" y="3279600"/>
              <a:ext cx="99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宋体"/>
                </a:rPr>
                <a:t>0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1" name=""/>
          <p:cNvGraphicFramePr/>
          <p:nvPr/>
        </p:nvGraphicFramePr>
        <p:xfrm>
          <a:off x="2830680" y="4405320"/>
          <a:ext cx="198900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30680" y="4405320"/>
                    <a:ext cx="19890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3" name=""/>
          <p:cNvGraphicFramePr/>
          <p:nvPr/>
        </p:nvGraphicFramePr>
        <p:xfrm>
          <a:off x="1665360" y="4900680"/>
          <a:ext cx="10173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5360" y="4900680"/>
                    <a:ext cx="10173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5" name=""/>
          <p:cNvGraphicFramePr/>
          <p:nvPr/>
        </p:nvGraphicFramePr>
        <p:xfrm>
          <a:off x="2809800" y="4867200"/>
          <a:ext cx="2840040" cy="47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09800" y="4867200"/>
                    <a:ext cx="28400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7" name=""/>
          <p:cNvGraphicFramePr/>
          <p:nvPr/>
        </p:nvGraphicFramePr>
        <p:xfrm>
          <a:off x="5651640" y="4903920"/>
          <a:ext cx="338436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51640" y="4903920"/>
                    <a:ext cx="33843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9" name=""/>
          <p:cNvSpPr/>
          <p:nvPr/>
        </p:nvSpPr>
        <p:spPr>
          <a:xfrm>
            <a:off x="1063800" y="1827360"/>
            <a:ext cx="80802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例如，若要测量一个圆的面积，总是测量其半径，半径的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测量值可看作随机变量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，若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则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服从什么分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835200" y="3059280"/>
            <a:ext cx="80802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例：已知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具有概率分布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且设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Y=X</a:t>
            </a:r>
            <a:r>
              <a:rPr b="0" lang="zh-CN" sz="2400" spc="-1" strike="noStrike" baseline="30000">
                <a:solidFill>
                  <a:srgbClr val="1e1169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，求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1e1169"/>
                </a:solidFill>
                <a:latin typeface="宋体"/>
              </a:rPr>
              <a:t>的概率分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835200" y="3898800"/>
            <a:ext cx="80802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所有可能取值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835200" y="5635800"/>
            <a:ext cx="80802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即找出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(Y=0)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的等价事件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(X=0)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(Y=1)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的等价事件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(X=1)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或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(X=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6443-FE26-4F7F-AE9E-5676C1E414FF}" type="slidenum">
              <a:t>80</a:t>
            </a:fld>
          </a:p>
        </p:txBody>
      </p:sp>
    </p:spTree>
  </p:cSld>
  <p:transition spd="med">
    <p:diamond/>
  </p:transition>
  <p:timing>
    <p:tnLst>
      <p:par>
        <p:cTn id="2386" dur="indefinite" restart="never" nodeType="tmRoot">
          <p:childTnLst>
            <p:seq>
              <p:cTn id="2387" dur="indefinite" nodeType="mainSeq">
                <p:childTnLst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2" dur="2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7" dur="20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2" dur="20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7" dur="2000"/>
                                        <p:tgtEl>
                                          <p:spTgt spid="2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2" dur="2000"/>
                                        <p:tgtEl>
                                          <p:spTgt spid="2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7" dur="20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2" dur="2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7" dur="2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/>
          </p:nvPr>
        </p:nvSpPr>
        <p:spPr>
          <a:xfrm>
            <a:off x="884160" y="469440"/>
            <a:ext cx="7678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例：设随机变量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具有概率密度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求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Y=X</a:t>
            </a:r>
            <a:r>
              <a:rPr b="0" lang="zh-CN" sz="2800" spc="-1" strike="noStrike" baseline="30000">
                <a:solidFill>
                  <a:srgbClr val="1e1169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的概率密度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504" name=""/>
          <p:cNvGraphicFramePr/>
          <p:nvPr/>
        </p:nvGraphicFramePr>
        <p:xfrm>
          <a:off x="6054840" y="61920"/>
          <a:ext cx="30891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54840" y="61920"/>
                    <a:ext cx="308916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6" name=""/>
          <p:cNvGraphicFramePr/>
          <p:nvPr/>
        </p:nvGraphicFramePr>
        <p:xfrm>
          <a:off x="1770120" y="2112840"/>
          <a:ext cx="6272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70120" y="2112840"/>
                    <a:ext cx="6272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8" name=""/>
          <p:cNvGraphicFramePr/>
          <p:nvPr/>
        </p:nvGraphicFramePr>
        <p:xfrm>
          <a:off x="1797120" y="2693880"/>
          <a:ext cx="287172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7120" y="2693880"/>
                    <a:ext cx="28717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0" name=""/>
          <p:cNvGraphicFramePr/>
          <p:nvPr/>
        </p:nvGraphicFramePr>
        <p:xfrm>
          <a:off x="4903920" y="2684520"/>
          <a:ext cx="2765160" cy="452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03920" y="2684520"/>
                    <a:ext cx="27651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2" name=""/>
          <p:cNvGraphicFramePr/>
          <p:nvPr/>
        </p:nvGraphicFramePr>
        <p:xfrm>
          <a:off x="1798560" y="3746520"/>
          <a:ext cx="2071800" cy="40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98560" y="3746520"/>
                    <a:ext cx="20718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4" name=""/>
          <p:cNvGraphicFramePr/>
          <p:nvPr/>
        </p:nvGraphicFramePr>
        <p:xfrm>
          <a:off x="5654520" y="4756320"/>
          <a:ext cx="3248280" cy="140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654520" y="4756320"/>
                    <a:ext cx="324828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6" name=""/>
          <p:cNvSpPr/>
          <p:nvPr/>
        </p:nvSpPr>
        <p:spPr>
          <a:xfrm flipH="1">
            <a:off x="3722400" y="3605040"/>
            <a:ext cx="1423800" cy="14115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7" name=""/>
          <p:cNvGrpSpPr/>
          <p:nvPr/>
        </p:nvGrpSpPr>
        <p:grpSpPr>
          <a:xfrm>
            <a:off x="5183280" y="3084480"/>
            <a:ext cx="3449520" cy="1111320"/>
            <a:chOff x="5183280" y="3084480"/>
            <a:chExt cx="3449520" cy="1111320"/>
          </a:xfrm>
        </p:grpSpPr>
        <p:sp>
          <p:nvSpPr>
            <p:cNvPr id="2518" name=""/>
            <p:cNvSpPr/>
            <p:nvPr/>
          </p:nvSpPr>
          <p:spPr>
            <a:xfrm>
              <a:off x="5183280" y="3084480"/>
              <a:ext cx="3449520" cy="11113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19" name=""/>
            <p:cNvGraphicFramePr/>
            <p:nvPr/>
          </p:nvGraphicFramePr>
          <p:xfrm>
            <a:off x="5195880" y="3130560"/>
            <a:ext cx="3418200" cy="1055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52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195880" y="3130560"/>
                      <a:ext cx="3418200" cy="105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21" name=""/>
          <p:cNvGrpSpPr/>
          <p:nvPr/>
        </p:nvGrpSpPr>
        <p:grpSpPr>
          <a:xfrm>
            <a:off x="1255680" y="1550880"/>
            <a:ext cx="5312880" cy="555840"/>
            <a:chOff x="1255680" y="1550880"/>
            <a:chExt cx="5312880" cy="555840"/>
          </a:xfrm>
        </p:grpSpPr>
        <p:graphicFrame>
          <p:nvGraphicFramePr>
            <p:cNvPr id="2522" name=""/>
            <p:cNvGraphicFramePr/>
            <p:nvPr/>
          </p:nvGraphicFramePr>
          <p:xfrm>
            <a:off x="4832640" y="1704960"/>
            <a:ext cx="1735920" cy="4017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52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832640" y="1704960"/>
                      <a:ext cx="173592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24" name=""/>
            <p:cNvSpPr/>
            <p:nvPr/>
          </p:nvSpPr>
          <p:spPr>
            <a:xfrm>
              <a:off x="1255680" y="1550880"/>
              <a:ext cx="328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分别记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X,Y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的分布函数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25" name=""/>
          <p:cNvGraphicFramePr/>
          <p:nvPr/>
        </p:nvGraphicFramePr>
        <p:xfrm>
          <a:off x="1708200" y="4200480"/>
          <a:ext cx="2841480" cy="577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2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708200" y="4200480"/>
                    <a:ext cx="28414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7" name=""/>
          <p:cNvGraphicFramePr/>
          <p:nvPr/>
        </p:nvGraphicFramePr>
        <p:xfrm>
          <a:off x="4575240" y="4253040"/>
          <a:ext cx="1252440" cy="482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52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75240" y="4253040"/>
                    <a:ext cx="1252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9" name=""/>
          <p:cNvGraphicFramePr/>
          <p:nvPr/>
        </p:nvGraphicFramePr>
        <p:xfrm>
          <a:off x="5856120" y="4160880"/>
          <a:ext cx="1590840" cy="650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530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56120" y="4160880"/>
                    <a:ext cx="1590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1" name=""/>
          <p:cNvGraphicFramePr/>
          <p:nvPr/>
        </p:nvGraphicFramePr>
        <p:xfrm>
          <a:off x="1211400" y="4782960"/>
          <a:ext cx="4454280" cy="1349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53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211400" y="4782960"/>
                    <a:ext cx="445428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3" name=""/>
          <p:cNvSpPr/>
          <p:nvPr/>
        </p:nvSpPr>
        <p:spPr>
          <a:xfrm>
            <a:off x="1036800" y="6089760"/>
            <a:ext cx="7678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在区间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(0,16)</a:t>
            </a:r>
            <a:r>
              <a:rPr b="0" lang="zh-CN" sz="2400" spc="-1" strike="noStrike">
                <a:solidFill>
                  <a:srgbClr val="5e5d2f"/>
                </a:solidFill>
                <a:latin typeface="宋体"/>
              </a:rPr>
              <a:t>上均匀分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B3851-40B7-4E5F-B332-987C6E315854}" type="slidenum">
              <a:t>81</a:t>
            </a:fld>
          </a:p>
        </p:txBody>
      </p:sp>
    </p:spTree>
  </p:cSld>
  <p:transition spd="med">
    <p:diamond/>
  </p:transition>
  <p:timing>
    <p:tnLst>
      <p:par>
        <p:cTn id="2428" dur="indefinite" restart="never" nodeType="tmRoot">
          <p:childTnLst>
            <p:seq>
              <p:cTn id="2429" dur="indefinite" nodeType="mainSeq">
                <p:childTnLst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4" dur="20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9" dur="20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4" dur="2000"/>
                                        <p:tgtEl>
                                          <p:spTgt spid="2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9" dur="20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4" dur="20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9" dur="20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4" dur="20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9" dur="2000"/>
                                        <p:tgtEl>
                                          <p:spTgt spid="2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4" dur="20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9" dur="20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3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8" dur="20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3" dur="2000"/>
                                        <p:tgtEl>
                                          <p:spTgt spid="2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/>
          </p:nvPr>
        </p:nvSpPr>
        <p:spPr>
          <a:xfrm>
            <a:off x="1049400" y="433440"/>
            <a:ext cx="7407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一般，若已知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的概率分布，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Y=g(X)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，求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Y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的  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概率分布的过程为：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535" name=""/>
          <p:cNvGraphicFramePr/>
          <p:nvPr/>
        </p:nvGraphicFramePr>
        <p:xfrm>
          <a:off x="1398600" y="1917720"/>
          <a:ext cx="5361120" cy="14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8600" y="1917720"/>
                    <a:ext cx="536112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7" name=""/>
          <p:cNvGraphicFramePr/>
          <p:nvPr/>
        </p:nvGraphicFramePr>
        <p:xfrm>
          <a:off x="1363680" y="3887640"/>
          <a:ext cx="7067520" cy="14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3680" y="3887640"/>
                    <a:ext cx="706752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9" name=""/>
          <p:cNvSpPr/>
          <p:nvPr/>
        </p:nvSpPr>
        <p:spPr>
          <a:xfrm>
            <a:off x="803160" y="5649840"/>
            <a:ext cx="276480" cy="222480"/>
          </a:xfrm>
          <a:custGeom>
            <a:avLst/>
            <a:gdLst>
              <a:gd name="textAreaLeft" fmla="*/ 113760 w 276480"/>
              <a:gd name="textAreaRight" fmla="*/ 162720 w 276480"/>
              <a:gd name="textAreaTop" fmla="*/ 91800 h 222480"/>
              <a:gd name="textAreaBottom" fmla="*/ 130680 h 22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1201680" y="5530680"/>
            <a:ext cx="74073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宋体"/>
              </a:rPr>
              <a:t>关键是找出等价事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DF635-6339-4A8E-8C14-0E25EA96A0FA}" type="slidenum">
              <a:t>82</a:t>
            </a:fld>
          </a:p>
        </p:txBody>
      </p:sp>
    </p:spTree>
  </p:cSld>
  <p:transition spd="med">
    <p:diamond/>
  </p:transition>
  <p:timing>
    <p:tnLst>
      <p:par>
        <p:cTn id="2494" dur="indefinite" restart="never" nodeType="tmRoot">
          <p:childTnLst>
            <p:seq>
              <p:cTn id="2495" dur="indefinite" nodeType="mainSeq">
                <p:childTnLst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0" dur="20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5" dur="20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2" dur="20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7" dur="20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/>
          </p:nvPr>
        </p:nvSpPr>
        <p:spPr>
          <a:xfrm>
            <a:off x="1218960" y="703440"/>
            <a:ext cx="708660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例：设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    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Y=2X,Z=X</a:t>
            </a:r>
            <a:r>
              <a:rPr b="0" lang="zh-CN" sz="2800" spc="-1" strike="noStrike" baseline="30000">
                <a:solidFill>
                  <a:srgbClr val="1e1169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求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Y,Z</a:t>
            </a: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的概率分布。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pSp>
        <p:nvGrpSpPr>
          <p:cNvPr id="2542" name=""/>
          <p:cNvGrpSpPr/>
          <p:nvPr/>
        </p:nvGrpSpPr>
        <p:grpSpPr>
          <a:xfrm>
            <a:off x="2639160" y="746280"/>
            <a:ext cx="3250080" cy="1015200"/>
            <a:chOff x="2639160" y="746280"/>
            <a:chExt cx="3250080" cy="1015200"/>
          </a:xfrm>
        </p:grpSpPr>
        <p:sp>
          <p:nvSpPr>
            <p:cNvPr id="2543" name=""/>
            <p:cNvSpPr/>
            <p:nvPr/>
          </p:nvSpPr>
          <p:spPr>
            <a:xfrm>
              <a:off x="2747880" y="1265400"/>
              <a:ext cx="314136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315600" y="820440"/>
              <a:ext cx="0" cy="9410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5" name=""/>
            <p:cNvGrpSpPr/>
            <p:nvPr/>
          </p:nvGrpSpPr>
          <p:grpSpPr>
            <a:xfrm>
              <a:off x="2639160" y="746280"/>
              <a:ext cx="3116160" cy="981720"/>
              <a:chOff x="2639160" y="746280"/>
              <a:chExt cx="3116160" cy="981720"/>
            </a:xfrm>
          </p:grpSpPr>
          <p:graphicFrame>
            <p:nvGraphicFramePr>
              <p:cNvPr id="2546" name=""/>
              <p:cNvGraphicFramePr/>
              <p:nvPr/>
            </p:nvGraphicFramePr>
            <p:xfrm>
              <a:off x="4415400" y="1297080"/>
              <a:ext cx="358200" cy="430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4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415400" y="1297080"/>
                        <a:ext cx="358200" cy="43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8" name=""/>
              <p:cNvSpPr/>
              <p:nvPr/>
            </p:nvSpPr>
            <p:spPr>
              <a:xfrm>
                <a:off x="2639160" y="768600"/>
                <a:ext cx="77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288600" y="76428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4986360" y="75060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4136760" y="74628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2646000" y="113940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53" name=""/>
              <p:cNvGraphicFramePr/>
              <p:nvPr/>
            </p:nvGraphicFramePr>
            <p:xfrm>
              <a:off x="5273640" y="1276560"/>
              <a:ext cx="358200" cy="4312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554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273640" y="1276560"/>
                        <a:ext cx="358200" cy="431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5" name=""/>
              <p:cNvGraphicFramePr/>
              <p:nvPr/>
            </p:nvGraphicFramePr>
            <p:xfrm>
              <a:off x="3765600" y="1292400"/>
              <a:ext cx="358200" cy="4312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556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765600" y="1292400"/>
                        <a:ext cx="358200" cy="431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557" name=""/>
          <p:cNvGrpSpPr/>
          <p:nvPr/>
        </p:nvGrpSpPr>
        <p:grpSpPr>
          <a:xfrm>
            <a:off x="2791080" y="5600880"/>
            <a:ext cx="2583720" cy="791640"/>
            <a:chOff x="2791080" y="5600880"/>
            <a:chExt cx="2583720" cy="791640"/>
          </a:xfrm>
        </p:grpSpPr>
        <p:sp>
          <p:nvSpPr>
            <p:cNvPr id="2558" name=""/>
            <p:cNvSpPr/>
            <p:nvPr/>
          </p:nvSpPr>
          <p:spPr>
            <a:xfrm>
              <a:off x="2882880" y="6005520"/>
              <a:ext cx="2491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522240" y="5658480"/>
              <a:ext cx="0" cy="7340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0" name=""/>
            <p:cNvGrpSpPr/>
            <p:nvPr/>
          </p:nvGrpSpPr>
          <p:grpSpPr>
            <a:xfrm>
              <a:off x="2791080" y="5600880"/>
              <a:ext cx="2455200" cy="765360"/>
              <a:chOff x="2791080" y="5600880"/>
              <a:chExt cx="2455200" cy="765360"/>
            </a:xfrm>
          </p:grpSpPr>
          <p:graphicFrame>
            <p:nvGraphicFramePr>
              <p:cNvPr id="2561" name=""/>
              <p:cNvGraphicFramePr/>
              <p:nvPr/>
            </p:nvGraphicFramePr>
            <p:xfrm>
              <a:off x="4790160" y="6030000"/>
              <a:ext cx="403920" cy="33624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562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790160" y="6030000"/>
                        <a:ext cx="403920" cy="33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63" name=""/>
              <p:cNvSpPr/>
              <p:nvPr/>
            </p:nvSpPr>
            <p:spPr>
              <a:xfrm>
                <a:off x="2791080" y="561816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497760" y="561456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4477320" y="560088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797920" y="590760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67" name=""/>
              <p:cNvGraphicFramePr/>
              <p:nvPr/>
            </p:nvGraphicFramePr>
            <p:xfrm>
              <a:off x="3805200" y="6026760"/>
              <a:ext cx="403920" cy="33588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568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805200" y="6026760"/>
                        <a:ext cx="403920" cy="335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569" name=""/>
          <p:cNvGrpSpPr/>
          <p:nvPr/>
        </p:nvGrpSpPr>
        <p:grpSpPr>
          <a:xfrm>
            <a:off x="2792160" y="4624560"/>
            <a:ext cx="3444840" cy="828000"/>
            <a:chOff x="2792160" y="4624560"/>
            <a:chExt cx="3444840" cy="828000"/>
          </a:xfrm>
        </p:grpSpPr>
        <p:sp>
          <p:nvSpPr>
            <p:cNvPr id="2570" name=""/>
            <p:cNvSpPr/>
            <p:nvPr/>
          </p:nvSpPr>
          <p:spPr>
            <a:xfrm>
              <a:off x="2890800" y="5047920"/>
              <a:ext cx="33462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495600" y="4685040"/>
              <a:ext cx="0" cy="7675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2" name=""/>
            <p:cNvGrpSpPr/>
            <p:nvPr/>
          </p:nvGrpSpPr>
          <p:grpSpPr>
            <a:xfrm>
              <a:off x="2792160" y="4624560"/>
              <a:ext cx="3268080" cy="800280"/>
              <a:chOff x="2792160" y="4624560"/>
              <a:chExt cx="3268080" cy="800280"/>
            </a:xfrm>
          </p:grpSpPr>
          <p:graphicFrame>
            <p:nvGraphicFramePr>
              <p:cNvPr id="2573" name=""/>
              <p:cNvGraphicFramePr/>
              <p:nvPr/>
            </p:nvGraphicFramePr>
            <p:xfrm>
              <a:off x="4667040" y="5073480"/>
              <a:ext cx="381600" cy="35136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2574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667040" y="5073480"/>
                        <a:ext cx="381600" cy="351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75" name=""/>
              <p:cNvSpPr/>
              <p:nvPr/>
            </p:nvSpPr>
            <p:spPr>
              <a:xfrm>
                <a:off x="2792160" y="46425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481200" y="4639320"/>
                <a:ext cx="84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291280" y="462816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4385880" y="462456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798640" y="4944960"/>
                <a:ext cx="77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宋体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80" name=""/>
              <p:cNvGraphicFramePr/>
              <p:nvPr/>
            </p:nvGraphicFramePr>
            <p:xfrm>
              <a:off x="5581440" y="5056920"/>
              <a:ext cx="381600" cy="35172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2581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581440" y="5056920"/>
                        <a:ext cx="381600" cy="35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82" name=""/>
              <p:cNvGraphicFramePr/>
              <p:nvPr/>
            </p:nvGraphicFramePr>
            <p:xfrm>
              <a:off x="3975120" y="5069880"/>
              <a:ext cx="381600" cy="3517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2583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3975120" y="5069880"/>
                        <a:ext cx="381600" cy="351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584" name=""/>
          <p:cNvSpPr/>
          <p:nvPr/>
        </p:nvSpPr>
        <p:spPr>
          <a:xfrm>
            <a:off x="1371600" y="2311560"/>
            <a:ext cx="70866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解：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Y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的可能取值为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-2,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Z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的可能取值为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(Y=-2)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的等价事件为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(X=-1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(Z=1)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的等价事件为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(X=1)∪(X=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1371600" y="4775040"/>
            <a:ext cx="70866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</a:rPr>
              <a:t>故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4924-B130-4CB7-88A6-7B80D3B53893}" type="slidenum">
              <a:t>83</a:t>
            </a:fld>
          </a:p>
        </p:txBody>
      </p:sp>
    </p:spTree>
  </p:cSld>
  <p:transition spd="med">
    <p:diamond/>
  </p:transition>
  <p:timing>
    <p:tnLst>
      <p:par>
        <p:cTn id="2518" dur="indefinite" restart="never" nodeType="tmRoot">
          <p:childTnLst>
            <p:seq>
              <p:cTn id="2519" dur="indefinite" nodeType="mainSeq">
                <p:childTnLst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10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10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10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10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10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10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10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10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8" dur="20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3" dur="10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8" dur="10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/>
          </p:nvPr>
        </p:nvSpPr>
        <p:spPr>
          <a:xfrm>
            <a:off x="932040" y="477720"/>
            <a:ext cx="7697520" cy="60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1169"/>
                </a:solidFill>
                <a:latin typeface="宋体"/>
                <a:ea typeface="宋体"/>
              </a:rPr>
              <a:t>例：</a:t>
            </a: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宋体"/>
                <a:ea typeface="宋体"/>
              </a:rPr>
              <a:t>	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587" name=""/>
          <p:cNvGraphicFramePr/>
          <p:nvPr/>
        </p:nvGraphicFramePr>
        <p:xfrm>
          <a:off x="1957320" y="519120"/>
          <a:ext cx="5927760" cy="113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7320" y="519120"/>
                    <a:ext cx="59277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9" name=""/>
          <p:cNvGraphicFramePr/>
          <p:nvPr/>
        </p:nvGraphicFramePr>
        <p:xfrm>
          <a:off x="1727280" y="2000160"/>
          <a:ext cx="4689360" cy="49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27280" y="2000160"/>
                    <a:ext cx="46893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1" name=""/>
          <p:cNvGraphicFramePr/>
          <p:nvPr/>
        </p:nvGraphicFramePr>
        <p:xfrm>
          <a:off x="1547640" y="2552760"/>
          <a:ext cx="2448000" cy="46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2552760"/>
                    <a:ext cx="24480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3" name=""/>
          <p:cNvGraphicFramePr/>
          <p:nvPr/>
        </p:nvGraphicFramePr>
        <p:xfrm>
          <a:off x="4083120" y="2593800"/>
          <a:ext cx="1458720" cy="41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83120" y="2593800"/>
                    <a:ext cx="14587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5" name=""/>
          <p:cNvGraphicFramePr/>
          <p:nvPr/>
        </p:nvGraphicFramePr>
        <p:xfrm>
          <a:off x="5570640" y="2529000"/>
          <a:ext cx="1665360" cy="468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70640" y="2529000"/>
                    <a:ext cx="16653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7" name=""/>
          <p:cNvGraphicFramePr/>
          <p:nvPr/>
        </p:nvGraphicFramePr>
        <p:xfrm>
          <a:off x="7226280" y="2405160"/>
          <a:ext cx="1666800" cy="753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9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26280" y="2405160"/>
                    <a:ext cx="1666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9" name=""/>
          <p:cNvGraphicFramePr/>
          <p:nvPr/>
        </p:nvGraphicFramePr>
        <p:xfrm>
          <a:off x="4087800" y="3089160"/>
          <a:ext cx="3254400" cy="703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0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87800" y="3089160"/>
                    <a:ext cx="32544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1" name=""/>
          <p:cNvGraphicFramePr/>
          <p:nvPr/>
        </p:nvGraphicFramePr>
        <p:xfrm>
          <a:off x="1676520" y="4764240"/>
          <a:ext cx="2396880" cy="468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0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76520" y="4764240"/>
                    <a:ext cx="239688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3" name=""/>
          <p:cNvGraphicFramePr/>
          <p:nvPr/>
        </p:nvGraphicFramePr>
        <p:xfrm>
          <a:off x="4108320" y="4272120"/>
          <a:ext cx="4478400" cy="1457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0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108320" y="4272120"/>
                    <a:ext cx="44784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A6024-CD8A-4537-AE1C-27D6C29B53D0}" type="slidenum">
              <a:t>84</a:t>
            </a:fld>
          </a:p>
        </p:txBody>
      </p:sp>
    </p:spTree>
  </p:cSld>
  <p:transition spd="med">
    <p:diamond/>
  </p:transition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5" dur="20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2000"/>
                                        <p:tgtEl>
                                          <p:spTgt spid="2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5" dur="20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0" dur="20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5" dur="20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0" dur="20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5" dur="20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0" dur="20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5" name=""/>
          <p:cNvGraphicFramePr/>
          <p:nvPr/>
        </p:nvGraphicFramePr>
        <p:xfrm>
          <a:off x="1128600" y="420840"/>
          <a:ext cx="7021800" cy="83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8600" y="420840"/>
                    <a:ext cx="702180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7" name=""/>
          <p:cNvGraphicFramePr/>
          <p:nvPr/>
        </p:nvGraphicFramePr>
        <p:xfrm>
          <a:off x="2362320" y="1231920"/>
          <a:ext cx="4587840" cy="9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231920"/>
                    <a:ext cx="45878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9" name=""/>
          <p:cNvGraphicFramePr/>
          <p:nvPr/>
        </p:nvGraphicFramePr>
        <p:xfrm>
          <a:off x="1260360" y="2120760"/>
          <a:ext cx="6913800" cy="8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2120760"/>
                    <a:ext cx="69138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1" name=""/>
          <p:cNvGraphicFramePr/>
          <p:nvPr/>
        </p:nvGraphicFramePr>
        <p:xfrm>
          <a:off x="1116000" y="3213000"/>
          <a:ext cx="302112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3213000"/>
                    <a:ext cx="30211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3" name=""/>
          <p:cNvGraphicFramePr/>
          <p:nvPr/>
        </p:nvGraphicFramePr>
        <p:xfrm>
          <a:off x="2222640" y="3691080"/>
          <a:ext cx="1716120" cy="41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22640" y="3691080"/>
                    <a:ext cx="17161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5" name=""/>
          <p:cNvGraphicFramePr/>
          <p:nvPr/>
        </p:nvGraphicFramePr>
        <p:xfrm>
          <a:off x="1949400" y="5843520"/>
          <a:ext cx="5024520" cy="45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49400" y="5843520"/>
                    <a:ext cx="50245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7" name=""/>
          <p:cNvGraphicFramePr/>
          <p:nvPr/>
        </p:nvGraphicFramePr>
        <p:xfrm>
          <a:off x="1163520" y="6324480"/>
          <a:ext cx="475452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63520" y="6324480"/>
                    <a:ext cx="47545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9" name=""/>
          <p:cNvGrpSpPr/>
          <p:nvPr/>
        </p:nvGrpSpPr>
        <p:grpSpPr>
          <a:xfrm>
            <a:off x="6824160" y="1747800"/>
            <a:ext cx="2233800" cy="2287080"/>
            <a:chOff x="6824160" y="1747800"/>
            <a:chExt cx="2233800" cy="2287080"/>
          </a:xfrm>
        </p:grpSpPr>
        <p:sp>
          <p:nvSpPr>
            <p:cNvPr id="2620" name=""/>
            <p:cNvSpPr/>
            <p:nvPr/>
          </p:nvSpPr>
          <p:spPr>
            <a:xfrm>
              <a:off x="7491240" y="3668760"/>
              <a:ext cx="1331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1" name=""/>
            <p:cNvGrpSpPr/>
            <p:nvPr/>
          </p:nvGrpSpPr>
          <p:grpSpPr>
            <a:xfrm>
              <a:off x="6824160" y="1747800"/>
              <a:ext cx="2233800" cy="2287080"/>
              <a:chOff x="6824160" y="1747800"/>
              <a:chExt cx="2233800" cy="2287080"/>
            </a:xfrm>
          </p:grpSpPr>
          <p:grpSp>
            <p:nvGrpSpPr>
              <p:cNvPr id="2622" name=""/>
              <p:cNvGrpSpPr/>
              <p:nvPr/>
            </p:nvGrpSpPr>
            <p:grpSpPr>
              <a:xfrm>
                <a:off x="6824160" y="1747800"/>
                <a:ext cx="1789200" cy="2287080"/>
                <a:chOff x="6824160" y="1747800"/>
                <a:chExt cx="1789200" cy="2287080"/>
              </a:xfrm>
            </p:grpSpPr>
            <p:sp>
              <p:nvSpPr>
                <p:cNvPr id="2623" name=""/>
                <p:cNvSpPr/>
                <p:nvPr/>
              </p:nvSpPr>
              <p:spPr>
                <a:xfrm flipV="1">
                  <a:off x="7816680" y="2741400"/>
                  <a:ext cx="0" cy="12934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flipV="1">
                  <a:off x="6824160" y="1747440"/>
                  <a:ext cx="1593720" cy="214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1631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163197"/>
                    </a:path>
                  </a:pathLst>
                </a:custGeom>
                <a:noFill/>
                <a:ln w="1908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7725960" y="3224160"/>
                  <a:ext cx="88740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6" name=""/>
              <p:cNvGrpSpPr/>
              <p:nvPr/>
            </p:nvGrpSpPr>
            <p:grpSpPr>
              <a:xfrm>
                <a:off x="7573680" y="2589120"/>
                <a:ext cx="1484280" cy="1379520"/>
                <a:chOff x="7573680" y="2589120"/>
                <a:chExt cx="1484280" cy="1379520"/>
              </a:xfrm>
            </p:grpSpPr>
            <p:sp>
              <p:nvSpPr>
                <p:cNvPr id="2627" name=""/>
                <p:cNvSpPr/>
                <p:nvPr/>
              </p:nvSpPr>
              <p:spPr>
                <a:xfrm>
                  <a:off x="8638920" y="3600360"/>
                  <a:ext cx="26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28600" indent="-228600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28" name=""/>
                <p:cNvGrpSpPr/>
                <p:nvPr/>
              </p:nvGrpSpPr>
              <p:grpSpPr>
                <a:xfrm>
                  <a:off x="7573680" y="2589120"/>
                  <a:ext cx="1484280" cy="1376280"/>
                  <a:chOff x="7573680" y="2589120"/>
                  <a:chExt cx="1484280" cy="1376280"/>
                </a:xfrm>
              </p:grpSpPr>
              <p:sp>
                <p:nvSpPr>
                  <p:cNvPr id="2629" name=""/>
                  <p:cNvSpPr/>
                  <p:nvPr/>
                </p:nvSpPr>
                <p:spPr>
                  <a:xfrm>
                    <a:off x="8240400" y="3165480"/>
                    <a:ext cx="817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28600" indent="-228600"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66"/>
                        </a:solidFill>
                        <a:latin typeface="Arial"/>
                      </a:rPr>
                      <a:t>h(y),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7752960" y="2949480"/>
                    <a:ext cx="2700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28600" indent="-228600"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66"/>
                        </a:solidFill>
                        <a:latin typeface="Arial"/>
                      </a:rPr>
                      <a:t>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>
                    <a:off x="7573680" y="3597120"/>
                    <a:ext cx="270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28600" indent="-228600"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66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8116560" y="2609640"/>
                    <a:ext cx="765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28600" indent="-228600"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66"/>
                        </a:solidFill>
                        <a:latin typeface="Arial"/>
                      </a:rPr>
                      <a:t>y=g(x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7746840" y="2589120"/>
                    <a:ext cx="2696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28600" indent="-228600"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66"/>
                        </a:solidFill>
                        <a:latin typeface="Arial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2634" name=""/>
          <p:cNvGraphicFramePr/>
          <p:nvPr/>
        </p:nvGraphicFramePr>
        <p:xfrm>
          <a:off x="4414680" y="3195720"/>
          <a:ext cx="2873520" cy="50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14680" y="3195720"/>
                    <a:ext cx="28735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6" name=""/>
          <p:cNvGraphicFramePr/>
          <p:nvPr/>
        </p:nvGraphicFramePr>
        <p:xfrm>
          <a:off x="1450800" y="4125960"/>
          <a:ext cx="7112160" cy="41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50800" y="4125960"/>
                    <a:ext cx="7112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8" name=""/>
          <p:cNvGraphicFramePr/>
          <p:nvPr/>
        </p:nvGraphicFramePr>
        <p:xfrm>
          <a:off x="1830240" y="4502160"/>
          <a:ext cx="1509840" cy="388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30240" y="4502160"/>
                    <a:ext cx="1509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0" name=""/>
          <p:cNvGraphicFramePr/>
          <p:nvPr/>
        </p:nvGraphicFramePr>
        <p:xfrm>
          <a:off x="3479760" y="4506840"/>
          <a:ext cx="114300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79760" y="4506840"/>
                    <a:ext cx="11430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2" name=""/>
          <p:cNvGraphicFramePr/>
          <p:nvPr/>
        </p:nvGraphicFramePr>
        <p:xfrm>
          <a:off x="1843200" y="4902120"/>
          <a:ext cx="1942920" cy="389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4902120"/>
                    <a:ext cx="19429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4" name=""/>
          <p:cNvGraphicFramePr/>
          <p:nvPr/>
        </p:nvGraphicFramePr>
        <p:xfrm>
          <a:off x="3849840" y="4902120"/>
          <a:ext cx="1968480" cy="412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64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49840" y="4902120"/>
                    <a:ext cx="1968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6" name=""/>
          <p:cNvGraphicFramePr/>
          <p:nvPr/>
        </p:nvGraphicFramePr>
        <p:xfrm>
          <a:off x="5794200" y="4915080"/>
          <a:ext cx="1716120" cy="366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4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794200" y="4915080"/>
                    <a:ext cx="171612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8" name=""/>
          <p:cNvGraphicFramePr/>
          <p:nvPr/>
        </p:nvGraphicFramePr>
        <p:xfrm>
          <a:off x="4525920" y="5403960"/>
          <a:ext cx="1670040" cy="366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64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25920" y="5403960"/>
                    <a:ext cx="167004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0" name=""/>
          <p:cNvGraphicFramePr/>
          <p:nvPr/>
        </p:nvGraphicFramePr>
        <p:xfrm>
          <a:off x="6267600" y="5268960"/>
          <a:ext cx="1623960" cy="595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65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267600" y="5268960"/>
                    <a:ext cx="16239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B2D00-FA5F-4F93-B2C9-A9B5BFA1ADF7}" type="slidenum">
              <a:t>85</a:t>
            </a:fld>
          </a:p>
        </p:txBody>
      </p:sp>
    </p:spTree>
  </p:cSld>
  <p:transition spd="med">
    <p:diamond/>
  </p:transition>
  <p:timing>
    <p:tnLst>
      <p:par>
        <p:cTn id="2601" dur="indefinite" restart="never" nodeType="tmRoot">
          <p:childTnLst>
            <p:seq>
              <p:cTn id="2602" dur="indefinite" nodeType="mainSeq">
                <p:childTnLst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7" dur="20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2" dur="20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7" dur="20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fill="hold">
                      <p:stCondLst>
                        <p:cond delay="indefinite"/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2" dur="20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7" dur="20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2" dur="20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7" dur="20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2" dur="20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7" dur="20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2" dur="20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7" dur="20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2" dur="20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7" dur="20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2" name=""/>
          <p:cNvGraphicFramePr/>
          <p:nvPr/>
        </p:nvGraphicFramePr>
        <p:xfrm>
          <a:off x="884160" y="1074600"/>
          <a:ext cx="686448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74600"/>
                    <a:ext cx="686448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9E136-6AFA-4EC4-B111-920AC33E6D3E}" type="slidenum">
              <a:t>86</a:t>
            </a:fld>
          </a:p>
        </p:txBody>
      </p:sp>
    </p:spTree>
  </p:cSld>
  <p:transition spd="med">
    <p:diamond/>
  </p:transition>
  <p:timing>
    <p:tnLst>
      <p:par>
        <p:cTn id="2668" dur="indefinite" restart="never" nodeType="tmRoot">
          <p:childTnLst>
            <p:seq>
              <p:cTn id="2669" dur="indefinite" nodeType="mainSeq">
                <p:childTnLst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4" dur="20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9" dur="20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4" dur="20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9" dur="20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4" dur="20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9" dur="20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4" dur="20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9" dur="20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4" dur="20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9" dur="20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4" dur="20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9" dur="20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4" dur="20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"/>
          <p:cNvSpPr/>
          <p:nvPr/>
        </p:nvSpPr>
        <p:spPr>
          <a:xfrm>
            <a:off x="1041480" y="2489040"/>
            <a:ext cx="7940520" cy="592200"/>
          </a:xfrm>
          <a:prstGeom prst="rect">
            <a:avLst/>
          </a:prstGeom>
          <a:solidFill>
            <a:srgbClr val="ff99cc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/>
          </p:nvPr>
        </p:nvSpPr>
        <p:spPr>
          <a:xfrm>
            <a:off x="839520" y="347760"/>
            <a:ext cx="796428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  <a:ea typeface="宋体"/>
              </a:rPr>
              <a:t>例：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656" name=""/>
          <p:cNvGraphicFramePr/>
          <p:nvPr/>
        </p:nvGraphicFramePr>
        <p:xfrm>
          <a:off x="1792440" y="219240"/>
          <a:ext cx="7192800" cy="83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440" y="219240"/>
                    <a:ext cx="71928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8" name=""/>
          <p:cNvGraphicFramePr/>
          <p:nvPr/>
        </p:nvGraphicFramePr>
        <p:xfrm>
          <a:off x="1871640" y="1006560"/>
          <a:ext cx="210996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71640" y="1006560"/>
                    <a:ext cx="21099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0" name=""/>
          <p:cNvGraphicFramePr/>
          <p:nvPr/>
        </p:nvGraphicFramePr>
        <p:xfrm>
          <a:off x="1668600" y="3032280"/>
          <a:ext cx="6564240" cy="141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8600" y="3032280"/>
                    <a:ext cx="656424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2" name=""/>
          <p:cNvGraphicFramePr/>
          <p:nvPr/>
        </p:nvGraphicFramePr>
        <p:xfrm>
          <a:off x="1901880" y="4557600"/>
          <a:ext cx="1977840" cy="4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01880" y="4557600"/>
                    <a:ext cx="19778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4" name=""/>
          <p:cNvGraphicFramePr/>
          <p:nvPr/>
        </p:nvGraphicFramePr>
        <p:xfrm>
          <a:off x="1854360" y="5556240"/>
          <a:ext cx="3524040" cy="1238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54360" y="5556240"/>
                    <a:ext cx="35240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6" name=""/>
          <p:cNvGraphicFramePr/>
          <p:nvPr/>
        </p:nvGraphicFramePr>
        <p:xfrm>
          <a:off x="1073160" y="2549520"/>
          <a:ext cx="7883640" cy="509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73160" y="2549520"/>
                    <a:ext cx="78836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8" name=""/>
          <p:cNvGraphicFramePr/>
          <p:nvPr/>
        </p:nvGraphicFramePr>
        <p:xfrm>
          <a:off x="4132440" y="1042920"/>
          <a:ext cx="1857240" cy="679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6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32440" y="1042920"/>
                    <a:ext cx="185724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0" name=""/>
          <p:cNvGraphicFramePr/>
          <p:nvPr/>
        </p:nvGraphicFramePr>
        <p:xfrm>
          <a:off x="6235560" y="1168560"/>
          <a:ext cx="2260800" cy="401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7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35560" y="1168560"/>
                    <a:ext cx="22608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2" name=""/>
          <p:cNvGraphicFramePr/>
          <p:nvPr/>
        </p:nvGraphicFramePr>
        <p:xfrm>
          <a:off x="1897200" y="1819440"/>
          <a:ext cx="2565360" cy="431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7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897200" y="1819440"/>
                    <a:ext cx="2565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4" name=""/>
          <p:cNvGraphicFramePr/>
          <p:nvPr/>
        </p:nvGraphicFramePr>
        <p:xfrm>
          <a:off x="4648320" y="1569960"/>
          <a:ext cx="1390680" cy="887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67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648320" y="1569960"/>
                    <a:ext cx="13906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6" name=""/>
          <p:cNvGraphicFramePr/>
          <p:nvPr/>
        </p:nvGraphicFramePr>
        <p:xfrm>
          <a:off x="6330960" y="1878120"/>
          <a:ext cx="1914480" cy="438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7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330960" y="1878120"/>
                    <a:ext cx="1914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8" name=""/>
          <p:cNvGraphicFramePr/>
          <p:nvPr/>
        </p:nvGraphicFramePr>
        <p:xfrm>
          <a:off x="3747960" y="4400640"/>
          <a:ext cx="1924200" cy="6476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67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747960" y="4400640"/>
                    <a:ext cx="1924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0" name=""/>
          <p:cNvGraphicFramePr/>
          <p:nvPr/>
        </p:nvGraphicFramePr>
        <p:xfrm>
          <a:off x="1930320" y="5111640"/>
          <a:ext cx="2113200" cy="4860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681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930320" y="5111640"/>
                    <a:ext cx="21132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2" name=""/>
          <p:cNvGraphicFramePr/>
          <p:nvPr/>
        </p:nvGraphicFramePr>
        <p:xfrm>
          <a:off x="4359240" y="4932360"/>
          <a:ext cx="3033720" cy="782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683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359240" y="4932360"/>
                    <a:ext cx="30337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4" name=""/>
          <p:cNvSpPr/>
          <p:nvPr/>
        </p:nvSpPr>
        <p:spPr>
          <a:xfrm>
            <a:off x="992160" y="873000"/>
            <a:ext cx="7964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</a:rPr>
              <a:t>	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768240" y="3392640"/>
            <a:ext cx="7964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992160" y="4456080"/>
            <a:ext cx="7964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</a:rPr>
              <a:t> </a:t>
            </a:r>
            <a:r>
              <a:rPr b="0" lang="zh-CN" sz="2800" spc="-1" strike="noStrike">
                <a:solidFill>
                  <a:srgbClr val="5e5d2f"/>
                </a:solidFill>
                <a:latin typeface="-쉬리M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B6EC3-E940-497F-B003-86A831BAC6A8}" type="slidenum">
              <a:t>87</a:t>
            </a:fld>
          </a:p>
        </p:txBody>
      </p:sp>
    </p:spTree>
  </p:cSld>
  <p:transition spd="med">
    <p:diamond/>
  </p:transition>
  <p:timing>
    <p:tnLst>
      <p:par>
        <p:cTn id="2735" dur="indefinite" restart="never" nodeType="tmRoot">
          <p:childTnLst>
            <p:seq>
              <p:cTn id="2736" dur="indefinite" nodeType="mainSeq">
                <p:childTnLst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1" dur="20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6" dur="20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1" dur="20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20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20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6" dur="20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1" dur="20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77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6" dur="770" fill="hold"/>
                                        <p:tgtEl>
                                          <p:spTgt spid="26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8" dur="77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0" dur="77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6" dur="20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1" dur="20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6" dur="20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1" dur="20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30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/>
          </p:nvPr>
        </p:nvSpPr>
        <p:spPr>
          <a:xfrm>
            <a:off x="1058400" y="144000"/>
            <a:ext cx="9097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e5d2f"/>
                </a:solidFill>
                <a:latin typeface="-쉬리M"/>
              </a:rPr>
              <a:t> </a:t>
            </a:r>
            <a:endParaRPr b="0" lang="en-US" sz="2800" spc="-1" strike="noStrike">
              <a:solidFill>
                <a:srgbClr val="5e5d2f"/>
              </a:solidFill>
              <a:latin typeface="-쉬리M"/>
            </a:endParaRPr>
          </a:p>
        </p:txBody>
      </p:sp>
      <p:graphicFrame>
        <p:nvGraphicFramePr>
          <p:cNvPr id="2688" name=""/>
          <p:cNvGraphicFramePr/>
          <p:nvPr/>
        </p:nvGraphicFramePr>
        <p:xfrm>
          <a:off x="1495440" y="219240"/>
          <a:ext cx="6881760" cy="141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5440" y="219240"/>
                    <a:ext cx="6881760" cy="14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0" name=""/>
          <p:cNvGraphicFramePr/>
          <p:nvPr/>
        </p:nvGraphicFramePr>
        <p:xfrm>
          <a:off x="1071720" y="1614600"/>
          <a:ext cx="4630680" cy="88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71720" y="1614600"/>
                    <a:ext cx="463068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2" name=""/>
          <p:cNvGraphicFramePr/>
          <p:nvPr/>
        </p:nvGraphicFramePr>
        <p:xfrm>
          <a:off x="5816520" y="1617840"/>
          <a:ext cx="2892600" cy="88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16520" y="1617840"/>
                    <a:ext cx="28926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4" name=""/>
          <p:cNvGraphicFramePr/>
          <p:nvPr/>
        </p:nvGraphicFramePr>
        <p:xfrm>
          <a:off x="1430280" y="2449440"/>
          <a:ext cx="3703680" cy="88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30280" y="2449440"/>
                    <a:ext cx="37036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6" name=""/>
          <p:cNvGraphicFramePr/>
          <p:nvPr/>
        </p:nvGraphicFramePr>
        <p:xfrm>
          <a:off x="5802480" y="2674800"/>
          <a:ext cx="1365120" cy="325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02480" y="2674800"/>
                    <a:ext cx="13651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8" name=""/>
          <p:cNvGraphicFramePr/>
          <p:nvPr/>
        </p:nvGraphicFramePr>
        <p:xfrm>
          <a:off x="1411200" y="3290760"/>
          <a:ext cx="3519720" cy="463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11200" y="3290760"/>
                    <a:ext cx="35197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0" name=""/>
          <p:cNvGraphicFramePr/>
          <p:nvPr/>
        </p:nvGraphicFramePr>
        <p:xfrm>
          <a:off x="1023840" y="3747960"/>
          <a:ext cx="3838680" cy="465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23840" y="3747960"/>
                    <a:ext cx="38386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2" name=""/>
          <p:cNvGraphicFramePr/>
          <p:nvPr/>
        </p:nvGraphicFramePr>
        <p:xfrm>
          <a:off x="5240160" y="3747960"/>
          <a:ext cx="3746520" cy="465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0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240160" y="3747960"/>
                    <a:ext cx="37465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4" name=""/>
          <p:cNvGraphicFramePr/>
          <p:nvPr/>
        </p:nvGraphicFramePr>
        <p:xfrm>
          <a:off x="1022400" y="4254480"/>
          <a:ext cx="4441680" cy="511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70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022400" y="4254480"/>
                    <a:ext cx="44416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6" name=""/>
          <p:cNvGraphicFramePr/>
          <p:nvPr/>
        </p:nvGraphicFramePr>
        <p:xfrm>
          <a:off x="5538960" y="4246560"/>
          <a:ext cx="2011320" cy="511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7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538960" y="4246560"/>
                    <a:ext cx="20113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8" name=""/>
          <p:cNvGraphicFramePr/>
          <p:nvPr/>
        </p:nvGraphicFramePr>
        <p:xfrm>
          <a:off x="2668680" y="4741920"/>
          <a:ext cx="2706480" cy="7887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70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668680" y="4741920"/>
                    <a:ext cx="27064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0" name=""/>
          <p:cNvGraphicFramePr/>
          <p:nvPr/>
        </p:nvGraphicFramePr>
        <p:xfrm>
          <a:off x="2400480" y="5575320"/>
          <a:ext cx="4314600" cy="1171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711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400480" y="5575320"/>
                    <a:ext cx="4314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2" name=""/>
          <p:cNvGraphicFramePr/>
          <p:nvPr/>
        </p:nvGraphicFramePr>
        <p:xfrm>
          <a:off x="5538960" y="4676760"/>
          <a:ext cx="2312640" cy="65088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713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538960" y="4676760"/>
                    <a:ext cx="2312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59D9-65AE-4898-B747-01BA1BF1B4AC}" type="slidenum">
              <a:t>88</a:t>
            </a:fld>
          </a:p>
        </p:txBody>
      </p:sp>
    </p:spTree>
  </p:cSld>
  <p:transition spd="med">
    <p:diamond/>
  </p:transition>
  <p:timing>
    <p:tnLst>
      <p:par>
        <p:cTn id="2807" dur="indefinite" restart="never" nodeType="tmRoot">
          <p:childTnLst>
            <p:seq>
              <p:cTn id="2808" dur="indefinite" nodeType="mainSeq">
                <p:childTnLst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1000" fill="hold"/>
                                        <p:tgtEl>
                                          <p:spTgt spid="2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1000" fill="hold"/>
                                        <p:tgtEl>
                                          <p:spTgt spid="2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9" dur="20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4" dur="1000" fill="hold"/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5" dur="1000" fill="hold"/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0" dur="1000"/>
                                        <p:tgtEl>
                                          <p:spTgt spid="2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5" dur="10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6" dur="10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1" dur="10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2" dur="10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7" dur="2000"/>
                                        <p:tgtEl>
                                          <p:spTgt spid="2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2" dur="1000" fill="hold"/>
                                        <p:tgtEl>
                                          <p:spTgt spid="2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3" dur="1000" fill="hold"/>
                                        <p:tgtEl>
                                          <p:spTgt spid="2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8" dur="20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1000" fill="hold"/>
                                        <p:tgtEl>
                                          <p:spTgt spid="2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1000" fill="hold"/>
                                        <p:tgtEl>
                                          <p:spTgt spid="2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9" dur="20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1000" fill="hold"/>
                                        <p:tgtEl>
                                          <p:spTgt spid="2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1000" fill="hold"/>
                                        <p:tgtEl>
                                          <p:spTgt spid="2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1044360" y="271080"/>
            <a:ext cx="34131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b91"/>
                </a:solidFill>
                <a:latin typeface="宋体"/>
                <a:ea typeface="宋体"/>
              </a:rPr>
              <a:t>复习思考题 </a:t>
            </a:r>
            <a:r>
              <a:rPr b="1" lang="zh-CN" sz="2400" spc="-1" strike="noStrike">
                <a:solidFill>
                  <a:srgbClr val="3f3b91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3f3b91"/>
              </a:solidFill>
              <a:latin typeface="-윤명조240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1023480" y="1145880"/>
            <a:ext cx="7829640" cy="54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什么量被称为随机变量？它与样本空间的关系如何？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满足什么条件的试验称为“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重贝努里试验”？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事件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一次试验中发生的概率为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p&l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若在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独立重复的试验中，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发生的总次数为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则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服从什么分布？并请导出：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什么条件下使用泊松近似公式等式较为合适？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什么样的随机变量称为连续型的？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事件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为不可能事件，则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(A)=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反之成立吗？又若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为必然事件，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则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(A)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反之成立吗？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连续型随机变量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某一区间上的概率密度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则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落在该区间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概率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吗？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8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随机变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区间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a,b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均匀分布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则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落入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a,b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任意一子区间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的概率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)/(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-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对吗？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  <a:p>
            <a:pPr marL="343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9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μ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σ</a:t>
            </a:r>
            <a:r>
              <a:rPr b="0" i="1" lang="zh-CN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则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概率密度函数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(x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=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μ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处值最大，因此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落在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μ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附近的概率最大，对吗？</a:t>
            </a:r>
            <a:endParaRPr b="0" lang="en-US" sz="2000" spc="-1" strike="noStrike">
              <a:solidFill>
                <a:srgbClr val="000000"/>
              </a:solidFill>
              <a:latin typeface="-윤명조240"/>
            </a:endParaRPr>
          </a:p>
        </p:txBody>
      </p:sp>
      <p:graphicFrame>
        <p:nvGraphicFramePr>
          <p:cNvPr id="2716" name=""/>
          <p:cNvGraphicFramePr/>
          <p:nvPr/>
        </p:nvGraphicFramePr>
        <p:xfrm>
          <a:off x="1305000" y="2496960"/>
          <a:ext cx="41670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2496960"/>
                    <a:ext cx="4167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B5EF8-277B-440B-8FBA-A96EFA8A4FD8}" type="slidenum">
              <a:t>89</a:t>
            </a:fld>
          </a:p>
        </p:txBody>
      </p:sp>
    </p:spTree>
  </p:cSld>
  <p:transition spd="med">
    <p:diamond/>
  </p:transition>
  <p:timing>
    <p:tnLst>
      <p:par>
        <p:cTn id="2876" dur="indefinite" restart="never" nodeType="tmRoot">
          <p:childTnLst>
            <p:seq>
              <p:cTn id="2877" dur="indefinite" nodeType="mainSeq">
                <p:childTnLst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2" dur="10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3" dur="10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-22813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宋体"/>
                <a:ea typeface="Arial"/>
              </a:rPr>
              <a:t>§1 </a:t>
            </a:r>
            <a:r>
              <a:rPr b="0" lang="zh-CN" sz="4000" spc="-1" strike="noStrike">
                <a:solidFill>
                  <a:srgbClr val="003399"/>
                </a:solidFill>
                <a:latin typeface="宋体"/>
              </a:rPr>
              <a:t>随机试验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74400" y="2136240"/>
            <a:ext cx="8429400" cy="17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确定性现象：结果确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不确定性现象：结果不确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6288120" y="1079640"/>
            <a:ext cx="2015640" cy="1082880"/>
            <a:chOff x="6288120" y="1079640"/>
            <a:chExt cx="2015640" cy="1082880"/>
          </a:xfrm>
        </p:grpSpPr>
        <p:sp>
          <p:nvSpPr>
            <p:cNvPr id="920" name=""/>
            <p:cNvSpPr/>
            <p:nvPr/>
          </p:nvSpPr>
          <p:spPr>
            <a:xfrm>
              <a:off x="6288120" y="1217880"/>
              <a:ext cx="215640" cy="7207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554520" y="1079640"/>
              <a:ext cx="15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确定性现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03760" y="179424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不确定性现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6437160" y="45244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729320" y="502920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不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713120" y="5533920"/>
            <a:ext cx="21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不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68360" y="1393920"/>
            <a:ext cx="8429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界与社会生活中的两类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6080" y="4043520"/>
            <a:ext cx="84294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向上抛出的物体会掉落到地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16080" y="4568760"/>
            <a:ext cx="84294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明天天气状况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16080" y="5075280"/>
            <a:ext cx="84294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买了彩票会中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48B6-A61B-4B5D-B981-EFFA07F7A5F5}" type="slidenum">
              <a:t>9</a:t>
            </a:fld>
          </a:p>
        </p:txBody>
      </p:sp>
    </p:spTree>
  </p:cSld>
  <p:transition spd="med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/>
          </p:nvPr>
        </p:nvSpPr>
        <p:spPr>
          <a:xfrm>
            <a:off x="1962000" y="2431800"/>
            <a:ext cx="55548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ff66"/>
                </a:solidFill>
                <a:latin typeface="Tahoma"/>
                <a:ea typeface="宋体"/>
              </a:rPr>
              <a:t>概率论完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9" name="" descr=""/>
          <p:cNvPicPr/>
          <p:nvPr/>
        </p:nvPicPr>
        <p:blipFill>
          <a:blip r:embed="rId1"/>
          <a:stretch/>
        </p:blipFill>
        <p:spPr>
          <a:xfrm>
            <a:off x="8015400" y="6032520"/>
            <a:ext cx="438120" cy="571320"/>
          </a:xfrm>
          <a:prstGeom prst="rect">
            <a:avLst/>
          </a:prstGeom>
          <a:ln w="0">
            <a:noFill/>
          </a:ln>
        </p:spPr>
      </p:pic>
      <p:pic>
        <p:nvPicPr>
          <p:cNvPr id="2720" name="" descr=""/>
          <p:cNvPicPr/>
          <p:nvPr/>
        </p:nvPicPr>
        <p:blipFill>
          <a:blip r:embed="rId2"/>
          <a:stretch/>
        </p:blipFill>
        <p:spPr>
          <a:xfrm>
            <a:off x="4091040" y="1992240"/>
            <a:ext cx="1008000" cy="1040040"/>
          </a:xfrm>
          <a:prstGeom prst="rect">
            <a:avLst/>
          </a:prstGeom>
          <a:ln w="0">
            <a:noFill/>
          </a:ln>
        </p:spPr>
      </p:pic>
      <p:pic>
        <p:nvPicPr>
          <p:cNvPr id="2721" name="" descr=""/>
          <p:cNvPicPr/>
          <p:nvPr/>
        </p:nvPicPr>
        <p:blipFill>
          <a:blip r:embed="rId3"/>
          <a:stretch/>
        </p:blipFill>
        <p:spPr>
          <a:xfrm>
            <a:off x="747720" y="22575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722" name="" descr=""/>
          <p:cNvPicPr/>
          <p:nvPr/>
        </p:nvPicPr>
        <p:blipFill>
          <a:blip r:embed="rId4"/>
          <a:stretch/>
        </p:blipFill>
        <p:spPr>
          <a:xfrm>
            <a:off x="431640" y="58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723" name="" descr=""/>
          <p:cNvPicPr/>
          <p:nvPr/>
        </p:nvPicPr>
        <p:blipFill>
          <a:blip r:embed="rId5"/>
          <a:stretch/>
        </p:blipFill>
        <p:spPr>
          <a:xfrm>
            <a:off x="5038560" y="200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724" name="" descr=""/>
          <p:cNvPicPr/>
          <p:nvPr/>
        </p:nvPicPr>
        <p:blipFill>
          <a:blip r:embed="rId6"/>
          <a:stretch/>
        </p:blipFill>
        <p:spPr>
          <a:xfrm>
            <a:off x="3527280" y="38268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725" name="" descr=""/>
          <p:cNvPicPr/>
          <p:nvPr/>
        </p:nvPicPr>
        <p:blipFill>
          <a:blip r:embed="rId7"/>
          <a:stretch/>
        </p:blipFill>
        <p:spPr>
          <a:xfrm>
            <a:off x="3821040" y="441792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2726" name="" descr=""/>
          <p:cNvPicPr/>
          <p:nvPr/>
        </p:nvPicPr>
        <p:blipFill>
          <a:blip r:embed="rId8"/>
          <a:stretch/>
        </p:blipFill>
        <p:spPr>
          <a:xfrm>
            <a:off x="3208320" y="2427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727" name="" descr=""/>
          <p:cNvPicPr/>
          <p:nvPr/>
        </p:nvPicPr>
        <p:blipFill>
          <a:blip r:embed="rId9"/>
          <a:stretch/>
        </p:blipFill>
        <p:spPr>
          <a:xfrm>
            <a:off x="2151000" y="22176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fld id="{025AA05E-A176-4843-9040-388A9741D7B0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11:35:33Z</dcterms:created>
  <dc:creator>lencho</dc:creator>
  <dc:description/>
  <dc:language>en-US</dc:language>
  <cp:lastModifiedBy>匿名用户</cp:lastModifiedBy>
  <dcterms:modified xsi:type="dcterms:W3CDTF">2010-08-10T08:15:26Z</dcterms:modified>
  <cp:revision>5856</cp:revision>
  <dc:subject/>
  <dc:title>概率论与数理统计        </dc:title>
</cp:coreProperties>
</file>