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974-CDA6-4ED4-B0EB-A86D6DB0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CB3-B5D4-4BD7-8C7A-6525744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9A1-02D7-4516-A80C-31537BD5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36F-EDDB-415B-B476-9C990452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B78-46F1-44B6-B0F7-E34F790F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4F2-C5E0-4933-8ED3-E1312C9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C6F-3769-40CE-A379-B2A16DCC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F51-A5A8-4CDF-AC0E-70BAD59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9D0-E85D-4C26-B88B-76C84202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E72-1DBD-4A75-BF67-E41F242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2FB-C70A-404E-AEE2-AC2F8CC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4D5-8C0A-4D0F-B1A1-F02784D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6FA-8D32-4364-9192-9F2B5470E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0760" y="3427560"/>
            <a:ext cx="9717120" cy="1585080"/>
            <a:chOff x="-320760" y="3427560"/>
            <a:chExt cx="971712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0760" y="3427560"/>
              <a:ext cx="971712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0400" y="4581000"/>
              <a:ext cx="971712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320760" y="1765440"/>
            <a:ext cx="9717120" cy="2815560"/>
            <a:chOff x="-320760" y="1765440"/>
            <a:chExt cx="971712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0760" y="1765440"/>
              <a:ext cx="971712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0400" y="3474720"/>
              <a:ext cx="971712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353880" y="1916280"/>
            <a:ext cx="30992040" cy="1874520"/>
            <a:chOff x="-353880" y="1916280"/>
            <a:chExt cx="3099204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80960" y="1916280"/>
              <a:ext cx="304920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-353880" y="2565360"/>
              <a:ext cx="30992040" cy="862920"/>
              <a:chOff x="-353880" y="2565360"/>
              <a:chExt cx="3099204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3880" y="2781000"/>
                <a:ext cx="53604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××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-210960" y="1959120"/>
            <a:ext cx="30849120" cy="1901520"/>
            <a:chOff x="-210960" y="1959120"/>
            <a:chExt cx="30849120" cy="1901520"/>
          </a:xfrm>
        </p:grpSpPr>
        <p:pic>
          <p:nvPicPr>
            <p:cNvPr id="77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3560" y="1959120"/>
              <a:ext cx="310968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-210960" y="2565360"/>
              <a:ext cx="30849120" cy="862920"/>
              <a:chOff x="-210960" y="2565360"/>
              <a:chExt cx="30849120" cy="862920"/>
            </a:xfrm>
          </p:grpSpPr>
          <p:sp>
            <p:nvSpPr>
              <p:cNvPr id="79" name="Rectangle 41"/>
              <p:cNvSpPr/>
              <p:nvPr/>
            </p:nvSpPr>
            <p:spPr>
              <a:xfrm flipH="1">
                <a:off x="15374160" y="2565360"/>
                <a:ext cx="152636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42"/>
              <p:cNvSpPr/>
              <p:nvPr/>
            </p:nvSpPr>
            <p:spPr>
              <a:xfrm>
                <a:off x="-210960" y="2781000"/>
                <a:ext cx="521748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Picture 2" descr="彩虹1"/>
          <p:cNvPicPr/>
          <p:nvPr/>
        </p:nvPicPr>
        <p:blipFill>
          <a:blip r:embed="rId3"/>
          <a:stretch/>
        </p:blipFill>
        <p:spPr>
          <a:xfrm>
            <a:off x="-911160" y="2152800"/>
            <a:ext cx="10969560" cy="2552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5520" y="4871880"/>
            <a:ext cx="10069560" cy="2713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86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4" descr="波浪前1.png"/>
          <p:cNvPicPr/>
          <p:nvPr/>
        </p:nvPicPr>
        <p:blipFill>
          <a:blip r:embed="rId8"/>
          <a:stretch/>
        </p:blipFill>
        <p:spPr>
          <a:xfrm>
            <a:off x="-782640" y="4944960"/>
            <a:ext cx="10640880" cy="2341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96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39680"/>
            <a:ext cx="2428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0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4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-2142000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cp:keywords/>
  <dc:language>en-US</dc:language>
  <cp:lastModifiedBy>Sky123.Org</cp:lastModifiedBy>
  <cp:lastPrinted>1899-12-30T00:00:00Z</cp:lastPrinted>
  <dcterms:modified xsi:type="dcterms:W3CDTF">2015-06-02T06:02:09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