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4DE-1421-4E08-99A8-D5ED15DA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85C-CFF9-4C3D-8066-FF8093E2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592-90B8-4F82-9F68-D438431F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EC6-CA21-4FFF-9E97-A3E6FD49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FAA-7C4F-46A2-B0B6-7834FCE0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FB8-9FF5-4A3C-8FCE-66933EDC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6FE-DB5F-47CC-B261-DCF53B6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683-67ED-4530-A68B-8118E5DF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CCF-FBD1-45E1-9E57-1A7824CD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F9D-2588-4C9E-A3EA-6EE57AC6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AA7-8560-4838-ABF8-ED896C18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4C7-B5C1-4C45-AEC4-8134B277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94D9-74ED-49D8-9D45-DBC5272F98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0760" y="3427560"/>
            <a:ext cx="9717120" cy="1585080"/>
            <a:chOff x="-320760" y="3427560"/>
            <a:chExt cx="971712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0760" y="3427560"/>
              <a:ext cx="971712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0400" y="4581000"/>
              <a:ext cx="971712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320760" y="1765440"/>
            <a:ext cx="9717120" cy="2815560"/>
            <a:chOff x="-320760" y="1765440"/>
            <a:chExt cx="971712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0760" y="1765440"/>
              <a:ext cx="971712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0400" y="3474720"/>
              <a:ext cx="971712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353880" y="1916280"/>
            <a:ext cx="30992040" cy="1874520"/>
            <a:chOff x="-353880" y="1916280"/>
            <a:chExt cx="3099204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80960" y="1916280"/>
              <a:ext cx="304920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-353880" y="2565360"/>
              <a:ext cx="30992040" cy="862920"/>
              <a:chOff x="-353880" y="2565360"/>
              <a:chExt cx="3099204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3880" y="2781000"/>
                <a:ext cx="53604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×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210960" y="1959120"/>
            <a:ext cx="30849120" cy="1901520"/>
            <a:chOff x="-210960" y="1959120"/>
            <a:chExt cx="30849120" cy="1901520"/>
          </a:xfrm>
        </p:grpSpPr>
        <p:pic>
          <p:nvPicPr>
            <p:cNvPr id="77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3560" y="1959120"/>
              <a:ext cx="310968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-210960" y="2565360"/>
              <a:ext cx="30849120" cy="862920"/>
              <a:chOff x="-210960" y="2565360"/>
              <a:chExt cx="30849120" cy="862920"/>
            </a:xfrm>
          </p:grpSpPr>
          <p:sp>
            <p:nvSpPr>
              <p:cNvPr id="79" name="Rectangle 41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2"/>
              <p:cNvSpPr/>
              <p:nvPr/>
            </p:nvSpPr>
            <p:spPr>
              <a:xfrm>
                <a:off x="-210960" y="2781000"/>
                <a:ext cx="5217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Picture 2" descr="彩虹1"/>
          <p:cNvPicPr/>
          <p:nvPr/>
        </p:nvPicPr>
        <p:blipFill>
          <a:blip r:embed="rId3"/>
          <a:stretch/>
        </p:blipFill>
        <p:spPr>
          <a:xfrm>
            <a:off x="-911160" y="2152800"/>
            <a:ext cx="10969560" cy="2552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86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4" descr="波浪前1.png"/>
          <p:cNvPicPr/>
          <p:nvPr/>
        </p:nvPicPr>
        <p:blipFill>
          <a:blip r:embed="rId8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96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0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4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cp:keywords/>
  <dc:language>en-US</dc:language>
  <cp:lastModifiedBy>Sky123.Org</cp:lastModifiedBy>
  <cp:lastPrinted>1899-12-30T00:00:00Z</cp:lastPrinted>
  <dcterms:modified xsi:type="dcterms:W3CDTF">2015-06-02T06:02:09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