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3B8-B684-4895-96EC-639FCE33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C9B-0C06-4F48-8BDD-575EB39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61A-7125-44EA-BF7C-B2F13A2C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C1A-0134-4104-A807-F08B71CF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68A-EAAA-45D6-A845-8DEE39BE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83A-8615-4A62-B340-D5ACB7A1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EBF-77BF-4224-B3D5-3DDA91B3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6FE-5333-4D92-AA75-0DBBB42E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F3C-594D-4F92-9935-8589852A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ED6-2279-4A3A-A8FC-7D759B1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2BF-96C5-4E5C-A4CE-9359534A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70A-40E0-4781-87E2-220B99EB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1FF5-3D7B-469B-9F8D-8E898FB832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0760" y="3427560"/>
            <a:ext cx="9717120" cy="1585080"/>
            <a:chOff x="-320760" y="3427560"/>
            <a:chExt cx="971712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0760" y="3427560"/>
              <a:ext cx="971712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0400" y="4581000"/>
              <a:ext cx="971712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-320760" y="1765440"/>
            <a:ext cx="9717120" cy="2815560"/>
            <a:chOff x="-320760" y="1765440"/>
            <a:chExt cx="971712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0760" y="1765440"/>
              <a:ext cx="971712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0400" y="3474720"/>
              <a:ext cx="971712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353880" y="1916280"/>
            <a:ext cx="30992040" cy="1874520"/>
            <a:chOff x="-353880" y="1916280"/>
            <a:chExt cx="30992040" cy="1874520"/>
          </a:xfrm>
        </p:grpSpPr>
        <p:pic>
          <p:nvPicPr>
            <p:cNvPr id="51" name="Picture 24" descr="蓝2"/>
            <p:cNvPicPr/>
            <p:nvPr/>
          </p:nvPicPr>
          <p:blipFill>
            <a:blip r:embed="rId5"/>
            <a:stretch/>
          </p:blipFill>
          <p:spPr>
            <a:xfrm>
              <a:off x="4980960" y="1916280"/>
              <a:ext cx="3049200" cy="18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-353880" y="2565360"/>
              <a:ext cx="30992040" cy="862920"/>
              <a:chOff x="-353880" y="2565360"/>
              <a:chExt cx="30992040" cy="862920"/>
            </a:xfrm>
          </p:grpSpPr>
          <p:sp>
            <p:nvSpPr>
              <p:cNvPr id="53" name="Rectangle 34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48"/>
              <p:cNvSpPr/>
              <p:nvPr/>
            </p:nvSpPr>
            <p:spPr>
              <a:xfrm>
                <a:off x="-353880" y="2781000"/>
                <a:ext cx="536040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6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4" descr="波浪前1.png"/>
          <p:cNvPicPr/>
          <p:nvPr/>
        </p:nvPicPr>
        <p:blipFill>
          <a:blip r:embed="rId7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6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0" descr="图片2.png"/>
          <p:cNvPicPr/>
          <p:nvPr/>
        </p:nvPicPr>
        <p:blipFill>
          <a:blip r:embed="rId9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84360" y="1628640"/>
            <a:ext cx="29955960" cy="1530360"/>
            <a:chOff x="684360" y="1628640"/>
            <a:chExt cx="29955960" cy="1530360"/>
          </a:xfrm>
        </p:grpSpPr>
        <p:pic>
          <p:nvPicPr>
            <p:cNvPr id="70" name="Picture 27" descr="蓝1"/>
            <p:cNvPicPr/>
            <p:nvPr/>
          </p:nvPicPr>
          <p:blipFill>
            <a:blip r:embed="rId10"/>
            <a:stretch/>
          </p:blipFill>
          <p:spPr>
            <a:xfrm>
              <a:off x="684360" y="1773000"/>
              <a:ext cx="511020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7" descr="蓝1"/>
          <p:cNvPicPr/>
          <p:nvPr/>
        </p:nvPicPr>
        <p:blipFill>
          <a:blip r:embed="rId11"/>
          <a:stretch/>
        </p:blipFill>
        <p:spPr>
          <a:xfrm>
            <a:off x="684360" y="1773360"/>
            <a:ext cx="5109840" cy="138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蓝2"/>
          <p:cNvPicPr/>
          <p:nvPr/>
        </p:nvPicPr>
        <p:blipFill>
          <a:blip r:embed="rId12"/>
          <a:stretch/>
        </p:blipFill>
        <p:spPr>
          <a:xfrm>
            <a:off x="4978440" y="1916280"/>
            <a:ext cx="3049560" cy="1874520"/>
          </a:xfrm>
          <a:prstGeom prst="rect">
            <a:avLst/>
          </a:prstGeom>
          <a:ln w="0">
            <a:noFill/>
          </a:ln>
        </p:spPr>
      </p:pic>
      <p:sp>
        <p:nvSpPr>
          <p:cNvPr id="74" name="副标题 2"/>
          <p:cNvSpPr/>
          <p:nvPr/>
        </p:nvSpPr>
        <p:spPr>
          <a:xfrm>
            <a:off x="2556000" y="4005360"/>
            <a:ext cx="5472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×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-210960" y="1959120"/>
            <a:ext cx="30849120" cy="1901520"/>
            <a:chOff x="-210960" y="1959120"/>
            <a:chExt cx="30849120" cy="1901520"/>
          </a:xfrm>
        </p:grpSpPr>
        <p:pic>
          <p:nvPicPr>
            <p:cNvPr id="77" name="Picture 24" descr="红2"/>
            <p:cNvPicPr/>
            <p:nvPr/>
          </p:nvPicPr>
          <p:blipFill>
            <a:blip r:embed="rId2"/>
            <a:stretch/>
          </p:blipFill>
          <p:spPr>
            <a:xfrm>
              <a:off x="4993560" y="1959120"/>
              <a:ext cx="3109680" cy="19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-210960" y="2565360"/>
              <a:ext cx="30849120" cy="862920"/>
              <a:chOff x="-210960" y="2565360"/>
              <a:chExt cx="30849120" cy="862920"/>
            </a:xfrm>
          </p:grpSpPr>
          <p:sp>
            <p:nvSpPr>
              <p:cNvPr id="79" name="Rectangle 41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2"/>
              <p:cNvSpPr/>
              <p:nvPr/>
            </p:nvSpPr>
            <p:spPr>
              <a:xfrm>
                <a:off x="-210960" y="2781000"/>
                <a:ext cx="5217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Picture 2" descr="彩虹1"/>
          <p:cNvPicPr/>
          <p:nvPr/>
        </p:nvPicPr>
        <p:blipFill>
          <a:blip r:embed="rId3"/>
          <a:stretch/>
        </p:blipFill>
        <p:spPr>
          <a:xfrm>
            <a:off x="-911160" y="2152800"/>
            <a:ext cx="10969560" cy="2552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波浪后2.png"/>
          <p:cNvPicPr/>
          <p:nvPr/>
        </p:nvPicPr>
        <p:blipFill>
          <a:blip r:embed="rId4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1.png"/>
          <p:cNvPicPr/>
          <p:nvPr/>
        </p:nvPicPr>
        <p:blipFill>
          <a:blip r:embed="rId5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1.png"/>
          <p:cNvPicPr/>
          <p:nvPr/>
        </p:nvPicPr>
        <p:blipFill>
          <a:blip r:embed="rId6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86" name="图片 23" descr="人物.png"/>
            <p:cNvPicPr/>
            <p:nvPr/>
          </p:nvPicPr>
          <p:blipFill>
            <a:blip r:embed="rId7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4" descr="波浪前1.png"/>
          <p:cNvPicPr/>
          <p:nvPr/>
        </p:nvPicPr>
        <p:blipFill>
          <a:blip r:embed="rId8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9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9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96" name="图片 26" descr="人物倒影.png"/>
            <p:cNvPicPr/>
            <p:nvPr/>
          </p:nvPicPr>
          <p:blipFill>
            <a:blip r:embed="rId9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图片 30" descr="图片2.png"/>
          <p:cNvPicPr/>
          <p:nvPr/>
        </p:nvPicPr>
        <p:blipFill>
          <a:blip r:embed="rId10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27120" y="1628640"/>
            <a:ext cx="30013200" cy="1541520"/>
            <a:chOff x="627120" y="1628640"/>
            <a:chExt cx="30013200" cy="1541520"/>
          </a:xfrm>
        </p:grpSpPr>
        <p:pic>
          <p:nvPicPr>
            <p:cNvPr id="100" name="Picture 23" descr="红1"/>
            <p:cNvPicPr/>
            <p:nvPr/>
          </p:nvPicPr>
          <p:blipFill>
            <a:blip r:embed="rId11"/>
            <a:stretch/>
          </p:blipFill>
          <p:spPr>
            <a:xfrm>
              <a:off x="627120" y="1773000"/>
              <a:ext cx="5203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5" descr="红1"/>
          <p:cNvPicPr/>
          <p:nvPr/>
        </p:nvPicPr>
        <p:blipFill>
          <a:blip r:embed="rId12"/>
          <a:stretch/>
        </p:blipFill>
        <p:spPr>
          <a:xfrm>
            <a:off x="627120" y="1773360"/>
            <a:ext cx="5203800" cy="1396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红2"/>
          <p:cNvPicPr/>
          <p:nvPr/>
        </p:nvPicPr>
        <p:blipFill>
          <a:blip r:embed="rId13"/>
          <a:stretch/>
        </p:blipFill>
        <p:spPr>
          <a:xfrm>
            <a:off x="4991040" y="1959120"/>
            <a:ext cx="3110040" cy="1901520"/>
          </a:xfrm>
          <a:prstGeom prst="rect">
            <a:avLst/>
          </a:prstGeom>
          <a:ln w="0">
            <a:noFill/>
          </a:ln>
        </p:spPr>
      </p:pic>
      <p:sp>
        <p:nvSpPr>
          <p:cNvPr id="104" name="副标题 2"/>
          <p:cNvSpPr/>
          <p:nvPr/>
        </p:nvSpPr>
        <p:spPr>
          <a:xfrm>
            <a:off x="2484360" y="4076640"/>
            <a:ext cx="6372360" cy="7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黑体"/>
              </a:rPr>
              <a:t>××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小学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届毕业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5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7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78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cp:keywords/>
  <dc:language>en-US</dc:language>
  <cp:lastModifiedBy>Sky123.Org</cp:lastModifiedBy>
  <cp:lastPrinted>1899-12-30T00:00:00Z</cp:lastPrinted>
  <dcterms:modified xsi:type="dcterms:W3CDTF">2015-06-02T06:02:09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