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FD0-A20C-418F-A363-05022EAE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D0B-5426-4F15-917C-95B395C2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861-4C36-4549-BD79-D4465C11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1B7-D993-4963-9CEC-4D23F4FC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50C-66A2-4B28-8CA1-8FD95360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66C-9CC8-4307-B196-0E07A203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2B6-676A-4983-8D2C-82568A6F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97A-9894-479C-9DAB-1DB9DC55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EA5-4791-4ADD-B745-FE7928AA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0DC-96DF-4CAC-974F-00E8010C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516-8EB4-45EA-8E29-4774064E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DFF-4288-4166-8076-9C89EEC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40AE-61A5-41C0-91BE-EDFFB87506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0760" y="3427560"/>
            <a:ext cx="9717120" cy="1585080"/>
            <a:chOff x="-320760" y="3427560"/>
            <a:chExt cx="971712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0760" y="3427560"/>
              <a:ext cx="971712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0400" y="4581000"/>
              <a:ext cx="971712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-320760" y="1765440"/>
            <a:ext cx="9717120" cy="2815560"/>
            <a:chOff x="-320760" y="1765440"/>
            <a:chExt cx="971712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0760" y="1765440"/>
              <a:ext cx="971712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0400" y="3474720"/>
              <a:ext cx="971712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353880" y="1916280"/>
            <a:ext cx="30992040" cy="1874520"/>
            <a:chOff x="-353880" y="1916280"/>
            <a:chExt cx="30992040" cy="1874520"/>
          </a:xfrm>
        </p:grpSpPr>
        <p:pic>
          <p:nvPicPr>
            <p:cNvPr id="51" name="Picture 24" descr="蓝2"/>
            <p:cNvPicPr/>
            <p:nvPr/>
          </p:nvPicPr>
          <p:blipFill>
            <a:blip r:embed="rId5"/>
            <a:stretch/>
          </p:blipFill>
          <p:spPr>
            <a:xfrm>
              <a:off x="4980960" y="1916280"/>
              <a:ext cx="3049200" cy="18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-353880" y="2565360"/>
              <a:ext cx="30992040" cy="862920"/>
              <a:chOff x="-353880" y="2565360"/>
              <a:chExt cx="30992040" cy="862920"/>
            </a:xfrm>
          </p:grpSpPr>
          <p:sp>
            <p:nvSpPr>
              <p:cNvPr id="53" name="Rectangle 34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48"/>
              <p:cNvSpPr/>
              <p:nvPr/>
            </p:nvSpPr>
            <p:spPr>
              <a:xfrm>
                <a:off x="-353880" y="2781000"/>
                <a:ext cx="536040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6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4" descr="波浪前1.png"/>
          <p:cNvPicPr/>
          <p:nvPr/>
        </p:nvPicPr>
        <p:blipFill>
          <a:blip r:embed="rId7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6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0" descr="图片2.png"/>
          <p:cNvPicPr/>
          <p:nvPr/>
        </p:nvPicPr>
        <p:blipFill>
          <a:blip r:embed="rId9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84360" y="1628640"/>
            <a:ext cx="29955960" cy="1530360"/>
            <a:chOff x="684360" y="1628640"/>
            <a:chExt cx="29955960" cy="1530360"/>
          </a:xfrm>
        </p:grpSpPr>
        <p:pic>
          <p:nvPicPr>
            <p:cNvPr id="70" name="Picture 27" descr="蓝1"/>
            <p:cNvPicPr/>
            <p:nvPr/>
          </p:nvPicPr>
          <p:blipFill>
            <a:blip r:embed="rId10"/>
            <a:stretch/>
          </p:blipFill>
          <p:spPr>
            <a:xfrm>
              <a:off x="684360" y="1773000"/>
              <a:ext cx="511020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7" descr="蓝1"/>
          <p:cNvPicPr/>
          <p:nvPr/>
        </p:nvPicPr>
        <p:blipFill>
          <a:blip r:embed="rId11"/>
          <a:stretch/>
        </p:blipFill>
        <p:spPr>
          <a:xfrm>
            <a:off x="684360" y="1773360"/>
            <a:ext cx="5109840" cy="138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蓝2"/>
          <p:cNvPicPr/>
          <p:nvPr/>
        </p:nvPicPr>
        <p:blipFill>
          <a:blip r:embed="rId12"/>
          <a:stretch/>
        </p:blipFill>
        <p:spPr>
          <a:xfrm>
            <a:off x="4978440" y="1916280"/>
            <a:ext cx="3049560" cy="1874520"/>
          </a:xfrm>
          <a:prstGeom prst="rect">
            <a:avLst/>
          </a:prstGeom>
          <a:ln w="0">
            <a:noFill/>
          </a:ln>
        </p:spPr>
      </p:pic>
      <p:sp>
        <p:nvSpPr>
          <p:cNvPr id="74" name="副标题 2"/>
          <p:cNvSpPr/>
          <p:nvPr/>
        </p:nvSpPr>
        <p:spPr>
          <a:xfrm>
            <a:off x="2556000" y="4005360"/>
            <a:ext cx="5472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×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-210960" y="1959120"/>
            <a:ext cx="30849120" cy="1901520"/>
            <a:chOff x="-210960" y="1959120"/>
            <a:chExt cx="30849120" cy="1901520"/>
          </a:xfrm>
        </p:grpSpPr>
        <p:pic>
          <p:nvPicPr>
            <p:cNvPr id="77" name="Picture 24" descr="红2"/>
            <p:cNvPicPr/>
            <p:nvPr/>
          </p:nvPicPr>
          <p:blipFill>
            <a:blip r:embed="rId2"/>
            <a:stretch/>
          </p:blipFill>
          <p:spPr>
            <a:xfrm>
              <a:off x="4993560" y="1959120"/>
              <a:ext cx="3109680" cy="19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-210960" y="2565360"/>
              <a:ext cx="30849120" cy="862920"/>
              <a:chOff x="-210960" y="2565360"/>
              <a:chExt cx="30849120" cy="862920"/>
            </a:xfrm>
          </p:grpSpPr>
          <p:sp>
            <p:nvSpPr>
              <p:cNvPr id="79" name="Rectangle 41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2"/>
              <p:cNvSpPr/>
              <p:nvPr/>
            </p:nvSpPr>
            <p:spPr>
              <a:xfrm>
                <a:off x="-210960" y="2781000"/>
                <a:ext cx="5217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Picture 2" descr="彩虹1"/>
          <p:cNvPicPr/>
          <p:nvPr/>
        </p:nvPicPr>
        <p:blipFill>
          <a:blip r:embed="rId3"/>
          <a:stretch/>
        </p:blipFill>
        <p:spPr>
          <a:xfrm>
            <a:off x="-911160" y="2152800"/>
            <a:ext cx="10969560" cy="2552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波浪后2.png"/>
          <p:cNvPicPr/>
          <p:nvPr/>
        </p:nvPicPr>
        <p:blipFill>
          <a:blip r:embed="rId4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1.png"/>
          <p:cNvPicPr/>
          <p:nvPr/>
        </p:nvPicPr>
        <p:blipFill>
          <a:blip r:embed="rId5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1.png"/>
          <p:cNvPicPr/>
          <p:nvPr/>
        </p:nvPicPr>
        <p:blipFill>
          <a:blip r:embed="rId6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86" name="图片 23" descr="人物.png"/>
            <p:cNvPicPr/>
            <p:nvPr/>
          </p:nvPicPr>
          <p:blipFill>
            <a:blip r:embed="rId7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4" descr="波浪前1.png"/>
          <p:cNvPicPr/>
          <p:nvPr/>
        </p:nvPicPr>
        <p:blipFill>
          <a:blip r:embed="rId8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9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9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96" name="图片 26" descr="人物倒影.png"/>
            <p:cNvPicPr/>
            <p:nvPr/>
          </p:nvPicPr>
          <p:blipFill>
            <a:blip r:embed="rId9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图片 30" descr="图片2.png"/>
          <p:cNvPicPr/>
          <p:nvPr/>
        </p:nvPicPr>
        <p:blipFill>
          <a:blip r:embed="rId10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27120" y="1628640"/>
            <a:ext cx="30013200" cy="1541520"/>
            <a:chOff x="627120" y="1628640"/>
            <a:chExt cx="30013200" cy="1541520"/>
          </a:xfrm>
        </p:grpSpPr>
        <p:pic>
          <p:nvPicPr>
            <p:cNvPr id="100" name="Picture 23" descr="红1"/>
            <p:cNvPicPr/>
            <p:nvPr/>
          </p:nvPicPr>
          <p:blipFill>
            <a:blip r:embed="rId11"/>
            <a:stretch/>
          </p:blipFill>
          <p:spPr>
            <a:xfrm>
              <a:off x="627120" y="1773000"/>
              <a:ext cx="5203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5" descr="红1"/>
          <p:cNvPicPr/>
          <p:nvPr/>
        </p:nvPicPr>
        <p:blipFill>
          <a:blip r:embed="rId12"/>
          <a:stretch/>
        </p:blipFill>
        <p:spPr>
          <a:xfrm>
            <a:off x="627120" y="1773360"/>
            <a:ext cx="5203800" cy="1396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红2"/>
          <p:cNvPicPr/>
          <p:nvPr/>
        </p:nvPicPr>
        <p:blipFill>
          <a:blip r:embed="rId13"/>
          <a:stretch/>
        </p:blipFill>
        <p:spPr>
          <a:xfrm>
            <a:off x="4991040" y="1959120"/>
            <a:ext cx="3110040" cy="1901520"/>
          </a:xfrm>
          <a:prstGeom prst="rect">
            <a:avLst/>
          </a:prstGeom>
          <a:ln w="0">
            <a:noFill/>
          </a:ln>
        </p:spPr>
      </p:pic>
      <p:sp>
        <p:nvSpPr>
          <p:cNvPr id="104" name="副标题 2"/>
          <p:cNvSpPr/>
          <p:nvPr/>
        </p:nvSpPr>
        <p:spPr>
          <a:xfrm>
            <a:off x="2484360" y="4076640"/>
            <a:ext cx="6372360" cy="7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黑体"/>
              </a:rPr>
              <a:t>××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小学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届毕业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5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7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78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cp:keywords/>
  <dc:language>en-US</dc:language>
  <cp:lastModifiedBy>Sky123.Org</cp:lastModifiedBy>
  <cp:lastPrinted>1899-12-30T00:00:00Z</cp:lastPrinted>
  <dcterms:modified xsi:type="dcterms:W3CDTF">2015-06-02T06:02:09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