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0.jpeg" ContentType="image/jpe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4A7-22EA-417D-85BA-49B28AB7B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C8DB-3A93-41D1-934C-8D44B54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FC8D-79B3-4201-86D9-9136F3A9C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B957-9DF6-4D8E-9C2A-BCFA078C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3F35-AC49-452A-9CA0-B6BF8B8E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CAF-ACD4-4498-9D9C-CA40F3EF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B3C91-023E-4CCA-9C05-1FC98D17E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CD978-4661-48BD-84E9-A3683778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D9535-6AF8-4BF9-8A8C-DE821FEE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C3E0-DB39-425C-8D40-54932C51D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B530-D893-46F9-A7F8-FF8FC48F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1501-82CE-4ACC-A654-74E600CE8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D1C76-1587-4148-917A-8BE7450F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D1D90-E1FD-4FF0-B33F-AE55EE8F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3580-6355-4028-A74A-8F2CE3DA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07C6-757D-4D2D-B1DD-19DF4EAD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35E4-9B7A-4E3B-BC99-189F832C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3809-6F1A-4C53-B5F8-58F18CE2B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5FE0-6E39-431D-9D03-94FD3AAD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A5CBC-3EFA-4093-A400-33784112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DDE8C-3FE9-4BE3-BBA6-D8C3C2CDF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ED3D2-5E57-40B1-8AA1-10C412DF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48CE-024F-4887-87D4-7C202C30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3C76-819A-410C-BFAB-162B9EAC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1D605-99ED-4E39-BEE0-1C8D5CAD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0B6B-37A6-4BB5-9D85-DCBFF822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96C70-BF3E-4701-8E8D-8838B653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41EEC-E271-43F3-98A0-F3A961E4F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01EAD-DB83-4D92-96D8-1FB93899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B4AD8-FAB2-4742-A36B-BFD18A20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8365-B7BB-4DAF-82D3-1432AD293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70CD-1A0F-4722-AAA5-085DFE8D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F550-578E-4126-9F9B-6912100CF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3581-9992-4E53-A48D-CA67F7D0D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78D-984A-44D3-A958-912D8421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01BF-D59C-4E23-8CAF-3F219C536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E7C4-32BA-4C85-AD53-94BF138A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51BE0-FF45-4357-8F2E-6BB1D802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4A36-5605-42EE-9879-4F46D4CD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27600" y="907920"/>
            <a:ext cx="201312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692280"/>
            <a:ext cx="2012760" cy="12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1280" y="105264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再见了，亲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-1403280" y="1989000"/>
            <a:ext cx="18396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72200" y="5181480"/>
            <a:ext cx="30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603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找到事例，并读一读感人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谈感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感情地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深情地劝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" y="10368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29106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同志们伤心地痛哭起来，你却把脚一跺，嘴角抽动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狠狠地说：“妈妈，这个仇我一定要报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456984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金花，不要哭了，擦干眼泪，再给我们唱个《捣米谣》吧！怎么？心里难过，唱不出来？你一向是个刚强的孩子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2758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您知道我们缺少蔬菜，就挎着篮子上山挖野菜。后面山上的野菜挖光了，您又跑到前沿阵地去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4465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1708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30880" y="1844640"/>
            <a:ext cx="20131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17080" y="0"/>
            <a:ext cx="8269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舍身赌机枪的黄继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2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244000" y="0"/>
            <a:ext cx="9000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战火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烧中的邱少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17640"/>
            <a:ext cx="8317080" cy="68403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8244000" y="549360"/>
            <a:ext cx="900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烈士毛岸英之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459640" cy="7461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17080" y="620640"/>
            <a:ext cx="8269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惨不忍睹的战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fdffe"/>
            </a:gs>
            <a:gs pos="100000">
              <a:srgbClr val="66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388360" cy="54864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391600" y="907920"/>
            <a:ext cx="7524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华文新魏"/>
                <a:ea typeface="华文新魏"/>
              </a:rPr>
              <a:t>英烈们的墓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2280" y="5267160"/>
            <a:ext cx="8426520" cy="20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抗美援朝战争中，我国先后出兵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3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余万人。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英烈的忠骨永远留在了朝鲜的土地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1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2" presetSubtype="2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533520" y="990720"/>
            <a:ext cx="8534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战役  情谊  噩耗  封锁  硝烟  刚强  血泊  供应  乘机  跺脚      阿妈妮  捣米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雪中送炭  同归于尽  深情厚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1837080" y="5486400"/>
            <a:ext cx="588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0" t="0" r="64" b="66629"/>
          <a:stretch/>
        </p:blipFill>
        <p:spPr>
          <a:xfrm>
            <a:off x="0" y="0"/>
            <a:ext cx="9144000" cy="4800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609480" y="48006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rcRect l="0" t="0" r="64" b="66629"/>
          <a:stretch/>
        </p:blipFill>
        <p:spPr>
          <a:xfrm>
            <a:off x="127080" y="127080"/>
            <a:ext cx="9144000" cy="48006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4"/>
          <a:srcRect l="0" t="0" r="64" b="66629"/>
          <a:stretch/>
        </p:blipFill>
        <p:spPr>
          <a:xfrm>
            <a:off x="254160" y="254160"/>
            <a:ext cx="9144000" cy="48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0" y="4365720"/>
            <a:ext cx="896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508464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再见了，亲人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我们的心永远跟你们在一起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rcRect l="0" t="0" r="-1252" b="66088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80880" y="95976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请你结合搜集到的资料，从课文的字里行间捕捉信息，仿照课文段式，以大娘、小金花或者大嫂的身份写一段送别的话。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438280"/>
            <a:ext cx="7543800" cy="335304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268056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孩子，我们舍不得你们走……还记得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143000" y="35949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叔叔，请再多留一会儿……那一回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47530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兄弟，让我再送你们一程吧……我不会忘记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05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79080" y="609480"/>
            <a:ext cx="484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再见了，亲爱的土地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1752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列车呀，请慢一点儿开，让我们再看一眼朝鲜的亲人，让我们在这曾经洒过鲜血的土地上再停留片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38862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楷体_GB2312"/>
              </a:rPr>
              <a:t>再见了，亲人！我们的心永远跟你们在一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八年来，您为我们花了多少心血，更了我们多少慈母般的温暖！记得五次战役的时候，由于敌机的封锁，造成暂时的供应困难。我们空着肚子，在阵地上跟敌人拼了三天三夜。是您带着全村妇女，顶着打糕，冒着炮火穿过硝烟，送到阵地上来给我们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13104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是您带着全村妇女，顶着打糕，冒着炮火，穿过硝烟，送到阵地上来给我们吃。这真是雪中送炭啊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1560" y="327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1295280"/>
            <a:ext cx="76320" cy="76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914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1905120"/>
            <a:ext cx="7632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4114800"/>
            <a:ext cx="30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80880" y="531720"/>
            <a:ext cx="914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一下，大娘还会为我们做哪些事？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000600"/>
            <a:ext cx="815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八年来，您为我们花了多少心血，给了我们多少慈母般的温暖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>
            <a:lum bright="70000" contrast="-70000"/>
          </a:blip>
          <a:srcRect l="0" t="8496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716360" y="3645000"/>
            <a:ext cx="7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4176720" cy="5638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292720" y="76212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敌机来了，您丢下自己的小孙孙，把伤员背进了防空洞；当您再回去抢救小孙孙的时候，房子已经炸平了。您为我们失去了唯一的亲人。</a:t>
            </a:r>
            <a:r>
              <a:rPr b="0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19920" y="579132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19920" y="5802480"/>
            <a:ext cx="75960" cy="759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28600" y="1644840"/>
            <a:ext cx="8380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怎么能忘怀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您说，这比山还高比海还深的情谊，我们不能忘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娘，停住您送别的脚步吧！为了帮我们洗补衣服，您已经几夜没合眼了。您这么大年纪，能支持得住吗？快回家休息吧！为什么摇头呢？难道您担心我们会把您这位朝鲜阿妈妮忘怀？不，永远不会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神秘园 - Song From A Secret Garden" descr=""/>
          <p:cNvPicPr/>
          <p:nvPr/>
        </p:nvPicPr>
        <p:blipFill>
          <a:blip r:embed="rId1"/>
          <a:stretch/>
        </p:blipFill>
        <p:spPr>
          <a:xfrm>
            <a:off x="95400" y="64580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6" name="伤感纯音乐 伤感的离别" descr=""/>
          <p:cNvPicPr/>
          <p:nvPr/>
        </p:nvPicPr>
        <p:blipFill>
          <a:blip r:embed="rId2"/>
          <a:stretch/>
        </p:blipFill>
        <p:spPr>
          <a:xfrm>
            <a:off x="7086600" y="5486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29524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9T09:42:26Z</dcterms:created>
  <dc:creator/>
  <dc:description/>
  <dc:language>en-US</dc:language>
  <cp:lastModifiedBy>微软用户</cp:lastModifiedBy>
  <dcterms:modified xsi:type="dcterms:W3CDTF">2014-03-07T06:34:47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