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83F-B564-4EFC-9D6D-4FBB80F7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010-9D87-4308-85AC-EFE53D3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6C7-B826-434B-AE43-731DF661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B12-B4B0-4CC2-A887-5AF069F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38D7-2004-4D7D-9604-99D9FF87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42D1-D1AC-45F4-837B-A78B3BE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35D-B071-4361-AC75-5E739F6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875D-3883-4444-8142-6F722F9A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962C-C2D7-4748-BF19-6EFEA0FB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E6F4-BE43-4B6B-A312-DECA7F8A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9BC-E078-4F2B-B72A-1DFD851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C44-D1E6-45D9-928B-A6C469D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5511-B9D0-43BC-930A-946653B9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116-33BF-4916-AB22-8C5B2071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3E43-E49F-41FA-ACFE-EB8F3E44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5CAC-43E1-4F44-955D-59B8C46B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809F-8080-4390-A927-ECA99393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E543-C37B-40F9-A56D-307C7DCA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9702-A878-42D7-9DC0-C80E487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1C94-0B1F-4EC3-91C8-C37BD235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7BDD-56D6-4565-B341-3622A048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02D9-4FF8-4C13-961A-16CAF84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40A-0845-487B-B9FD-CD02BEF3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1106-B1DB-465F-BFFE-D809D7A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CCEA-7B91-4B62-BB87-2977377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C434-4505-41BE-826D-1C4FFEF9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0364-BFB9-4415-9220-57A961D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BCCD-5F03-4F2D-BDDD-3A39446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74E0-57CF-4BC7-A3A4-AC8D9A94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619C-40B9-4395-9B00-8C267229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3518-65B0-44F2-BC17-2A334447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C06F-5361-416B-930D-A34AF2B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926B-346C-490F-A488-4CF5B51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D64-153E-4AE0-9429-A3C043E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F33E-5884-4988-B8B8-4DF497E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A3DF-C42E-40F2-B1BB-852DD179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6A2B-ACBA-4975-AFF4-2E36C21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A8F6-37E1-44E4-A470-965F265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C896-E54D-45FC-AF31-73488F8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1370E-026D-42DE-A8B4-99EB5DF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E110C-99FC-428C-A048-DA1F0591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AFCE-75F3-49AF-A8E3-7BD1C5BC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FB89-BF49-4EA1-95FC-F7AEEA9C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9CC-ACA7-4496-A76D-8A30AD7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6C2-AF75-421D-8E9C-B95DB33A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48C-A7F0-4B53-927F-4BD54D2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A14-E5C9-45CB-B781-94E33A7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723-41B5-4E6E-A78F-D1BFA8CE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718-E344-4751-8CC4-A1E964540E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F7A-C667-4BB6-9CBE-82E4998D50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8681-6B60-4067-9CBD-0F3332DCE32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B39-D231-4120-BCD2-F7A56206AB9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183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子曰：“学而时习之，不亦说乎？有朋自远方来，不亦乐乎？人不知而不愠，不亦君子乎？”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860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文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386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1773360"/>
            <a:ext cx="7993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世说新语》是一部反映魏晋时代文人风貌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现时代特征的笔记小说，是我国古代志人小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代表性作品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它是一部专门写人物言行的微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说，它由许多描写人物言行举止的精彩小故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构成。对后世文学创作和士人精神等影响巨大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千万年来深受读者喜爱，并远播海外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268360" cy="549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06028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迷你简姚体"/>
              </a:rPr>
              <a:t>严禁践踏草坪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3645000"/>
            <a:ext cx="62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隶书"/>
              </a:rPr>
              <a:t>别踩我，我怕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268360" cy="54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1514520" cy="1030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rcRect l="845" t="1102" r="0" b="0"/>
          <a:stretch/>
        </p:blipFill>
        <p:spPr>
          <a:xfrm>
            <a:off x="179280" y="606600"/>
            <a:ext cx="8785440" cy="6062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9640" y="1631880"/>
            <a:ext cx="81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徐孺子年九岁，尝月下戏，人语之曰：“若令月中无物，当极明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徐曰：“不然。譬如人眼中有瞳子，无此必不明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这则故事的大意是：徐家有个小孩，年方九岁，曾有一次在月亮地里玩耍，有人对他说：“若是让月亮中什么都没有，它是不是应该更加明亮呀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?”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这个姓徐的孩子说：“不对。是这样，比方说人眼中都有瞳仁，没有瞳仁就看不见光明了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79640" y="1052640"/>
            <a:ext cx="496872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《世说新语》中小故事两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79280" y="549360"/>
            <a:ext cx="2737080" cy="66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88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720" y="549360"/>
            <a:ext cx="835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谢太傅寒雪日内集，与儿女讲论文义，俄而雪骤，公欣然曰：“白雪纷纷何所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兄子胡儿曰：“撒盐空中差可拟。”兄女曰：“未若柳絮因风起。”公大笑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这则故事的大意是：在一个下雪的冬日里，谢太傅召集孩子们谈论有关做文章的事。一会儿，雪下大了，谢太傅很高兴，就问孩子们：“纷纷飘落的白雪像什么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?”</a:t>
            </a:r>
            <a:r>
              <a:rPr b="1" lang="zh-CN" sz="32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他哥哥的儿子说：“用空中撒盐勉强可以比方。”他哥哥的女儿说：“不如用柳絮因风飞舞来比方。”谢太傅大笑，非常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987640" y="2708280"/>
            <a:ext cx="2932200" cy="1812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356000" y="2205000"/>
            <a:ext cx="44481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10.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杨氏之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921120" cy="3530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11280" y="10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教新课标 五年级 语文 下册 第三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3573360"/>
            <a:ext cx="3600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执    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张  丽 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班    级：五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）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时    间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2012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10.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杨氏之子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     </a:t>
            </a:r>
            <a:br>
              <a:rPr sz="4400"/>
            </a:b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梁国杨氏子九岁，甚聪惠（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hu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。孔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君平诣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y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其父，父不在，乃呼儿出。为设果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果有杨梅。孔指以示儿曰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yu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ē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：“此是君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果。”儿应声答曰：“未闻孔雀是夫子家禽。’’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10.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杨氏之子</a:t>
            </a:r>
            <a:br>
              <a:rPr sz="4400"/>
            </a:b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梁国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杨氏子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九岁，甚聪惠。孔君平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诣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其父，父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不在，乃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呼儿出。为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设果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果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有杨梅。孔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指以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示儿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曰：“此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是君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家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果。”儿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应声答曰：“未闻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孔雀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是夫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家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禽。’’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10.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杨氏之子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     </a:t>
            </a:r>
            <a:br>
              <a:rPr sz="4400"/>
            </a:b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梁国杨氏子九岁，甚聪惠（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hu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。孔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君平诣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y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ì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其父，父不在，乃呼儿出。为设果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果有杨梅。孔指以示儿曰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yu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ē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：“此是君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果。”儿应声答曰：“未闻孔雀是夫子家禽。’’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-458640"/>
            <a:ext cx="86626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孔指以示儿曰：“此是君家果。”</a:t>
            </a: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儿应声答曰：“未闻孔雀是夫子家禽。’’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890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99ff"/>
                </a:solidFill>
                <a:latin typeface="Arial"/>
              </a:rPr>
              <a:t>梁国杨氏子九岁，甚聪惠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1557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应声答曰：“孔雀是夫子家禽。’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200720" cy="386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10.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杨氏之子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梁国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杨氏子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九岁，甚聪惠。孔君平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诣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其父，父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不在，乃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呼儿出。为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设果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果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有杨梅。孔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指以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示儿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曰：“此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是君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家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果。”儿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应声答曰：“未闻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孔雀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是夫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家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禽。’’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作业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351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、背诵课文。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、完成练习册的习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000080" cy="76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52240" y="980640"/>
            <a:ext cx="8591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孔君平来到杨家，一看孩子摆上了水果，于是就一本正经地说——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杨氏子一听，淡淡的反驳——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2637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孔君平来到杨家，看到了杨梅，心想，都说这孩子聪明，我考考他——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杨氏子一听，我好心好意给你端来水果，你却这样讽刺我，于是生气的回答—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581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孔君平看到杨梅，心想，趁他的父亲不在家，我讽刺一下这个孩子—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杨氏子一听，大声反驳—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微软用户</cp:lastModifiedBy>
  <dcterms:modified xsi:type="dcterms:W3CDTF">2012-07-04T02:56:08Z</dcterms:modified>
  <cp:revision>976</cp:revision>
  <dc:subject/>
  <dc:title>幻灯片 1</dc:title>
</cp:coreProperties>
</file>