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0DC-EE0C-4642-A8B5-79C51E5A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8C6-50EC-413F-973B-F45A2ACE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78CCC-CCE7-4C0B-A23E-9C6EA397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9FD53-6DC9-4DAA-8DFF-E05B0DDA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98560" y="475920"/>
            <a:ext cx="7788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3EFEB-C64C-4831-A67E-54E44015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379A0-8B60-461E-99F1-05D22594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47C6E-8A19-4260-8B0A-4E6C22C3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BE24C-CFAA-47ED-B48A-26FD163A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58555-63CF-4625-93C1-8F69CF64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C3B0E-EA5F-46CB-A86E-3E211F8C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316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650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856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316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650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AB564-9017-40A5-8A43-9C04FF6A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2185E-3C1E-4F73-BBD4-94073EB7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06E-5A29-4D22-AFAC-F959544B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39B3A-A7F6-42B8-A8B9-3705C51A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A53BB-026E-4CD5-94F6-D9371F9B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221A8-F28C-4D4C-8F7E-1A5BE2A3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38D78-3541-44D4-AD1F-D16E71BD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98560" y="475920"/>
            <a:ext cx="7788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103CC-0989-4714-8E7A-874C0AD9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311FB-09C4-476B-976D-E458186B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CD64A-5FC1-4A3E-97D7-CA16289C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F1141-1028-4313-A492-8175AE2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9C450-A5A1-45EE-8D68-9CD9CF67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6ADD7-5939-4FE5-8F37-BC0C0FC5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16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0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856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16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0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4D8-4617-4F85-A92E-0DF466D0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316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650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9856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316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650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29D8D-19F1-40E1-9B66-89D7C4C0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00D87-D2E6-4131-87E9-612A9C5F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61B46-F9A5-4F7F-B18A-2239F9FB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667F3-C737-4E7F-BC7F-AABA139F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9DB53-8E83-4274-A7E3-832502CF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15E3B-D71A-4209-997A-76D9D7BF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98560" y="475920"/>
            <a:ext cx="7788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E4431-206B-443B-AE7C-E2F04B41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42AE8-34C1-4DB2-BD4B-39152A1E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D6A41-19CF-428A-9281-0A24A668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070F5-A975-4836-B43E-F07F25FE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E8C4-E8DE-404B-8F5D-4ED8150F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BA4B8-272D-4D9D-A518-D1D006E1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76F9A-6CCD-4F85-B05F-854E67E8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316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650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9856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316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650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B68C0-00D6-45C9-B8D4-ABE93E18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35284-91DB-4CE1-9F37-0CB1FBBB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7F322-91F4-456E-AD62-5D625E93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F7E8F-37BF-4C2E-8C4B-CBE9E5A4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F394E-37C0-42C0-AB8B-4021E443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7BE4F-0038-441B-82DD-58477F29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98560" y="475920"/>
            <a:ext cx="7788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D76F0-1B75-4A63-AAC8-B832C691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9C10D-7CD0-485B-823C-A0E3912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6F48-FF3B-4441-817E-C0D2B3D2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6858D-55D1-4F5C-A498-F388D30A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8D363-CCE2-4C49-9A75-2A4F064D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1B485-9475-41AD-9A82-412B9CBD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B5322-8C3D-4073-974A-3EE7A57D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316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650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9856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316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650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55EF9-667A-41FB-8653-8F3FD757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5F5A-5038-4A3E-B41E-67A607DB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C86E-637A-49C4-87F3-B962D3AB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84DA-3F44-4DD8-9707-A75A4346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8560" y="475920"/>
            <a:ext cx="7788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E544-AE12-477B-B00C-41DB5237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D589-328F-4BFD-92A6-C3C5308C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CC5-0776-4CDA-8890-C57521D5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DD30-E6EE-4FD1-950F-B0BA62A9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0657-3852-4F96-B856-C7196D4B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39E6-073E-46F8-9836-2EBE1244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1A28-DD30-4B63-A9EA-384FEF6C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16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0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856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16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0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D218-0AD0-407B-A2D5-CB560A89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B8C9-99D1-4579-B3D0-D3879E93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CEAB-C8E8-4C3B-A5E1-C3A93767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B5B14-8FFC-4A5B-A99E-6711B11C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A1AC-0334-4405-901D-9538D0ED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CAF8-E501-4C90-90EE-1B7625B2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97B-2A0B-44DC-A6E2-9DC54DB3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98560" y="475920"/>
            <a:ext cx="7788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EA4D-234B-4BAC-A0E9-54992D75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B3D9-C1A6-470F-8884-3D1417E5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D754-A81A-4C61-8A37-7F12C4D0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0E0E0-6C65-4A70-8A4D-C792842A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647A6-6349-4F01-B453-0076FC3D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7C20-38DA-4725-A463-F2E819B6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16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650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9856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16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650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96BA7-118B-4192-A82A-89A12A3D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D4A0-FF1C-4027-8386-665A10E3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AF6F-898F-4C61-AD3B-881EF202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0D1B-5AA9-48C3-8299-BFFFA174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3F2-5C38-4BC0-81D6-3D5159C0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6DB8-ECA4-4F91-9F71-F9FFA603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9AC38-E563-4245-BBD2-40CE7118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98560" y="475920"/>
            <a:ext cx="7788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B1D48-CB35-4D64-ABD3-91CE7FF9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C799-78B6-4645-9ED4-E1D44DE1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891FC-2668-48A0-90D0-C4274976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42DE-5FFE-4FD9-961F-AE687FD4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4EA10-0568-4E8D-986C-0C7E548F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A3422-2AC4-4406-984B-F914BC55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16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650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9856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16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650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8AB80-9AC9-487C-A8B9-3150D7BE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1FCC-4E0F-4421-92B9-99F11991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893-42C0-4F17-9E60-95C8C53E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F50EA-D9FB-4B75-8987-AE838DAF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C59C1-DAF4-4269-AC59-455F4D58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B6C87-E8FA-4A94-A53B-1467F309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F746E-1883-4E60-938E-633273AC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98560" y="475920"/>
            <a:ext cx="7788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C7FCE-971B-4FFB-A64E-F0E74ABB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A9EC6-6186-4828-843A-03D39078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AA684-F539-48A5-AF6E-279339D9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06F67-9787-431B-82B6-CBD7A05A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0E0E7-CE17-41BE-9B49-4E865C03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EBC7F-E19B-40D9-921A-7AB380AB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8560" y="475920"/>
            <a:ext cx="7788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3F1-9528-4BB3-9BD3-6CAF75C1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316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650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9856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316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650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8B661-6C41-4F6B-B979-1E0C5911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57664-EE16-4159-8817-18BDCDC0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DA903-B866-4DF0-BD30-1EED4F58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79D3E-AE0E-4E98-BEC0-E028268F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539CF-A9C0-4DFE-BBAC-A9BDDEFA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8DB6C-D01B-4F51-9C4E-08834742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98560" y="475920"/>
            <a:ext cx="7788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93C5B-EAAD-4417-A78E-65151B80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D3D8-8C53-4525-85FE-67C8D1D6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1FCAA-9EE2-4FFE-83EF-2408282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2CBAF-0158-46DC-A0FD-910EEA6C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64B-65BF-4189-B47A-A590F5E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AE2C4-0B87-4D47-8711-04010B04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E2F6-D2EE-4FCF-8ECF-E8E16EC0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316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650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9856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316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650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8744B-1AA9-436D-B4B0-F2A07DD8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018D-7F77-44E5-AB47-88CA1A08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A578C-7EF4-434C-B08D-DCC838A5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5B86B-70A7-42C2-BF8A-9E04D56E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ABB55-BF68-49D8-BC39-77F6445B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BB482-6DA4-4A2F-94D9-7B69A424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98560" y="475920"/>
            <a:ext cx="7788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D36C5-75BA-486E-BB49-E1D5C1E4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72B7A-A25A-42FB-8863-120C7E36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342-F32B-47C9-A7CD-87158044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4C144-62E8-4E00-9DCC-54784B5D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3A59D-A5A4-42BD-BA8E-4F20FE1D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E925D-4EDB-465A-886B-0E9F6AF1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EF470-14CF-44E3-9FA8-D3DB08CE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316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650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9856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316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650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7F251-4E68-4FFE-B2E7-256E5FCF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FDE05-246C-4562-939F-C0511C58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FC123-691B-4476-BC3D-127EBB63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A2A3D-4D20-4320-B032-A9CB10F4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ACBC4-5380-49DE-B684-812E43D7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6481C-AB3A-464F-A82D-CEC575E6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419-65CC-4419-85CE-79A22D8C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98560" y="475920"/>
            <a:ext cx="77882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2242D-FBC6-4AF1-9233-33604FE9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493D9-B28E-449C-AE66-F9BDAE27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0EC9E-D1CE-4DB0-B8EE-A60135EC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2595E-A6C9-4B84-B685-D28366B8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98560" y="3964320"/>
            <a:ext cx="778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E4C85-3659-498E-B74E-A1FF095D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89520" y="160020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9856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89520" y="3964320"/>
            <a:ext cx="380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4D895-1394-4EF6-90CE-0016E5B6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316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65000" y="160020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9856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316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65000" y="3964320"/>
            <a:ext cx="250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75351-2094-446B-951A-6004F923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ED6AC-DF3E-4B0B-9F2A-EF1BB6BB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8D77C-1CD0-477B-9FD7-A1595CAD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292ED-4794-483A-9802-606ED5EF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F372-FD6E-4F17-9E3B-5263C2CDBD5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82F9-584D-4BCE-9BFE-D12AC2E2A7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B6F1-4229-4319-B0E0-93CA9243DF6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00D2-F35B-4320-BDB0-2D6329F4A9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2D98-712C-4843-9DB5-672A3AF119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9B3E-AE28-4B51-870F-E8C8E86154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DD40-5E4E-4F4B-8E8C-E49E8E7CD84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5C5A-B92F-40D2-8D1A-240178AF95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C84F-3734-4352-8F35-1D6EE3F4C4A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40E1-AD59-404C-A9AB-C75553B3E7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85AB-DAD3-44E1-88FC-4DC4D4777BB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6648-B461-440F-AA5F-507134581F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EA4F-391F-4B20-9C64-3F752B9E1EA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FD45-C924-4684-BBFA-335AD0F154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65E3-395A-4A64-BEE4-11D5BE4E3D8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6F57-FD37-4E50-90B1-7280025E93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9AEB-4847-4FC7-BB50-1B54B6BE85F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5E64-B53B-4323-ADE7-B97659E764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BC8C-8C33-47B7-AF8A-44DBEDE627A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72E8-B7B8-4AC4-92D8-0E29128A60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3A99-CCA8-42FB-804B-8A34FEBB199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7E00-24DD-4636-8141-7E559481ED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98560" y="475920"/>
            <a:ext cx="778824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BF73-969A-4B63-BB65-C63AEB0E2E5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CC54-665F-40C1-A29C-64A3AAD912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6403-4E18-4C93-B530-68FDF174095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63640" y="2273040"/>
            <a:ext cx="561672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b050"/>
                </a:solidFill>
                <a:latin typeface="Calibri"/>
              </a:rPr>
              <a:t>语文园地六的教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69EA-A16D-461B-AF1C-A6933A93D59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044720" y="1015920"/>
            <a:ext cx="1511280" cy="505080"/>
          </a:xfrm>
          <a:prstGeom prst="flowChartAlternateProcess">
            <a:avLst/>
          </a:prstGeom>
          <a:solidFill>
            <a:srgbClr val="99cc00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会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2556000" y="10033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谁说得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1260360" y="187020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造         女 好               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绿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狗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漂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它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"/>
          <p:cNvSpPr/>
          <p:nvPr/>
        </p:nvSpPr>
        <p:spPr>
          <a:xfrm>
            <a:off x="5940360" y="2060640"/>
            <a:ext cx="5047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6"/>
          <p:cNvSpPr/>
          <p:nvPr/>
        </p:nvSpPr>
        <p:spPr>
          <a:xfrm>
            <a:off x="6229440" y="1784520"/>
            <a:ext cx="0" cy="552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"/>
          <p:cNvSpPr/>
          <p:nvPr/>
        </p:nvSpPr>
        <p:spPr>
          <a:xfrm flipV="1">
            <a:off x="5940360" y="2257200"/>
            <a:ext cx="50472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8"/>
          <p:cNvSpPr/>
          <p:nvPr/>
        </p:nvSpPr>
        <p:spPr>
          <a:xfrm>
            <a:off x="2413080" y="23367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4429080" y="23367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0"/>
          <p:cNvSpPr/>
          <p:nvPr/>
        </p:nvSpPr>
        <p:spPr>
          <a:xfrm>
            <a:off x="6877080" y="23367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2413080" y="3502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2"/>
          <p:cNvSpPr/>
          <p:nvPr/>
        </p:nvSpPr>
        <p:spPr>
          <a:xfrm>
            <a:off x="4429080" y="3502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6877080" y="3502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2413080" y="4581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5"/>
          <p:cNvSpPr/>
          <p:nvPr/>
        </p:nvSpPr>
        <p:spPr>
          <a:xfrm>
            <a:off x="4429080" y="4581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6"/>
          <p:cNvSpPr/>
          <p:nvPr/>
        </p:nvSpPr>
        <p:spPr>
          <a:xfrm>
            <a:off x="6877080" y="4581360"/>
            <a:ext cx="136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7308720" y="189540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6877080" y="18954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9"/>
          <p:cNvSpPr/>
          <p:nvPr/>
        </p:nvSpPr>
        <p:spPr>
          <a:xfrm>
            <a:off x="7451640" y="292248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2844720" y="175752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2268360" y="1787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2413080" y="29242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4861080" y="18651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4429080" y="18702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596360" y="4002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6"/>
          <p:cNvSpPr/>
          <p:nvPr/>
        </p:nvSpPr>
        <p:spPr>
          <a:xfrm>
            <a:off x="6877080" y="29242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7"/>
          <p:cNvSpPr/>
          <p:nvPr/>
        </p:nvSpPr>
        <p:spPr>
          <a:xfrm>
            <a:off x="4932360" y="2924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8"/>
          <p:cNvSpPr/>
          <p:nvPr/>
        </p:nvSpPr>
        <p:spPr>
          <a:xfrm>
            <a:off x="4429080" y="29242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9"/>
          <p:cNvSpPr/>
          <p:nvPr/>
        </p:nvSpPr>
        <p:spPr>
          <a:xfrm>
            <a:off x="2987640" y="29224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0"/>
          <p:cNvSpPr/>
          <p:nvPr/>
        </p:nvSpPr>
        <p:spPr>
          <a:xfrm>
            <a:off x="7021440" y="40035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1"/>
          <p:cNvSpPr/>
          <p:nvPr/>
        </p:nvSpPr>
        <p:spPr>
          <a:xfrm>
            <a:off x="5076720" y="40021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4645080" y="40035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2987640" y="400212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4"/>
          <p:cNvSpPr/>
          <p:nvPr/>
        </p:nvSpPr>
        <p:spPr>
          <a:xfrm>
            <a:off x="2413080" y="40035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7C65-6781-49A5-AB70-E26EA4FB05E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圆角矩形 5"/>
          <p:cNvSpPr/>
          <p:nvPr/>
        </p:nvSpPr>
        <p:spPr>
          <a:xfrm>
            <a:off x="2590920" y="3214800"/>
            <a:ext cx="981000" cy="571320"/>
          </a:xfrm>
          <a:prstGeom prst="roundRect">
            <a:avLst>
              <a:gd name="adj" fmla="val 16667"/>
            </a:avLst>
          </a:prstGeom>
          <a:solidFill>
            <a:srgbClr val="ffcc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灯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圆角矩形 8"/>
          <p:cNvSpPr/>
          <p:nvPr/>
        </p:nvSpPr>
        <p:spPr>
          <a:xfrm>
            <a:off x="5010120" y="4243320"/>
            <a:ext cx="981000" cy="571680"/>
          </a:xfrm>
          <a:prstGeom prst="roundRect">
            <a:avLst>
              <a:gd name="adj" fmla="val 16667"/>
            </a:avLst>
          </a:prstGeom>
          <a:solidFill>
            <a:srgbClr val="92d05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圆角矩形 9"/>
          <p:cNvSpPr/>
          <p:nvPr/>
        </p:nvSpPr>
        <p:spPr>
          <a:xfrm>
            <a:off x="5010120" y="3233880"/>
            <a:ext cx="981000" cy="571320"/>
          </a:xfrm>
          <a:prstGeom prst="roundRect">
            <a:avLst>
              <a:gd name="adj" fmla="val 16667"/>
            </a:avLst>
          </a:prstGeom>
          <a:solidFill>
            <a:srgbClr val="92d05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花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圆角矩形 10"/>
          <p:cNvSpPr/>
          <p:nvPr/>
        </p:nvSpPr>
        <p:spPr>
          <a:xfrm>
            <a:off x="3857760" y="4243320"/>
            <a:ext cx="981000" cy="571680"/>
          </a:xfrm>
          <a:prstGeom prst="roundRect">
            <a:avLst>
              <a:gd name="adj" fmla="val 16667"/>
            </a:avLst>
          </a:prstGeom>
          <a:solidFill>
            <a:srgbClr val="ffcc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雪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圆角矩形 11"/>
          <p:cNvSpPr/>
          <p:nvPr/>
        </p:nvSpPr>
        <p:spPr>
          <a:xfrm>
            <a:off x="2557440" y="4243320"/>
            <a:ext cx="981000" cy="571680"/>
          </a:xfrm>
          <a:prstGeom prst="roundRect">
            <a:avLst>
              <a:gd name="adj" fmla="val 16667"/>
            </a:avLst>
          </a:prstGeom>
          <a:solidFill>
            <a:srgbClr val="ffc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圆角矩形 12"/>
          <p:cNvSpPr/>
          <p:nvPr/>
        </p:nvSpPr>
        <p:spPr>
          <a:xfrm>
            <a:off x="3857760" y="3233880"/>
            <a:ext cx="981000" cy="571320"/>
          </a:xfrm>
          <a:prstGeom prst="roundRect">
            <a:avLst>
              <a:gd name="adj" fmla="val 16667"/>
            </a:avLst>
          </a:prstGeom>
          <a:solidFill>
            <a:srgbClr val="df8d5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1071720" y="94140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b050"/>
                </a:solidFill>
                <a:latin typeface="Arial"/>
              </a:rPr>
              <a:t>我会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流程图: 手动操作 15"/>
          <p:cNvSpPr/>
          <p:nvPr/>
        </p:nvSpPr>
        <p:spPr>
          <a:xfrm rot="19851000">
            <a:off x="1224000" y="2652480"/>
            <a:ext cx="2000160" cy="561960"/>
          </a:xfrm>
          <a:prstGeom prst="flowChartManualOperation">
            <a:avLst/>
          </a:prstGeom>
          <a:solidFill>
            <a:srgbClr val="00b0f0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爱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流程图: 手动操作 16"/>
          <p:cNvSpPr/>
          <p:nvPr/>
        </p:nvSpPr>
        <p:spPr>
          <a:xfrm rot="1307400">
            <a:off x="6321600" y="2766600"/>
            <a:ext cx="1931760" cy="558720"/>
          </a:xfrm>
          <a:prstGeom prst="flowChartManualOperation">
            <a:avLst/>
          </a:prstGeom>
          <a:solidFill>
            <a:srgbClr val="00b0f0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鲜艳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流程图: 手动操作 17"/>
          <p:cNvSpPr/>
          <p:nvPr/>
        </p:nvSpPr>
        <p:spPr>
          <a:xfrm>
            <a:off x="3767040" y="2166840"/>
            <a:ext cx="2143080" cy="523800"/>
          </a:xfrm>
          <a:prstGeom prst="flowChartManualOperation">
            <a:avLst/>
          </a:prstGeom>
          <a:solidFill>
            <a:srgbClr val="00b0f0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明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流程图: 手动操作 18"/>
          <p:cNvSpPr/>
          <p:nvPr/>
        </p:nvSpPr>
        <p:spPr>
          <a:xfrm rot="19851000">
            <a:off x="6000840" y="5095440"/>
            <a:ext cx="2000160" cy="561960"/>
          </a:xfrm>
          <a:prstGeom prst="flowChartManualOperation">
            <a:avLst/>
          </a:prstGeom>
          <a:solidFill>
            <a:srgbClr val="df8d5f">
              <a:alpha val="4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白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流程图: 手动操作 19"/>
          <p:cNvSpPr/>
          <p:nvPr/>
        </p:nvSpPr>
        <p:spPr>
          <a:xfrm>
            <a:off x="3571920" y="5546880"/>
            <a:ext cx="1998720" cy="561960"/>
          </a:xfrm>
          <a:prstGeom prst="flowChartManualOperation">
            <a:avLst/>
          </a:prstGeom>
          <a:solidFill>
            <a:srgbClr val="df8d5f">
              <a:alpha val="4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绿绿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流程图: 手动操作 20"/>
          <p:cNvSpPr/>
          <p:nvPr/>
        </p:nvSpPr>
        <p:spPr>
          <a:xfrm rot="993000">
            <a:off x="1252080" y="5265720"/>
            <a:ext cx="2000520" cy="561960"/>
          </a:xfrm>
          <a:prstGeom prst="flowChartManualOperation">
            <a:avLst/>
          </a:prstGeom>
          <a:solidFill>
            <a:srgbClr val="df8d5f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红红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直接连接符 22"/>
          <p:cNvSpPr/>
          <p:nvPr/>
        </p:nvSpPr>
        <p:spPr>
          <a:xfrm>
            <a:off x="2590920" y="3000240"/>
            <a:ext cx="162396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直接连接符 27"/>
          <p:cNvSpPr/>
          <p:nvPr/>
        </p:nvSpPr>
        <p:spPr>
          <a:xfrm flipH="1">
            <a:off x="3538440" y="2690640"/>
            <a:ext cx="1471680" cy="5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直接连接符 29"/>
          <p:cNvSpPr/>
          <p:nvPr/>
        </p:nvSpPr>
        <p:spPr>
          <a:xfrm flipH="1">
            <a:off x="5990760" y="3233160"/>
            <a:ext cx="108108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31"/>
          <p:cNvSpPr/>
          <p:nvPr/>
        </p:nvSpPr>
        <p:spPr>
          <a:xfrm flipV="1">
            <a:off x="2332080" y="4814640"/>
            <a:ext cx="59688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33"/>
          <p:cNvSpPr/>
          <p:nvPr/>
        </p:nvSpPr>
        <p:spPr>
          <a:xfrm>
            <a:off x="4572000" y="4815000"/>
            <a:ext cx="192888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35"/>
          <p:cNvSpPr/>
          <p:nvPr/>
        </p:nvSpPr>
        <p:spPr>
          <a:xfrm flipH="1">
            <a:off x="4572000" y="4815000"/>
            <a:ext cx="928800" cy="7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868A-F7B4-4B1E-90CC-B3510AA1411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98560" y="999720"/>
            <a:ext cx="374472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b050"/>
                </a:solidFill>
                <a:latin typeface="Calibri"/>
              </a:rPr>
              <a:t>读读说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71360" y="1941480"/>
            <a:ext cx="7072200" cy="28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Calibri"/>
              </a:rPr>
              <a:t>高兴  高高兴兴     许多  许许多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Calibri"/>
              </a:rPr>
              <a:t>漂亮  漂漂亮亮     仔细  仔仔细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Calibri"/>
              </a:rPr>
              <a:t>日夜               来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Calibri"/>
              </a:rPr>
              <a:t>红火               明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直接连接符 6"/>
          <p:cNvSpPr/>
          <p:nvPr/>
        </p:nvSpPr>
        <p:spPr>
          <a:xfrm>
            <a:off x="2143080" y="3643200"/>
            <a:ext cx="20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接连接符 7"/>
          <p:cNvSpPr/>
          <p:nvPr/>
        </p:nvSpPr>
        <p:spPr>
          <a:xfrm>
            <a:off x="2143080" y="4286160"/>
            <a:ext cx="20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接连接符 8"/>
          <p:cNvSpPr/>
          <p:nvPr/>
        </p:nvSpPr>
        <p:spPr>
          <a:xfrm>
            <a:off x="6143760" y="4286160"/>
            <a:ext cx="20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9"/>
          <p:cNvSpPr/>
          <p:nvPr/>
        </p:nvSpPr>
        <p:spPr>
          <a:xfrm>
            <a:off x="6143760" y="3643200"/>
            <a:ext cx="20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2143080" y="30592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日夜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2143080" y="37018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红火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6143760" y="30592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来往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6143760" y="37018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明明白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4"/>
          <p:cNvSpPr/>
          <p:nvPr/>
        </p:nvSpPr>
        <p:spPr>
          <a:xfrm>
            <a:off x="1357200" y="44942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两个和两个相同的字叠在一起叫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5"/>
          <p:cNvSpPr/>
          <p:nvPr/>
        </p:nvSpPr>
        <p:spPr>
          <a:xfrm>
            <a:off x="6670440" y="449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叠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6B7F-4452-40B1-826B-9C644E3120A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98200" y="999720"/>
            <a:ext cx="2459160" cy="9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Calibri"/>
              </a:rPr>
              <a:t>我会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14320" y="1941480"/>
            <a:ext cx="2120760" cy="3214800"/>
          </a:xfrm>
          <a:prstGeom prst="rect">
            <a:avLst/>
          </a:prstGeom>
          <a:solidFill>
            <a:srgbClr val="ffc000"/>
          </a:solidFill>
          <a:ln w="9360">
            <a:solidFill>
              <a:srgbClr val="f0d9d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不识字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把字排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秋天去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春天来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786200" y="1941480"/>
            <a:ext cx="3071880" cy="3214800"/>
          </a:xfrm>
          <a:prstGeom prst="rect">
            <a:avLst/>
          </a:prstGeom>
          <a:solidFill>
            <a:srgbClr val="d1d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小小一本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一天看一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看完这本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大家过新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5" descr="http://t11.baidu.com/it/u=472365706,328496500&amp;fm=59"/>
          <p:cNvPicPr/>
          <p:nvPr/>
        </p:nvPicPr>
        <p:blipFill>
          <a:blip r:embed="rId2"/>
          <a:stretch/>
        </p:blipFill>
        <p:spPr>
          <a:xfrm>
            <a:off x="1500120" y="1941480"/>
            <a:ext cx="2643120" cy="32148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http://t2.baidu.com/it/u=1711408525,15319542&amp;fm=21&amp;gp=0.jpg"/>
          <p:cNvPicPr/>
          <p:nvPr/>
        </p:nvPicPr>
        <p:blipFill>
          <a:blip r:embed="rId3"/>
          <a:stretch/>
        </p:blipFill>
        <p:spPr>
          <a:xfrm>
            <a:off x="4786200" y="1941480"/>
            <a:ext cx="30718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http://t10.baidu.com/it/u=2199479540,3981691445&amp;fm=21&amp;gp=0.jpg"/>
          <p:cNvPicPr/>
          <p:nvPr/>
        </p:nvPicPr>
        <p:blipFill>
          <a:blip r:embed="rId2"/>
          <a:stretch/>
        </p:blipFill>
        <p:spPr>
          <a:xfrm>
            <a:off x="1071720" y="928800"/>
            <a:ext cx="7143480" cy="4143240"/>
          </a:xfrm>
          <a:prstGeom prst="rect">
            <a:avLst/>
          </a:prstGeom>
          <a:ln w="0">
            <a:noFill/>
          </a:ln>
        </p:spPr>
      </p:pic>
      <p:sp>
        <p:nvSpPr>
          <p:cNvPr id="56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4EE9-6553-4430-BC4E-5241D0AAD74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椭圆形标注 6"/>
          <p:cNvSpPr/>
          <p:nvPr/>
        </p:nvSpPr>
        <p:spPr>
          <a:xfrm>
            <a:off x="3786120" y="1071720"/>
            <a:ext cx="1785960" cy="428400"/>
          </a:xfrm>
          <a:prstGeom prst="wedgeEllipseCallout">
            <a:avLst>
              <a:gd name="adj1" fmla="val -48773"/>
              <a:gd name="adj2" fmla="val 9890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怎么运走呢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椭圆形标注 7"/>
          <p:cNvSpPr/>
          <p:nvPr/>
        </p:nvSpPr>
        <p:spPr>
          <a:xfrm>
            <a:off x="5572080" y="3000240"/>
            <a:ext cx="2500200" cy="571680"/>
          </a:xfrm>
          <a:prstGeom prst="wedgeEllipseCallout">
            <a:avLst>
              <a:gd name="adj1" fmla="val -48773"/>
              <a:gd name="adj2" fmla="val 9890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你是怎么把南瓜运回来的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http://t2.baidu.com/it/u=1944160269,397313920&amp;fm=21&amp;gp=0.jpg"/>
          <p:cNvPicPr/>
          <p:nvPr/>
        </p:nvPicPr>
        <p:blipFill>
          <a:blip r:embed="rId3"/>
          <a:stretch/>
        </p:blipFill>
        <p:spPr>
          <a:xfrm>
            <a:off x="5715000" y="1071720"/>
            <a:ext cx="2500200" cy="1785960"/>
          </a:xfrm>
          <a:prstGeom prst="rect">
            <a:avLst/>
          </a:prstGeom>
          <a:ln w="0">
            <a:noFill/>
          </a:ln>
        </p:spPr>
      </p:pic>
      <p:sp>
        <p:nvSpPr>
          <p:cNvPr id="572" name="TextBox 9"/>
          <p:cNvSpPr/>
          <p:nvPr/>
        </p:nvSpPr>
        <p:spPr>
          <a:xfrm>
            <a:off x="1643040" y="515628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想一想，说说小兔可以用哪些办法把南瓜运回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0"/>
          <p:cNvSpPr/>
          <p:nvPr/>
        </p:nvSpPr>
        <p:spPr>
          <a:xfrm>
            <a:off x="1643040" y="598644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讨论讨论：哪种运南瓜的办法好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00:43:33Z</dcterms:created>
  <dc:creator>语文备课大师</dc:creator>
  <dc:description/>
  <cp:keywords/>
  <dc:language>en-US</dc:language>
  <cp:lastModifiedBy>番茄花园</cp:lastModifiedBy>
  <dcterms:modified xsi:type="dcterms:W3CDTF">2013-11-23T07:59:08Z</dcterms:modified>
  <cp:revision>20</cp:revision>
  <dc:subject/>
  <dc:title>语文备课大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